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747-2203-42E8-9241-2374B59D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F76D-3F36-43E1-88C4-66FAB58A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1593-D752-4CE4-BFB7-D4F1C681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1BB8-D7BF-46DE-B2A9-F5D5B578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7B1A-7C98-4FB1-B49F-9105D722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8165-F340-41C0-96FA-CE55622B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9ADA-AFEA-4E11-9815-FA236988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4409-B22C-40F8-88F8-4489DBB1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3D0D-7C86-4DCC-9932-19BC779F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CE79-BFA2-40FB-99E2-9E0A536C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5C95-FC48-4940-9C06-FA9B60E2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C4D-7C51-4DD2-BBB0-0CDDC3D1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55C8-2673-42A5-9EC5-5B8DA759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A8C0-A9FB-4C90-B97A-07F07E5F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2A4D-E6D9-4292-ACC8-0E72550D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6002-CA3F-43A1-86F0-D18B2A79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81EE-28CC-40C4-9D43-907832A4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435E-BA01-4ABF-8056-C8F4527A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CE0-C921-4D58-80CB-1D83E75D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1FA-B266-4558-A6FE-E6D2AA50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8386-12C2-47E5-884F-72CD93A0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CCE-1171-42DE-9CD9-FB1958AA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4D4-2278-4A52-A689-6279F323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0833-0C14-4471-95CE-29A01368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075A-56EF-4995-BF15-BF6C58A0A0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3941-9A98-4000-97F7-E7FD82B92E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вер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2017800"/>
          <a:ext cx="8631000" cy="4230720"/>
        </p:xfrm>
        <a:graphic>
          <a:graphicData uri="http://schemas.openxmlformats.org/drawingml/2006/table">
            <a:tbl>
              <a:tblPr/>
              <a:tblGrid>
                <a:gridCol w="4279680"/>
                <a:gridCol w="4351320"/>
              </a:tblGrid>
              <a:tr h="4638600">
                <a:tc>
                  <a:txBody>
                    <a:bodyPr lIns="18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Представьте в виде произведения сумм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 + 65 + 65 + 65 + 65=65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Представить в виде суммы произвед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3 = 78 + 78 + 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Найдите значение выражения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• 19 - 4 • 0 +1 • 1 = 2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Дан ряд чисел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; 4; 0; -5; -104; 8;1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) Выпишите положительные чис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; 8;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) Выпишите отрицательные чис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; -5; -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) Найдите модуль каждого из чисел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│=1; │4│=4; │0│=0; │-5│=5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4│=104; │8│=8; │16│=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вер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4000" y="2017800"/>
          <a:ext cx="8631000" cy="4114800"/>
        </p:xfrm>
        <a:graphic>
          <a:graphicData uri="http://schemas.openxmlformats.org/drawingml/2006/table">
            <a:tbl>
              <a:tblPr/>
              <a:tblGrid>
                <a:gridCol w="4316400"/>
                <a:gridCol w="43146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12 ∙ 6=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 ∙ 4 = 100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∙ 10 = 6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1 ∙ 100 = 28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 + 0,5 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3 – 0,9 = 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4 ∙ 3 = 1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Вычислит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2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∙ 4 = 0,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2 ∙ 20 = 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4 ∙ 0,5 = 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88000" y="3789360"/>
          <a:ext cx="143964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3789360"/>
                    <a:ext cx="14396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859280" y="4869000"/>
          <a:ext cx="15130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4869000"/>
                    <a:ext cx="1513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множ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класс: Умножение десятичных дробей на натуральные чис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5105520"/>
            <a:ext cx="6618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6 класс: Умножение положитель-ных и отрицательных 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Цели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5 класс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вести  правило  умножения  десятичных дробей на натуральные  числа, в том числе на 10, 100, 1000 и т.д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учить  применять  это  правило  при  выполнении  упражн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6 класс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вести  правило  умножения  положительных  и  отрицательных  чисел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учить  применять  это  правило  при  выполнении  упражне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6:15:12Z</dcterms:created>
  <dc:creator>Мелкомуковы</dc:creator>
  <dc:description/>
  <dc:language>en-US</dc:language>
  <cp:lastModifiedBy>Uzer</cp:lastModifiedBy>
  <dcterms:modified xsi:type="dcterms:W3CDTF">2012-03-06T06:09:58Z</dcterms:modified>
  <cp:revision>4</cp:revision>
  <dc:subject/>
  <dc:title>Умножение</dc:title>
</cp:coreProperties>
</file>