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D2AD-05A2-4602-802C-5EB78989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1671-55F0-4B17-97F2-87BC086C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B1D7-FCDE-4526-BE90-EA27CCCB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4FB6-6C56-4598-B738-5E821AC5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29CB-2C8C-42D2-95C3-4CB30661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388B-D71F-4EFC-AE34-8C8FC362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6431-62AA-421D-B0AC-A5614268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BC0B-458F-4315-B5BE-E8351552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171E-2AB4-4DD4-9277-CE5D3E0D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E6A8-743B-4A7C-BC27-BE42AC90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88CD-CC4C-4F53-A5BB-2277D65F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7DFA-191D-4484-8F9B-DEA20337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98A2-D760-4B9F-8423-6CFA540F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E171-A9F1-46E2-B977-7FA1DA7D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0441-821B-4438-864C-5082D153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6207-A1ED-4294-B10F-772E3F77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2DF2-E812-4C14-9B5D-3DFD46B8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744F-6001-4B43-8646-E17A97FC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E3D7-EA50-4880-8E6D-B6D56469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A3ED-79F6-45D6-B345-4181BECC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BF8C-D8D1-434A-88F1-4341B64E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8664-4622-4916-9BAD-52D2FEBE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07D5-4526-4502-AC0E-0D5F7581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0E47-9803-45EF-B67B-19832C9B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0C3D-142B-49BF-ADA4-9C10BD040F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B6FE-A2BF-4D92-879B-1DCDD25EB0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вер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" y="2017800"/>
          <a:ext cx="8631000" cy="4230720"/>
        </p:xfrm>
        <a:graphic>
          <a:graphicData uri="http://schemas.openxmlformats.org/drawingml/2006/table">
            <a:tbl>
              <a:tblPr/>
              <a:tblGrid>
                <a:gridCol w="4279680"/>
                <a:gridCol w="4351320"/>
              </a:tblGrid>
              <a:tr h="4638600">
                <a:tc>
                  <a:txBody>
                    <a:bodyPr lIns="18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Представьте в виде произведения сумм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 + 65 + 65 + 65 + 65=65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∙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Представить в виде суммы произведен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∙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3 = 78 + 78 + 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Найдите значение выражения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• 19 - 4 • 0 +1 • 1 = 2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Дан ряд чисел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; 4; 0; -5; -104; 8;1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) Выпишите положительные числ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; 8;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) Выпишите отрицательные числ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; -5; -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) Найдите модуль каждого из чисел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│=1; │4│=4; │0│=0; │-5│=5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4│=104; │8│=8; │16│=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вер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24000" y="2017800"/>
          <a:ext cx="8631000" cy="4114800"/>
        </p:xfrm>
        <a:graphic>
          <a:graphicData uri="http://schemas.openxmlformats.org/drawingml/2006/table">
            <a:tbl>
              <a:tblPr/>
              <a:tblGrid>
                <a:gridCol w="4316400"/>
                <a:gridCol w="43146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12 ∙ 6=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 ∙ 4 = 100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 ∙ 10 = 6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1 ∙ 100 = 28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 + 0,5 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3 – 0,9 = 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,4 ∙ 3 = 1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Вычислит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2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∙ 4 = 0,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2 ∙ 20 = 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4 ∙ 0,5 = 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88000" y="3789360"/>
          <a:ext cx="143964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3789360"/>
                    <a:ext cx="14396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859280" y="4869000"/>
          <a:ext cx="15130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4869000"/>
                    <a:ext cx="15130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множ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класс: Умножение десятичных дробей на натуральные чис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258920" y="5105520"/>
            <a:ext cx="6618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6 класс: Умножение положитель-ных и отрицательных 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Цели уро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5 класс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вести  правило  умножения  десятичных дробей на натуральные  числа, в том числе на 10, 100, 1000 и т.д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учить  применять  это  правило  при  выполнении  упражне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6 класс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вести  правило  умножения  положительных  и  отрицательных  чисел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учить  применять  это  правило  при  выполнении  упражне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1380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16:15:12Z</dcterms:created>
  <dc:creator>Мелкомуковы</dc:creator>
  <dc:description/>
  <dc:language>en-US</dc:language>
  <cp:lastModifiedBy>Uzer</cp:lastModifiedBy>
  <dcterms:modified xsi:type="dcterms:W3CDTF">2012-03-06T06:09:58Z</dcterms:modified>
  <cp:revision>4</cp:revision>
  <dc:subject/>
  <dc:title>Умножение</dc:title>
</cp:coreProperties>
</file>