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F855-853F-4053-9C67-23773301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5B53-B2A8-4761-B038-184DC2DA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FDCC-6B15-430A-B7F3-A321006D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A5A9-98EC-4806-B1FE-D2034D4CE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D83E-011A-4E35-983E-89417FB6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6D03-2E49-43D5-BE8B-26905815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4480-28A7-43DA-A154-26A885F3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971E-595B-4F44-8AF3-2A9761E7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68E4-61B0-41AF-BA41-97AE65C9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D141-AD2D-4B71-89DC-1345DC2F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5D16-B90D-4F79-AF35-B1619167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60D3-E2E3-43EF-BDD7-A257298A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03CB-D7C2-4ACE-A451-36EC93CD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5F4C-4ADE-4150-B088-8B8074E0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1ACE-93B5-4292-B301-11CA21E9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E9CC-65A6-43B7-8A18-95258335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7A5A-F829-4C41-9AE1-A25CA273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DBC62-F28F-424A-AE41-587BE72D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16042-54BD-4237-B12D-116E04E1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A64CF-D180-402B-BB8C-82B66A3C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B404E-1520-4364-8BC9-EC656905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65235-9227-4FE7-830B-1038D8D5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B087-FA4D-47DF-989F-98B494E3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95B98-D7B5-4672-BD9C-59D9A50B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65810-29B1-46C8-AE53-7F99467C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16EFC-0869-4EFC-8606-F0F845A2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1B180-AA1E-4064-BF29-EA3ECFEC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108AB-2594-4334-976F-40BD9F4E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A781A-2CEC-4EE8-A6E9-02A236EC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EA2C5-6343-4D6B-ADA4-E9DE0DA1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4B1E7-8BEB-4945-98FE-A578B906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3001A-70BE-4745-9D2B-21004CF7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B748A-E804-408B-9EBF-CAA581B7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A6F1-9BA4-44CF-BF1E-9EF2E99D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229CD-BE69-419A-9D81-A3FE91CD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1EC7C-FA72-4B27-B350-A9FFD115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A18BD-E9F8-4A33-8656-F98DAD82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3FE16-8E45-4B9A-ABAF-D20E78F9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78AD2-9FC8-491C-B67B-A0824A9B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B9325-E92C-485E-A30B-D044A1CB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9E392-BE14-443A-8CA5-E1ED6AB7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D541B-7D96-4CD6-B8D6-E0E5E515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80B5E-B2D7-4CCB-952F-3B4487CB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7EC1-4544-40F8-BE51-91CD1F78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F116-425F-4674-A7EF-5EB4E302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F622-4C35-43B4-B336-3183B653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8DD7-336B-464F-A92C-82D25CF6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FDCC-6985-4BD3-B832-D7C47D51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image" Target="../media/image5.jpe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25.xml"/><Relationship Id="rId17" Type="http://schemas.openxmlformats.org/officeDocument/2006/relationships/slideLayout" Target="../slideLayouts/slideLayout26.xml"/><Relationship Id="rId18" Type="http://schemas.openxmlformats.org/officeDocument/2006/relationships/slideLayout" Target="../slideLayouts/slideLayout27.xml"/><Relationship Id="rId19" Type="http://schemas.openxmlformats.org/officeDocument/2006/relationships/slideLayout" Target="../slideLayouts/slideLayout28.xml"/><Relationship Id="rId20" Type="http://schemas.openxmlformats.org/officeDocument/2006/relationships/slideLayout" Target="../slideLayouts/slideLayout29.xml"/><Relationship Id="rId21" Type="http://schemas.openxmlformats.org/officeDocument/2006/relationships/slideLayout" Target="../slideLayouts/slideLayout30.xml"/><Relationship Id="rId22" Type="http://schemas.openxmlformats.org/officeDocument/2006/relationships/slideLayout" Target="../slideLayouts/slideLayout31.xml"/><Relationship Id="rId23" Type="http://schemas.openxmlformats.org/officeDocument/2006/relationships/slideLayout" Target="../slideLayouts/slideLayout32.xml"/><Relationship Id="rId24" Type="http://schemas.openxmlformats.org/officeDocument/2006/relationships/slideLayout" Target="../slideLayouts/slideLayout33.xml"/><Relationship Id="rId25" Type="http://schemas.openxmlformats.org/officeDocument/2006/relationships/slideLayout" Target="../slideLayouts/slideLayout34.xml"/><Relationship Id="rId26" Type="http://schemas.openxmlformats.org/officeDocument/2006/relationships/slideLayout" Target="../slideLayouts/slideLayout35.xml"/><Relationship Id="rId2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37.xml"/><Relationship Id="rId17" Type="http://schemas.openxmlformats.org/officeDocument/2006/relationships/slideLayout" Target="../slideLayouts/slideLayout38.xml"/><Relationship Id="rId18" Type="http://schemas.openxmlformats.org/officeDocument/2006/relationships/slideLayout" Target="../slideLayouts/slideLayout39.xml"/><Relationship Id="rId19" Type="http://schemas.openxmlformats.org/officeDocument/2006/relationships/slideLayout" Target="../slideLayouts/slideLayout40.xml"/><Relationship Id="rId20" Type="http://schemas.openxmlformats.org/officeDocument/2006/relationships/slideLayout" Target="../slideLayouts/slideLayout41.xml"/><Relationship Id="rId21" Type="http://schemas.openxmlformats.org/officeDocument/2006/relationships/slideLayout" Target="../slideLayouts/slideLayout42.xml"/><Relationship Id="rId22" Type="http://schemas.openxmlformats.org/officeDocument/2006/relationships/slideLayout" Target="../slideLayouts/slideLayout43.xml"/><Relationship Id="rId23" Type="http://schemas.openxmlformats.org/officeDocument/2006/relationships/slideLayout" Target="../slideLayouts/slideLayout44.xml"/><Relationship Id="rId24" Type="http://schemas.openxmlformats.org/officeDocument/2006/relationships/slideLayout" Target="../slideLayouts/slideLayout45.xml"/><Relationship Id="rId25" Type="http://schemas.openxmlformats.org/officeDocument/2006/relationships/slideLayout" Target="../slideLayouts/slideLayout46.xml"/><Relationship Id="rId26" Type="http://schemas.openxmlformats.org/officeDocument/2006/relationships/slideLayout" Target="../slideLayouts/slideLayout47.xml"/><Relationship Id="rId2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48D9-C9F4-4055-A01F-8A763886669E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0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71" name="Rectangle 7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3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74" name="Rectangle 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76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77" name="Freeform 9" descr=""/>
            <p:cNvPicPr/>
            <p:nvPr/>
          </p:nvPicPr>
          <p:blipFill>
            <a:blip r:embed="rId11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2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9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12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" name="Picture 2" descr="C:\Users\Administrator\Desktop\Pushpin Dev\Assets\pushpinLeft.png"/>
          <p:cNvPicPr/>
          <p:nvPr/>
        </p:nvPicPr>
        <p:blipFill>
          <a:blip r:embed="rId13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Administrator\Desktop\Pushpin Dev\Assets\pushpinLeft.png"/>
          <p:cNvPicPr/>
          <p:nvPr/>
        </p:nvPicPr>
        <p:blipFill>
          <a:blip r:embed="rId14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38BF-5753-43B1-A521-8F071315F85A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5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26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8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29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31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132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4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39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40" name="Rectangle 8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2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43" name="Rectangle 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45" name="Freeform 1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46" name="Freeform 10" descr=""/>
            <p:cNvPicPr/>
            <p:nvPr/>
          </p:nvPicPr>
          <p:blipFill>
            <a:blip r:embed="rId11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12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13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" descr="C:\Users\Administrator\Desktop\Pushpin Dev\Assets\pushpinLeft.png"/>
          <p:cNvPicPr/>
          <p:nvPr/>
        </p:nvPicPr>
        <p:blipFill>
          <a:blip r:embed="rId14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Users\Administrator\Desktop\Pushpin Dev\Assets\pushpinLeft.png"/>
          <p:cNvPicPr/>
          <p:nvPr/>
        </p:nvPicPr>
        <p:blipFill>
          <a:blip r:embed="rId15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B3D6-B876-428A-9E85-04135A21A271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6"/>
    <p:sldLayoutId id="2147483676" r:id="rId17"/>
    <p:sldLayoutId id="2147483677" r:id="rId18"/>
    <p:sldLayoutId id="2147483678" r:id="rId19"/>
    <p:sldLayoutId id="2147483679" r:id="rId20"/>
    <p:sldLayoutId id="2147483680" r:id="rId21"/>
    <p:sldLayoutId id="2147483681" r:id="rId22"/>
    <p:sldLayoutId id="2147483682" r:id="rId23"/>
    <p:sldLayoutId id="2147483683" r:id="rId24"/>
    <p:sldLayoutId id="2147483684" r:id="rId25"/>
    <p:sldLayoutId id="2147483685" r:id="rId26"/>
    <p:sldLayoutId id="2147483686" r:id="rId2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96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9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20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2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203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grpSp>
        <p:nvGrpSpPr>
          <p:cNvPr id="209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10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11" name="Rectangle 8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3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214" name="Rectangle 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16" name="Freeform 3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217" name="Freeform 30" descr=""/>
            <p:cNvPicPr/>
            <p:nvPr/>
          </p:nvPicPr>
          <p:blipFill>
            <a:blip r:embed="rId11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9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12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13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Picture 2" descr="C:\Users\Administrator\Desktop\Pushpin Dev\Assets\pushpinLeft.png"/>
          <p:cNvPicPr/>
          <p:nvPr/>
        </p:nvPicPr>
        <p:blipFill>
          <a:blip r:embed="rId14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Users\Administrator\Desktop\Pushpin Dev\Assets\pushpinLeft.png"/>
          <p:cNvPicPr/>
          <p:nvPr/>
        </p:nvPicPr>
        <p:blipFill>
          <a:blip r:embed="rId15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726056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0303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F7F1-1686-43F1-9B9A-93201D8E02C8}" type="slidenum">
              <a:rPr b="0" lang="ru-RU" sz="1400" spc="-1" strike="noStrike">
                <a:solidFill>
                  <a:srgbClr val="30303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6"/>
    <p:sldLayoutId id="2147483689" r:id="rId17"/>
    <p:sldLayoutId id="2147483690" r:id="rId18"/>
    <p:sldLayoutId id="2147483691" r:id="rId19"/>
    <p:sldLayoutId id="2147483692" r:id="rId20"/>
    <p:sldLayoutId id="2147483693" r:id="rId21"/>
    <p:sldLayoutId id="2147483694" r:id="rId22"/>
    <p:sldLayoutId id="2147483695" r:id="rId23"/>
    <p:sldLayoutId id="2147483696" r:id="rId24"/>
    <p:sldLayoutId id="2147483697" r:id="rId25"/>
    <p:sldLayoutId id="2147483698" r:id="rId26"/>
    <p:sldLayoutId id="2147483699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900000" y="1214280"/>
            <a:ext cx="7543800" cy="3070440"/>
          </a:xfrm>
          <a:prstGeom prst="rect">
            <a:avLst/>
          </a:prstGeom>
          <a:noFill/>
          <a:ln w="0">
            <a:noFill/>
          </a:ln>
          <a:effectLst>
            <a:outerShdw dist="99192" dir="19218056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Упражнение в написании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слов с буквами </a:t>
            </a:r>
            <a:r>
              <a:rPr b="1" i="1" lang="ru-RU" sz="4400" spc="-1" strike="noStrike">
                <a:solidFill>
                  <a:srgbClr val="ff0000"/>
                </a:solidFill>
                <a:latin typeface="Constantia"/>
              </a:rPr>
              <a:t>и, у, а</a:t>
            </a:r>
            <a:r>
              <a:rPr b="1" lang="ru-RU" sz="44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осле шипящи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900000" y="4005360"/>
            <a:ext cx="705672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7320" y="260280"/>
            <a:ext cx="377640" cy="45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заяц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2714760" y="2143080"/>
            <a:ext cx="3590640" cy="404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белка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9" name="Picture 7" descr="belka"/>
          <p:cNvPicPr/>
          <p:nvPr/>
        </p:nvPicPr>
        <p:blipFill>
          <a:blip r:embed="rId1"/>
          <a:stretch/>
        </p:blipFill>
        <p:spPr>
          <a:xfrm>
            <a:off x="2571840" y="1797120"/>
            <a:ext cx="3857400" cy="4386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медведь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6" descr="476"/>
          <p:cNvPicPr/>
          <p:nvPr/>
        </p:nvPicPr>
        <p:blipFill>
          <a:blip r:embed="rId1"/>
          <a:stretch/>
        </p:blipFill>
        <p:spPr>
          <a:xfrm>
            <a:off x="2670120" y="1895400"/>
            <a:ext cx="3616560" cy="42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волк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3" name="Picture 3" descr="волк"/>
          <p:cNvPicPr/>
          <p:nvPr/>
        </p:nvPicPr>
        <p:blipFill>
          <a:blip r:embed="rId1"/>
          <a:stretch/>
        </p:blipFill>
        <p:spPr>
          <a:xfrm>
            <a:off x="2643120" y="1882800"/>
            <a:ext cx="3571920" cy="4403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402920" y="1665000"/>
            <a:ext cx="30243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ц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дь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к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811760" y="1708200"/>
            <a:ext cx="369576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ь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вежат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1403280" y="260280"/>
            <a:ext cx="75596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   -   ДЕТЁНЫ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Ш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4103640" y="4040280"/>
            <a:ext cx="324000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нового вы узнали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то вы считаете нужным запомнить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д чем ещё надо поработать?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 что ты себя можешь похвалить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Что на ваш взгляд не удалось? Почему? Что учесть на будущее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95120" y="1065240"/>
            <a:ext cx="6964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егодня на урок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920880" y="3228480"/>
            <a:ext cx="4225680" cy="18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шк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-24804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лея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-24804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алинк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48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920880" y="765000"/>
            <a:ext cx="7488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той лес, заросли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1" name="Picture 6" descr="Картинка 10 из 25979"/>
          <p:cNvPicPr/>
          <p:nvPr/>
        </p:nvPicPr>
        <p:blipFill>
          <a:blip r:embed="rId1"/>
          <a:stretch/>
        </p:blipFill>
        <p:spPr>
          <a:xfrm>
            <a:off x="3859200" y="2219400"/>
            <a:ext cx="4503600" cy="35780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"/>
          <p:cNvSpPr/>
          <p:nvPr/>
        </p:nvSpPr>
        <p:spPr>
          <a:xfrm>
            <a:off x="936720" y="2565360"/>
            <a:ext cx="4225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2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5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1600200" y="2336400"/>
            <a:ext cx="76089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5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-15804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-15804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-15804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8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928800" y="765000"/>
            <a:ext cx="760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форму имеет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ета Земля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5" name="Picture 8" descr="Картинка 57 из 156390"/>
          <p:cNvPicPr/>
          <p:nvPr/>
        </p:nvPicPr>
        <p:blipFill>
          <a:blip r:embed="rId1"/>
          <a:stretch/>
        </p:blipFill>
        <p:spPr>
          <a:xfrm>
            <a:off x="4464000" y="2565360"/>
            <a:ext cx="3168720" cy="31608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"/>
          <p:cNvSpPr/>
          <p:nvPr/>
        </p:nvSpPr>
        <p:spPr>
          <a:xfrm>
            <a:off x="1619280" y="4145040"/>
            <a:ext cx="76089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72605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5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8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31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58920" y="2637000"/>
            <a:ext cx="667368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мара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900000" y="907920"/>
            <a:ext cx="755964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го не превращалс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язь Гвидон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1258920" y="3201840"/>
            <a:ext cx="66736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щук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1255680" y="3929040"/>
            <a:ext cx="66740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мел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ух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26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1" name="Picture 8" descr="Картинка 8 из 161239"/>
          <p:cNvPicPr/>
          <p:nvPr/>
        </p:nvPicPr>
        <p:blipFill>
          <a:blip r:embed="rId1"/>
          <a:srcRect l="0" t="0" r="3054" b="0"/>
          <a:stretch/>
        </p:blipFill>
        <p:spPr>
          <a:xfrm>
            <a:off x="4416480" y="2421000"/>
            <a:ext cx="3313080" cy="3549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971280" y="907560"/>
            <a:ext cx="675324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ивотные не водятся в наших лесах?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042920" y="2319480"/>
            <a:ext cx="75438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йц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028880" y="4757760"/>
            <a:ext cx="75438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аф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26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5" name="Picture 7" descr="http://900igr.net/datai/o-zhivotnykh/CHto-edjat-zveri.files/0012-021-CHto-edjat-zveri.png"/>
          <p:cNvPicPr/>
          <p:nvPr/>
        </p:nvPicPr>
        <p:blipFill>
          <a:blip r:embed="rId1"/>
          <a:stretch/>
        </p:blipFill>
        <p:spPr>
          <a:xfrm>
            <a:off x="5299200" y="1454040"/>
            <a:ext cx="1915920" cy="4446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http://900igr.net/datai/o-zhivotnykh/CHto-edjat-zveri.files/0012-021-CHto-edjat-zveri.png"/>
          <p:cNvPicPr/>
          <p:nvPr/>
        </p:nvPicPr>
        <p:blipFill>
          <a:blip r:embed="rId2"/>
          <a:stretch/>
        </p:blipFill>
        <p:spPr>
          <a:xfrm>
            <a:off x="6443640" y="3670200"/>
            <a:ext cx="1081080" cy="2173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5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046160" y="764640"/>
            <a:ext cx="717696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55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этих птиц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5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 летать?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155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1403280" y="2486160"/>
            <a:ext cx="7543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нгвин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у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1422360" y="378936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уро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1422360" y="4460760"/>
            <a:ext cx="7543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иц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1" name="Picture 8" descr="Картинка 66 из 36722"/>
          <p:cNvPicPr/>
          <p:nvPr/>
        </p:nvPicPr>
        <p:blipFill>
          <a:blip r:embed="rId1"/>
          <a:stretch/>
        </p:blipFill>
        <p:spPr>
          <a:xfrm>
            <a:off x="4657680" y="2146320"/>
            <a:ext cx="3359160" cy="3949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046160" y="765000"/>
            <a:ext cx="3597120" cy="53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Щур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большая северная лесная певчая птица семейства вьюрковых с ярко-красным оперением головы и груди (у самцов). Уменьш.щурок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1403280" y="2486160"/>
            <a:ext cx="7543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1422360" y="378936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5" name="Picture 8" descr="Картинка 66 из 36722"/>
          <p:cNvPicPr/>
          <p:nvPr/>
        </p:nvPicPr>
        <p:blipFill>
          <a:blip r:embed="rId1"/>
          <a:stretch/>
        </p:blipFill>
        <p:spPr>
          <a:xfrm>
            <a:off x="4357800" y="1182600"/>
            <a:ext cx="4357440" cy="5124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 характеристику звукам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874440" y="442440"/>
            <a:ext cx="817236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ч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щ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ш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  <a:p>
            <a:pPr marL="251640" indent="-2516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ж] </a:t>
            </a:r>
            <a:endParaRPr b="0" lang="en-US" sz="4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5364000" y="2708280"/>
            <a:ext cx="208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УР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2340000" y="537372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А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7380360" y="393372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900000" y="3933720"/>
            <a:ext cx="208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2916360" y="2060640"/>
            <a:ext cx="208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У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900000" y="1214280"/>
            <a:ext cx="7543800" cy="3070440"/>
          </a:xfrm>
          <a:prstGeom prst="rect">
            <a:avLst/>
          </a:prstGeom>
          <a:noFill/>
          <a:ln w="0">
            <a:noFill/>
          </a:ln>
          <a:effectLst>
            <a:outerShdw dist="99192" dir="19218056" blurRad="0" rotWithShape="0">
              <a:srgbClr val="dede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Упражнение в написании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слов с буквами </a:t>
            </a:r>
            <a:r>
              <a:rPr b="1" i="1" lang="ru-RU" sz="4400" spc="-1" strike="noStrike">
                <a:solidFill>
                  <a:srgbClr val="ff0000"/>
                </a:solidFill>
                <a:latin typeface="Constantia"/>
              </a:rPr>
              <a:t>и, у, а</a:t>
            </a:r>
            <a:r>
              <a:rPr b="1" lang="ru-RU" sz="44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после шипящих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900000" y="4005360"/>
            <a:ext cx="705672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5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7320" y="260280"/>
            <a:ext cx="377640" cy="45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лькова С.П.</dc:creator>
  <dc:description/>
  <dc:language>en-US</dc:language>
  <cp:lastModifiedBy>user</cp:lastModifiedBy>
  <dcterms:modified xsi:type="dcterms:W3CDTF">2012-03-06T16:43:19Z</dcterms:modified>
  <cp:revision>55</cp:revision>
  <dc:subject>Гласные после шипящих</dc:subject>
  <dc:title>Русский язык</dc:title>
</cp:coreProperties>
</file>