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596-A70D-4D5E-ACED-6BB86E9F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5AF-6CC7-4C57-A9A4-003F1CCC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8C7-CE02-464D-A2CF-0D7FC904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C5E-3C5B-4C14-831D-50ABFE2D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7849-F588-4844-A637-BF99760F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DB84-4DA4-49D4-8DBD-2F0EEA30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46DB-E105-4502-8942-E928E73E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AD3E-FD90-4FD7-8E17-28232C83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3ACA-C663-49DD-AD38-F1C2DF5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2614-B4FD-4515-94C0-B9EA92FC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86BC-4DD3-4B6A-88FF-D6B4FDE6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174-EC8E-4752-B20F-C8E07420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0C11-9FEA-45A9-87E4-4DA336D8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F5F6-3A11-4601-B67D-F96F3BC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8F64-065C-4535-A5C3-7859501C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7D3F-8E41-4EE1-B6F3-23107AFC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23BD-5629-43FE-9972-3368ACBD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2143-F9E3-4324-97A4-A2A6690A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958F-2131-48A0-9320-AB4EE8CA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E4D8-8153-4B28-B033-9286803B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3B5F-83D2-4D38-A3E8-465668F0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8EA5-F317-41AC-956D-05C54C7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15A-EC31-4573-AED1-A91B5614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D443-2594-4D31-896C-BA7E949D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5A55-9833-4C74-9DD8-4E48A9C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6BCD-B6BC-44EA-9D3F-CCDF93F1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440C-A0CE-42AA-8B2C-9031BC47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7856-648D-4E05-826E-DDDD5A4C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EE30-E11D-4863-9459-DD4E7B0D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44CD-0498-42A9-80FA-80BEA2B9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702E-3B55-418F-AB45-FC90DC22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6CFF5-F132-4E22-8E98-D4CFDB87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703ED-F54A-4166-9FE0-78A5D9D0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338-184D-4818-B583-C949796E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E027C-EBF0-48C1-B960-FCC6D728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C935-50EF-4AB8-9CEF-C22970E8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2CD0-169B-4481-8454-41A731A0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E911-0E53-438A-B1BF-155998C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F01DE-6631-432B-9BE0-D401611F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C4D16-8BD1-4D0C-9579-827D3A78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951A5-6F03-4CD2-85D3-2E73E5D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C1D8-C964-48D3-8763-18C9AF5B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2D00-EF5D-427E-AC7F-0143CB7A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2D4-A2CE-4729-9C6B-7BF58867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919-30D1-40BD-9375-C7A647BF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6EA-1474-475F-A7E2-1360E872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13B-020B-4EE7-AC82-1677808C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390-51B3-4CB9-80BA-AD77778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C7A7-1F04-48D4-B8A4-2FAAA73FEB89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1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6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77" name="Freeform 9" descr=""/>
            <p:cNvPicPr/>
            <p:nvPr/>
          </p:nvPicPr>
          <p:blipFill>
            <a:blip r:embed="rId11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2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2" descr="C:\Users\Administrator\Desktop\Pushpin Dev\Assets\pushpinLeft.png"/>
          <p:cNvPicPr/>
          <p:nvPr/>
        </p:nvPicPr>
        <p:blipFill>
          <a:blip r:embed="rId13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B07D-90B2-4D4D-80C3-388A67E3F386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5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31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32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40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43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45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46" name="Freeform 1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F5A1-9B63-48D0-8112-9EB755EEBA5E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9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20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0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11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3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14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6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217" name="Freeform 3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A7BA-5C7D-4804-A18D-BA39422A8CF6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3590640" cy="404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belka"/>
          <p:cNvPicPr/>
          <p:nvPr/>
        </p:nvPicPr>
        <p:blipFill>
          <a:blip r:embed="rId1"/>
          <a:stretch/>
        </p:blipFill>
        <p:spPr>
          <a:xfrm>
            <a:off x="2571840" y="1797120"/>
            <a:ext cx="385740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медвед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6" descr="476"/>
          <p:cNvPicPr/>
          <p:nvPr/>
        </p:nvPicPr>
        <p:blipFill>
          <a:blip r:embed="rId1"/>
          <a:stretch/>
        </p:blipFill>
        <p:spPr>
          <a:xfrm>
            <a:off x="2670120" y="1895400"/>
            <a:ext cx="36165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3" descr="волк"/>
          <p:cNvPicPr/>
          <p:nvPr/>
        </p:nvPicPr>
        <p:blipFill>
          <a:blip r:embed="rId1"/>
          <a:stretch/>
        </p:blipFill>
        <p:spPr>
          <a:xfrm>
            <a:off x="2643120" y="1882800"/>
            <a:ext cx="3571920" cy="440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402920" y="1665000"/>
            <a:ext cx="3024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811760" y="1708200"/>
            <a:ext cx="36957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403280" y="260280"/>
            <a:ext cx="75596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   -   ДЕТЁНЫ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103640" y="4040280"/>
            <a:ext cx="32400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нового вы узнали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вы считаете нужным запомн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 чем ещё надо поработать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 что ты себя можешь похвал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на ваш взгляд не удалось? Почему? Что учесть на будущее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5120" y="1065240"/>
            <a:ext cx="6964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20880" y="3228480"/>
            <a:ext cx="422568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ш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е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лин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920880" y="765000"/>
            <a:ext cx="7488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ой лес, заросл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6" descr="Картинка 10 из 25979"/>
          <p:cNvPicPr/>
          <p:nvPr/>
        </p:nvPicPr>
        <p:blipFill>
          <a:blip r:embed="rId1"/>
          <a:stretch/>
        </p:blipFill>
        <p:spPr>
          <a:xfrm>
            <a:off x="3859200" y="2219400"/>
            <a:ext cx="4503600" cy="3578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936720" y="2565360"/>
            <a:ext cx="4225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600200" y="2336400"/>
            <a:ext cx="76089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928800" y="765000"/>
            <a:ext cx="760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орму име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 Земля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8" descr="Картинка 57 из 156390"/>
          <p:cNvPicPr/>
          <p:nvPr/>
        </p:nvPicPr>
        <p:blipFill>
          <a:blip r:embed="rId1"/>
          <a:stretch/>
        </p:blipFill>
        <p:spPr>
          <a:xfrm>
            <a:off x="4464000" y="2565360"/>
            <a:ext cx="3168720" cy="3160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1619280" y="4145040"/>
            <a:ext cx="7608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58920" y="2637000"/>
            <a:ext cx="66736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р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900000" y="907920"/>
            <a:ext cx="75596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го не превращал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Гвидон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258920" y="3201840"/>
            <a:ext cx="66736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ук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255680" y="3929040"/>
            <a:ext cx="66740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ме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х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8" descr="Картинка 8 из 161239"/>
          <p:cNvPicPr/>
          <p:nvPr/>
        </p:nvPicPr>
        <p:blipFill>
          <a:blip r:embed="rId1"/>
          <a:srcRect l="0" t="0" r="3054" b="0"/>
          <a:stretch/>
        </p:blipFill>
        <p:spPr>
          <a:xfrm>
            <a:off x="4416480" y="2421000"/>
            <a:ext cx="331308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675324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не водятся в наших лесах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42920" y="2319480"/>
            <a:ext cx="7543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28880" y="4757760"/>
            <a:ext cx="7543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7" descr="http://900igr.net/datai/o-zhivotnykh/CHto-edjat-zveri.files/0012-021-CHto-edjat-zveri.png"/>
          <p:cNvPicPr/>
          <p:nvPr/>
        </p:nvPicPr>
        <p:blipFill>
          <a:blip r:embed="rId1"/>
          <a:stretch/>
        </p:blipFill>
        <p:spPr>
          <a:xfrm>
            <a:off x="5299200" y="1454040"/>
            <a:ext cx="1915920" cy="444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http://900igr.net/datai/o-zhivotnykh/CHto-edjat-zveri.files/0012-021-CHto-edjat-zveri.png"/>
          <p:cNvPicPr/>
          <p:nvPr/>
        </p:nvPicPr>
        <p:blipFill>
          <a:blip r:embed="rId2"/>
          <a:stretch/>
        </p:blipFill>
        <p:spPr>
          <a:xfrm>
            <a:off x="6443640" y="3670200"/>
            <a:ext cx="108108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6160" y="764640"/>
            <a:ext cx="717696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этих птиц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етать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у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422360" y="4460760"/>
            <a:ext cx="7543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ц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657680" y="2146320"/>
            <a:ext cx="3359160" cy="394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46160" y="765000"/>
            <a:ext cx="359712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льшая северная лесная певчая птица семейства вьюрковых с ярко-красным оперением головы и груди (у самцов). Уменьш.щуро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357800" y="1182600"/>
            <a:ext cx="4357440" cy="512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характеристику звук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4440" y="442440"/>
            <a:ext cx="817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ч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щ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ш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ж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64000" y="270828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340000" y="537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7380360" y="393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900000" y="393372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916360" y="206064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лькова С.П.</dc:creator>
  <dc:description/>
  <dc:language>en-US</dc:language>
  <cp:lastModifiedBy>user</cp:lastModifiedBy>
  <dcterms:modified xsi:type="dcterms:W3CDTF">2012-03-06T16:43:19Z</dcterms:modified>
  <cp:revision>55</cp:revision>
  <dc:subject>Гласные после шипящих</dc:subject>
  <dc:title>Русский язык</dc:title>
</cp:coreProperties>
</file>