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E89F-8A3B-47A8-BEA9-3E81796D4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D0F6-3172-48FC-A0BD-F25E12A9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8452-B04E-44C0-8D3B-968D31AE7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9881-A59B-4344-8B25-E33B297B1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5BB1-5D98-4C31-9084-FCCFF7A03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64F39-1E48-43BE-869E-0017F76B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5DB7-8959-411B-B434-3C91AFFA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831D-0A58-49F8-AC07-E808FD49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2899-4D41-4E63-8FEE-C129461A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778F-404F-48EE-B45F-EBC9259A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6222-6242-478A-9451-5570A278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C4EE-9502-49E8-94F8-96BFEF12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2CF86-B65E-42F7-894F-0A9FDD91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A21D-B2D6-4716-A1FA-7DA455F8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8BFC-2C84-4B7A-AD54-65FBBD47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8B2E-4B71-48B5-BFEF-8D056D06E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F792-1AA7-40CC-8464-912712C8C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E2EC5-CB8C-42CB-9727-F4DE5A970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BF320-2348-4F0E-ADD0-41CBB16E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F124C-5669-404D-8012-22210839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C18C2-0889-43F8-8700-F05413DE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5AD0A-641C-412A-A791-FE05BFEA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63F4-5D17-4945-9B5D-277EBCCF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1DC18-60E0-406E-AD2C-4054E693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AE3F3-8761-4BB9-B836-C8288E3E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90072-C0DA-4391-9B32-C6B01F04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B3E00-F525-40B5-972F-621A2EC0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03F50-6807-4BC6-A84B-5259A63D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0F077-9344-4F0E-A52E-A30A984FF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46965-5932-4C28-9C77-E9EBF62B4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B4AD6-5AD3-4DD4-8DEB-1F5307A37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ED4B5-5D4B-46DA-A823-F15B56DD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4BBEA-BBDD-49C1-B309-D0649849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83D3-5EEB-42AE-AB72-41632275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FE958-259C-47C3-ACDA-E9C8E3A6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09D6C-428A-4F2E-8228-3A3AFB96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25976-F0C9-48E4-8C40-183AEE90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A1F8E-AA6F-4265-BF8B-176CE16E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9C6EC-6C4B-48A7-B538-D64F3F64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92A68-0D00-42BB-87BB-CB51CDCB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F5C69-E334-4B50-A28C-7A68EB1A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A85E0-BE20-4A16-866C-D8F39CC61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724CF-DD12-40FC-9C83-C09F72E8B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2EEA-66F2-4233-962C-CB85395A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F358-6D95-4E75-A6B2-6A8010BE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36D5-3679-4D69-B3FA-9033C875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E05F-451F-48D1-A3A9-BF0A2DFA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D6D6-B0B1-4B11-A88E-96242BF9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7.png"/><Relationship Id="rId12" Type="http://schemas.openxmlformats.org/officeDocument/2006/relationships/image" Target="../media/image5.jpe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8.pn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25.xml"/><Relationship Id="rId17" Type="http://schemas.openxmlformats.org/officeDocument/2006/relationships/slideLayout" Target="../slideLayouts/slideLayout26.xml"/><Relationship Id="rId18" Type="http://schemas.openxmlformats.org/officeDocument/2006/relationships/slideLayout" Target="../slideLayouts/slideLayout27.xml"/><Relationship Id="rId19" Type="http://schemas.openxmlformats.org/officeDocument/2006/relationships/slideLayout" Target="../slideLayouts/slideLayout28.xml"/><Relationship Id="rId20" Type="http://schemas.openxmlformats.org/officeDocument/2006/relationships/slideLayout" Target="../slideLayouts/slideLayout29.xml"/><Relationship Id="rId21" Type="http://schemas.openxmlformats.org/officeDocument/2006/relationships/slideLayout" Target="../slideLayouts/slideLayout30.xml"/><Relationship Id="rId22" Type="http://schemas.openxmlformats.org/officeDocument/2006/relationships/slideLayout" Target="../slideLayouts/slideLayout31.xml"/><Relationship Id="rId23" Type="http://schemas.openxmlformats.org/officeDocument/2006/relationships/slideLayout" Target="../slideLayouts/slideLayout32.xml"/><Relationship Id="rId24" Type="http://schemas.openxmlformats.org/officeDocument/2006/relationships/slideLayout" Target="../slideLayouts/slideLayout33.xml"/><Relationship Id="rId25" Type="http://schemas.openxmlformats.org/officeDocument/2006/relationships/slideLayout" Target="../slideLayouts/slideLayout34.xml"/><Relationship Id="rId26" Type="http://schemas.openxmlformats.org/officeDocument/2006/relationships/slideLayout" Target="../slideLayouts/slideLayout35.xml"/><Relationship Id="rId2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8.pn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37.xml"/><Relationship Id="rId17" Type="http://schemas.openxmlformats.org/officeDocument/2006/relationships/slideLayout" Target="../slideLayouts/slideLayout38.xml"/><Relationship Id="rId18" Type="http://schemas.openxmlformats.org/officeDocument/2006/relationships/slideLayout" Target="../slideLayouts/slideLayout39.xml"/><Relationship Id="rId19" Type="http://schemas.openxmlformats.org/officeDocument/2006/relationships/slideLayout" Target="../slideLayouts/slideLayout40.xml"/><Relationship Id="rId20" Type="http://schemas.openxmlformats.org/officeDocument/2006/relationships/slideLayout" Target="../slideLayouts/slideLayout41.xml"/><Relationship Id="rId21" Type="http://schemas.openxmlformats.org/officeDocument/2006/relationships/slideLayout" Target="../slideLayouts/slideLayout42.xml"/><Relationship Id="rId22" Type="http://schemas.openxmlformats.org/officeDocument/2006/relationships/slideLayout" Target="../slideLayouts/slideLayout43.xml"/><Relationship Id="rId23" Type="http://schemas.openxmlformats.org/officeDocument/2006/relationships/slideLayout" Target="../slideLayouts/slideLayout44.xml"/><Relationship Id="rId24" Type="http://schemas.openxmlformats.org/officeDocument/2006/relationships/slideLayout" Target="../slideLayouts/slideLayout45.xml"/><Relationship Id="rId25" Type="http://schemas.openxmlformats.org/officeDocument/2006/relationships/slideLayout" Target="../slideLayouts/slideLayout46.xml"/><Relationship Id="rId26" Type="http://schemas.openxmlformats.org/officeDocument/2006/relationships/slideLayout" Target="../slideLayouts/slideLayout47.xml"/><Relationship Id="rId2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2440" y="6066000"/>
            <a:ext cx="7935840" cy="547560"/>
            <a:chOff x="622440" y="6066000"/>
            <a:chExt cx="7935840" cy="54756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2440" y="6066000"/>
              <a:ext cx="79358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68520"/>
              <a:ext cx="79218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03030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C5F6-1ECD-43E8-BA81-2050DA9326FE}" type="slidenum">
              <a:rPr b="0" lang="ru-RU" sz="1400" spc="-1" strike="noStrike">
                <a:solidFill>
                  <a:srgbClr val="303030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5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6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62" name="Freeform 9"/>
          <p:cNvGrpSpPr/>
          <p:nvPr/>
        </p:nvGrpSpPr>
        <p:grpSpPr>
          <a:xfrm>
            <a:off x="622440" y="6066000"/>
            <a:ext cx="7935840" cy="547560"/>
            <a:chOff x="622440" y="6066000"/>
            <a:chExt cx="7935840" cy="547560"/>
          </a:xfrm>
        </p:grpSpPr>
        <p:pic>
          <p:nvPicPr>
            <p:cNvPr id="63" name="Freeform 9" descr=""/>
            <p:cNvPicPr/>
            <p:nvPr/>
          </p:nvPicPr>
          <p:blipFill>
            <a:blip r:embed="rId5"/>
            <a:stretch/>
          </p:blipFill>
          <p:spPr>
            <a:xfrm>
              <a:off x="622440" y="6066000"/>
              <a:ext cx="79358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628200" y="6068520"/>
              <a:ext cx="79218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5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70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71" name="Rectangle 7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3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74" name="Rectangle 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76" name="Freeform 9"/>
          <p:cNvGrpSpPr/>
          <p:nvPr/>
        </p:nvGrpSpPr>
        <p:grpSpPr>
          <a:xfrm>
            <a:off x="890640" y="5619600"/>
            <a:ext cx="7381080" cy="536400"/>
            <a:chOff x="890640" y="5619600"/>
            <a:chExt cx="7381080" cy="536400"/>
          </a:xfrm>
        </p:grpSpPr>
        <p:pic>
          <p:nvPicPr>
            <p:cNvPr id="77" name="Freeform 9" descr=""/>
            <p:cNvPicPr/>
            <p:nvPr/>
          </p:nvPicPr>
          <p:blipFill>
            <a:blip r:embed="rId11"/>
            <a:stretch/>
          </p:blipFill>
          <p:spPr>
            <a:xfrm>
              <a:off x="890640" y="5620680"/>
              <a:ext cx="738036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2"/>
            <p:cNvSpPr/>
            <p:nvPr/>
          </p:nvSpPr>
          <p:spPr>
            <a:xfrm rot="10800000">
              <a:off x="891360" y="5619240"/>
              <a:ext cx="73803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9" name="Rectangle 10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12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" name="Picture 2" descr="C:\Users\Administrator\Desktop\Pushpin Dev\Assets\pushpinLeft.png"/>
          <p:cNvPicPr/>
          <p:nvPr/>
        </p:nvPicPr>
        <p:blipFill>
          <a:blip r:embed="rId13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Administrator\Desktop\Pushpin Dev\Assets\pushpinLeft.png"/>
          <p:cNvPicPr/>
          <p:nvPr/>
        </p:nvPicPr>
        <p:blipFill>
          <a:blip r:embed="rId14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03030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39DA-988C-40DB-B991-4473BD776292}" type="slidenum">
              <a:rPr b="0" lang="ru-RU" sz="1400" spc="-1" strike="noStrike">
                <a:solidFill>
                  <a:srgbClr val="303030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25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126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8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129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31" name="Freeform 9"/>
          <p:cNvGrpSpPr/>
          <p:nvPr/>
        </p:nvGrpSpPr>
        <p:grpSpPr>
          <a:xfrm>
            <a:off x="622440" y="6066000"/>
            <a:ext cx="7935840" cy="547560"/>
            <a:chOff x="622440" y="6066000"/>
            <a:chExt cx="7935840" cy="547560"/>
          </a:xfrm>
        </p:grpSpPr>
        <p:pic>
          <p:nvPicPr>
            <p:cNvPr id="132" name="Freeform 9" descr=""/>
            <p:cNvPicPr/>
            <p:nvPr/>
          </p:nvPicPr>
          <p:blipFill>
            <a:blip r:embed="rId5"/>
            <a:stretch/>
          </p:blipFill>
          <p:spPr>
            <a:xfrm>
              <a:off x="622440" y="6066000"/>
              <a:ext cx="79358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 rot="10800000">
              <a:off x="628200" y="6068520"/>
              <a:ext cx="79218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4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39" name="Rectangle 8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140" name="Rectangle 8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42" name="Rectangle 9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143" name="Rectangle 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45" name="Freeform 10"/>
          <p:cNvGrpSpPr/>
          <p:nvPr/>
        </p:nvGrpSpPr>
        <p:grpSpPr>
          <a:xfrm>
            <a:off x="628560" y="6053040"/>
            <a:ext cx="7729560" cy="549360"/>
            <a:chOff x="628560" y="6053040"/>
            <a:chExt cx="7729560" cy="549360"/>
          </a:xfrm>
        </p:grpSpPr>
        <p:pic>
          <p:nvPicPr>
            <p:cNvPr id="146" name="Freeform 10" descr=""/>
            <p:cNvPicPr/>
            <p:nvPr/>
          </p:nvPicPr>
          <p:blipFill>
            <a:blip r:embed="rId11"/>
            <a:stretch/>
          </p:blipFill>
          <p:spPr>
            <a:xfrm>
              <a:off x="628560" y="6053040"/>
              <a:ext cx="7729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16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12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13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" descr="C:\Users\Administrator\Desktop\Pushpin Dev\Assets\pushpinLeft.png"/>
          <p:cNvPicPr/>
          <p:nvPr/>
        </p:nvPicPr>
        <p:blipFill>
          <a:blip r:embed="rId14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C:\Users\Administrator\Desktop\Pushpin Dev\Assets\pushpinLeft.png"/>
          <p:cNvPicPr/>
          <p:nvPr/>
        </p:nvPicPr>
        <p:blipFill>
          <a:blip r:embed="rId15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03030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4BE6-BA83-4B66-8A11-FE4E73201E25}" type="slidenum">
              <a:rPr b="0" lang="ru-RU" sz="1400" spc="-1" strike="noStrike">
                <a:solidFill>
                  <a:srgbClr val="303030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6"/>
    <p:sldLayoutId id="2147483676" r:id="rId17"/>
    <p:sldLayoutId id="2147483677" r:id="rId18"/>
    <p:sldLayoutId id="2147483678" r:id="rId19"/>
    <p:sldLayoutId id="2147483679" r:id="rId20"/>
    <p:sldLayoutId id="2147483680" r:id="rId21"/>
    <p:sldLayoutId id="2147483681" r:id="rId22"/>
    <p:sldLayoutId id="2147483682" r:id="rId23"/>
    <p:sldLayoutId id="2147483683" r:id="rId24"/>
    <p:sldLayoutId id="2147483684" r:id="rId25"/>
    <p:sldLayoutId id="2147483685" r:id="rId26"/>
    <p:sldLayoutId id="2147483686" r:id="rId2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96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19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20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2" name="Freeform 9"/>
          <p:cNvGrpSpPr/>
          <p:nvPr/>
        </p:nvGrpSpPr>
        <p:grpSpPr>
          <a:xfrm>
            <a:off x="622440" y="6066000"/>
            <a:ext cx="7935840" cy="547560"/>
            <a:chOff x="622440" y="6066000"/>
            <a:chExt cx="7935840" cy="547560"/>
          </a:xfrm>
        </p:grpSpPr>
        <p:pic>
          <p:nvPicPr>
            <p:cNvPr id="203" name="Freeform 9" descr=""/>
            <p:cNvPicPr/>
            <p:nvPr/>
          </p:nvPicPr>
          <p:blipFill>
            <a:blip r:embed="rId5"/>
            <a:stretch/>
          </p:blipFill>
          <p:spPr>
            <a:xfrm>
              <a:off x="622440" y="6066000"/>
              <a:ext cx="79358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 rot="10800000">
              <a:off x="628200" y="6068520"/>
              <a:ext cx="79218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5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grpSp>
        <p:nvGrpSpPr>
          <p:cNvPr id="209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10" name="Rectangle 8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211" name="Rectangle 8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3" name="Rectangle 9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214" name="Rectangle 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16" name="Freeform 30"/>
          <p:cNvGrpSpPr/>
          <p:nvPr/>
        </p:nvGrpSpPr>
        <p:grpSpPr>
          <a:xfrm>
            <a:off x="628560" y="6053040"/>
            <a:ext cx="7729560" cy="549360"/>
            <a:chOff x="628560" y="6053040"/>
            <a:chExt cx="7729560" cy="549360"/>
          </a:xfrm>
        </p:grpSpPr>
        <p:pic>
          <p:nvPicPr>
            <p:cNvPr id="217" name="Freeform 30" descr=""/>
            <p:cNvPicPr/>
            <p:nvPr/>
          </p:nvPicPr>
          <p:blipFill>
            <a:blip r:embed="rId11"/>
            <a:stretch/>
          </p:blipFill>
          <p:spPr>
            <a:xfrm>
              <a:off x="628560" y="6053040"/>
              <a:ext cx="7729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9" name="Rectangle 11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Rectangle 12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12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Rectangle 2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Rectangle 29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13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3" name="Picture 2" descr="C:\Users\Administrator\Desktop\Pushpin Dev\Assets\pushpinLeft.png"/>
          <p:cNvPicPr/>
          <p:nvPr/>
        </p:nvPicPr>
        <p:blipFill>
          <a:blip r:embed="rId14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C:\Users\Administrator\Desktop\Pushpin Dev\Assets\pushpinLeft.png"/>
          <p:cNvPicPr/>
          <p:nvPr/>
        </p:nvPicPr>
        <p:blipFill>
          <a:blip r:embed="rId15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03030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461C-DB44-4815-954F-531F342A3C18}" type="slidenum">
              <a:rPr b="0" lang="ru-RU" sz="1400" spc="-1" strike="noStrike">
                <a:solidFill>
                  <a:srgbClr val="303030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6"/>
    <p:sldLayoutId id="2147483689" r:id="rId17"/>
    <p:sldLayoutId id="2147483690" r:id="rId18"/>
    <p:sldLayoutId id="2147483691" r:id="rId19"/>
    <p:sldLayoutId id="2147483692" r:id="rId20"/>
    <p:sldLayoutId id="2147483693" r:id="rId21"/>
    <p:sldLayoutId id="2147483694" r:id="rId22"/>
    <p:sldLayoutId id="2147483695" r:id="rId23"/>
    <p:sldLayoutId id="2147483696" r:id="rId24"/>
    <p:sldLayoutId id="2147483697" r:id="rId25"/>
    <p:sldLayoutId id="2147483698" r:id="rId26"/>
    <p:sldLayoutId id="2147483699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5"/>
          <p:cNvSpPr/>
          <p:nvPr/>
        </p:nvSpPr>
        <p:spPr>
          <a:xfrm>
            <a:off x="900000" y="1214280"/>
            <a:ext cx="7543800" cy="3070440"/>
          </a:xfrm>
          <a:prstGeom prst="rect">
            <a:avLst/>
          </a:prstGeom>
          <a:noFill/>
          <a:ln w="0">
            <a:noFill/>
          </a:ln>
          <a:effectLst>
            <a:outerShdw dist="99192" dir="19218056" blurRad="0" rotWithShape="0">
              <a:srgbClr val="dede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Упражнение в написании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слов с буквами </a:t>
            </a:r>
            <a:r>
              <a:rPr b="1" i="1" lang="ru-RU" sz="4400" spc="-1" strike="noStrike">
                <a:solidFill>
                  <a:srgbClr val="ff0000"/>
                </a:solidFill>
                <a:latin typeface="Constantia"/>
              </a:rPr>
              <a:t>и, у, а</a:t>
            </a:r>
            <a:r>
              <a:rPr b="1" lang="ru-RU" sz="4400" spc="-1" strike="noStrike">
                <a:solidFill>
                  <a:srgbClr val="ff0000"/>
                </a:solidFill>
                <a:latin typeface="Constantia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после шипящи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900000" y="4005360"/>
            <a:ext cx="705672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7320" y="260280"/>
            <a:ext cx="377640" cy="45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nstantia"/>
              </a:rPr>
              <a:t>заяц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2714760" y="2143080"/>
            <a:ext cx="3590640" cy="4040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nstantia"/>
              </a:rPr>
              <a:t>белка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9" name="Picture 7" descr="belka"/>
          <p:cNvPicPr/>
          <p:nvPr/>
        </p:nvPicPr>
        <p:blipFill>
          <a:blip r:embed="rId1"/>
          <a:stretch/>
        </p:blipFill>
        <p:spPr>
          <a:xfrm>
            <a:off x="2571840" y="1797120"/>
            <a:ext cx="3857400" cy="4386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nstantia"/>
              </a:rPr>
              <a:t>медведь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1" name="Picture 6" descr="476"/>
          <p:cNvPicPr/>
          <p:nvPr/>
        </p:nvPicPr>
        <p:blipFill>
          <a:blip r:embed="rId1"/>
          <a:stretch/>
        </p:blipFill>
        <p:spPr>
          <a:xfrm>
            <a:off x="2670120" y="1895400"/>
            <a:ext cx="3616560" cy="424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nstantia"/>
              </a:rPr>
              <a:t>волк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3" name="Picture 3" descr="волк"/>
          <p:cNvPicPr/>
          <p:nvPr/>
        </p:nvPicPr>
        <p:blipFill>
          <a:blip r:embed="rId1"/>
          <a:stretch/>
        </p:blipFill>
        <p:spPr>
          <a:xfrm>
            <a:off x="2643120" y="1882800"/>
            <a:ext cx="3571920" cy="440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1402920" y="1665000"/>
            <a:ext cx="30243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ц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к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ведь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811760" y="1708200"/>
            <a:ext cx="369576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й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ь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вежат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1403280" y="260280"/>
            <a:ext cx="75596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   -   ДЕТЁНЫ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Ш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Rectangle 11"/>
          <p:cNvSpPr/>
          <p:nvPr/>
        </p:nvSpPr>
        <p:spPr>
          <a:xfrm>
            <a:off x="4103640" y="4040280"/>
            <a:ext cx="3240000" cy="16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Что нового вы узнали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Что вы считаете нужным запомнить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ад чем ещё надо поработать?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За что ты себя можешь похвалить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Что на ваш взгляд не удалось? Почему? Что учесть на будущее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95120" y="1065240"/>
            <a:ext cx="69642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егодня на уроке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920880" y="3228480"/>
            <a:ext cx="4225680" cy="18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100000"/>
              </a:lnSpc>
              <a:spcBef>
                <a:spcPts val="901"/>
              </a:spcBef>
              <a:buClr>
                <a:srgbClr val="72605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ушк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248040" indent="-248040">
              <a:lnSpc>
                <a:spcPct val="100000"/>
              </a:lnSpc>
              <a:spcBef>
                <a:spcPts val="901"/>
              </a:spcBef>
              <a:buClr>
                <a:srgbClr val="72605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лея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248040" indent="-248040">
              <a:lnSpc>
                <a:spcPct val="100000"/>
              </a:lnSpc>
              <a:spcBef>
                <a:spcPts val="901"/>
              </a:spcBef>
              <a:buClr>
                <a:srgbClr val="72605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алинк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248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920880" y="765000"/>
            <a:ext cx="74880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ется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стой лес, заросли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1" name="Picture 6" descr="Картинка 10 из 25979"/>
          <p:cNvPicPr/>
          <p:nvPr/>
        </p:nvPicPr>
        <p:blipFill>
          <a:blip r:embed="rId1"/>
          <a:stretch/>
        </p:blipFill>
        <p:spPr>
          <a:xfrm>
            <a:off x="3859200" y="2219400"/>
            <a:ext cx="4503600" cy="357804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3"/>
          <p:cNvSpPr/>
          <p:nvPr/>
        </p:nvSpPr>
        <p:spPr>
          <a:xfrm>
            <a:off x="936720" y="2565360"/>
            <a:ext cx="4225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72605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щ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9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2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5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1600200" y="2336400"/>
            <a:ext cx="760896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5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158040" indent="-158040">
              <a:lnSpc>
                <a:spcPct val="90000"/>
              </a:lnSpc>
              <a:spcBef>
                <a:spcPts val="901"/>
              </a:spcBef>
              <a:buClr>
                <a:srgbClr val="72605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158040" indent="-158040">
              <a:lnSpc>
                <a:spcPct val="90000"/>
              </a:lnSpc>
              <a:spcBef>
                <a:spcPts val="901"/>
              </a:spcBef>
              <a:buClr>
                <a:srgbClr val="72605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158040" indent="-158040">
              <a:lnSpc>
                <a:spcPct val="90000"/>
              </a:lnSpc>
              <a:spcBef>
                <a:spcPts val="901"/>
              </a:spcBef>
              <a:buClr>
                <a:srgbClr val="72605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158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928800" y="765000"/>
            <a:ext cx="7608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форму имеет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ета Земля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5" name="Picture 8" descr="Картинка 57 из 156390"/>
          <p:cNvPicPr/>
          <p:nvPr/>
        </p:nvPicPr>
        <p:blipFill>
          <a:blip r:embed="rId1"/>
          <a:stretch/>
        </p:blipFill>
        <p:spPr>
          <a:xfrm>
            <a:off x="4464000" y="2565360"/>
            <a:ext cx="3168720" cy="316080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3"/>
          <p:cNvSpPr/>
          <p:nvPr/>
        </p:nvSpPr>
        <p:spPr>
          <a:xfrm>
            <a:off x="1619280" y="4145040"/>
            <a:ext cx="76089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72605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5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8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31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258920" y="2637000"/>
            <a:ext cx="667368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мар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900000" y="907920"/>
            <a:ext cx="755964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го не превращался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язь Гвидон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1258920" y="3201840"/>
            <a:ext cx="66736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щуку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Rectangle 8"/>
          <p:cNvSpPr/>
          <p:nvPr/>
        </p:nvSpPr>
        <p:spPr>
          <a:xfrm>
            <a:off x="1255680" y="3929040"/>
            <a:ext cx="667404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шмел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уху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26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1" name="Picture 8" descr="Картинка 8 из 161239"/>
          <p:cNvPicPr/>
          <p:nvPr/>
        </p:nvPicPr>
        <p:blipFill>
          <a:blip r:embed="rId1"/>
          <a:srcRect l="0" t="0" r="3054" b="0"/>
          <a:stretch/>
        </p:blipFill>
        <p:spPr>
          <a:xfrm>
            <a:off x="4416480" y="2421000"/>
            <a:ext cx="3313080" cy="3549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41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4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971280" y="907560"/>
            <a:ext cx="675324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ивотные не водятся в наших лесах?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1042920" y="2319480"/>
            <a:ext cx="754380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йц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к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1028880" y="4757760"/>
            <a:ext cx="75438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аф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26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5" name="Picture 7" descr="http://900igr.net/datai/o-zhivotnykh/CHto-edjat-zveri.files/0012-021-CHto-edjat-zveri.png"/>
          <p:cNvPicPr/>
          <p:nvPr/>
        </p:nvPicPr>
        <p:blipFill>
          <a:blip r:embed="rId1"/>
          <a:stretch/>
        </p:blipFill>
        <p:spPr>
          <a:xfrm>
            <a:off x="5299200" y="1454040"/>
            <a:ext cx="1915920" cy="44467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http://900igr.net/datai/o-zhivotnykh/CHto-edjat-zveri.files/0012-021-CHto-edjat-zveri.png"/>
          <p:cNvPicPr/>
          <p:nvPr/>
        </p:nvPicPr>
        <p:blipFill>
          <a:blip r:embed="rId2"/>
          <a:stretch/>
        </p:blipFill>
        <p:spPr>
          <a:xfrm>
            <a:off x="6443640" y="3670200"/>
            <a:ext cx="1081080" cy="2173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5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1046160" y="764640"/>
            <a:ext cx="7176960" cy="7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555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из этих птиц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1555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ет летать?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155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1403280" y="2486160"/>
            <a:ext cx="75438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нгвин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ус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1422360" y="3789360"/>
            <a:ext cx="208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урок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1422360" y="4460760"/>
            <a:ext cx="75438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иц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1" name="Picture 8" descr="Картинка 66 из 36722"/>
          <p:cNvPicPr/>
          <p:nvPr/>
        </p:nvPicPr>
        <p:blipFill>
          <a:blip r:embed="rId1"/>
          <a:stretch/>
        </p:blipFill>
        <p:spPr>
          <a:xfrm>
            <a:off x="4657680" y="2146320"/>
            <a:ext cx="3359160" cy="3949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6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6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1046160" y="765000"/>
            <a:ext cx="3597120" cy="53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Щур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большая северная лесная певчая птица семейства вьюрковых с ярко-красным оперением головы и груди (у самцов). Уменьш.щурок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1403280" y="2486160"/>
            <a:ext cx="75438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1422360" y="3789360"/>
            <a:ext cx="208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5" name="Picture 8" descr="Картинка 66 из 36722"/>
          <p:cNvPicPr/>
          <p:nvPr/>
        </p:nvPicPr>
        <p:blipFill>
          <a:blip r:embed="rId1"/>
          <a:stretch/>
        </p:blipFill>
        <p:spPr>
          <a:xfrm>
            <a:off x="4357800" y="1182600"/>
            <a:ext cx="4357440" cy="5124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й характеристику звукам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874440" y="442440"/>
            <a:ext cx="817236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1640" indent="-2516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marL="251640" indent="-2516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marL="251640" indent="-2516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marL="251640" indent="-2516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marL="251640" indent="-2516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ч] </a:t>
            </a: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marL="251640" indent="-2516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щ] </a:t>
            </a: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marL="251640" indent="-2516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ш] </a:t>
            </a: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marL="251640" indent="-2516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ж] </a:t>
            </a: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5364000" y="2708280"/>
            <a:ext cx="208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УРО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2340000" y="5373720"/>
            <a:ext cx="208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А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7380360" y="3933720"/>
            <a:ext cx="208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900000" y="3933720"/>
            <a:ext cx="208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Щ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Rectangle 8"/>
          <p:cNvSpPr/>
          <p:nvPr/>
        </p:nvSpPr>
        <p:spPr>
          <a:xfrm>
            <a:off x="2916360" y="2060640"/>
            <a:ext cx="208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У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5"/>
          <p:cNvSpPr/>
          <p:nvPr/>
        </p:nvSpPr>
        <p:spPr>
          <a:xfrm>
            <a:off x="900000" y="1214280"/>
            <a:ext cx="7543800" cy="3070440"/>
          </a:xfrm>
          <a:prstGeom prst="rect">
            <a:avLst/>
          </a:prstGeom>
          <a:noFill/>
          <a:ln w="0">
            <a:noFill/>
          </a:ln>
          <a:effectLst>
            <a:outerShdw dist="99192" dir="19218056" blurRad="0" rotWithShape="0">
              <a:srgbClr val="dede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Упражнение в написании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слов с буквами </a:t>
            </a:r>
            <a:r>
              <a:rPr b="1" i="1" lang="ru-RU" sz="4400" spc="-1" strike="noStrike">
                <a:solidFill>
                  <a:srgbClr val="ff0000"/>
                </a:solidFill>
                <a:latin typeface="Constantia"/>
              </a:rPr>
              <a:t>и, у, а</a:t>
            </a:r>
            <a:r>
              <a:rPr b="1" lang="ru-RU" sz="4400" spc="-1" strike="noStrike">
                <a:solidFill>
                  <a:srgbClr val="ff0000"/>
                </a:solidFill>
                <a:latin typeface="Constantia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после шипящи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900000" y="4005360"/>
            <a:ext cx="705672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5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7320" y="260280"/>
            <a:ext cx="377640" cy="45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юлькова С.П.</dc:creator>
  <dc:description/>
  <dc:language>en-US</dc:language>
  <cp:lastModifiedBy>user</cp:lastModifiedBy>
  <dcterms:modified xsi:type="dcterms:W3CDTF">2012-03-06T16:43:19Z</dcterms:modified>
  <cp:revision>55</cp:revision>
  <dc:subject>Гласные после шипящих</dc:subject>
  <dc:title>Русский язык</dc:title>
</cp:coreProperties>
</file>