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9B8-49B3-4B34-A249-8BE9BD6E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6CE-AD1D-40A1-8726-746EE234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D66-A1AB-49E6-B895-02661B74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236-3866-4D7B-B4BF-A05041C7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438A-2B29-43F4-8C7D-4528EFC3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D258-ADEF-4FF0-BB64-FAD8E21C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A4E2-86B1-48B6-AA78-E77BD892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CF86-0D09-457C-A3D7-3D3E9D35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E7C-200C-44CE-8721-EBDB6FB1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CC7A-AA1D-4094-9005-D9529CD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A160-4458-4814-AC7D-82B3410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5BD-3AD2-4D1E-8CCE-67EC4280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350E-B6EF-484B-986E-A1832DC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F89-7D4F-4E58-BA11-F9AB059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E0E9-153A-47B1-9E6B-9F0720E2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2F73-049D-4980-8C5E-EE9DC2FE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5CAF-4474-46AA-89EE-D76BFF18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769-098C-4C52-9A4D-0F7B92B6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16B-AE82-4E1E-8972-C5E2DC38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D99-0AA0-4AEE-9EAE-3CCA4286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1BF-D705-4DFD-B5BE-71E37133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A50-86A3-40B9-84A6-7660A68A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661-D755-44C3-87B2-7C0C0AF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CEA-8821-47D0-BD48-69C658C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2FAA-ADBB-402E-9612-258715EF3D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6C6F-9988-43F4-B26C-79A66D4245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83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Антон Павлович Чехо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Картинка 13 из 6588"/>
          <p:cNvPicPr/>
          <p:nvPr/>
        </p:nvPicPr>
        <p:blipFill>
          <a:blip r:embed="rId1"/>
          <a:stretch/>
        </p:blipFill>
        <p:spPr>
          <a:xfrm>
            <a:off x="2627280" y="1916280"/>
            <a:ext cx="3446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23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24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24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25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25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27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28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8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1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31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9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9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50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50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51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51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3" dur="indefinite" restart="never" nodeType="tmRoot">
          <p:childTnLst>
            <p:seq>
              <p:cTn id="2864" dur="indefinite" nodeType="mainSeq">
                <p:childTnLst>
                  <p:par>
                    <p:cTn id="2865" fill="hold">
                      <p:stCondLst>
                        <p:cond delay="0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8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4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4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8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0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4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6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2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6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8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4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8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1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3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6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0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2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6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8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2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4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8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0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6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0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6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8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2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4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8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4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9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3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6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8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2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8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0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2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6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8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2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8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0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4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6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2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6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4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0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4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6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0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2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6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8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2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4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8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0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4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0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2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6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2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8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0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4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6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0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2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6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8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2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4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8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0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4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6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0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2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6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8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2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4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0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6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0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8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2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0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4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6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0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6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8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2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8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53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53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54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54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55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57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57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7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60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60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8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8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9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9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9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80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0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4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0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4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7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0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8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2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4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8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4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6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0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6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8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2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4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8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7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9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2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8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0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4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6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0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2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6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8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4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0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6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0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5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9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2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0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4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0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2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6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8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6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0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2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6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8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2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4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0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4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6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0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2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6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8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2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4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8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0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4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6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0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2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6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8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8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0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4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0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2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6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8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2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4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8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0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4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6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0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2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6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8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2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4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8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0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6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0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2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6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8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4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8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0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6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0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2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6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2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0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82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82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83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83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84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86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86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6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9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90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07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08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08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9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9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10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10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fill="hold">
                      <p:stCondLst>
                        <p:cond delay="0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0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3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6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0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3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6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8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4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8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0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4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6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0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2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6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8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2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8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4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0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3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5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8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2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8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4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6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2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8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4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0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4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6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0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2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6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8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1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5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0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4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6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2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6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2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8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0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6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0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2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6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8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2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4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8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0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4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6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0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6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8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4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8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0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4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6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0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6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8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0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4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6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2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6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8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4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8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0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4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6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0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6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8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2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0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4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6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0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2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6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2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4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8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0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4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6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0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2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2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4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8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0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4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11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12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12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13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13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15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15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6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6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9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37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37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37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38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38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39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39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39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1" dur="indefinite" restart="never" nodeType="tmRoot">
          <p:childTnLst>
            <p:seq>
              <p:cTn id="4082" dur="indefinite" nodeType="mainSeq">
                <p:childTnLst>
                  <p:par>
                    <p:cTn id="4083" fill="hold">
                      <p:stCondLst>
                        <p:cond delay="0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6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9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5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2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8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4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6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0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2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2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34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8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4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6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0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2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6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2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5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7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0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4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6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0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2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6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2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4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8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0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4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6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2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6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8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4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8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3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7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2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6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8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2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4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8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0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4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6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0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2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6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8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2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4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8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0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6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0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2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6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8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4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8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0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4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6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2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6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8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2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8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0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6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0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2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6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8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2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4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8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0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4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6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6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8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2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4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8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0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4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6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2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6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8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2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34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8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6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2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6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8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2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64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0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4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6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0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2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6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8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41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41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42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42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43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44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45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48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6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6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6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67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67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67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68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68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3" dur="indefinite" restart="never" nodeType="tmRoot">
          <p:childTnLst>
            <p:seq>
              <p:cTn id="4494" dur="indefinite" nodeType="mainSeq">
                <p:childTnLst>
                  <p:par>
                    <p:cTn id="4495" fill="hold">
                      <p:stCondLst>
                        <p:cond delay="0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98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1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4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8" dur="500"/>
                                        <p:tgtEl>
                                          <p:spTgt spid="3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1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4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6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2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6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8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2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34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0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4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6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0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2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6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8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2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4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8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1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3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6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0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6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2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4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0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4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6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0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2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8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4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8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0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6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9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3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6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48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2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54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8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0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4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6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0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2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6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8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2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4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8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0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4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6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0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2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6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8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2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4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8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0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4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6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0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2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6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8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2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8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0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4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6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0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8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2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4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8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0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6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0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2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6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8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2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4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0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4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6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0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2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6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8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2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4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8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0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4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6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0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2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6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8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2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4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8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0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4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6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0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2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6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8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2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4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8" dur="500"/>
                                        <p:tgtEl>
                                          <p:spTgt spid="3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70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70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71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71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72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74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74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78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9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95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96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96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96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96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97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97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97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98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9" dur="indefinite" restart="never" nodeType="tmRoot">
          <p:childTnLst>
            <p:seq>
              <p:cTn id="4900" dur="indefinite" nodeType="mainSeq">
                <p:childTnLst>
                  <p:par>
                    <p:cTn id="4901" fill="hold">
                      <p:stCondLst>
                        <p:cond delay="0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4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7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10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4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7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2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6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8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2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4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0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4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6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0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2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8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2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4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8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0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4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7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9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2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6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8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2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4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8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0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4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6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0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2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6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8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2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4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8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0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4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6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0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2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5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9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2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4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8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0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6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0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2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6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8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2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4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8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0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4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6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0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2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6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8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2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4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8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4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6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0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2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6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8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2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4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8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0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4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6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0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2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6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8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2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4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8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0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6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0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2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6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8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2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8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0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4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6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0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2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6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8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2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4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8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0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4" dur="5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6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0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2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6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8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2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4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8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0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6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0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2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6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8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2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4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8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00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4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99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99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00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00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01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03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03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07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2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24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25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25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25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26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26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26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26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27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27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5" dur="indefinite" restart="never" nodeType="tmRoot">
          <p:childTnLst>
            <p:seq>
              <p:cTn id="5306" dur="indefinite" nodeType="mainSeq">
                <p:childTnLst>
                  <p:par>
                    <p:cTn id="5307" fill="hold">
                      <p:stCondLst>
                        <p:cond delay="0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0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3" dur="5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6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0" dur="500"/>
                                        <p:tgtEl>
                                          <p:spTgt spid="4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3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6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8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2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4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8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0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44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6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0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2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6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8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2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64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8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0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4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6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3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5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8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2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94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8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0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4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6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0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2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6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8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2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24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8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0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4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6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0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2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6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8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51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5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8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0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4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0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2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6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8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2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4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8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0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4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6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0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2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6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8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2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14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8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0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4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6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0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2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6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8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2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44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8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0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4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6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0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2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6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8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2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74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8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0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84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6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2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6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8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2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04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8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0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4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6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0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2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6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8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2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34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0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4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6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0" dur="500"/>
                                        <p:tgtEl>
                                          <p:spTgt spid="4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2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6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8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2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4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8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0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4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6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0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2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6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8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2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94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8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0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04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6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0" dur="500"/>
                                        <p:tgtEl>
                                          <p:spTgt spid="4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28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29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29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30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30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32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32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3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5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4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4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4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4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4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55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55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55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55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56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56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1" dur="indefinite" restart="never" nodeType="tmRoot">
          <p:childTnLst>
            <p:seq>
              <p:cTn id="5712" dur="indefinite" nodeType="mainSeq">
                <p:childTnLst>
                  <p:par>
                    <p:cTn id="5713" fill="hold">
                      <p:stCondLst>
                        <p:cond delay="0"/>
                      </p:stCondLst>
                      <p:childTnLst>
                        <p:par>
                          <p:cTn id="5714" fill="hold">
                            <p:stCondLst>
                              <p:cond delay="0"/>
                            </p:stCondLst>
                            <p:childTnLst>
                              <p:par>
                                <p:cTn id="57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6" dur="500"/>
                                        <p:tgtEl>
                                          <p:spTgt spid="4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9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22" dur="500"/>
                                        <p:tgtEl>
                                          <p:spTgt spid="4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6" dur="500"/>
                                        <p:tgtEl>
                                          <p:spTgt spid="4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9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2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4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8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0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4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6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0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2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6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8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2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4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8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0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4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6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0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82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6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9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1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4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8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0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4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6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0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2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8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2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4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8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0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4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6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0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2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6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8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2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4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7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1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4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6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0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2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6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8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2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4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8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0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4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6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0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2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6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8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2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14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8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0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4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6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0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2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6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8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2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4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8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0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4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6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0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2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6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8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2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74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8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0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4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6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0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2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6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8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2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4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8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0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4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6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0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2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6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2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34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8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0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4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6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0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2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6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8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2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4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8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0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4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6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0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2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6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8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2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8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4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0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1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6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57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58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58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59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59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61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62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5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65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6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83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83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83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84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84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84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84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85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85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85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85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7" dur="indefinite" restart="never" nodeType="tmRoot">
          <p:childTnLst>
            <p:seq>
              <p:cTn id="6118" dur="indefinite" nodeType="mainSeq">
                <p:childTnLst>
                  <p:par>
                    <p:cTn id="6119" fill="hold">
                      <p:stCondLst>
                        <p:cond delay="0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2" dur="5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5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8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2" dur="500"/>
                                        <p:tgtEl>
                                          <p:spTgt spid="4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5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8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4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6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0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2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6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8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2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4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8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0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4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6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0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2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6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2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5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7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0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4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6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0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2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6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8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2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4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0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6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0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2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6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2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54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8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0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3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0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2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6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8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2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4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8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0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4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6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0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2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6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8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2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14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8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0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4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6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0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2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6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8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2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4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8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0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54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6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0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2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6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8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2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74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8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0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4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6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0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6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8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2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4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8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0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4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6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0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2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6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8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2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34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8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0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4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6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0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2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6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8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2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4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8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0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4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6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0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2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6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8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2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94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8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4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6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0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2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6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8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2" dur="5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87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88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88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89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90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91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4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94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12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12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13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13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13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13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13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14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14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14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3" dur="indefinite" restart="never" nodeType="tmRoot">
          <p:childTnLst>
            <p:seq>
              <p:cTn id="6524" dur="indefinite" nodeType="mainSeq">
                <p:childTnLst>
                  <p:par>
                    <p:cTn id="6525" fill="hold">
                      <p:stCondLst>
                        <p:cond delay="0"/>
                      </p:stCondLst>
                      <p:childTnLst>
                        <p:par>
                          <p:cTn id="6526" fill="hold">
                            <p:stCondLst>
                              <p:cond delay="0"/>
                            </p:stCondLst>
                            <p:childTnLst>
                              <p:par>
                                <p:cTn id="6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8" dur="500"/>
                                        <p:tgtEl>
                                          <p:spTgt spid="4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1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4" dur="5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8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1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6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0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2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6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8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2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4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8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0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4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6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0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6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8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2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4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8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01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6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2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6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8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2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24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8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0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4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6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0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2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6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8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2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54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8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0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4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6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9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3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6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8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2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84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8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0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4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6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0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2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6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8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2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14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8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0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4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6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0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2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6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8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2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4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8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0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54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6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0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2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6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8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2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74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8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0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4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6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0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2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6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8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2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4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8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0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14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6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0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2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6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8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2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4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8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0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4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6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0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2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6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8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2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4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8" dur="500"/>
                                        <p:tgtEl>
                                          <p:spTgt spid="5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0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4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0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2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8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2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4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8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0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04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6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0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2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6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8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2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4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8" dur="500"/>
                                        <p:tgtEl>
                                          <p:spTgt spid="5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840" y="1595520"/>
            <a:ext cx="8248320" cy="3660840"/>
            <a:chOff x="447840" y="1595520"/>
            <a:chExt cx="8248320" cy="3660840"/>
          </a:xfrm>
        </p:grpSpPr>
        <p:sp>
          <p:nvSpPr>
            <p:cNvPr id="99" name=""/>
            <p:cNvSpPr/>
            <p:nvPr/>
          </p:nvSpPr>
          <p:spPr>
            <a:xfrm>
              <a:off x="506520" y="1595520"/>
              <a:ext cx="8132760" cy="533160"/>
            </a:xfrm>
            <a:custGeom>
              <a:avLst/>
              <a:gdLst/>
              <a:ahLst/>
              <a:rect l="l" t="t" r="r" b="b"/>
              <a:pathLst>
                <a:path w="5772" h="636">
                  <a:moveTo>
                    <a:pt x="5365" y="62"/>
                  </a:moveTo>
                  <a:cubicBezTo>
                    <a:pt x="5365" y="62"/>
                    <a:pt x="5365" y="62"/>
                    <a:pt x="5365" y="62"/>
                  </a:cubicBezTo>
                  <a:cubicBezTo>
                    <a:pt x="5363" y="59"/>
                    <a:pt x="5361" y="56"/>
                    <a:pt x="5359" y="53"/>
                  </a:cubicBezTo>
                  <a:cubicBezTo>
                    <a:pt x="5359" y="53"/>
                    <a:pt x="5359" y="53"/>
                    <a:pt x="5359" y="53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7" y="50"/>
                    <a:pt x="5355" y="49"/>
                    <a:pt x="5354" y="47"/>
                  </a:cubicBezTo>
                  <a:cubicBezTo>
                    <a:pt x="5354" y="47"/>
                    <a:pt x="5354" y="47"/>
                    <a:pt x="5354" y="46"/>
                  </a:cubicBezTo>
                  <a:cubicBezTo>
                    <a:pt x="5345" y="37"/>
                    <a:pt x="5336" y="29"/>
                    <a:pt x="5325" y="22"/>
                  </a:cubicBezTo>
                  <a:cubicBezTo>
                    <a:pt x="5325" y="22"/>
                    <a:pt x="5325" y="21"/>
                    <a:pt x="5324" y="21"/>
                  </a:cubicBezTo>
                  <a:cubicBezTo>
                    <a:pt x="5323" y="20"/>
                    <a:pt x="5321" y="19"/>
                    <a:pt x="5319" y="18"/>
                  </a:cubicBezTo>
                  <a:cubicBezTo>
                    <a:pt x="5319" y="18"/>
                    <a:pt x="5318" y="18"/>
                    <a:pt x="5318" y="17"/>
                  </a:cubicBezTo>
                  <a:cubicBezTo>
                    <a:pt x="5316" y="16"/>
                    <a:pt x="5314" y="15"/>
                    <a:pt x="5313" y="14"/>
                  </a:cubicBezTo>
                  <a:cubicBezTo>
                    <a:pt x="5312" y="14"/>
                    <a:pt x="5312" y="14"/>
                    <a:pt x="5311" y="14"/>
                  </a:cubicBezTo>
                  <a:cubicBezTo>
                    <a:pt x="5309" y="13"/>
                    <a:pt x="5307" y="12"/>
                    <a:pt x="5305" y="11"/>
                  </a:cubicBezTo>
                  <a:cubicBezTo>
                    <a:pt x="5305" y="11"/>
                    <a:pt x="5305" y="11"/>
                    <a:pt x="5305" y="11"/>
                  </a:cubicBezTo>
                  <a:cubicBezTo>
                    <a:pt x="5300" y="9"/>
                    <a:pt x="5295" y="7"/>
                    <a:pt x="5291" y="6"/>
                  </a:cubicBezTo>
                  <a:cubicBezTo>
                    <a:pt x="5290" y="5"/>
                    <a:pt x="5289" y="5"/>
                    <a:pt x="5289" y="5"/>
                  </a:cubicBezTo>
                  <a:cubicBezTo>
                    <a:pt x="5287" y="5"/>
                    <a:pt x="5285" y="4"/>
                    <a:pt x="5283" y="4"/>
                  </a:cubicBezTo>
                  <a:cubicBezTo>
                    <a:pt x="5283" y="3"/>
                    <a:pt x="5282" y="3"/>
                    <a:pt x="5281" y="3"/>
                  </a:cubicBezTo>
                  <a:cubicBezTo>
                    <a:pt x="5279" y="3"/>
                    <a:pt x="5278" y="2"/>
                    <a:pt x="5276" y="2"/>
                  </a:cubicBezTo>
                  <a:cubicBezTo>
                    <a:pt x="5275" y="2"/>
                    <a:pt x="5274" y="2"/>
                    <a:pt x="5274" y="2"/>
                  </a:cubicBezTo>
                  <a:cubicBezTo>
                    <a:pt x="5272" y="1"/>
                    <a:pt x="5270" y="1"/>
                    <a:pt x="5269" y="1"/>
                  </a:cubicBezTo>
                  <a:cubicBezTo>
                    <a:pt x="5268" y="1"/>
                    <a:pt x="5267" y="1"/>
                    <a:pt x="5266" y="0"/>
                  </a:cubicBezTo>
                  <a:cubicBezTo>
                    <a:pt x="5264" y="0"/>
                    <a:pt x="5263" y="0"/>
                    <a:pt x="5261" y="0"/>
                  </a:cubicBezTo>
                  <a:cubicBezTo>
                    <a:pt x="5260" y="0"/>
                    <a:pt x="5259" y="0"/>
                    <a:pt x="5259" y="0"/>
                  </a:cubicBezTo>
                  <a:cubicBezTo>
                    <a:pt x="5256" y="0"/>
                    <a:pt x="5253" y="0"/>
                    <a:pt x="525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19" y="0"/>
                    <a:pt x="516" y="0"/>
                    <a:pt x="514" y="0"/>
                  </a:cubicBezTo>
                  <a:cubicBezTo>
                    <a:pt x="513" y="0"/>
                    <a:pt x="512" y="0"/>
                    <a:pt x="511" y="0"/>
                  </a:cubicBezTo>
                  <a:cubicBezTo>
                    <a:pt x="510" y="0"/>
                    <a:pt x="508" y="0"/>
                    <a:pt x="506" y="0"/>
                  </a:cubicBezTo>
                  <a:cubicBezTo>
                    <a:pt x="505" y="1"/>
                    <a:pt x="504" y="1"/>
                    <a:pt x="503" y="1"/>
                  </a:cubicBezTo>
                  <a:cubicBezTo>
                    <a:pt x="502" y="1"/>
                    <a:pt x="500" y="1"/>
                    <a:pt x="499" y="2"/>
                  </a:cubicBezTo>
                  <a:cubicBezTo>
                    <a:pt x="498" y="2"/>
                    <a:pt x="497" y="2"/>
                    <a:pt x="496" y="2"/>
                  </a:cubicBezTo>
                  <a:cubicBezTo>
                    <a:pt x="494" y="2"/>
                    <a:pt x="493" y="3"/>
                    <a:pt x="491" y="3"/>
                  </a:cubicBezTo>
                  <a:cubicBezTo>
                    <a:pt x="491" y="3"/>
                    <a:pt x="490" y="3"/>
                    <a:pt x="489" y="4"/>
                  </a:cubicBezTo>
                  <a:cubicBezTo>
                    <a:pt x="487" y="4"/>
                    <a:pt x="485" y="4"/>
                    <a:pt x="484" y="5"/>
                  </a:cubicBezTo>
                  <a:cubicBezTo>
                    <a:pt x="483" y="5"/>
                    <a:pt x="482" y="5"/>
                    <a:pt x="482" y="6"/>
                  </a:cubicBezTo>
                  <a:cubicBezTo>
                    <a:pt x="477" y="7"/>
                    <a:pt x="472" y="9"/>
                    <a:pt x="468" y="11"/>
                  </a:cubicBezTo>
                  <a:cubicBezTo>
                    <a:pt x="467" y="11"/>
                    <a:pt x="467" y="11"/>
                    <a:pt x="467" y="11"/>
                  </a:cubicBezTo>
                  <a:cubicBezTo>
                    <a:pt x="465" y="12"/>
                    <a:pt x="463" y="13"/>
                    <a:pt x="461" y="14"/>
                  </a:cubicBezTo>
                  <a:cubicBezTo>
                    <a:pt x="461" y="14"/>
                    <a:pt x="460" y="14"/>
                    <a:pt x="460" y="14"/>
                  </a:cubicBezTo>
                  <a:cubicBezTo>
                    <a:pt x="458" y="15"/>
                    <a:pt x="456" y="16"/>
                    <a:pt x="455" y="17"/>
                  </a:cubicBezTo>
                  <a:cubicBezTo>
                    <a:pt x="454" y="18"/>
                    <a:pt x="454" y="18"/>
                    <a:pt x="453" y="18"/>
                  </a:cubicBezTo>
                  <a:cubicBezTo>
                    <a:pt x="451" y="19"/>
                    <a:pt x="450" y="20"/>
                    <a:pt x="448" y="21"/>
                  </a:cubicBezTo>
                  <a:cubicBezTo>
                    <a:pt x="448" y="21"/>
                    <a:pt x="447" y="22"/>
                    <a:pt x="447" y="22"/>
                  </a:cubicBezTo>
                  <a:cubicBezTo>
                    <a:pt x="445" y="23"/>
                    <a:pt x="443" y="24"/>
                    <a:pt x="441" y="26"/>
                  </a:cubicBezTo>
                  <a:cubicBezTo>
                    <a:pt x="441" y="26"/>
                    <a:pt x="441" y="26"/>
                    <a:pt x="441" y="26"/>
                  </a:cubicBezTo>
                  <a:cubicBezTo>
                    <a:pt x="435" y="30"/>
                    <a:pt x="429" y="35"/>
                    <a:pt x="424" y="41"/>
                  </a:cubicBezTo>
                  <a:cubicBezTo>
                    <a:pt x="424" y="41"/>
                    <a:pt x="424" y="41"/>
                    <a:pt x="424" y="41"/>
                  </a:cubicBezTo>
                  <a:cubicBezTo>
                    <a:pt x="422" y="43"/>
                    <a:pt x="420" y="45"/>
                    <a:pt x="419" y="46"/>
                  </a:cubicBezTo>
                  <a:cubicBezTo>
                    <a:pt x="419" y="47"/>
                    <a:pt x="419" y="47"/>
                    <a:pt x="419" y="47"/>
                  </a:cubicBezTo>
                  <a:cubicBezTo>
                    <a:pt x="417" y="49"/>
                    <a:pt x="415" y="50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1" y="56"/>
                    <a:pt x="409" y="59"/>
                    <a:pt x="407" y="62"/>
                  </a:cubicBezTo>
                  <a:cubicBezTo>
                    <a:pt x="407" y="62"/>
                    <a:pt x="407" y="62"/>
                    <a:pt x="407" y="62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29" y="603"/>
                    <a:pt x="72" y="582"/>
                    <a:pt x="120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5387" y="582"/>
                    <a:pt x="5387" y="582"/>
                    <a:pt x="5387" y="582"/>
                  </a:cubicBezTo>
                  <a:cubicBezTo>
                    <a:pt x="5653" y="582"/>
                    <a:pt x="5653" y="582"/>
                    <a:pt x="5653" y="582"/>
                  </a:cubicBezTo>
                  <a:cubicBezTo>
                    <a:pt x="5700" y="582"/>
                    <a:pt x="5743" y="603"/>
                    <a:pt x="5772" y="636"/>
                  </a:cubicBezTo>
                  <a:lnTo>
                    <a:pt x="5365" y="6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840" y="2050920"/>
              <a:ext cx="8248320" cy="3205440"/>
            </a:xfrm>
            <a:prstGeom prst="roundRect">
              <a:avLst>
                <a:gd name="adj" fmla="val 7014"/>
              </a:avLst>
            </a:pr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3440" y="2762280"/>
              <a:ext cx="1168200" cy="1913040"/>
              <a:chOff x="703440" y="2762280"/>
              <a:chExt cx="1168200" cy="191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344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344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43280" y="2765520"/>
              <a:ext cx="1168200" cy="1912680"/>
              <a:chOff x="1943280" y="2765520"/>
              <a:chExt cx="1168200" cy="1912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3280" y="276552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3280" y="444996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68520" y="2762280"/>
              <a:ext cx="1168560" cy="1913040"/>
              <a:chOff x="3368520" y="2762280"/>
              <a:chExt cx="1168560" cy="19130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68520" y="276228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8520" y="444708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06920" y="2765520"/>
              <a:ext cx="1168560" cy="1912680"/>
              <a:chOff x="4606920" y="2765520"/>
              <a:chExt cx="1168560" cy="1912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6920" y="276552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6920" y="444996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031080" y="2762280"/>
              <a:ext cx="1168200" cy="1913040"/>
              <a:chOff x="6031080" y="2762280"/>
              <a:chExt cx="1168200" cy="1913040"/>
            </a:xfrm>
          </p:grpSpPr>
          <p:sp>
            <p:nvSpPr>
              <p:cNvPr id="122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3108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3108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70920" y="276552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0920" y="444960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270920" y="2981160"/>
              <a:ext cx="1168200" cy="1473480"/>
              <a:chOff x="7270920" y="2981160"/>
              <a:chExt cx="1168200" cy="147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31080" y="2981160"/>
              <a:ext cx="1168200" cy="1473480"/>
              <a:chOff x="6031080" y="2981160"/>
              <a:chExt cx="1168200" cy="147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3280" y="2982960"/>
              <a:ext cx="1168200" cy="1473120"/>
              <a:chOff x="1943280" y="2982960"/>
              <a:chExt cx="1168200" cy="1473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03440" y="2982960"/>
              <a:ext cx="1168200" cy="1473120"/>
              <a:chOff x="703440" y="2982960"/>
              <a:chExt cx="1168200" cy="147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06920" y="2984400"/>
              <a:ext cx="1168200" cy="1473480"/>
              <a:chOff x="4606920" y="2984400"/>
              <a:chExt cx="1168200" cy="1473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68520" y="2981160"/>
              <a:ext cx="1168200" cy="1473480"/>
              <a:chOff x="3368520" y="2981160"/>
              <a:chExt cx="1168200" cy="147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7840" y="2050920"/>
              <a:ext cx="8248320" cy="3205440"/>
            </a:xfrm>
            <a:custGeom>
              <a:avLst/>
              <a:gdLst/>
              <a:ahLst/>
              <a:rect l="l" t="t" r="r" b="b"/>
              <a:pathLst>
                <a:path w="5920" h="2300">
                  <a:moveTo>
                    <a:pt x="5758" y="0"/>
                  </a:moveTo>
                  <a:cubicBezTo>
                    <a:pt x="161" y="0"/>
                    <a:pt x="161" y="0"/>
                    <a:pt x="161" y="0"/>
                  </a:cubicBezTo>
                  <a:cubicBezTo>
                    <a:pt x="72" y="0"/>
                    <a:pt x="0" y="72"/>
                    <a:pt x="0" y="161"/>
                  </a:cubicBezTo>
                  <a:cubicBezTo>
                    <a:pt x="0" y="2138"/>
                    <a:pt x="0" y="2138"/>
                    <a:pt x="0" y="2138"/>
                  </a:cubicBezTo>
                  <a:cubicBezTo>
                    <a:pt x="0" y="2227"/>
                    <a:pt x="72" y="2300"/>
                    <a:pt x="161" y="2300"/>
                  </a:cubicBezTo>
                  <a:cubicBezTo>
                    <a:pt x="5758" y="2300"/>
                    <a:pt x="5758" y="2300"/>
                    <a:pt x="5758" y="2300"/>
                  </a:cubicBezTo>
                  <a:cubicBezTo>
                    <a:pt x="5847" y="2300"/>
                    <a:pt x="5920" y="2227"/>
                    <a:pt x="5920" y="2138"/>
                  </a:cubicBezTo>
                  <a:cubicBezTo>
                    <a:pt x="5920" y="161"/>
                    <a:pt x="5920" y="161"/>
                    <a:pt x="5920" y="161"/>
                  </a:cubicBezTo>
                  <a:cubicBezTo>
                    <a:pt x="5920" y="72"/>
                    <a:pt x="5847" y="0"/>
                    <a:pt x="5758" y="0"/>
                  </a:cubicBezTo>
                  <a:close/>
                  <a:moveTo>
                    <a:pt x="1022" y="1883"/>
                  </a:moveTo>
                  <a:cubicBezTo>
                    <a:pt x="184" y="1883"/>
                    <a:pt x="184" y="1883"/>
                    <a:pt x="184" y="1883"/>
                  </a:cubicBezTo>
                  <a:cubicBezTo>
                    <a:pt x="184" y="510"/>
                    <a:pt x="184" y="510"/>
                    <a:pt x="184" y="510"/>
                  </a:cubicBezTo>
                  <a:cubicBezTo>
                    <a:pt x="1022" y="510"/>
                    <a:pt x="1022" y="510"/>
                    <a:pt x="1022" y="510"/>
                  </a:cubicBezTo>
                  <a:lnTo>
                    <a:pt x="1022" y="1883"/>
                  </a:lnTo>
                  <a:close/>
                  <a:moveTo>
                    <a:pt x="1912" y="1885"/>
                  </a:moveTo>
                  <a:cubicBezTo>
                    <a:pt x="1073" y="1885"/>
                    <a:pt x="1073" y="1885"/>
                    <a:pt x="1073" y="1885"/>
                  </a:cubicBezTo>
                  <a:cubicBezTo>
                    <a:pt x="1073" y="513"/>
                    <a:pt x="1073" y="513"/>
                    <a:pt x="1073" y="513"/>
                  </a:cubicBezTo>
                  <a:cubicBezTo>
                    <a:pt x="1912" y="513"/>
                    <a:pt x="1912" y="513"/>
                    <a:pt x="1912" y="513"/>
                  </a:cubicBezTo>
                  <a:lnTo>
                    <a:pt x="1912" y="1885"/>
                  </a:lnTo>
                  <a:close/>
                  <a:moveTo>
                    <a:pt x="2935" y="1883"/>
                  </a:moveTo>
                  <a:cubicBezTo>
                    <a:pt x="2097" y="1883"/>
                    <a:pt x="2097" y="1883"/>
                    <a:pt x="2097" y="1883"/>
                  </a:cubicBezTo>
                  <a:cubicBezTo>
                    <a:pt x="2097" y="510"/>
                    <a:pt x="2097" y="510"/>
                    <a:pt x="2097" y="510"/>
                  </a:cubicBezTo>
                  <a:cubicBezTo>
                    <a:pt x="2935" y="510"/>
                    <a:pt x="2935" y="510"/>
                    <a:pt x="2935" y="510"/>
                  </a:cubicBezTo>
                  <a:lnTo>
                    <a:pt x="2935" y="1883"/>
                  </a:lnTo>
                  <a:close/>
                  <a:moveTo>
                    <a:pt x="3824" y="1885"/>
                  </a:moveTo>
                  <a:cubicBezTo>
                    <a:pt x="2985" y="1885"/>
                    <a:pt x="2985" y="1885"/>
                    <a:pt x="2985" y="1885"/>
                  </a:cubicBezTo>
                  <a:cubicBezTo>
                    <a:pt x="2985" y="513"/>
                    <a:pt x="2985" y="513"/>
                    <a:pt x="2985" y="513"/>
                  </a:cubicBezTo>
                  <a:cubicBezTo>
                    <a:pt x="3824" y="513"/>
                    <a:pt x="3824" y="513"/>
                    <a:pt x="3824" y="513"/>
                  </a:cubicBezTo>
                  <a:lnTo>
                    <a:pt x="3824" y="1885"/>
                  </a:lnTo>
                  <a:close/>
                  <a:moveTo>
                    <a:pt x="4846" y="1883"/>
                  </a:moveTo>
                  <a:cubicBezTo>
                    <a:pt x="4007" y="1883"/>
                    <a:pt x="4007" y="1883"/>
                    <a:pt x="4007" y="1883"/>
                  </a:cubicBezTo>
                  <a:cubicBezTo>
                    <a:pt x="4007" y="510"/>
                    <a:pt x="4007" y="510"/>
                    <a:pt x="4007" y="510"/>
                  </a:cubicBezTo>
                  <a:cubicBezTo>
                    <a:pt x="4846" y="510"/>
                    <a:pt x="4846" y="510"/>
                    <a:pt x="4846" y="510"/>
                  </a:cubicBezTo>
                  <a:lnTo>
                    <a:pt x="4846" y="1883"/>
                  </a:lnTo>
                  <a:close/>
                  <a:moveTo>
                    <a:pt x="5735" y="1885"/>
                  </a:moveTo>
                  <a:cubicBezTo>
                    <a:pt x="4897" y="1885"/>
                    <a:pt x="4897" y="1885"/>
                    <a:pt x="4897" y="1885"/>
                  </a:cubicBezTo>
                  <a:cubicBezTo>
                    <a:pt x="4897" y="513"/>
                    <a:pt x="4897" y="513"/>
                    <a:pt x="4897" y="513"/>
                  </a:cubicBezTo>
                  <a:cubicBezTo>
                    <a:pt x="5735" y="513"/>
                    <a:pt x="5735" y="513"/>
                    <a:pt x="5735" y="513"/>
                  </a:cubicBezTo>
                  <a:lnTo>
                    <a:pt x="5735" y="1885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884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24280" y="4732920"/>
              <a:ext cx="14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inu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648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139120"/>
              <a:ext cx="46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ert 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913320" y="3472560"/>
              <a:ext cx="315144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040" y="2085840"/>
              <a:ext cx="819792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62240" y="3373560"/>
              <a:ext cx="120240" cy="693360"/>
              <a:chOff x="3162240" y="3373560"/>
              <a:chExt cx="120240" cy="69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6512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6224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43520" y="3373560"/>
              <a:ext cx="120240" cy="693360"/>
              <a:chOff x="5843520" y="3373560"/>
              <a:chExt cx="120240" cy="69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84640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4352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06320" y="2768760"/>
              <a:ext cx="7731000" cy="1904760"/>
              <a:chOff x="706320" y="2768760"/>
              <a:chExt cx="7731000" cy="19047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06320" y="2768760"/>
                <a:ext cx="1164960" cy="1904400"/>
                <a:chOff x="706320" y="2768760"/>
                <a:chExt cx="1164960" cy="19044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5680" y="2778480"/>
                  <a:ext cx="1145880" cy="1884960"/>
                  <a:chOff x="715680" y="2778480"/>
                  <a:chExt cx="1145880" cy="1884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56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221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63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44720" y="2768760"/>
                <a:ext cx="1164960" cy="1904400"/>
                <a:chOff x="1944720" y="2768760"/>
                <a:chExt cx="1164960" cy="19044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954080" y="2778480"/>
                  <a:ext cx="1145880" cy="1884960"/>
                  <a:chOff x="1954080" y="2778480"/>
                  <a:chExt cx="1145880" cy="1884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540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605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9447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272360" y="2768760"/>
                <a:ext cx="1164960" cy="1904400"/>
                <a:chOff x="7272360" y="2768760"/>
                <a:chExt cx="1164960" cy="190440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7282080" y="2778480"/>
                  <a:ext cx="1145880" cy="1884960"/>
                  <a:chOff x="7282080" y="2778480"/>
                  <a:chExt cx="1145880" cy="18849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840204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728172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>
                  <a:off x="727236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31440" y="2768760"/>
                <a:ext cx="1164600" cy="1904400"/>
                <a:chOff x="6031440" y="2768760"/>
                <a:chExt cx="1164600" cy="19044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041160" y="2778480"/>
                  <a:ext cx="1145520" cy="1884960"/>
                  <a:chOff x="6041160" y="2778480"/>
                  <a:chExt cx="1145520" cy="1884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716076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6041160" y="4637880"/>
                    <a:ext cx="1139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 flipH="1">
                  <a:off x="6031080" y="2768760"/>
                  <a:ext cx="116460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375000" y="4638600"/>
                <a:ext cx="115272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18080" y="4638600"/>
                <a:ext cx="115236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16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16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17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17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18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0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0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41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42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42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42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42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42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43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43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43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43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44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9" dur="indefinite" restart="never" nodeType="tmRoot">
          <p:childTnLst>
            <p:seq>
              <p:cTn id="6930" dur="indefinite" nodeType="mainSeq">
                <p:childTnLst>
                  <p:par>
                    <p:cTn id="6931" fill="hold">
                      <p:stCondLst>
                        <p:cond delay="0"/>
                      </p:stCondLst>
                      <p:childTnLst>
                        <p:par>
                          <p:cTn id="6932" fill="hold">
                            <p:stCondLst>
                              <p:cond delay="0"/>
                            </p:stCondLst>
                            <p:childTnLst>
                              <p:par>
                                <p:cTn id="693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4" dur="5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7" dur="500"/>
                                        <p:tgtEl>
                                          <p:spTgt spid="5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0" dur="500"/>
                                        <p:tgtEl>
                                          <p:spTgt spid="5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4" dur="500"/>
                                        <p:tgtEl>
                                          <p:spTgt spid="5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7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0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2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6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8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2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4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8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0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4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6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0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2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6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2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4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8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0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4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7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9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2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6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8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2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4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8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0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34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6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0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2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6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8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2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8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0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4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6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0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2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5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9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2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4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8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0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4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6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0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2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6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8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2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4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8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0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4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6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0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2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6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2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4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8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0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4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6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0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2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6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8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2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4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8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0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4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6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0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2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6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8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2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4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8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0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4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6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0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2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6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8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2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4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8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0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4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6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0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6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8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2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4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8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0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4" dur="5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6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0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2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6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8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2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94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8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0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4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6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0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2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6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8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2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4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8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30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4" dur="500"/>
                                        <p:tgtEl>
                                          <p:spTgt spid="5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45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45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46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46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47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49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49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4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52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53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70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71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71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71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71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72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72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72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73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73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5" dur="indefinite" restart="never" nodeType="tmRoot">
          <p:childTnLst>
            <p:seq>
              <p:cTn id="7336" dur="indefinite" nodeType="mainSeq">
                <p:childTnLst>
                  <p:par>
                    <p:cTn id="7337" fill="hold">
                      <p:stCondLst>
                        <p:cond delay="0"/>
                      </p:stCondLst>
                      <p:childTnLst>
                        <p:par>
                          <p:cTn id="7338" fill="hold">
                            <p:stCondLst>
                              <p:cond delay="0"/>
                            </p:stCondLst>
                            <p:childTnLst>
                              <p:par>
                                <p:cTn id="73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0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3" dur="500"/>
                                        <p:tgtEl>
                                          <p:spTgt spid="5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6" dur="5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0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3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6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58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2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4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8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0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4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6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0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6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8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2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94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8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0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4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6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0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3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5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8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2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4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8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0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34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6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0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2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6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8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2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4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8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0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4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6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0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2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6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8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1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5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8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0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4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6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0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2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6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8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2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4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8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0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4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6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2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6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8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2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4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8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0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4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6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0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2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6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8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2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4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8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0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4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6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0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2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6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8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2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4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8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0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4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6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2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8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2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4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8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0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4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6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0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2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6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8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2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4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8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0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4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6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0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2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6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8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2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4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8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0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4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0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2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6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8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2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4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8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0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4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6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40" dur="5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74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75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75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76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76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78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78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79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82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82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00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00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00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00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01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01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01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02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02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1" dur="indefinite" restart="never" nodeType="tmRoot">
          <p:childTnLst>
            <p:seq>
              <p:cTn id="7742" dur="indefinite" nodeType="mainSeq">
                <p:childTnLst>
                  <p:par>
                    <p:cTn id="7743" fill="hold">
                      <p:stCondLst>
                        <p:cond delay="0"/>
                      </p:stCondLst>
                      <p:childTnLst>
                        <p:par>
                          <p:cTn id="7744" fill="hold">
                            <p:stCondLst>
                              <p:cond delay="0"/>
                            </p:stCondLst>
                            <p:childTnLst>
                              <p:par>
                                <p:cTn id="774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6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9" dur="5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52" dur="5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6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9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2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64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8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0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4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6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0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2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6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8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2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94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8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0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04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6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12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6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9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1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4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8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34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6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0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2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6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8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2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54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8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0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64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6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0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2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6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8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2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4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7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1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4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6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0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2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6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8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2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4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8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0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24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6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0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2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6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8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2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44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8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0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54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6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0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2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6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8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2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4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8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0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4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6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0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2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6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8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8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2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04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6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0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2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6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8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8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2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34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8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8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0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44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6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8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0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2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8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6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8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2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4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8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8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0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8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4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6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8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0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2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6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8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2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4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8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8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0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8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4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6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8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0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2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6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8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2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4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8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0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4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6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0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2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6" dur="500"/>
                                        <p:tgtEl>
                                          <p:spTgt spid="5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Назовите персонажей рассказа «Анна на шее».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При каких обстоятельствах Анна вышла замуж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его она ожидала от замужества и что получила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С какой целью автор делит рассказ на две части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информацию дают вам портретные характеристики героев?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Кто из героев вызывает у вас сочувствие и почему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От чего зависит, изменится человек в лучшую сторону или нет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0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0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3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3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6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называется брак между 52-летним мужчиной и 18-летней девушкой? Воспользуйтесь ресурсами сети интернет и найдите одноименную картину. Может ли она служить иллюстрацией к данному рассказ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Неравный брак»</a:t>
            </a:r>
            <a:br>
              <a:rPr sz="36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асилий Владимирович Пукирё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1" name="" descr="Pukirev ner brak.jpg"/>
          <p:cNvPicPr/>
          <p:nvPr/>
        </p:nvPicPr>
        <p:blipFill>
          <a:blip r:embed="rId1"/>
          <a:stretch/>
        </p:blipFill>
        <p:spPr>
          <a:xfrm>
            <a:off x="2340000" y="1557360"/>
            <a:ext cx="4554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А чтобы после не пришлось раскаиваться, нужно…» (Какие ошибки в поведении героини рассказа А.П. Чехова вам бы хотелось исправить?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313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Ю.Д. Левитанск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9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щину, религию, дорогу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ьяволу служить или пророку -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 для любви и для молитв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пагу для дуэли, меч для битв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Щит и латы, посох и заплат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ру окончательной распла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бираю тоже, как умею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 к кому претензий не имею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5" name="" descr=""/>
          <p:cNvPicPr/>
          <p:nvPr/>
        </p:nvPicPr>
        <p:blipFill>
          <a:blip r:embed="rId1"/>
          <a:stretch/>
        </p:blipFill>
        <p:spPr>
          <a:xfrm>
            <a:off x="7740720" y="55180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7" dur="indefinite" restart="never" nodeType="tmRoot">
          <p:childTnLst>
            <p:seq>
              <p:cTn id="8148" restart="whenNotActive" nodeType="interactiveSeq" fill="hold">
                <p:stCondLst>
                  <p:cond evt="onClick">
                    <p:tgtEl>
                      <p:spTgt spid="6045"/>
                    </p:tgtEl>
                  </p:cond>
                </p:stCondLst>
                <p:childTnLst>
                  <p:par>
                    <p:cTn id="8149" fill="hold">
                      <p:stCondLst>
                        <p:cond evt="onClick">
                          <p:tgtEl>
                            <p:spTgt spid="6045"/>
                          </p:tgtEl>
                        </p:cond>
                      </p:stCondLst>
                      <p:childTnLst>
                        <p:par>
                          <p:cTn id="8150" fill="hold">
                            <p:stCondLst>
                              <p:cond delay="0"/>
                            </p:stCondLst>
                            <p:childTnLst>
                              <p:par>
                                <p:cTn id="8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2" dur="167824" fill="hold"/>
                                        <p:tgtEl>
                                          <p:spTgt spid="60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9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9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0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0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74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74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76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76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77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78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8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9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9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8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8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8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03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03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04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05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7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07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08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8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9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1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1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1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32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32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33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34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8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36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36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37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37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38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4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61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62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62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63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4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2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6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0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8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6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2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0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2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4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6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65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66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66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67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67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7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91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91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91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91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92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92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93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93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0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2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0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2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0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8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8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6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0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2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6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4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6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2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8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8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8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0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4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6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6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4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4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6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0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8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4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2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0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4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6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8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0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6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4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5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95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96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96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0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0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20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20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20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22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22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22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0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5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2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0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6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2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6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0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4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0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5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0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0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6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8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8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4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0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6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4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0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3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7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2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6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8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4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8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0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4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6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2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6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8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8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4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6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2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6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2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4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0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4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0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6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8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2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4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4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0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2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8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0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4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6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2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4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4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6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8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6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8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2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2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0:58Z</dcterms:created>
  <dc:creator>1</dc:creator>
  <dc:description/>
  <dc:language>en-US</dc:language>
  <cp:lastModifiedBy>1</cp:lastModifiedBy>
  <dcterms:modified xsi:type="dcterms:W3CDTF">2012-03-12T15:48:02Z</dcterms:modified>
  <cp:revision>5</cp:revision>
  <dc:subject/>
  <dc:title>Антон Павлович Чехов</dc:title>
</cp:coreProperties>
</file>