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B62-D4F4-4335-903A-D8098A9A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83E-2AFD-47E1-B80F-0D24F1CA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141-0E8D-42DD-9787-1149E8CD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92B-A5EC-4461-B67C-9E126256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493C-A405-4618-9A5E-0BC9151D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E4B2-A604-49C9-A880-2F6393E2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53A-E600-45FC-A813-A4934050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F4D-0D9D-4E7B-B2C9-5DD53DAB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0828-7745-4A0D-9B9E-9938F14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4034-6824-4C6E-9FA5-D7321081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8B52-153E-40F8-ADDD-7A8BDDC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EC1-BFA4-42CF-BD4E-378350EA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9187-0AB2-4AE1-9DA7-08AAAAD4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924B-63B3-4A97-A896-0BC8BB46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49B-E7E2-4070-B450-4B45C60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0B8-BFF0-4E3E-8385-7B4289E6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D14-B138-490B-BC8A-5C00EF2E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048-CB2E-4CE0-AC50-B6CF27D4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3104-320D-4649-B0BE-7142F29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69F-7BFD-43B0-AE8C-1C1AE1A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137-7C9F-414A-8BBB-D0A43F8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FE3-D79A-43C3-8E2A-4121C7E7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ADE-8CC5-4248-9B23-3563724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F6B-3A36-43AB-BA2D-20A3B79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F23D-DB54-4F43-9418-0BE83AE93D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6BB5-7DE7-42A5-942C-63AABEBA90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783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Антон Павлович Чехов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Картинка 13 из 6588"/>
          <p:cNvPicPr/>
          <p:nvPr/>
        </p:nvPicPr>
        <p:blipFill>
          <a:blip r:embed="rId1"/>
          <a:stretch/>
        </p:blipFill>
        <p:spPr>
          <a:xfrm>
            <a:off x="2627280" y="1916280"/>
            <a:ext cx="3446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23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24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24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25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25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27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28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28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1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31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3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4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49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49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50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50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50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51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51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51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3" dur="indefinite" restart="never" nodeType="tmRoot">
          <p:childTnLst>
            <p:seq>
              <p:cTn id="2864" dur="indefinite" nodeType="mainSeq">
                <p:childTnLst>
                  <p:par>
                    <p:cTn id="2865" fill="hold">
                      <p:stCondLst>
                        <p:cond delay="0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68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1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74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4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86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2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98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2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4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0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4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16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2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28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4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8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1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46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0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2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6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58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2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4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8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0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7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0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2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6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88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2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94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98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0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4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6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09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3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6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18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2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8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0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34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0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2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6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48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2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54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8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0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4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66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0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2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6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7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4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8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4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96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0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2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6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08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2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14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8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0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4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26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0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2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36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38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2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48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0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4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5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0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2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68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2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74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4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86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0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2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6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98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4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0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0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16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0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28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2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34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4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46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0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5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58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2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8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53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53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54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54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55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5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57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57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57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60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60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78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78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79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79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79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79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80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80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0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77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80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4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7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0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98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2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0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8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0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4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16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0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6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8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2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34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8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4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7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9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2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58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64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8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0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74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76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0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6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8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94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0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06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0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2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15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9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2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2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4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36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0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2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6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8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2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54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66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2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6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78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2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84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8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0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96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0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2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6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8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2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14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8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4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26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0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2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6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38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4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8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0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4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5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0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2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6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8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2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74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8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0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86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0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2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6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98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2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04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8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0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4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16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0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2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6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2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34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8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6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0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2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6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5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2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64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70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282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282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83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83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84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86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86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6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8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89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90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9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0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07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08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08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08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08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09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09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09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09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10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10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5" dur="indefinite" restart="never" nodeType="tmRoot">
          <p:childTnLst>
            <p:seq>
              <p:cTn id="3676" dur="indefinite" nodeType="mainSeq">
                <p:childTnLst>
                  <p:par>
                    <p:cTn id="3677" fill="hold">
                      <p:stCondLst>
                        <p:cond delay="0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0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3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0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3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6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98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2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04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8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4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16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0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6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28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2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34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8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0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4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6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3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5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58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2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64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8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0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4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76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0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2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88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2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94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9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0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4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0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2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6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18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21" dur="5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5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8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0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4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36" dur="5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2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6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4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2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54" dur="5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8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0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6" dur="5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0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2" dur="5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6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8" dur="5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2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84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8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0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4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96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0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2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6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08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2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14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0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4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6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0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6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38" dur="5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4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8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0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4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56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0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2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6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68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2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74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8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0" dur="5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84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6" dur="5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0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2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6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98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2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0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0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4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16" dur="5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0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2" dur="5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6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28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2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34" dur="5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8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0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4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6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0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2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58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2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64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8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0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4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11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12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12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13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13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15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15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6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6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1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19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2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3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37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37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37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38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38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38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39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39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39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6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9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95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9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2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5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8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0" dur="5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4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16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0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2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6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28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2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34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38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0" dur="5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4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46" dur="5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0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2" dur="5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6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58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2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5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7" dur="5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0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4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76" dur="5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0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2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6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88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2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4" dur="5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8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0" dur="5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4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06" dur="5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2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6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18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4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8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0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33" dur="5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7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2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6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48" dur="5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2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54" dur="5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8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0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4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66" dur="500"/>
                                        <p:tgtEl>
                                          <p:spTgt spid="3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0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2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6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78" dur="500"/>
                                        <p:tgtEl>
                                          <p:spTgt spid="3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2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84" dur="500"/>
                                        <p:tgtEl>
                                          <p:spTgt spid="3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8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0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4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96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0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2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6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08" dur="5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2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14" dur="5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8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0" dur="5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4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6" dur="5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2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6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38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2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44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8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0" dur="5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4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6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0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2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6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68" dur="5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2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74" dur="5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8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0" dur="5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4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6" dur="5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6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98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2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04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8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0" dur="5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14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16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2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6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28" dur="5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2" dur="500"/>
                                        <p:tgtEl>
                                          <p:spTgt spid="3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34" dur="5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8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0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4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46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0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2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6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58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2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64" dur="500"/>
                                        <p:tgtEl>
                                          <p:spTgt spid="3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68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0" dur="500"/>
                                        <p:tgtEl>
                                          <p:spTgt spid="3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4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76" dur="500"/>
                                        <p:tgtEl>
                                          <p:spTgt spid="3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0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2" dur="500"/>
                                        <p:tgtEl>
                                          <p:spTgt spid="3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6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88" dur="500"/>
                                        <p:tgtEl>
                                          <p:spTgt spid="3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2" dur="500"/>
                                        <p:tgtEl>
                                          <p:spTgt spid="3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41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41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42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42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43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44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45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48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48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4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5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6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66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66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67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67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67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67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68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68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3" dur="indefinite" restart="never" nodeType="tmRoot">
          <p:childTnLst>
            <p:seq>
              <p:cTn id="4494" dur="indefinite" nodeType="mainSeq">
                <p:childTnLst>
                  <p:par>
                    <p:cTn id="4495" fill="hold">
                      <p:stCondLst>
                        <p:cond delay="0"/>
                      </p:stCondLst>
                      <p:childTnLst>
                        <p:par>
                          <p:cTn id="4496" fill="hold">
                            <p:stCondLst>
                              <p:cond delay="0"/>
                            </p:stCondLst>
                            <p:childTnLst>
                              <p:par>
                                <p:cTn id="449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98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1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4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8" dur="500"/>
                                        <p:tgtEl>
                                          <p:spTgt spid="3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1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4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16" dur="5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2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6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28" dur="5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2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34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8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0" dur="5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4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6" dur="500"/>
                                        <p:tgtEl>
                                          <p:spTgt spid="3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0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2" dur="500"/>
                                        <p:tgtEl>
                                          <p:spTgt spid="3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6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58" dur="500"/>
                                        <p:tgtEl>
                                          <p:spTgt spid="3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2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4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8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71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3" dur="500"/>
                                        <p:tgtEl>
                                          <p:spTgt spid="3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76" dur="5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0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2" dur="500"/>
                                        <p:tgtEl>
                                          <p:spTgt spid="3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6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8" dur="500"/>
                                        <p:tgtEl>
                                          <p:spTgt spid="3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2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94" dur="500"/>
                                        <p:tgtEl>
                                          <p:spTgt spid="3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8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0" dur="500"/>
                                        <p:tgtEl>
                                          <p:spTgt spid="3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4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06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0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2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18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4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4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28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0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4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6" dur="500"/>
                                        <p:tgtEl>
                                          <p:spTgt spid="3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39" dur="500"/>
                                        <p:tgtEl>
                                          <p:spTgt spid="3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3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46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48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2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54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4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8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0" dur="500"/>
                                        <p:tgtEl>
                                          <p:spTgt spid="3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4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66" dur="500"/>
                                        <p:tgtEl>
                                          <p:spTgt spid="3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0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2" dur="500"/>
                                        <p:tgtEl>
                                          <p:spTgt spid="3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6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78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2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4" dur="500"/>
                                        <p:tgtEl>
                                          <p:spTgt spid="3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8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0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4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96" dur="500"/>
                                        <p:tgtEl>
                                          <p:spTgt spid="3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4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0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2" dur="500"/>
                                        <p:tgtEl>
                                          <p:spTgt spid="3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6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08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2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14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18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0" dur="500"/>
                                        <p:tgtEl>
                                          <p:spTgt spid="3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4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26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0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2" dur="500"/>
                                        <p:tgtEl>
                                          <p:spTgt spid="3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6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38" dur="500"/>
                                        <p:tgtEl>
                                          <p:spTgt spid="3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2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8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0" dur="500"/>
                                        <p:tgtEl>
                                          <p:spTgt spid="3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4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6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0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66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68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2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74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78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0" dur="500"/>
                                        <p:tgtEl>
                                          <p:spTgt spid="3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4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86" dur="500"/>
                                        <p:tgtEl>
                                          <p:spTgt spid="3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0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2" dur="500"/>
                                        <p:tgtEl>
                                          <p:spTgt spid="3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6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98" dur="500"/>
                                        <p:tgtEl>
                                          <p:spTgt spid="3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2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4" dur="500"/>
                                        <p:tgtEl>
                                          <p:spTgt spid="3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0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14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6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0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2" dur="500"/>
                                        <p:tgtEl>
                                          <p:spTgt spid="3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6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28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2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34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8" dur="500"/>
                                        <p:tgtEl>
                                          <p:spTgt spid="3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0" dur="500"/>
                                        <p:tgtEl>
                                          <p:spTgt spid="3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4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46" dur="500"/>
                                        <p:tgtEl>
                                          <p:spTgt spid="3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0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2" dur="500"/>
                                        <p:tgtEl>
                                          <p:spTgt spid="3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4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6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58" dur="500"/>
                                        <p:tgtEl>
                                          <p:spTgt spid="3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4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2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4" dur="500"/>
                                        <p:tgtEl>
                                          <p:spTgt spid="3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68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0" dur="500"/>
                                        <p:tgtEl>
                                          <p:spTgt spid="3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74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6" dur="500"/>
                                        <p:tgtEl>
                                          <p:spTgt spid="3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0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2" dur="500"/>
                                        <p:tgtEl>
                                          <p:spTgt spid="3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86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88" dur="500"/>
                                        <p:tgtEl>
                                          <p:spTgt spid="3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2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94" dur="500"/>
                                        <p:tgtEl>
                                          <p:spTgt spid="3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98" dur="500"/>
                                        <p:tgtEl>
                                          <p:spTgt spid="3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70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70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371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371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372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374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374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377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378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88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9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395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396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396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396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396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397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397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397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398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9" dur="indefinite" restart="never" nodeType="tmRoot">
          <p:childTnLst>
            <p:seq>
              <p:cTn id="4900" dur="indefinite" nodeType="mainSeq">
                <p:childTnLst>
                  <p:par>
                    <p:cTn id="4901" fill="hold">
                      <p:stCondLst>
                        <p:cond delay="0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4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07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10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4" dur="500"/>
                                        <p:tgtEl>
                                          <p:spTgt spid="3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17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2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6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8" dur="500"/>
                                        <p:tgtEl>
                                          <p:spTgt spid="3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2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4" dur="500"/>
                                        <p:tgtEl>
                                          <p:spTgt spid="3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8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0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4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46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0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2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58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2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64" dur="500"/>
                                        <p:tgtEl>
                                          <p:spTgt spid="3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8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0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4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7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79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2" dur="500"/>
                                        <p:tgtEl>
                                          <p:spTgt spid="3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6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8" dur="500"/>
                                        <p:tgtEl>
                                          <p:spTgt spid="3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2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4" dur="500"/>
                                        <p:tgtEl>
                                          <p:spTgt spid="3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98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0" dur="500"/>
                                        <p:tgtEl>
                                          <p:spTgt spid="3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4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06" dur="500"/>
                                        <p:tgtEl>
                                          <p:spTgt spid="3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0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2" dur="500"/>
                                        <p:tgtEl>
                                          <p:spTgt spid="3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16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18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2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24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8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0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4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36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0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2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45" dur="500"/>
                                        <p:tgtEl>
                                          <p:spTgt spid="3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9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2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4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8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0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66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0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2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6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8" dur="500"/>
                                        <p:tgtEl>
                                          <p:spTgt spid="3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2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84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8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0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4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96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0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2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6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8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2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4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8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24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26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0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2" dur="500"/>
                                        <p:tgtEl>
                                          <p:spTgt spid="3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6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38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2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44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8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0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4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56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0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2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6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8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2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4" dur="5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8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0" dur="500"/>
                                        <p:tgtEl>
                                          <p:spTgt spid="3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86" dur="500"/>
                                        <p:tgtEl>
                                          <p:spTgt spid="3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0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2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6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98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2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0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8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0" dur="500"/>
                                        <p:tgtEl>
                                          <p:spTgt spid="3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4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16" dur="500"/>
                                        <p:tgtEl>
                                          <p:spTgt spid="3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0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2" dur="500"/>
                                        <p:tgtEl>
                                          <p:spTgt spid="3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26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8" dur="500"/>
                                        <p:tgtEl>
                                          <p:spTgt spid="3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2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4" dur="500"/>
                                        <p:tgtEl>
                                          <p:spTgt spid="3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38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0" dur="500"/>
                                        <p:tgtEl>
                                          <p:spTgt spid="3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44" dur="5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46" dur="500"/>
                                        <p:tgtEl>
                                          <p:spTgt spid="3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0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2" dur="500"/>
                                        <p:tgtEl>
                                          <p:spTgt spid="3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56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58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2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64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8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0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76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0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2" dur="500"/>
                                        <p:tgtEl>
                                          <p:spTgt spid="3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86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8" dur="500"/>
                                        <p:tgtEl>
                                          <p:spTgt spid="3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2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4" dur="500"/>
                                        <p:tgtEl>
                                          <p:spTgt spid="3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8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00" dur="500"/>
                                        <p:tgtEl>
                                          <p:spTgt spid="3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04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399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399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00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00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01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03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03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06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07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0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1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17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2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24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25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25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25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26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26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26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26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27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27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5" dur="indefinite" restart="never" nodeType="tmRoot">
          <p:childTnLst>
            <p:seq>
              <p:cTn id="5306" dur="indefinite" nodeType="mainSeq">
                <p:childTnLst>
                  <p:par>
                    <p:cTn id="5307" fill="hold">
                      <p:stCondLst>
                        <p:cond delay="0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0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3" dur="500"/>
                                        <p:tgtEl>
                                          <p:spTgt spid="4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16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0" dur="500"/>
                                        <p:tgtEl>
                                          <p:spTgt spid="4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3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6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28" dur="500"/>
                                        <p:tgtEl>
                                          <p:spTgt spid="4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2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34" dur="500"/>
                                        <p:tgtEl>
                                          <p:spTgt spid="4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8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0" dur="500"/>
                                        <p:tgtEl>
                                          <p:spTgt spid="4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44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6" dur="5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0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2" dur="500"/>
                                        <p:tgtEl>
                                          <p:spTgt spid="4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56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58" dur="500"/>
                                        <p:tgtEl>
                                          <p:spTgt spid="4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2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64" dur="500"/>
                                        <p:tgtEl>
                                          <p:spTgt spid="4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8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0" dur="500"/>
                                        <p:tgtEl>
                                          <p:spTgt spid="4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74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76" dur="500"/>
                                        <p:tgtEl>
                                          <p:spTgt spid="4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0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3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5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88" dur="500"/>
                                        <p:tgtEl>
                                          <p:spTgt spid="4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2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94" dur="500"/>
                                        <p:tgtEl>
                                          <p:spTgt spid="4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8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0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4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6" dur="500"/>
                                        <p:tgtEl>
                                          <p:spTgt spid="4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0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2" dur="500"/>
                                        <p:tgtEl>
                                          <p:spTgt spid="4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6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18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2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24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8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0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4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36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0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2" dur="500"/>
                                        <p:tgtEl>
                                          <p:spTgt spid="4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6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48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51" dur="500"/>
                                        <p:tgtEl>
                                          <p:spTgt spid="4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5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8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0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4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0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2" dur="500"/>
                                        <p:tgtEl>
                                          <p:spTgt spid="4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6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78" dur="5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2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84" dur="500"/>
                                        <p:tgtEl>
                                          <p:spTgt spid="4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8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0" dur="500"/>
                                        <p:tgtEl>
                                          <p:spTgt spid="4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4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96" dur="500"/>
                                        <p:tgtEl>
                                          <p:spTgt spid="4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0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2" dur="500"/>
                                        <p:tgtEl>
                                          <p:spTgt spid="4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6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08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2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14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8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0" dur="500"/>
                                        <p:tgtEl>
                                          <p:spTgt spid="4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4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6" dur="500"/>
                                        <p:tgtEl>
                                          <p:spTgt spid="4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0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2" dur="500"/>
                                        <p:tgtEl>
                                          <p:spTgt spid="4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36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38" dur="500"/>
                                        <p:tgtEl>
                                          <p:spTgt spid="4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2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44" dur="500"/>
                                        <p:tgtEl>
                                          <p:spTgt spid="4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48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0" dur="500"/>
                                        <p:tgtEl>
                                          <p:spTgt spid="4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54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56" dur="500"/>
                                        <p:tgtEl>
                                          <p:spTgt spid="4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0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2" dur="500"/>
                                        <p:tgtEl>
                                          <p:spTgt spid="4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6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68" dur="500"/>
                                        <p:tgtEl>
                                          <p:spTgt spid="4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2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74" dur="500"/>
                                        <p:tgtEl>
                                          <p:spTgt spid="4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8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0" dur="500"/>
                                        <p:tgtEl>
                                          <p:spTgt spid="4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4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6" dur="500"/>
                                        <p:tgtEl>
                                          <p:spTgt spid="4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2" dur="500"/>
                                        <p:tgtEl>
                                          <p:spTgt spid="4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6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98" dur="500"/>
                                        <p:tgtEl>
                                          <p:spTgt spid="4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2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04" dur="500"/>
                                        <p:tgtEl>
                                          <p:spTgt spid="4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08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0" dur="500"/>
                                        <p:tgtEl>
                                          <p:spTgt spid="4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14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1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2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28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2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34" dur="500"/>
                                        <p:tgtEl>
                                          <p:spTgt spid="4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0" dur="500"/>
                                        <p:tgtEl>
                                          <p:spTgt spid="4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44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6" dur="500"/>
                                        <p:tgtEl>
                                          <p:spTgt spid="4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0" dur="500"/>
                                        <p:tgtEl>
                                          <p:spTgt spid="4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2" dur="500"/>
                                        <p:tgtEl>
                                          <p:spTgt spid="4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6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58" dur="500"/>
                                        <p:tgtEl>
                                          <p:spTgt spid="4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2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4" dur="500"/>
                                        <p:tgtEl>
                                          <p:spTgt spid="4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8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0" dur="500"/>
                                        <p:tgtEl>
                                          <p:spTgt spid="4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4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76" dur="500"/>
                                        <p:tgtEl>
                                          <p:spTgt spid="4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0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2" dur="500"/>
                                        <p:tgtEl>
                                          <p:spTgt spid="4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6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8" dur="5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2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94" dur="500"/>
                                        <p:tgtEl>
                                          <p:spTgt spid="4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8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0" dur="500"/>
                                        <p:tgtEl>
                                          <p:spTgt spid="4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04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6" dur="500"/>
                                        <p:tgtEl>
                                          <p:spTgt spid="4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10" dur="500"/>
                                        <p:tgtEl>
                                          <p:spTgt spid="4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28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29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29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30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30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2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32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32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36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36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3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0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6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5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4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4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4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4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4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55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55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55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55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56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56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1" dur="indefinite" restart="never" nodeType="tmRoot">
          <p:childTnLst>
            <p:seq>
              <p:cTn id="5712" dur="indefinite" nodeType="mainSeq">
                <p:childTnLst>
                  <p:par>
                    <p:cTn id="5713" fill="hold">
                      <p:stCondLst>
                        <p:cond delay="0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6" dur="500"/>
                                        <p:tgtEl>
                                          <p:spTgt spid="4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19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22" dur="500"/>
                                        <p:tgtEl>
                                          <p:spTgt spid="4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6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9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2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4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38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0" dur="500"/>
                                        <p:tgtEl>
                                          <p:spTgt spid="4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44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46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0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2" dur="500"/>
                                        <p:tgtEl>
                                          <p:spTgt spid="4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6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58" dur="500"/>
                                        <p:tgtEl>
                                          <p:spTgt spid="4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2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64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8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0" dur="500"/>
                                        <p:tgtEl>
                                          <p:spTgt spid="4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4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76" dur="500"/>
                                        <p:tgtEl>
                                          <p:spTgt spid="4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0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2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1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9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8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0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4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06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0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2" dur="5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1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8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2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4" dur="5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8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0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4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6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0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2" dur="500"/>
                                        <p:tgtEl>
                                          <p:spTgt spid="4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6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48" dur="500"/>
                                        <p:tgtEl>
                                          <p:spTgt spid="4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52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4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57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4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6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0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2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6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78" dur="500"/>
                                        <p:tgtEl>
                                          <p:spTgt spid="4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2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4" dur="500"/>
                                        <p:tgtEl>
                                          <p:spTgt spid="4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88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0" dur="500"/>
                                        <p:tgtEl>
                                          <p:spTgt spid="4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5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4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96" dur="500"/>
                                        <p:tgtEl>
                                          <p:spTgt spid="4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0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2" dur="500"/>
                                        <p:tgtEl>
                                          <p:spTgt spid="4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5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06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08" dur="500"/>
                                        <p:tgtEl>
                                          <p:spTgt spid="4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2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14" dur="500"/>
                                        <p:tgtEl>
                                          <p:spTgt spid="4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18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0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4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26" dur="500"/>
                                        <p:tgtEl>
                                          <p:spTgt spid="4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5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0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2" dur="500"/>
                                        <p:tgtEl>
                                          <p:spTgt spid="4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6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38" dur="500"/>
                                        <p:tgtEl>
                                          <p:spTgt spid="4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5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2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4" dur="500"/>
                                        <p:tgtEl>
                                          <p:spTgt spid="4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8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0" dur="500"/>
                                        <p:tgtEl>
                                          <p:spTgt spid="4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4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56" dur="500"/>
                                        <p:tgtEl>
                                          <p:spTgt spid="4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0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2" dur="500"/>
                                        <p:tgtEl>
                                          <p:spTgt spid="4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5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66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68" dur="500"/>
                                        <p:tgtEl>
                                          <p:spTgt spid="4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5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2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74" dur="500"/>
                                        <p:tgtEl>
                                          <p:spTgt spid="4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5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78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0" dur="500"/>
                                        <p:tgtEl>
                                          <p:spTgt spid="4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4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86" dur="500"/>
                                        <p:tgtEl>
                                          <p:spTgt spid="4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0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2" dur="500"/>
                                        <p:tgtEl>
                                          <p:spTgt spid="4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96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98" dur="500"/>
                                        <p:tgtEl>
                                          <p:spTgt spid="4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2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4" dur="500"/>
                                        <p:tgtEl>
                                          <p:spTgt spid="4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8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0" dur="500"/>
                                        <p:tgtEl>
                                          <p:spTgt spid="4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14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16" dur="500"/>
                                        <p:tgtEl>
                                          <p:spTgt spid="4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0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2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6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2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2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34" dur="500"/>
                                        <p:tgtEl>
                                          <p:spTgt spid="4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38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0" dur="500"/>
                                        <p:tgtEl>
                                          <p:spTgt spid="4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4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46" dur="500"/>
                                        <p:tgtEl>
                                          <p:spTgt spid="4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0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2" dur="500"/>
                                        <p:tgtEl>
                                          <p:spTgt spid="4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6" dur="5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58" dur="500"/>
                                        <p:tgtEl>
                                          <p:spTgt spid="4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2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4" dur="500"/>
                                        <p:tgtEl>
                                          <p:spTgt spid="4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8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0" dur="500"/>
                                        <p:tgtEl>
                                          <p:spTgt spid="4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4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76" dur="500"/>
                                        <p:tgtEl>
                                          <p:spTgt spid="4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0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2" dur="500"/>
                                        <p:tgtEl>
                                          <p:spTgt spid="4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86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8" dur="5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2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94" dur="5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98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0" dur="5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4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0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0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1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6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7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57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58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58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59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59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1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61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62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65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65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69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5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76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8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6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2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833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5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836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8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839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840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841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3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4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845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846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9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850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851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3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4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855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856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8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9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1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7" dur="indefinite" restart="never" nodeType="tmRoot">
          <p:childTnLst>
            <p:seq>
              <p:cTn id="6118" dur="indefinite" nodeType="mainSeq">
                <p:childTnLst>
                  <p:par>
                    <p:cTn id="6119" fill="hold">
                      <p:stCondLst>
                        <p:cond delay="0"/>
                      </p:stCondLst>
                      <p:childTnLst>
                        <p:par>
                          <p:cTn id="6120" fill="hold">
                            <p:stCondLst>
                              <p:cond delay="0"/>
                            </p:stCondLst>
                            <p:childTnLst>
                              <p:par>
                                <p:cTn id="612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2" dur="500"/>
                                        <p:tgtEl>
                                          <p:spTgt spid="4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5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8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2" dur="500"/>
                                        <p:tgtEl>
                                          <p:spTgt spid="4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5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8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4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46" dur="500"/>
                                        <p:tgtEl>
                                          <p:spTgt spid="4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0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2" dur="500"/>
                                        <p:tgtEl>
                                          <p:spTgt spid="4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56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58" dur="500"/>
                                        <p:tgtEl>
                                          <p:spTgt spid="4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2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64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8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0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74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76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0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2" dur="5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86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2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95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97" dur="500"/>
                                        <p:tgtEl>
                                          <p:spTgt spid="4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0" dur="50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4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06" dur="500"/>
                                        <p:tgtEl>
                                          <p:spTgt spid="4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0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2" dur="500"/>
                                        <p:tgtEl>
                                          <p:spTgt spid="4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6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18" dur="500"/>
                                        <p:tgtEl>
                                          <p:spTgt spid="4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2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24" dur="500"/>
                                        <p:tgtEl>
                                          <p:spTgt spid="4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8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0" dur="500"/>
                                        <p:tgtEl>
                                          <p:spTgt spid="4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4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36" dur="500"/>
                                        <p:tgtEl>
                                          <p:spTgt spid="4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0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2" dur="500"/>
                                        <p:tgtEl>
                                          <p:spTgt spid="4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46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8" dur="500"/>
                                        <p:tgtEl>
                                          <p:spTgt spid="4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2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54" dur="500"/>
                                        <p:tgtEl>
                                          <p:spTgt spid="4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58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0" dur="500"/>
                                        <p:tgtEl>
                                          <p:spTgt spid="4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63" dur="500"/>
                                        <p:tgtEl>
                                          <p:spTgt spid="4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67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0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2" dur="500"/>
                                        <p:tgtEl>
                                          <p:spTgt spid="4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6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8" dur="500"/>
                                        <p:tgtEl>
                                          <p:spTgt spid="4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2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84" dur="5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8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0" dur="500"/>
                                        <p:tgtEl>
                                          <p:spTgt spid="4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94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96" dur="500"/>
                                        <p:tgtEl>
                                          <p:spTgt spid="4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0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2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06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8" dur="500"/>
                                        <p:tgtEl>
                                          <p:spTgt spid="4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2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14" dur="500"/>
                                        <p:tgtEl>
                                          <p:spTgt spid="4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18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0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4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26" dur="500"/>
                                        <p:tgtEl>
                                          <p:spTgt spid="4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0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2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6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8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2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44" dur="500"/>
                                        <p:tgtEl>
                                          <p:spTgt spid="4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8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0" dur="500"/>
                                        <p:tgtEl>
                                          <p:spTgt spid="4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54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56" dur="500"/>
                                        <p:tgtEl>
                                          <p:spTgt spid="4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0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2" dur="500"/>
                                        <p:tgtEl>
                                          <p:spTgt spid="4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66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8" dur="500"/>
                                        <p:tgtEl>
                                          <p:spTgt spid="4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2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74" dur="500"/>
                                        <p:tgtEl>
                                          <p:spTgt spid="4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8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0" dur="500"/>
                                        <p:tgtEl>
                                          <p:spTgt spid="4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84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86" dur="500"/>
                                        <p:tgtEl>
                                          <p:spTgt spid="4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0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2" dur="500"/>
                                        <p:tgtEl>
                                          <p:spTgt spid="4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96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98" dur="500"/>
                                        <p:tgtEl>
                                          <p:spTgt spid="4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2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04" dur="500"/>
                                        <p:tgtEl>
                                          <p:spTgt spid="4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8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0" dur="500"/>
                                        <p:tgtEl>
                                          <p:spTgt spid="4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14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16" dur="500"/>
                                        <p:tgtEl>
                                          <p:spTgt spid="4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0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2" dur="500"/>
                                        <p:tgtEl>
                                          <p:spTgt spid="4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6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8" dur="500"/>
                                        <p:tgtEl>
                                          <p:spTgt spid="4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2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34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38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0" dur="500"/>
                                        <p:tgtEl>
                                          <p:spTgt spid="4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44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46" dur="500"/>
                                        <p:tgtEl>
                                          <p:spTgt spid="4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0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2" dur="500"/>
                                        <p:tgtEl>
                                          <p:spTgt spid="4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6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58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2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64" dur="500"/>
                                        <p:tgtEl>
                                          <p:spTgt spid="4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8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0" dur="500"/>
                                        <p:tgtEl>
                                          <p:spTgt spid="4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4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76" dur="500"/>
                                        <p:tgtEl>
                                          <p:spTgt spid="4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0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2" dur="500"/>
                                        <p:tgtEl>
                                          <p:spTgt spid="4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86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8" dur="500"/>
                                        <p:tgtEl>
                                          <p:spTgt spid="4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2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94" dur="500"/>
                                        <p:tgtEl>
                                          <p:spTgt spid="4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98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0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4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06" dur="500"/>
                                        <p:tgtEl>
                                          <p:spTgt spid="4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0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2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16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18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2" dur="500"/>
                                        <p:tgtEl>
                                          <p:spTgt spid="4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9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87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9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88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4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488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489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0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8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490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1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491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1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4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494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494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98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05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8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125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7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128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0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131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132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133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5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6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137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138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0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1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142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143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148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0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1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3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3" dur="indefinite" restart="never" nodeType="tmRoot">
          <p:childTnLst>
            <p:seq>
              <p:cTn id="6524" dur="indefinite" nodeType="mainSeq">
                <p:childTnLst>
                  <p:par>
                    <p:cTn id="6525" fill="hold">
                      <p:stCondLst>
                        <p:cond delay="0"/>
                      </p:stCondLst>
                      <p:childTnLst>
                        <p:par>
                          <p:cTn id="6526" fill="hold">
                            <p:stCondLst>
                              <p:cond delay="0"/>
                            </p:stCondLst>
                            <p:childTnLst>
                              <p:par>
                                <p:cTn id="652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28" dur="500"/>
                                        <p:tgtEl>
                                          <p:spTgt spid="4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1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34" dur="500"/>
                                        <p:tgtEl>
                                          <p:spTgt spid="4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38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1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44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6" dur="500"/>
                                        <p:tgtEl>
                                          <p:spTgt spid="4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0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2" dur="500"/>
                                        <p:tgtEl>
                                          <p:spTgt spid="4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56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58" dur="500"/>
                                        <p:tgtEl>
                                          <p:spTgt spid="4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2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64" dur="500"/>
                                        <p:tgtEl>
                                          <p:spTgt spid="4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68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0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4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76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0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6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8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2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94" dur="500"/>
                                        <p:tgtEl>
                                          <p:spTgt spid="4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98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01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6" dur="500"/>
                                        <p:tgtEl>
                                          <p:spTgt spid="4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0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2" dur="500"/>
                                        <p:tgtEl>
                                          <p:spTgt spid="4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16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18" dur="500"/>
                                        <p:tgtEl>
                                          <p:spTgt spid="4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2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24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6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8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0" dur="500"/>
                                        <p:tgtEl>
                                          <p:spTgt spid="4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34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36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6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0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2" dur="500"/>
                                        <p:tgtEl>
                                          <p:spTgt spid="4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6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6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48" dur="500"/>
                                        <p:tgtEl>
                                          <p:spTgt spid="4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2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54" dur="500"/>
                                        <p:tgtEl>
                                          <p:spTgt spid="4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6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58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0" dur="500"/>
                                        <p:tgtEl>
                                          <p:spTgt spid="4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4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6" dur="500"/>
                                        <p:tgtEl>
                                          <p:spTgt spid="4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9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3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6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78" dur="500"/>
                                        <p:tgtEl>
                                          <p:spTgt spid="4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2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84" dur="500"/>
                                        <p:tgtEl>
                                          <p:spTgt spid="4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6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88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0" dur="500"/>
                                        <p:tgtEl>
                                          <p:spTgt spid="4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4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96" dur="500"/>
                                        <p:tgtEl>
                                          <p:spTgt spid="4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0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2" dur="500"/>
                                        <p:tgtEl>
                                          <p:spTgt spid="5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6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08" dur="500"/>
                                        <p:tgtEl>
                                          <p:spTgt spid="5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2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14" dur="500"/>
                                        <p:tgtEl>
                                          <p:spTgt spid="5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18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0" dur="500"/>
                                        <p:tgtEl>
                                          <p:spTgt spid="5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4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6" dur="500"/>
                                        <p:tgtEl>
                                          <p:spTgt spid="5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0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2" dur="500"/>
                                        <p:tgtEl>
                                          <p:spTgt spid="4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36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38" dur="500"/>
                                        <p:tgtEl>
                                          <p:spTgt spid="5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2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4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8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0" dur="500"/>
                                        <p:tgtEl>
                                          <p:spTgt spid="5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54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56" dur="500"/>
                                        <p:tgtEl>
                                          <p:spTgt spid="5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0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2" dur="500"/>
                                        <p:tgtEl>
                                          <p:spTgt spid="5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6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68" dur="500"/>
                                        <p:tgtEl>
                                          <p:spTgt spid="5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2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74" dur="500"/>
                                        <p:tgtEl>
                                          <p:spTgt spid="5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78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0" dur="500"/>
                                        <p:tgtEl>
                                          <p:spTgt spid="5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4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6" dur="500"/>
                                        <p:tgtEl>
                                          <p:spTgt spid="5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0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2" dur="500"/>
                                        <p:tgtEl>
                                          <p:spTgt spid="5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6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98" dur="500"/>
                                        <p:tgtEl>
                                          <p:spTgt spid="5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2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04" dur="500"/>
                                        <p:tgtEl>
                                          <p:spTgt spid="5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08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0" dur="500"/>
                                        <p:tgtEl>
                                          <p:spTgt spid="5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14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16" dur="500"/>
                                        <p:tgtEl>
                                          <p:spTgt spid="5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0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2" dur="500"/>
                                        <p:tgtEl>
                                          <p:spTgt spid="5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6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28" dur="500"/>
                                        <p:tgtEl>
                                          <p:spTgt spid="5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2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34" dur="500"/>
                                        <p:tgtEl>
                                          <p:spTgt spid="5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8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0" dur="500"/>
                                        <p:tgtEl>
                                          <p:spTgt spid="5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44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6" dur="500"/>
                                        <p:tgtEl>
                                          <p:spTgt spid="5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0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2" dur="500"/>
                                        <p:tgtEl>
                                          <p:spTgt spid="5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56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58" dur="500"/>
                                        <p:tgtEl>
                                          <p:spTgt spid="5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2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64" dur="500"/>
                                        <p:tgtEl>
                                          <p:spTgt spid="5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68" dur="500"/>
                                        <p:tgtEl>
                                          <p:spTgt spid="5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0" dur="500"/>
                                        <p:tgtEl>
                                          <p:spTgt spid="5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4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7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0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2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88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2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94" dur="500"/>
                                        <p:tgtEl>
                                          <p:spTgt spid="5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98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0" dur="500"/>
                                        <p:tgtEl>
                                          <p:spTgt spid="5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04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6" dur="500"/>
                                        <p:tgtEl>
                                          <p:spTgt spid="5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0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2" dur="500"/>
                                        <p:tgtEl>
                                          <p:spTgt spid="5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6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18" dur="500"/>
                                        <p:tgtEl>
                                          <p:spTgt spid="5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2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4" dur="500"/>
                                        <p:tgtEl>
                                          <p:spTgt spid="5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8" dur="500"/>
                                        <p:tgtEl>
                                          <p:spTgt spid="5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840" y="1595520"/>
            <a:ext cx="8248320" cy="3660840"/>
            <a:chOff x="447840" y="1595520"/>
            <a:chExt cx="8248320" cy="3660840"/>
          </a:xfrm>
        </p:grpSpPr>
        <p:sp>
          <p:nvSpPr>
            <p:cNvPr id="99" name=""/>
            <p:cNvSpPr/>
            <p:nvPr/>
          </p:nvSpPr>
          <p:spPr>
            <a:xfrm>
              <a:off x="506520" y="1595520"/>
              <a:ext cx="8132760" cy="533160"/>
            </a:xfrm>
            <a:custGeom>
              <a:avLst/>
              <a:gdLst/>
              <a:ahLst/>
              <a:rect l="l" t="t" r="r" b="b"/>
              <a:pathLst>
                <a:path w="5772" h="636">
                  <a:moveTo>
                    <a:pt x="5365" y="62"/>
                  </a:moveTo>
                  <a:cubicBezTo>
                    <a:pt x="5365" y="62"/>
                    <a:pt x="5365" y="62"/>
                    <a:pt x="5365" y="62"/>
                  </a:cubicBezTo>
                  <a:cubicBezTo>
                    <a:pt x="5363" y="59"/>
                    <a:pt x="5361" y="56"/>
                    <a:pt x="5359" y="53"/>
                  </a:cubicBezTo>
                  <a:cubicBezTo>
                    <a:pt x="5359" y="53"/>
                    <a:pt x="5359" y="53"/>
                    <a:pt x="5359" y="53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8" y="52"/>
                    <a:pt x="5358" y="52"/>
                    <a:pt x="5358" y="52"/>
                  </a:cubicBezTo>
                  <a:cubicBezTo>
                    <a:pt x="5357" y="50"/>
                    <a:pt x="5355" y="49"/>
                    <a:pt x="5354" y="47"/>
                  </a:cubicBezTo>
                  <a:cubicBezTo>
                    <a:pt x="5354" y="47"/>
                    <a:pt x="5354" y="47"/>
                    <a:pt x="5354" y="46"/>
                  </a:cubicBezTo>
                  <a:cubicBezTo>
                    <a:pt x="5345" y="37"/>
                    <a:pt x="5336" y="29"/>
                    <a:pt x="5325" y="22"/>
                  </a:cubicBezTo>
                  <a:cubicBezTo>
                    <a:pt x="5325" y="22"/>
                    <a:pt x="5325" y="21"/>
                    <a:pt x="5324" y="21"/>
                  </a:cubicBezTo>
                  <a:cubicBezTo>
                    <a:pt x="5323" y="20"/>
                    <a:pt x="5321" y="19"/>
                    <a:pt x="5319" y="18"/>
                  </a:cubicBezTo>
                  <a:cubicBezTo>
                    <a:pt x="5319" y="18"/>
                    <a:pt x="5318" y="18"/>
                    <a:pt x="5318" y="17"/>
                  </a:cubicBezTo>
                  <a:cubicBezTo>
                    <a:pt x="5316" y="16"/>
                    <a:pt x="5314" y="15"/>
                    <a:pt x="5313" y="14"/>
                  </a:cubicBezTo>
                  <a:cubicBezTo>
                    <a:pt x="5312" y="14"/>
                    <a:pt x="5312" y="14"/>
                    <a:pt x="5311" y="14"/>
                  </a:cubicBezTo>
                  <a:cubicBezTo>
                    <a:pt x="5309" y="13"/>
                    <a:pt x="5307" y="12"/>
                    <a:pt x="5305" y="11"/>
                  </a:cubicBezTo>
                  <a:cubicBezTo>
                    <a:pt x="5305" y="11"/>
                    <a:pt x="5305" y="11"/>
                    <a:pt x="5305" y="11"/>
                  </a:cubicBezTo>
                  <a:cubicBezTo>
                    <a:pt x="5300" y="9"/>
                    <a:pt x="5295" y="7"/>
                    <a:pt x="5291" y="6"/>
                  </a:cubicBezTo>
                  <a:cubicBezTo>
                    <a:pt x="5290" y="5"/>
                    <a:pt x="5289" y="5"/>
                    <a:pt x="5289" y="5"/>
                  </a:cubicBezTo>
                  <a:cubicBezTo>
                    <a:pt x="5287" y="5"/>
                    <a:pt x="5285" y="4"/>
                    <a:pt x="5283" y="4"/>
                  </a:cubicBezTo>
                  <a:cubicBezTo>
                    <a:pt x="5283" y="3"/>
                    <a:pt x="5282" y="3"/>
                    <a:pt x="5281" y="3"/>
                  </a:cubicBezTo>
                  <a:cubicBezTo>
                    <a:pt x="5279" y="3"/>
                    <a:pt x="5278" y="2"/>
                    <a:pt x="5276" y="2"/>
                  </a:cubicBezTo>
                  <a:cubicBezTo>
                    <a:pt x="5275" y="2"/>
                    <a:pt x="5274" y="2"/>
                    <a:pt x="5274" y="2"/>
                  </a:cubicBezTo>
                  <a:cubicBezTo>
                    <a:pt x="5272" y="1"/>
                    <a:pt x="5270" y="1"/>
                    <a:pt x="5269" y="1"/>
                  </a:cubicBezTo>
                  <a:cubicBezTo>
                    <a:pt x="5268" y="1"/>
                    <a:pt x="5267" y="1"/>
                    <a:pt x="5266" y="0"/>
                  </a:cubicBezTo>
                  <a:cubicBezTo>
                    <a:pt x="5264" y="0"/>
                    <a:pt x="5263" y="0"/>
                    <a:pt x="5261" y="0"/>
                  </a:cubicBezTo>
                  <a:cubicBezTo>
                    <a:pt x="5260" y="0"/>
                    <a:pt x="5259" y="0"/>
                    <a:pt x="5259" y="0"/>
                  </a:cubicBezTo>
                  <a:cubicBezTo>
                    <a:pt x="5256" y="0"/>
                    <a:pt x="5253" y="0"/>
                    <a:pt x="525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21" y="0"/>
                    <a:pt x="521" y="0"/>
                    <a:pt x="521" y="0"/>
                  </a:cubicBezTo>
                  <a:cubicBezTo>
                    <a:pt x="519" y="0"/>
                    <a:pt x="516" y="0"/>
                    <a:pt x="514" y="0"/>
                  </a:cubicBezTo>
                  <a:cubicBezTo>
                    <a:pt x="513" y="0"/>
                    <a:pt x="512" y="0"/>
                    <a:pt x="511" y="0"/>
                  </a:cubicBezTo>
                  <a:cubicBezTo>
                    <a:pt x="510" y="0"/>
                    <a:pt x="508" y="0"/>
                    <a:pt x="506" y="0"/>
                  </a:cubicBezTo>
                  <a:cubicBezTo>
                    <a:pt x="505" y="1"/>
                    <a:pt x="504" y="1"/>
                    <a:pt x="503" y="1"/>
                  </a:cubicBezTo>
                  <a:cubicBezTo>
                    <a:pt x="502" y="1"/>
                    <a:pt x="500" y="1"/>
                    <a:pt x="499" y="2"/>
                  </a:cubicBezTo>
                  <a:cubicBezTo>
                    <a:pt x="498" y="2"/>
                    <a:pt x="497" y="2"/>
                    <a:pt x="496" y="2"/>
                  </a:cubicBezTo>
                  <a:cubicBezTo>
                    <a:pt x="494" y="2"/>
                    <a:pt x="493" y="3"/>
                    <a:pt x="491" y="3"/>
                  </a:cubicBezTo>
                  <a:cubicBezTo>
                    <a:pt x="491" y="3"/>
                    <a:pt x="490" y="3"/>
                    <a:pt x="489" y="4"/>
                  </a:cubicBezTo>
                  <a:cubicBezTo>
                    <a:pt x="487" y="4"/>
                    <a:pt x="485" y="4"/>
                    <a:pt x="484" y="5"/>
                  </a:cubicBezTo>
                  <a:cubicBezTo>
                    <a:pt x="483" y="5"/>
                    <a:pt x="482" y="5"/>
                    <a:pt x="482" y="6"/>
                  </a:cubicBezTo>
                  <a:cubicBezTo>
                    <a:pt x="477" y="7"/>
                    <a:pt x="472" y="9"/>
                    <a:pt x="468" y="11"/>
                  </a:cubicBezTo>
                  <a:cubicBezTo>
                    <a:pt x="467" y="11"/>
                    <a:pt x="467" y="11"/>
                    <a:pt x="467" y="11"/>
                  </a:cubicBezTo>
                  <a:cubicBezTo>
                    <a:pt x="465" y="12"/>
                    <a:pt x="463" y="13"/>
                    <a:pt x="461" y="14"/>
                  </a:cubicBezTo>
                  <a:cubicBezTo>
                    <a:pt x="461" y="14"/>
                    <a:pt x="460" y="14"/>
                    <a:pt x="460" y="14"/>
                  </a:cubicBezTo>
                  <a:cubicBezTo>
                    <a:pt x="458" y="15"/>
                    <a:pt x="456" y="16"/>
                    <a:pt x="455" y="17"/>
                  </a:cubicBezTo>
                  <a:cubicBezTo>
                    <a:pt x="454" y="18"/>
                    <a:pt x="454" y="18"/>
                    <a:pt x="453" y="18"/>
                  </a:cubicBezTo>
                  <a:cubicBezTo>
                    <a:pt x="451" y="19"/>
                    <a:pt x="450" y="20"/>
                    <a:pt x="448" y="21"/>
                  </a:cubicBezTo>
                  <a:cubicBezTo>
                    <a:pt x="448" y="21"/>
                    <a:pt x="447" y="22"/>
                    <a:pt x="447" y="22"/>
                  </a:cubicBezTo>
                  <a:cubicBezTo>
                    <a:pt x="445" y="23"/>
                    <a:pt x="443" y="24"/>
                    <a:pt x="441" y="26"/>
                  </a:cubicBezTo>
                  <a:cubicBezTo>
                    <a:pt x="441" y="26"/>
                    <a:pt x="441" y="26"/>
                    <a:pt x="441" y="26"/>
                  </a:cubicBezTo>
                  <a:cubicBezTo>
                    <a:pt x="435" y="30"/>
                    <a:pt x="429" y="35"/>
                    <a:pt x="424" y="41"/>
                  </a:cubicBezTo>
                  <a:cubicBezTo>
                    <a:pt x="424" y="41"/>
                    <a:pt x="424" y="41"/>
                    <a:pt x="424" y="41"/>
                  </a:cubicBezTo>
                  <a:cubicBezTo>
                    <a:pt x="422" y="43"/>
                    <a:pt x="420" y="45"/>
                    <a:pt x="419" y="46"/>
                  </a:cubicBezTo>
                  <a:cubicBezTo>
                    <a:pt x="419" y="47"/>
                    <a:pt x="419" y="47"/>
                    <a:pt x="419" y="47"/>
                  </a:cubicBezTo>
                  <a:cubicBezTo>
                    <a:pt x="417" y="49"/>
                    <a:pt x="415" y="50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2"/>
                    <a:pt x="414" y="52"/>
                    <a:pt x="414" y="52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11" y="56"/>
                    <a:pt x="409" y="59"/>
                    <a:pt x="407" y="62"/>
                  </a:cubicBezTo>
                  <a:cubicBezTo>
                    <a:pt x="407" y="62"/>
                    <a:pt x="407" y="62"/>
                    <a:pt x="407" y="62"/>
                  </a:cubicBezTo>
                  <a:cubicBezTo>
                    <a:pt x="0" y="636"/>
                    <a:pt x="0" y="636"/>
                    <a:pt x="0" y="636"/>
                  </a:cubicBezTo>
                  <a:cubicBezTo>
                    <a:pt x="29" y="603"/>
                    <a:pt x="72" y="582"/>
                    <a:pt x="120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385" y="582"/>
                    <a:pt x="385" y="582"/>
                    <a:pt x="385" y="582"/>
                  </a:cubicBezTo>
                  <a:cubicBezTo>
                    <a:pt x="5387" y="582"/>
                    <a:pt x="5387" y="582"/>
                    <a:pt x="5387" y="582"/>
                  </a:cubicBezTo>
                  <a:cubicBezTo>
                    <a:pt x="5653" y="582"/>
                    <a:pt x="5653" y="582"/>
                    <a:pt x="5653" y="582"/>
                  </a:cubicBezTo>
                  <a:cubicBezTo>
                    <a:pt x="5700" y="582"/>
                    <a:pt x="5743" y="603"/>
                    <a:pt x="5772" y="636"/>
                  </a:cubicBezTo>
                  <a:lnTo>
                    <a:pt x="5365" y="6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840" y="2050920"/>
              <a:ext cx="8248320" cy="3205440"/>
            </a:xfrm>
            <a:prstGeom prst="roundRect">
              <a:avLst>
                <a:gd name="adj" fmla="val 7014"/>
              </a:avLst>
            </a:pr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03440" y="2762280"/>
              <a:ext cx="1168200" cy="1913040"/>
              <a:chOff x="703440" y="2762280"/>
              <a:chExt cx="1168200" cy="1913040"/>
            </a:xfrm>
          </p:grpSpPr>
          <p:sp>
            <p:nvSpPr>
              <p:cNvPr id="102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344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344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344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43280" y="2765520"/>
              <a:ext cx="1168200" cy="1912680"/>
              <a:chOff x="1943280" y="2765520"/>
              <a:chExt cx="1168200" cy="1912680"/>
            </a:xfrm>
          </p:grpSpPr>
          <p:sp>
            <p:nvSpPr>
              <p:cNvPr id="107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3280" y="276552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43280" y="444996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43280" y="2765520"/>
                <a:ext cx="1168200" cy="191268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61">
                    <a:moveTo>
                      <a:pt x="0" y="0"/>
                    </a:moveTo>
                    <a:arcTo wR="0" hR="0" stAng="16200000" swAng="-5400000"/>
                    <a:lnTo>
                      <a:pt x="0" y="35361"/>
                    </a:lnTo>
                    <a:arcTo wR="0" hR="0" stAng="10800000" swAng="-5400000"/>
                    <a:lnTo>
                      <a:pt x="21600" y="35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68520" y="2762280"/>
              <a:ext cx="1168560" cy="1913040"/>
              <a:chOff x="3368520" y="2762280"/>
              <a:chExt cx="1168560" cy="1913040"/>
            </a:xfrm>
          </p:grpSpPr>
          <p:sp>
            <p:nvSpPr>
              <p:cNvPr id="112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68520" y="276228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8520" y="444708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68520" y="2762280"/>
                <a:ext cx="1168560" cy="191304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3040"/>
                  <a:gd name="textAreaBottom" fmla="*/ 1913400 h 1913040"/>
                </a:gdLst>
                <a:ahLst/>
                <a:rect l="textAreaLeft" t="textAreaTop" r="textAreaRight" b="textAreaBottom"/>
                <a:pathLst>
                  <a:path w="21600" h="35357">
                    <a:moveTo>
                      <a:pt x="0" y="0"/>
                    </a:moveTo>
                    <a:arcTo wR="0" hR="0" stAng="16200000" swAng="-5400000"/>
                    <a:lnTo>
                      <a:pt x="0" y="35357"/>
                    </a:lnTo>
                    <a:arcTo wR="0" hR="0" stAng="10800000" swAng="-5400000"/>
                    <a:lnTo>
                      <a:pt x="21600" y="3535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06920" y="2765520"/>
              <a:ext cx="1168560" cy="1912680"/>
              <a:chOff x="4606920" y="2765520"/>
              <a:chExt cx="1168560" cy="1912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6920" y="2765520"/>
                <a:ext cx="116856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6920" y="4449960"/>
                <a:ext cx="116856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06920" y="2765520"/>
                <a:ext cx="1168560" cy="1912680"/>
              </a:xfrm>
              <a:custGeom>
                <a:avLst/>
                <a:gdLst>
                  <a:gd name="textAreaLeft" fmla="*/ 0 w 1168560"/>
                  <a:gd name="textAreaRight" fmla="*/ 1168920 w 1168560"/>
                  <a:gd name="textAreaTop" fmla="*/ 0 h 1912680"/>
                  <a:gd name="textAreaBottom" fmla="*/ 1913040 h 1912680"/>
                </a:gdLst>
                <a:ahLst/>
                <a:rect l="textAreaLeft" t="textAreaTop" r="textAreaRight" b="textAreaBottom"/>
                <a:pathLst>
                  <a:path w="21600" h="35350">
                    <a:moveTo>
                      <a:pt x="0" y="0"/>
                    </a:moveTo>
                    <a:arcTo wR="0" hR="0" stAng="16200000" swAng="-5400000"/>
                    <a:lnTo>
                      <a:pt x="0" y="35350"/>
                    </a:lnTo>
                    <a:arcTo wR="0" hR="0" stAng="10800000" swAng="-5400000"/>
                    <a:lnTo>
                      <a:pt x="21600" y="353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031080" y="2762280"/>
              <a:ext cx="1168200" cy="1913040"/>
              <a:chOff x="6031080" y="2762280"/>
              <a:chExt cx="1168200" cy="1913040"/>
            </a:xfrm>
          </p:grpSpPr>
          <p:sp>
            <p:nvSpPr>
              <p:cNvPr id="122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50000">
                    <a:srgbClr val="ffffff"/>
                  </a:gs>
                  <a:gs pos="100000">
                    <a:srgbClr val="dada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31080" y="2762280"/>
                <a:ext cx="1168200" cy="22752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44313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031080" y="4447080"/>
                <a:ext cx="1168200" cy="22788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000000">
                      <a:alpha val="4431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031080" y="2762280"/>
                <a:ext cx="1168200" cy="191304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1913040"/>
                  <a:gd name="textAreaBottom" fmla="*/ 1913040 h 1913040"/>
                </a:gdLst>
                <a:ahLst/>
                <a:rect l="textAreaLeft" t="textAreaTop" r="textAreaRight" b="textAreaBottom"/>
                <a:pathLst>
                  <a:path w="21600" h="35368">
                    <a:moveTo>
                      <a:pt x="0" y="0"/>
                    </a:moveTo>
                    <a:arcTo wR="0" hR="0" stAng="16200000" swAng="-5400000"/>
                    <a:lnTo>
                      <a:pt x="0" y="35368"/>
                    </a:lnTo>
                    <a:arcTo wR="0" hR="0" stAng="10800000" swAng="-5400000"/>
                    <a:lnTo>
                      <a:pt x="21600" y="353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255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70920" y="276552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70920" y="4449600"/>
              <a:ext cx="1168200" cy="2286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092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270920" y="2981160"/>
              <a:ext cx="1168200" cy="1473480"/>
              <a:chOff x="7270920" y="2981160"/>
              <a:chExt cx="1168200" cy="147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09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031080" y="2981160"/>
              <a:ext cx="1168200" cy="1473480"/>
              <a:chOff x="6031080" y="2981160"/>
              <a:chExt cx="1168200" cy="147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3108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943280" y="2982960"/>
              <a:ext cx="1168200" cy="1473120"/>
              <a:chOff x="1943280" y="2982960"/>
              <a:chExt cx="1168200" cy="14731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4328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03440" y="2982960"/>
              <a:ext cx="1168200" cy="1473120"/>
              <a:chOff x="703440" y="2982960"/>
              <a:chExt cx="1168200" cy="147312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3440" y="2982960"/>
                <a:ext cx="1168200" cy="14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06920" y="2984400"/>
              <a:ext cx="1168200" cy="1473480"/>
              <a:chOff x="4606920" y="2984400"/>
              <a:chExt cx="1168200" cy="1473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8440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0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68520" y="2981160"/>
              <a:ext cx="1168200" cy="1473480"/>
              <a:chOff x="3368520" y="2981160"/>
              <a:chExt cx="1168200" cy="147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68520" y="2981160"/>
                <a:ext cx="1168200" cy="147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0" spc="-1" strike="noStrike">
                    <a:solidFill>
                      <a:srgbClr val="000000"/>
                    </a:solidFill>
                    <a:latin typeface="Arial Narrow"/>
                  </a:rPr>
                  <a:t>2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47840" y="2050920"/>
              <a:ext cx="8248320" cy="3205440"/>
            </a:xfrm>
            <a:custGeom>
              <a:avLst/>
              <a:gdLst/>
              <a:ahLst/>
              <a:rect l="l" t="t" r="r" b="b"/>
              <a:pathLst>
                <a:path w="5920" h="2300">
                  <a:moveTo>
                    <a:pt x="5758" y="0"/>
                  </a:moveTo>
                  <a:cubicBezTo>
                    <a:pt x="161" y="0"/>
                    <a:pt x="161" y="0"/>
                    <a:pt x="161" y="0"/>
                  </a:cubicBezTo>
                  <a:cubicBezTo>
                    <a:pt x="72" y="0"/>
                    <a:pt x="0" y="72"/>
                    <a:pt x="0" y="161"/>
                  </a:cubicBezTo>
                  <a:cubicBezTo>
                    <a:pt x="0" y="2138"/>
                    <a:pt x="0" y="2138"/>
                    <a:pt x="0" y="2138"/>
                  </a:cubicBezTo>
                  <a:cubicBezTo>
                    <a:pt x="0" y="2227"/>
                    <a:pt x="72" y="2300"/>
                    <a:pt x="161" y="2300"/>
                  </a:cubicBezTo>
                  <a:cubicBezTo>
                    <a:pt x="5758" y="2300"/>
                    <a:pt x="5758" y="2300"/>
                    <a:pt x="5758" y="2300"/>
                  </a:cubicBezTo>
                  <a:cubicBezTo>
                    <a:pt x="5847" y="2300"/>
                    <a:pt x="5920" y="2227"/>
                    <a:pt x="5920" y="2138"/>
                  </a:cubicBezTo>
                  <a:cubicBezTo>
                    <a:pt x="5920" y="161"/>
                    <a:pt x="5920" y="161"/>
                    <a:pt x="5920" y="161"/>
                  </a:cubicBezTo>
                  <a:cubicBezTo>
                    <a:pt x="5920" y="72"/>
                    <a:pt x="5847" y="0"/>
                    <a:pt x="5758" y="0"/>
                  </a:cubicBezTo>
                  <a:close/>
                  <a:moveTo>
                    <a:pt x="1022" y="1883"/>
                  </a:moveTo>
                  <a:cubicBezTo>
                    <a:pt x="184" y="1883"/>
                    <a:pt x="184" y="1883"/>
                    <a:pt x="184" y="1883"/>
                  </a:cubicBezTo>
                  <a:cubicBezTo>
                    <a:pt x="184" y="510"/>
                    <a:pt x="184" y="510"/>
                    <a:pt x="184" y="510"/>
                  </a:cubicBezTo>
                  <a:cubicBezTo>
                    <a:pt x="1022" y="510"/>
                    <a:pt x="1022" y="510"/>
                    <a:pt x="1022" y="510"/>
                  </a:cubicBezTo>
                  <a:lnTo>
                    <a:pt x="1022" y="1883"/>
                  </a:lnTo>
                  <a:close/>
                  <a:moveTo>
                    <a:pt x="1912" y="1885"/>
                  </a:moveTo>
                  <a:cubicBezTo>
                    <a:pt x="1073" y="1885"/>
                    <a:pt x="1073" y="1885"/>
                    <a:pt x="1073" y="1885"/>
                  </a:cubicBezTo>
                  <a:cubicBezTo>
                    <a:pt x="1073" y="513"/>
                    <a:pt x="1073" y="513"/>
                    <a:pt x="1073" y="513"/>
                  </a:cubicBezTo>
                  <a:cubicBezTo>
                    <a:pt x="1912" y="513"/>
                    <a:pt x="1912" y="513"/>
                    <a:pt x="1912" y="513"/>
                  </a:cubicBezTo>
                  <a:lnTo>
                    <a:pt x="1912" y="1885"/>
                  </a:lnTo>
                  <a:close/>
                  <a:moveTo>
                    <a:pt x="2935" y="1883"/>
                  </a:moveTo>
                  <a:cubicBezTo>
                    <a:pt x="2097" y="1883"/>
                    <a:pt x="2097" y="1883"/>
                    <a:pt x="2097" y="1883"/>
                  </a:cubicBezTo>
                  <a:cubicBezTo>
                    <a:pt x="2097" y="510"/>
                    <a:pt x="2097" y="510"/>
                    <a:pt x="2097" y="510"/>
                  </a:cubicBezTo>
                  <a:cubicBezTo>
                    <a:pt x="2935" y="510"/>
                    <a:pt x="2935" y="510"/>
                    <a:pt x="2935" y="510"/>
                  </a:cubicBezTo>
                  <a:lnTo>
                    <a:pt x="2935" y="1883"/>
                  </a:lnTo>
                  <a:close/>
                  <a:moveTo>
                    <a:pt x="3824" y="1885"/>
                  </a:moveTo>
                  <a:cubicBezTo>
                    <a:pt x="2985" y="1885"/>
                    <a:pt x="2985" y="1885"/>
                    <a:pt x="2985" y="1885"/>
                  </a:cubicBezTo>
                  <a:cubicBezTo>
                    <a:pt x="2985" y="513"/>
                    <a:pt x="2985" y="513"/>
                    <a:pt x="2985" y="513"/>
                  </a:cubicBezTo>
                  <a:cubicBezTo>
                    <a:pt x="3824" y="513"/>
                    <a:pt x="3824" y="513"/>
                    <a:pt x="3824" y="513"/>
                  </a:cubicBezTo>
                  <a:lnTo>
                    <a:pt x="3824" y="1885"/>
                  </a:lnTo>
                  <a:close/>
                  <a:moveTo>
                    <a:pt x="4846" y="1883"/>
                  </a:moveTo>
                  <a:cubicBezTo>
                    <a:pt x="4007" y="1883"/>
                    <a:pt x="4007" y="1883"/>
                    <a:pt x="4007" y="1883"/>
                  </a:cubicBezTo>
                  <a:cubicBezTo>
                    <a:pt x="4007" y="510"/>
                    <a:pt x="4007" y="510"/>
                    <a:pt x="4007" y="510"/>
                  </a:cubicBezTo>
                  <a:cubicBezTo>
                    <a:pt x="4846" y="510"/>
                    <a:pt x="4846" y="510"/>
                    <a:pt x="4846" y="510"/>
                  </a:cubicBezTo>
                  <a:lnTo>
                    <a:pt x="4846" y="1883"/>
                  </a:lnTo>
                  <a:close/>
                  <a:moveTo>
                    <a:pt x="5735" y="1885"/>
                  </a:moveTo>
                  <a:cubicBezTo>
                    <a:pt x="4897" y="1885"/>
                    <a:pt x="4897" y="1885"/>
                    <a:pt x="4897" y="1885"/>
                  </a:cubicBezTo>
                  <a:cubicBezTo>
                    <a:pt x="4897" y="513"/>
                    <a:pt x="4897" y="513"/>
                    <a:pt x="4897" y="513"/>
                  </a:cubicBezTo>
                  <a:cubicBezTo>
                    <a:pt x="5735" y="513"/>
                    <a:pt x="5735" y="513"/>
                    <a:pt x="5735" y="513"/>
                  </a:cubicBezTo>
                  <a:lnTo>
                    <a:pt x="5735" y="1885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428d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5884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24280" y="4732920"/>
              <a:ext cx="149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inu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86480" y="4732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co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139120"/>
              <a:ext cx="46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sert 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913320" y="3472560"/>
              <a:ext cx="315144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040" y="2085840"/>
              <a:ext cx="8197920" cy="37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14117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162240" y="3373560"/>
              <a:ext cx="120240" cy="693360"/>
              <a:chOff x="3162240" y="3373560"/>
              <a:chExt cx="120240" cy="69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316512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6224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43520" y="3373560"/>
              <a:ext cx="120240" cy="693360"/>
              <a:chOff x="5843520" y="3373560"/>
              <a:chExt cx="120240" cy="693360"/>
            </a:xfrm>
          </p:grpSpPr>
          <p:sp>
            <p:nvSpPr>
              <p:cNvPr id="159" name=""/>
              <p:cNvSpPr/>
              <p:nvPr/>
            </p:nvSpPr>
            <p:spPr>
              <a:xfrm>
                <a:off x="5846400" y="3948840"/>
                <a:ext cx="117360" cy="11808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43520" y="3373560"/>
                <a:ext cx="117360" cy="118440"/>
              </a:xfrm>
              <a:prstGeom prst="rect">
                <a:avLst/>
              </a:pr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06320" y="2768760"/>
              <a:ext cx="7731000" cy="1904760"/>
              <a:chOff x="706320" y="2768760"/>
              <a:chExt cx="7731000" cy="19047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06320" y="2768760"/>
                <a:ext cx="1164960" cy="1904400"/>
                <a:chOff x="706320" y="2768760"/>
                <a:chExt cx="1164960" cy="190440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715680" y="2778480"/>
                  <a:ext cx="1145880" cy="1884960"/>
                  <a:chOff x="715680" y="2778480"/>
                  <a:chExt cx="1145880" cy="18849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7156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221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7063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944720" y="2768760"/>
                <a:ext cx="1164960" cy="1904400"/>
                <a:chOff x="1944720" y="2768760"/>
                <a:chExt cx="1164960" cy="1904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1954080" y="2778480"/>
                  <a:ext cx="1145880" cy="1884960"/>
                  <a:chOff x="1954080" y="2778480"/>
                  <a:chExt cx="1145880" cy="18849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5408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6056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94472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272360" y="2768760"/>
                <a:ext cx="1164960" cy="1904400"/>
                <a:chOff x="7272360" y="2768760"/>
                <a:chExt cx="1164960" cy="190440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7282080" y="2778480"/>
                  <a:ext cx="1145880" cy="1884960"/>
                  <a:chOff x="7282080" y="2778480"/>
                  <a:chExt cx="1145880" cy="18849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>
                    <a:off x="840204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>
                    <a:off x="7281720" y="4637880"/>
                    <a:ext cx="1139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>
                  <a:off x="7272360" y="2768760"/>
                  <a:ext cx="116496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31440" y="2768760"/>
                <a:ext cx="1164600" cy="1904400"/>
                <a:chOff x="6031440" y="2768760"/>
                <a:chExt cx="1164600" cy="190440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041160" y="2778480"/>
                  <a:ext cx="1145520" cy="1884960"/>
                  <a:chOff x="6041160" y="2778480"/>
                  <a:chExt cx="1145520" cy="188496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>
                    <a:off x="7160760" y="2778480"/>
                    <a:ext cx="2556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72">
                        <a:moveTo>
                          <a:pt x="0" y="0"/>
                        </a:moveTo>
                        <a:lnTo>
                          <a:pt x="0" y="1018"/>
                        </a:lnTo>
                        <a:lnTo>
                          <a:pt x="0" y="1172"/>
                        </a:lnTo>
                        <a:lnTo>
                          <a:pt x="16" y="1156"/>
                        </a:lnTo>
                        <a:lnTo>
                          <a:pt x="16" y="1018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23232"/>
                      </a:gs>
                      <a:gs pos="100000">
                        <a:srgbClr val="212121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6041160" y="4637880"/>
                    <a:ext cx="113904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8">
                        <a:moveTo>
                          <a:pt x="358" y="1"/>
                        </a:move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24" y="8"/>
                          <a:pt x="24" y="8"/>
                          <a:pt x="24" y="8"/>
                        </a:cubicBezTo>
                        <a:cubicBezTo>
                          <a:pt x="358" y="8"/>
                          <a:pt x="358" y="8"/>
                          <a:pt x="358" y="8"/>
                        </a:cubicBezTo>
                        <a:cubicBezTo>
                          <a:pt x="358" y="0"/>
                          <a:pt x="358" y="0"/>
                          <a:pt x="358" y="0"/>
                        </a:cubicBezTo>
                        <a:cubicBezTo>
                          <a:pt x="358" y="0"/>
                          <a:pt x="358" y="1"/>
                          <a:pt x="358" y="1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15151"/>
                      </a:gs>
                      <a:gs pos="100000">
                        <a:srgbClr val="3d3d3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 flipH="1">
                  <a:off x="6031080" y="2768760"/>
                  <a:ext cx="1164600" cy="1904400"/>
                </a:xfrm>
                <a:custGeom>
                  <a:avLst/>
                  <a:gdLst/>
                  <a:ahLst/>
                  <a:rect l="l" t="t" r="r" b="b"/>
                  <a:pathLst>
                    <a:path w="366" h="600">
                      <a:moveTo>
                        <a:pt x="366" y="599"/>
                      </a:moveTo>
                      <a:cubicBezTo>
                        <a:pt x="366" y="517"/>
                        <a:pt x="366" y="517"/>
                        <a:pt x="366" y="517"/>
                      </a:cubicBezTo>
                      <a:cubicBezTo>
                        <a:pt x="366" y="2"/>
                        <a:pt x="366" y="2"/>
                        <a:pt x="366" y="2"/>
                      </a:cubicBezTo>
                      <a:cubicBezTo>
                        <a:pt x="366" y="1"/>
                        <a:pt x="366" y="1"/>
                        <a:pt x="365" y="0"/>
                      </a:cubicBezTo>
                      <a:cubicBezTo>
                        <a:pt x="365" y="0"/>
                        <a:pt x="365" y="0"/>
                        <a:pt x="365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517"/>
                        <a:pt x="0" y="517"/>
                        <a:pt x="0" y="517"/>
                      </a:cubicBezTo>
                      <a:cubicBezTo>
                        <a:pt x="0" y="599"/>
                        <a:pt x="0" y="599"/>
                        <a:pt x="0" y="599"/>
                      </a:cubicBezTo>
                      <a:cubicBezTo>
                        <a:pt x="0" y="600"/>
                        <a:pt x="1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" y="600"/>
                        <a:pt x="2" y="600"/>
                        <a:pt x="2" y="600"/>
                      </a:cubicBezTo>
                      <a:cubicBezTo>
                        <a:pt x="29" y="600"/>
                        <a:pt x="29" y="600"/>
                        <a:pt x="29" y="600"/>
                      </a:cubicBezTo>
                      <a:cubicBezTo>
                        <a:pt x="365" y="600"/>
                        <a:pt x="365" y="600"/>
                        <a:pt x="365" y="600"/>
                      </a:cubicBezTo>
                      <a:cubicBezTo>
                        <a:pt x="366" y="600"/>
                        <a:pt x="366" y="600"/>
                        <a:pt x="366" y="599"/>
                      </a:cubicBezTo>
                      <a:cubicBezTo>
                        <a:pt x="366" y="599"/>
                        <a:pt x="366" y="599"/>
                        <a:pt x="366" y="599"/>
                      </a:cubicBezTo>
                      <a:close/>
                      <a:moveTo>
                        <a:pt x="3" y="517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517"/>
                        <a:pt x="11" y="517"/>
                        <a:pt x="11" y="517"/>
                      </a:cubicBezTo>
                      <a:cubicBezTo>
                        <a:pt x="11" y="587"/>
                        <a:pt x="11" y="587"/>
                        <a:pt x="11" y="587"/>
                      </a:cubicBezTo>
                      <a:cubicBezTo>
                        <a:pt x="3" y="595"/>
                        <a:pt x="3" y="595"/>
                        <a:pt x="3" y="595"/>
                      </a:cubicBezTo>
                      <a:lnTo>
                        <a:pt x="3" y="517"/>
                      </a:lnTo>
                      <a:close/>
                      <a:moveTo>
                        <a:pt x="363" y="597"/>
                      </a:moveTo>
                      <a:cubicBezTo>
                        <a:pt x="29" y="597"/>
                        <a:pt x="29" y="597"/>
                        <a:pt x="29" y="597"/>
                      </a:cubicBezTo>
                      <a:cubicBezTo>
                        <a:pt x="5" y="597"/>
                        <a:pt x="5" y="597"/>
                        <a:pt x="5" y="597"/>
                      </a:cubicBezTo>
                      <a:cubicBezTo>
                        <a:pt x="13" y="590"/>
                        <a:pt x="13" y="590"/>
                        <a:pt x="13" y="590"/>
                      </a:cubicBezTo>
                      <a:cubicBezTo>
                        <a:pt x="29" y="590"/>
                        <a:pt x="29" y="590"/>
                        <a:pt x="29" y="590"/>
                      </a:cubicBezTo>
                      <a:cubicBezTo>
                        <a:pt x="363" y="590"/>
                        <a:pt x="363" y="590"/>
                        <a:pt x="363" y="590"/>
                      </a:cubicBezTo>
                      <a:cubicBezTo>
                        <a:pt x="363" y="590"/>
                        <a:pt x="363" y="589"/>
                        <a:pt x="363" y="589"/>
                      </a:cubicBezTo>
                      <a:lnTo>
                        <a:pt x="363" y="597"/>
                      </a:lnTo>
                      <a:close/>
                      <a:moveTo>
                        <a:pt x="363" y="517"/>
                      </a:move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363" y="587"/>
                        <a:pt x="363" y="587"/>
                        <a:pt x="363" y="587"/>
                      </a:cubicBezTo>
                      <a:cubicBezTo>
                        <a:pt x="29" y="587"/>
                        <a:pt x="29" y="587"/>
                        <a:pt x="29" y="587"/>
                      </a:cubicBezTo>
                      <a:cubicBezTo>
                        <a:pt x="14" y="587"/>
                        <a:pt x="14" y="587"/>
                        <a:pt x="14" y="587"/>
                      </a:cubicBezTo>
                      <a:cubicBezTo>
                        <a:pt x="14" y="517"/>
                        <a:pt x="14" y="517"/>
                        <a:pt x="14" y="517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63" y="3"/>
                        <a:pt x="363" y="3"/>
                        <a:pt x="363" y="3"/>
                      </a:cubicBezTo>
                      <a:lnTo>
                        <a:pt x="363" y="517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375000" y="4638600"/>
                <a:ext cx="115272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18080" y="4638600"/>
                <a:ext cx="1152360" cy="34920"/>
              </a:xfrm>
              <a:prstGeom prst="rect">
                <a:avLst/>
              </a:prstGeom>
              <a:solidFill>
                <a:srgbClr val="4d4d4d"/>
              </a:solidFill>
              <a:ln w="1152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16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16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17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17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18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19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0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0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0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34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0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6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417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9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420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2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423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424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425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7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8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429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430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2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3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434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435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7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8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439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440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2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3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9" dur="indefinite" restart="never" nodeType="tmRoot">
          <p:childTnLst>
            <p:seq>
              <p:cTn id="6930" dur="indefinite" nodeType="mainSeq">
                <p:childTnLst>
                  <p:par>
                    <p:cTn id="6931" fill="hold">
                      <p:stCondLst>
                        <p:cond delay="0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4" dur="500"/>
                                        <p:tgtEl>
                                          <p:spTgt spid="5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37" dur="500"/>
                                        <p:tgtEl>
                                          <p:spTgt spid="5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40" dur="500"/>
                                        <p:tgtEl>
                                          <p:spTgt spid="5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4" dur="500"/>
                                        <p:tgtEl>
                                          <p:spTgt spid="5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7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0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2" dur="500"/>
                                        <p:tgtEl>
                                          <p:spTgt spid="5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6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58" dur="500"/>
                                        <p:tgtEl>
                                          <p:spTgt spid="5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2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4" dur="500"/>
                                        <p:tgtEl>
                                          <p:spTgt spid="5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68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0" dur="500"/>
                                        <p:tgtEl>
                                          <p:spTgt spid="5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4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76" dur="500"/>
                                        <p:tgtEl>
                                          <p:spTgt spid="5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0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2" dur="500"/>
                                        <p:tgtEl>
                                          <p:spTgt spid="5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86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2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94" dur="500"/>
                                        <p:tgtEl>
                                          <p:spTgt spid="5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98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0" dur="500"/>
                                        <p:tgtEl>
                                          <p:spTgt spid="5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4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7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09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2" dur="500"/>
                                        <p:tgtEl>
                                          <p:spTgt spid="5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16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8" dur="500"/>
                                        <p:tgtEl>
                                          <p:spTgt spid="5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2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4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8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0" dur="500"/>
                                        <p:tgtEl>
                                          <p:spTgt spid="5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34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36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0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2" dur="500"/>
                                        <p:tgtEl>
                                          <p:spTgt spid="5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6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8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2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58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0" dur="500"/>
                                        <p:tgtEl>
                                          <p:spTgt spid="5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4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66" dur="500"/>
                                        <p:tgtEl>
                                          <p:spTgt spid="5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0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2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5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79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2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4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8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0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94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96" dur="500"/>
                                        <p:tgtEl>
                                          <p:spTgt spid="5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0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2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06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8" dur="500"/>
                                        <p:tgtEl>
                                          <p:spTgt spid="5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2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14" dur="500"/>
                                        <p:tgtEl>
                                          <p:spTgt spid="5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8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0" dur="500"/>
                                        <p:tgtEl>
                                          <p:spTgt spid="5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4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26" dur="500"/>
                                        <p:tgtEl>
                                          <p:spTgt spid="5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0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2" dur="500"/>
                                        <p:tgtEl>
                                          <p:spTgt spid="5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36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2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4" dur="500"/>
                                        <p:tgtEl>
                                          <p:spTgt spid="5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48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0" dur="500"/>
                                        <p:tgtEl>
                                          <p:spTgt spid="5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54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56" dur="500"/>
                                        <p:tgtEl>
                                          <p:spTgt spid="5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0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2" dur="500"/>
                                        <p:tgtEl>
                                          <p:spTgt spid="5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6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68" dur="500"/>
                                        <p:tgtEl>
                                          <p:spTgt spid="5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2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7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78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0" dur="500"/>
                                        <p:tgtEl>
                                          <p:spTgt spid="5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4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86" dur="500"/>
                                        <p:tgtEl>
                                          <p:spTgt spid="5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0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2" dur="500"/>
                                        <p:tgtEl>
                                          <p:spTgt spid="5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96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98" dur="500"/>
                                        <p:tgtEl>
                                          <p:spTgt spid="5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2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4" dur="500"/>
                                        <p:tgtEl>
                                          <p:spTgt spid="5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08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0" dur="500"/>
                                        <p:tgtEl>
                                          <p:spTgt spid="5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14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16" dur="500"/>
                                        <p:tgtEl>
                                          <p:spTgt spid="5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0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2" dur="500"/>
                                        <p:tgtEl>
                                          <p:spTgt spid="5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26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28" dur="500"/>
                                        <p:tgtEl>
                                          <p:spTgt spid="5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2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34" dur="500"/>
                                        <p:tgtEl>
                                          <p:spTgt spid="5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8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0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4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46" dur="500"/>
                                        <p:tgtEl>
                                          <p:spTgt spid="5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0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2" dur="500"/>
                                        <p:tgtEl>
                                          <p:spTgt spid="5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56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58" dur="500"/>
                                        <p:tgtEl>
                                          <p:spTgt spid="5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2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4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68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0" dur="500"/>
                                        <p:tgtEl>
                                          <p:spTgt spid="5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74" dur="500"/>
                                        <p:tgtEl>
                                          <p:spTgt spid="5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76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0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2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6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88" dur="500"/>
                                        <p:tgtEl>
                                          <p:spTgt spid="5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2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94" dur="500"/>
                                        <p:tgtEl>
                                          <p:spTgt spid="5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98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0" dur="500"/>
                                        <p:tgtEl>
                                          <p:spTgt spid="5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4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06" dur="500"/>
                                        <p:tgtEl>
                                          <p:spTgt spid="5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0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2" dur="500"/>
                                        <p:tgtEl>
                                          <p:spTgt spid="5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6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18" dur="500"/>
                                        <p:tgtEl>
                                          <p:spTgt spid="5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2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4" dur="500"/>
                                        <p:tgtEl>
                                          <p:spTgt spid="5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28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30" dur="500"/>
                                        <p:tgtEl>
                                          <p:spTgt spid="5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4" dur="500"/>
                                        <p:tgtEl>
                                          <p:spTgt spid="5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3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45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8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45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3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46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46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3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47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49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2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49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5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49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49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52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53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63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2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8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5709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5712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4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5715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5716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5717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9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0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5721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5722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3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4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5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5726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5727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8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9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0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5731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5732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4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5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5" dur="indefinite" restart="never" nodeType="tmRoot">
          <p:childTnLst>
            <p:seq>
              <p:cTn id="7336" dur="indefinite" nodeType="mainSeq">
                <p:childTnLst>
                  <p:par>
                    <p:cTn id="7337" fill="hold">
                      <p:stCondLst>
                        <p:cond delay="0"/>
                      </p:stCondLst>
                      <p:childTnLst>
                        <p:par>
                          <p:cTn id="7338" fill="hold">
                            <p:stCondLst>
                              <p:cond delay="0"/>
                            </p:stCondLst>
                            <p:childTnLst>
                              <p:par>
                                <p:cTn id="733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0" dur="500"/>
                                        <p:tgtEl>
                                          <p:spTgt spid="5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3" dur="500"/>
                                        <p:tgtEl>
                                          <p:spTgt spid="5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46" dur="500"/>
                                        <p:tgtEl>
                                          <p:spTgt spid="5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0" dur="500"/>
                                        <p:tgtEl>
                                          <p:spTgt spid="5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3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6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58" dur="500"/>
                                        <p:tgtEl>
                                          <p:spTgt spid="5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2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64" dur="500"/>
                                        <p:tgtEl>
                                          <p:spTgt spid="5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8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0" dur="500"/>
                                        <p:tgtEl>
                                          <p:spTgt spid="5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4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76" dur="500"/>
                                        <p:tgtEl>
                                          <p:spTgt spid="5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0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2" dur="500"/>
                                        <p:tgtEl>
                                          <p:spTgt spid="5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86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8" dur="500"/>
                                        <p:tgtEl>
                                          <p:spTgt spid="5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2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94" dur="500"/>
                                        <p:tgtEl>
                                          <p:spTgt spid="5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98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0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04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06" dur="500"/>
                                        <p:tgtEl>
                                          <p:spTgt spid="5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0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3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5" dur="500"/>
                                        <p:tgtEl>
                                          <p:spTgt spid="5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18" dur="500"/>
                                        <p:tgtEl>
                                          <p:spTgt spid="5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2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24" dur="500"/>
                                        <p:tgtEl>
                                          <p:spTgt spid="5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8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0" dur="500"/>
                                        <p:tgtEl>
                                          <p:spTgt spid="5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34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36" dur="500"/>
                                        <p:tgtEl>
                                          <p:spTgt spid="5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0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2" dur="500"/>
                                        <p:tgtEl>
                                          <p:spTgt spid="5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46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8" dur="500"/>
                                        <p:tgtEl>
                                          <p:spTgt spid="5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2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54" dur="500"/>
                                        <p:tgtEl>
                                          <p:spTgt spid="5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8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0" dur="500"/>
                                        <p:tgtEl>
                                          <p:spTgt spid="5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64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66" dur="500"/>
                                        <p:tgtEl>
                                          <p:spTgt spid="5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0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2" dur="500"/>
                                        <p:tgtEl>
                                          <p:spTgt spid="5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76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78" dur="500"/>
                                        <p:tgtEl>
                                          <p:spTgt spid="5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81" dur="500"/>
                                        <p:tgtEl>
                                          <p:spTgt spid="5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5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8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0" dur="500"/>
                                        <p:tgtEl>
                                          <p:spTgt spid="5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94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96" dur="500"/>
                                        <p:tgtEl>
                                          <p:spTgt spid="5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0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2" dur="500"/>
                                        <p:tgtEl>
                                          <p:spTgt spid="5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6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8" dur="500"/>
                                        <p:tgtEl>
                                          <p:spTgt spid="5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2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14" dur="500"/>
                                        <p:tgtEl>
                                          <p:spTgt spid="5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18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0" dur="500"/>
                                        <p:tgtEl>
                                          <p:spTgt spid="5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24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26" dur="500"/>
                                        <p:tgtEl>
                                          <p:spTgt spid="5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0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2" dur="500"/>
                                        <p:tgtEl>
                                          <p:spTgt spid="5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36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38" dur="500"/>
                                        <p:tgtEl>
                                          <p:spTgt spid="5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2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44" dur="500"/>
                                        <p:tgtEl>
                                          <p:spTgt spid="5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8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0" dur="500"/>
                                        <p:tgtEl>
                                          <p:spTgt spid="5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54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56" dur="500"/>
                                        <p:tgtEl>
                                          <p:spTgt spid="5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0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2" dur="500"/>
                                        <p:tgtEl>
                                          <p:spTgt spid="5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66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8" dur="500"/>
                                        <p:tgtEl>
                                          <p:spTgt spid="5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2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74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78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0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4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86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0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2" dur="500"/>
                                        <p:tgtEl>
                                          <p:spTgt spid="5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96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98" dur="500"/>
                                        <p:tgtEl>
                                          <p:spTgt spid="5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7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2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04" dur="500"/>
                                        <p:tgtEl>
                                          <p:spTgt spid="5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8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0" dur="500"/>
                                        <p:tgtEl>
                                          <p:spTgt spid="5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14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16" dur="500"/>
                                        <p:tgtEl>
                                          <p:spTgt spid="5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2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8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2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34" dur="500"/>
                                        <p:tgtEl>
                                          <p:spTgt spid="5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38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0" dur="500"/>
                                        <p:tgtEl>
                                          <p:spTgt spid="5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44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46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0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2" dur="500"/>
                                        <p:tgtEl>
                                          <p:spTgt spid="5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56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58" dur="500"/>
                                        <p:tgtEl>
                                          <p:spTgt spid="5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2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64" dur="500"/>
                                        <p:tgtEl>
                                          <p:spTgt spid="5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8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0" dur="500"/>
                                        <p:tgtEl>
                                          <p:spTgt spid="5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74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76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0" dur="500"/>
                                        <p:tgtEl>
                                          <p:spTgt spid="5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2" dur="500"/>
                                        <p:tgtEl>
                                          <p:spTgt spid="5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86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8" dur="500"/>
                                        <p:tgtEl>
                                          <p:spTgt spid="5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2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94" dur="500"/>
                                        <p:tgtEl>
                                          <p:spTgt spid="5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98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0" dur="500"/>
                                        <p:tgtEl>
                                          <p:spTgt spid="5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4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0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7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0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2" dur="500"/>
                                        <p:tgtEl>
                                          <p:spTgt spid="5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16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18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7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2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24" dur="500"/>
                                        <p:tgtEl>
                                          <p:spTgt spid="5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8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0" dur="500"/>
                                        <p:tgtEl>
                                          <p:spTgt spid="5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7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4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36" dur="500"/>
                                        <p:tgtEl>
                                          <p:spTgt spid="5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7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40" dur="500"/>
                                        <p:tgtEl>
                                          <p:spTgt spid="5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5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574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0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575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5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575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0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76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5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76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8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4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78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7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78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79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82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82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9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4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0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6001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6004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6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6007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6008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6009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1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2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6013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6014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6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7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6018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6019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1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2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6023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6024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26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7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9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1" dur="indefinite" restart="never" nodeType="tmRoot">
          <p:childTnLst>
            <p:seq>
              <p:cTn id="7742" dur="indefinite" nodeType="mainSeq">
                <p:childTnLst>
                  <p:par>
                    <p:cTn id="7743" fill="hold">
                      <p:stCondLst>
                        <p:cond delay="0"/>
                      </p:stCondLst>
                      <p:childTnLst>
                        <p:par>
                          <p:cTn id="7744" fill="hold">
                            <p:stCondLst>
                              <p:cond delay="0"/>
                            </p:stCondLst>
                            <p:childTnLst>
                              <p:par>
                                <p:cTn id="774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6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9" dur="500"/>
                                        <p:tgtEl>
                                          <p:spTgt spid="5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52" dur="500"/>
                                        <p:tgtEl>
                                          <p:spTgt spid="5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6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9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2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64" dur="500"/>
                                        <p:tgtEl>
                                          <p:spTgt spid="5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68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0" dur="500"/>
                                        <p:tgtEl>
                                          <p:spTgt spid="5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4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76" dur="500"/>
                                        <p:tgtEl>
                                          <p:spTgt spid="5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0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2" dur="500"/>
                                        <p:tgtEl>
                                          <p:spTgt spid="5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6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88" dur="500"/>
                                        <p:tgtEl>
                                          <p:spTgt spid="5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2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94" dur="500"/>
                                        <p:tgtEl>
                                          <p:spTgt spid="5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98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0" dur="500"/>
                                        <p:tgtEl>
                                          <p:spTgt spid="5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04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6" dur="500"/>
                                        <p:tgtEl>
                                          <p:spTgt spid="5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0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12" dur="500"/>
                                        <p:tgtEl>
                                          <p:spTgt spid="5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6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19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1" dur="500"/>
                                        <p:tgtEl>
                                          <p:spTgt spid="5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24" dur="500"/>
                                        <p:tgtEl>
                                          <p:spTgt spid="5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28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34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36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0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2" dur="500"/>
                                        <p:tgtEl>
                                          <p:spTgt spid="5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6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48" dur="500"/>
                                        <p:tgtEl>
                                          <p:spTgt spid="5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2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54" dur="500"/>
                                        <p:tgtEl>
                                          <p:spTgt spid="5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58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0" dur="500"/>
                                        <p:tgtEl>
                                          <p:spTgt spid="5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64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6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0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2" dur="500"/>
                                        <p:tgtEl>
                                          <p:spTgt spid="5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76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78" dur="500"/>
                                        <p:tgtEl>
                                          <p:spTgt spid="5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2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4" dur="500"/>
                                        <p:tgtEl>
                                          <p:spTgt spid="5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87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1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4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96" dur="500"/>
                                        <p:tgtEl>
                                          <p:spTgt spid="5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0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2" dur="500"/>
                                        <p:tgtEl>
                                          <p:spTgt spid="5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7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6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08" dur="500"/>
                                        <p:tgtEl>
                                          <p:spTgt spid="5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2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14" dur="500"/>
                                        <p:tgtEl>
                                          <p:spTgt spid="5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7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18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0" dur="500"/>
                                        <p:tgtEl>
                                          <p:spTgt spid="5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24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6" dur="500"/>
                                        <p:tgtEl>
                                          <p:spTgt spid="5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7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0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2" dur="500"/>
                                        <p:tgtEl>
                                          <p:spTgt spid="5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7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36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38" dur="500"/>
                                        <p:tgtEl>
                                          <p:spTgt spid="5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2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44" dur="500"/>
                                        <p:tgtEl>
                                          <p:spTgt spid="5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7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48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0" dur="500"/>
                                        <p:tgtEl>
                                          <p:spTgt spid="5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54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56" dur="500"/>
                                        <p:tgtEl>
                                          <p:spTgt spid="5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7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0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2" dur="500"/>
                                        <p:tgtEl>
                                          <p:spTgt spid="5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6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68" dur="500"/>
                                        <p:tgtEl>
                                          <p:spTgt spid="5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2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74" dur="500"/>
                                        <p:tgtEl>
                                          <p:spTgt spid="5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7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78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0" dur="500"/>
                                        <p:tgtEl>
                                          <p:spTgt spid="5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7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4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6" dur="500"/>
                                        <p:tgtEl>
                                          <p:spTgt spid="5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0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2" dur="500"/>
                                        <p:tgtEl>
                                          <p:spTgt spid="5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7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96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98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2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04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8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0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0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16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0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2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8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6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28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2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34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38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0" dur="500"/>
                                        <p:tgtEl>
                                          <p:spTgt spid="5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44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6" dur="500"/>
                                        <p:tgtEl>
                                          <p:spTgt spid="5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8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0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2" dur="500"/>
                                        <p:tgtEl>
                                          <p:spTgt spid="5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8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56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58" dur="500"/>
                                        <p:tgtEl>
                                          <p:spTgt spid="5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2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64" dur="500"/>
                                        <p:tgtEl>
                                          <p:spTgt spid="5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8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68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0" dur="500"/>
                                        <p:tgtEl>
                                          <p:spTgt spid="5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8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74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76" dur="500"/>
                                        <p:tgtEl>
                                          <p:spTgt spid="5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8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0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2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6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88" dur="500"/>
                                        <p:tgtEl>
                                          <p:spTgt spid="5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2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94" dur="500"/>
                                        <p:tgtEl>
                                          <p:spTgt spid="5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8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98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0" dur="500"/>
                                        <p:tgtEl>
                                          <p:spTgt spid="5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8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4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6" dur="500"/>
                                        <p:tgtEl>
                                          <p:spTgt spid="5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8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0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2" dur="500"/>
                                        <p:tgtEl>
                                          <p:spTgt spid="5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16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18" dur="500"/>
                                        <p:tgtEl>
                                          <p:spTgt spid="5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2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24" dur="500"/>
                                        <p:tgtEl>
                                          <p:spTgt spid="5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8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0" dur="500"/>
                                        <p:tgtEl>
                                          <p:spTgt spid="5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4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36" dur="500"/>
                                        <p:tgtEl>
                                          <p:spTgt spid="5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0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42" dur="500"/>
                                        <p:tgtEl>
                                          <p:spTgt spid="5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6" dur="500"/>
                                        <p:tgtEl>
                                          <p:spTgt spid="5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Назовите персонажей рассказа «Анна на шее».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При каких обстоятельствах Анна вышла замуж?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Чего она ожидала от замужества и что получила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С какой целью автор делит рассказ на две части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информацию дают вам портретные характеристики героев?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Кто из героев вызывает у вас сочувствие и почему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От чего зависит, изменится человек в лучшую сторону или нет?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20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20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21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23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23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3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4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7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7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1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37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3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4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44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45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45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45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45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46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47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5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ак называется брак между 52-летним мужчиной и 18-летней девушкой? Воспользуйтесь ресурсами сети интернет и найдите одноименную картину. Может ли она служить иллюстрацией к данному рассказу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Неравный брак»</a:t>
            </a:r>
            <a:br>
              <a:rPr sz="36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асилий Владимирович Пукирёв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1" name="" descr="Pukirev ner brak.jpg"/>
          <p:cNvPicPr/>
          <p:nvPr/>
        </p:nvPicPr>
        <p:blipFill>
          <a:blip r:embed="rId1"/>
          <a:stretch/>
        </p:blipFill>
        <p:spPr>
          <a:xfrm>
            <a:off x="2340000" y="1557360"/>
            <a:ext cx="45543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«А чтобы после не пришлось раскаиваться, нужно…» (Какие ошибки в поведении героини рассказа А.П. Чехова вам бы хотелось исправить?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313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Ю.Д. Левитанск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99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Женщину, религию, дорогу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ьяволу служить или пророку -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ово для любви и для молитв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пагу для дуэли, меч для битв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Щит и латы, посох и заплат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еру окончательной распла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по себ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бираю тоже, как умею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 к кому претензий не имею 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ый выбирает для себя.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45" name="" descr=""/>
          <p:cNvPicPr/>
          <p:nvPr/>
        </p:nvPicPr>
        <p:blipFill>
          <a:blip r:embed="rId1"/>
          <a:stretch/>
        </p:blipFill>
        <p:spPr>
          <a:xfrm>
            <a:off x="7740720" y="55180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7" dur="indefinite" restart="never" nodeType="tmRoot">
          <p:childTnLst>
            <p:seq>
              <p:cTn id="8148" restart="whenNotActive" nodeType="interactiveSeq" fill="hold">
                <p:stCondLst>
                  <p:cond evt="onClick">
                    <p:tgtEl>
                      <p:spTgt spid="6045"/>
                    </p:tgtEl>
                  </p:cond>
                </p:stCondLst>
                <p:childTnLst>
                  <p:par>
                    <p:cTn id="8149" fill="hold">
                      <p:stCondLst>
                        <p:cond evt="onClick">
                          <p:tgtEl>
                            <p:spTgt spid="6045"/>
                          </p:tgtEl>
                        </p:cond>
                      </p:stCondLst>
                      <p:childTnLst>
                        <p:par>
                          <p:cTn id="8150" fill="hold">
                            <p:stCondLst>
                              <p:cond delay="0"/>
                            </p:stCondLst>
                            <p:childTnLst>
                              <p:par>
                                <p:cTn id="8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2" dur="167824" fill="hold"/>
                                        <p:tgtEl>
                                          <p:spTgt spid="60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48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49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49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50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50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2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52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52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3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56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56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5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0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6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67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6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7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73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74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74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74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76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76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8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3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4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779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784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789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794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799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1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818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821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2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854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857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89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5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96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0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02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034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037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040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052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057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5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2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9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0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2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5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6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8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9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18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8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3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4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6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9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2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5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6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6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8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9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0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2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071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076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081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086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091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0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110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113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1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146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149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18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1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25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2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1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9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326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329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332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333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349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4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4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8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6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9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8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4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9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6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8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2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8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5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76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8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2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4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0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1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36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2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66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0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7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78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2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84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0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9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6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08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1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0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4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26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0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4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74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9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0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4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6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2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3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363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368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373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378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383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3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39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402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405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0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438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441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48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4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54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5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0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618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621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624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8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630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631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4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8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640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3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3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5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0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6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2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8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0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86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98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04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0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5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4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8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4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4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8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0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4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6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2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8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1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5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4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6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0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2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2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8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4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3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0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8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5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8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0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6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7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2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4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4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0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2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08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2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14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8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0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2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2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3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2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4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56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6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68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0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4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86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0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6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9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2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4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8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1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2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3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4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46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655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660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665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670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675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6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69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694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697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0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730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1733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77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7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3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83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8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0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1910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1913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1916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1917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0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1922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5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1927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1928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0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1932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1933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5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0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6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6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6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4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4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2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6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9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2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0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22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6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1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3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0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4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0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6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58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64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8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0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7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76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0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2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8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4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9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1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6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1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24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8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0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6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54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66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2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78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8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8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0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4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9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0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6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08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2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4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8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0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4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26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2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6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38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2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4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8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0" dur="5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4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56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0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68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2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4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8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4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86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0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9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2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8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0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16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28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2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34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8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0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6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0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52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6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dbdb"/>
              </a:gs>
              <a:gs pos="50000">
                <a:srgbClr val="ffffff"/>
              </a:gs>
              <a:gs pos="100000">
                <a:srgbClr val="dbdbd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gradFill rotWithShape="0">
            <a:gsLst>
              <a:gs pos="0">
                <a:srgbClr val="cacaca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3819600"/>
            <a:ext cx="9144000" cy="30384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2e2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3819600"/>
            <a:ext cx="9144000" cy="712800"/>
          </a:xfrm>
          <a:prstGeom prst="rect">
            <a:avLst/>
          </a:prstGeom>
          <a:gradFill rotWithShape="0">
            <a:gsLst>
              <a:gs pos="0">
                <a:srgbClr val="5f5f5f">
                  <a:alpha val="91372"/>
                </a:srgbClr>
              </a:gs>
              <a:gs pos="100000">
                <a:srgbClr val="2b2b2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06520" y="1595520"/>
            <a:ext cx="8132760" cy="533160"/>
          </a:xfrm>
          <a:custGeom>
            <a:avLst/>
            <a:gdLst/>
            <a:ahLst/>
            <a:rect l="l" t="t" r="r" b="b"/>
            <a:pathLst>
              <a:path w="5772" h="636">
                <a:moveTo>
                  <a:pt x="5365" y="62"/>
                </a:moveTo>
                <a:cubicBezTo>
                  <a:pt x="5365" y="62"/>
                  <a:pt x="5365" y="62"/>
                  <a:pt x="5365" y="62"/>
                </a:cubicBezTo>
                <a:cubicBezTo>
                  <a:pt x="5363" y="59"/>
                  <a:pt x="5361" y="56"/>
                  <a:pt x="5359" y="53"/>
                </a:cubicBezTo>
                <a:cubicBezTo>
                  <a:pt x="5359" y="53"/>
                  <a:pt x="5359" y="53"/>
                  <a:pt x="5359" y="53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8" y="52"/>
                  <a:pt x="5358" y="52"/>
                  <a:pt x="5358" y="52"/>
                </a:cubicBezTo>
                <a:cubicBezTo>
                  <a:pt x="5357" y="50"/>
                  <a:pt x="5355" y="49"/>
                  <a:pt x="5354" y="47"/>
                </a:cubicBezTo>
                <a:cubicBezTo>
                  <a:pt x="5354" y="47"/>
                  <a:pt x="5354" y="47"/>
                  <a:pt x="5354" y="46"/>
                </a:cubicBezTo>
                <a:cubicBezTo>
                  <a:pt x="5345" y="37"/>
                  <a:pt x="5336" y="29"/>
                  <a:pt x="5325" y="22"/>
                </a:cubicBezTo>
                <a:cubicBezTo>
                  <a:pt x="5325" y="22"/>
                  <a:pt x="5325" y="21"/>
                  <a:pt x="5324" y="21"/>
                </a:cubicBezTo>
                <a:cubicBezTo>
                  <a:pt x="5323" y="20"/>
                  <a:pt x="5321" y="19"/>
                  <a:pt x="5319" y="18"/>
                </a:cubicBezTo>
                <a:cubicBezTo>
                  <a:pt x="5319" y="18"/>
                  <a:pt x="5318" y="18"/>
                  <a:pt x="5318" y="17"/>
                </a:cubicBezTo>
                <a:cubicBezTo>
                  <a:pt x="5316" y="16"/>
                  <a:pt x="5314" y="15"/>
                  <a:pt x="5313" y="14"/>
                </a:cubicBezTo>
                <a:cubicBezTo>
                  <a:pt x="5312" y="14"/>
                  <a:pt x="5312" y="14"/>
                  <a:pt x="5311" y="14"/>
                </a:cubicBezTo>
                <a:cubicBezTo>
                  <a:pt x="5309" y="13"/>
                  <a:pt x="5307" y="12"/>
                  <a:pt x="5305" y="11"/>
                </a:cubicBezTo>
                <a:cubicBezTo>
                  <a:pt x="5305" y="11"/>
                  <a:pt x="5305" y="11"/>
                  <a:pt x="5305" y="11"/>
                </a:cubicBezTo>
                <a:cubicBezTo>
                  <a:pt x="5300" y="9"/>
                  <a:pt x="5295" y="7"/>
                  <a:pt x="5291" y="6"/>
                </a:cubicBezTo>
                <a:cubicBezTo>
                  <a:pt x="5290" y="5"/>
                  <a:pt x="5289" y="5"/>
                  <a:pt x="5289" y="5"/>
                </a:cubicBezTo>
                <a:cubicBezTo>
                  <a:pt x="5287" y="5"/>
                  <a:pt x="5285" y="4"/>
                  <a:pt x="5283" y="4"/>
                </a:cubicBezTo>
                <a:cubicBezTo>
                  <a:pt x="5283" y="3"/>
                  <a:pt x="5282" y="3"/>
                  <a:pt x="5281" y="3"/>
                </a:cubicBezTo>
                <a:cubicBezTo>
                  <a:pt x="5279" y="3"/>
                  <a:pt x="5278" y="2"/>
                  <a:pt x="5276" y="2"/>
                </a:cubicBezTo>
                <a:cubicBezTo>
                  <a:pt x="5275" y="2"/>
                  <a:pt x="5274" y="2"/>
                  <a:pt x="5274" y="2"/>
                </a:cubicBezTo>
                <a:cubicBezTo>
                  <a:pt x="5272" y="1"/>
                  <a:pt x="5270" y="1"/>
                  <a:pt x="5269" y="1"/>
                </a:cubicBezTo>
                <a:cubicBezTo>
                  <a:pt x="5268" y="1"/>
                  <a:pt x="5267" y="1"/>
                  <a:pt x="5266" y="0"/>
                </a:cubicBezTo>
                <a:cubicBezTo>
                  <a:pt x="5264" y="0"/>
                  <a:pt x="5263" y="0"/>
                  <a:pt x="5261" y="0"/>
                </a:cubicBezTo>
                <a:cubicBezTo>
                  <a:pt x="5260" y="0"/>
                  <a:pt x="5259" y="0"/>
                  <a:pt x="5259" y="0"/>
                </a:cubicBezTo>
                <a:cubicBezTo>
                  <a:pt x="5256" y="0"/>
                  <a:pt x="5253" y="0"/>
                  <a:pt x="525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21" y="0"/>
                  <a:pt x="521" y="0"/>
                  <a:pt x="521" y="0"/>
                </a:cubicBezTo>
                <a:cubicBezTo>
                  <a:pt x="519" y="0"/>
                  <a:pt x="516" y="0"/>
                  <a:pt x="514" y="0"/>
                </a:cubicBezTo>
                <a:cubicBezTo>
                  <a:pt x="513" y="0"/>
                  <a:pt x="512" y="0"/>
                  <a:pt x="511" y="0"/>
                </a:cubicBezTo>
                <a:cubicBezTo>
                  <a:pt x="510" y="0"/>
                  <a:pt x="508" y="0"/>
                  <a:pt x="506" y="0"/>
                </a:cubicBezTo>
                <a:cubicBezTo>
                  <a:pt x="505" y="1"/>
                  <a:pt x="504" y="1"/>
                  <a:pt x="503" y="1"/>
                </a:cubicBezTo>
                <a:cubicBezTo>
                  <a:pt x="502" y="1"/>
                  <a:pt x="500" y="1"/>
                  <a:pt x="499" y="2"/>
                </a:cubicBezTo>
                <a:cubicBezTo>
                  <a:pt x="498" y="2"/>
                  <a:pt x="497" y="2"/>
                  <a:pt x="496" y="2"/>
                </a:cubicBezTo>
                <a:cubicBezTo>
                  <a:pt x="494" y="2"/>
                  <a:pt x="493" y="3"/>
                  <a:pt x="491" y="3"/>
                </a:cubicBezTo>
                <a:cubicBezTo>
                  <a:pt x="491" y="3"/>
                  <a:pt x="490" y="3"/>
                  <a:pt x="489" y="4"/>
                </a:cubicBezTo>
                <a:cubicBezTo>
                  <a:pt x="487" y="4"/>
                  <a:pt x="485" y="4"/>
                  <a:pt x="484" y="5"/>
                </a:cubicBezTo>
                <a:cubicBezTo>
                  <a:pt x="483" y="5"/>
                  <a:pt x="482" y="5"/>
                  <a:pt x="482" y="6"/>
                </a:cubicBezTo>
                <a:cubicBezTo>
                  <a:pt x="477" y="7"/>
                  <a:pt x="472" y="9"/>
                  <a:pt x="468" y="11"/>
                </a:cubicBezTo>
                <a:cubicBezTo>
                  <a:pt x="467" y="11"/>
                  <a:pt x="467" y="11"/>
                  <a:pt x="467" y="11"/>
                </a:cubicBezTo>
                <a:cubicBezTo>
                  <a:pt x="465" y="12"/>
                  <a:pt x="463" y="13"/>
                  <a:pt x="461" y="14"/>
                </a:cubicBezTo>
                <a:cubicBezTo>
                  <a:pt x="461" y="14"/>
                  <a:pt x="460" y="14"/>
                  <a:pt x="460" y="14"/>
                </a:cubicBezTo>
                <a:cubicBezTo>
                  <a:pt x="458" y="15"/>
                  <a:pt x="456" y="16"/>
                  <a:pt x="455" y="17"/>
                </a:cubicBezTo>
                <a:cubicBezTo>
                  <a:pt x="454" y="18"/>
                  <a:pt x="454" y="18"/>
                  <a:pt x="453" y="18"/>
                </a:cubicBezTo>
                <a:cubicBezTo>
                  <a:pt x="451" y="19"/>
                  <a:pt x="450" y="20"/>
                  <a:pt x="448" y="21"/>
                </a:cubicBezTo>
                <a:cubicBezTo>
                  <a:pt x="448" y="21"/>
                  <a:pt x="447" y="22"/>
                  <a:pt x="447" y="22"/>
                </a:cubicBezTo>
                <a:cubicBezTo>
                  <a:pt x="445" y="23"/>
                  <a:pt x="443" y="24"/>
                  <a:pt x="441" y="26"/>
                </a:cubicBezTo>
                <a:cubicBezTo>
                  <a:pt x="441" y="26"/>
                  <a:pt x="441" y="26"/>
                  <a:pt x="441" y="26"/>
                </a:cubicBezTo>
                <a:cubicBezTo>
                  <a:pt x="435" y="30"/>
                  <a:pt x="429" y="35"/>
                  <a:pt x="424" y="41"/>
                </a:cubicBezTo>
                <a:cubicBezTo>
                  <a:pt x="424" y="41"/>
                  <a:pt x="424" y="41"/>
                  <a:pt x="424" y="41"/>
                </a:cubicBezTo>
                <a:cubicBezTo>
                  <a:pt x="422" y="43"/>
                  <a:pt x="420" y="45"/>
                  <a:pt x="419" y="46"/>
                </a:cubicBezTo>
                <a:cubicBezTo>
                  <a:pt x="419" y="47"/>
                  <a:pt x="419" y="47"/>
                  <a:pt x="419" y="47"/>
                </a:cubicBezTo>
                <a:cubicBezTo>
                  <a:pt x="417" y="49"/>
                  <a:pt x="415" y="50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2"/>
                  <a:pt x="414" y="52"/>
                  <a:pt x="414" y="52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11" y="56"/>
                  <a:pt x="409" y="59"/>
                  <a:pt x="407" y="62"/>
                </a:cubicBezTo>
                <a:cubicBezTo>
                  <a:pt x="407" y="62"/>
                  <a:pt x="407" y="62"/>
                  <a:pt x="407" y="62"/>
                </a:cubicBezTo>
                <a:cubicBezTo>
                  <a:pt x="0" y="636"/>
                  <a:pt x="0" y="636"/>
                  <a:pt x="0" y="636"/>
                </a:cubicBezTo>
                <a:cubicBezTo>
                  <a:pt x="29" y="603"/>
                  <a:pt x="72" y="582"/>
                  <a:pt x="120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385" y="582"/>
                  <a:pt x="385" y="582"/>
                  <a:pt x="385" y="582"/>
                </a:cubicBezTo>
                <a:cubicBezTo>
                  <a:pt x="5387" y="582"/>
                  <a:pt x="5387" y="582"/>
                  <a:pt x="5387" y="582"/>
                </a:cubicBezTo>
                <a:cubicBezTo>
                  <a:pt x="5653" y="582"/>
                  <a:pt x="5653" y="582"/>
                  <a:pt x="5653" y="582"/>
                </a:cubicBezTo>
                <a:cubicBezTo>
                  <a:pt x="5700" y="582"/>
                  <a:pt x="5743" y="603"/>
                  <a:pt x="5772" y="636"/>
                </a:cubicBezTo>
                <a:lnTo>
                  <a:pt x="5365" y="62"/>
                </a:lnTo>
                <a:close/>
              </a:path>
            </a:pathLst>
          </a:custGeom>
          <a:solidFill>
            <a:srgbClr val="5151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0" y="3427920"/>
            <a:ext cx="9144000" cy="398520"/>
          </a:xfrm>
          <a:prstGeom prst="rect">
            <a:avLst/>
          </a:prstGeom>
          <a:gradFill rotWithShape="0">
            <a:gsLst>
              <a:gs pos="0">
                <a:srgbClr val="c0c0c0">
                  <a:alpha val="91372"/>
                </a:srgbClr>
              </a:gs>
              <a:gs pos="100000">
                <a:srgbClr val="58585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447840" y="2050920"/>
            <a:ext cx="8248320" cy="3205440"/>
          </a:xfrm>
          <a:prstGeom prst="roundRect">
            <a:avLst>
              <a:gd name="adj" fmla="val 7014"/>
            </a:avLst>
          </a:pr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703440" y="2762280"/>
            <a:ext cx="1168200" cy="1913040"/>
            <a:chOff x="703440" y="2762280"/>
            <a:chExt cx="1168200" cy="1913040"/>
          </a:xfrm>
        </p:grpSpPr>
        <p:sp>
          <p:nvSpPr>
            <p:cNvPr id="1947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0344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0344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0344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1943280" y="2765520"/>
            <a:ext cx="1168200" cy="1912680"/>
            <a:chOff x="1943280" y="2765520"/>
            <a:chExt cx="1168200" cy="1912680"/>
          </a:xfrm>
        </p:grpSpPr>
        <p:sp>
          <p:nvSpPr>
            <p:cNvPr id="1952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3280" y="276552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43280" y="444996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43280" y="2765520"/>
              <a:ext cx="1168200" cy="191268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61">
                  <a:moveTo>
                    <a:pt x="0" y="0"/>
                  </a:moveTo>
                  <a:arcTo wR="0" hR="0" stAng="16200000" swAng="-5400000"/>
                  <a:lnTo>
                    <a:pt x="0" y="35361"/>
                  </a:lnTo>
                  <a:arcTo wR="0" hR="0" stAng="10800000" swAng="-5400000"/>
                  <a:lnTo>
                    <a:pt x="21600" y="3536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3368520" y="2762280"/>
            <a:ext cx="1168560" cy="1913040"/>
            <a:chOff x="3368520" y="2762280"/>
            <a:chExt cx="1168560" cy="1913040"/>
          </a:xfrm>
        </p:grpSpPr>
        <p:sp>
          <p:nvSpPr>
            <p:cNvPr id="1957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68520" y="276228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368520" y="444708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68520" y="2762280"/>
              <a:ext cx="1168560" cy="191304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3040"/>
                <a:gd name="textAreaBottom" fmla="*/ 1913400 h 1913040"/>
              </a:gdLst>
              <a:ahLst/>
              <a:rect l="textAreaLeft" t="textAreaTop" r="textAreaRight" b="textAreaBottom"/>
              <a:pathLst>
                <a:path w="21600" h="35357">
                  <a:moveTo>
                    <a:pt x="0" y="0"/>
                  </a:moveTo>
                  <a:arcTo wR="0" hR="0" stAng="16200000" swAng="-5400000"/>
                  <a:lnTo>
                    <a:pt x="0" y="35357"/>
                  </a:lnTo>
                  <a:arcTo wR="0" hR="0" stAng="10800000" swAng="-5400000"/>
                  <a:lnTo>
                    <a:pt x="21600" y="3535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4606920" y="2765520"/>
            <a:ext cx="1168560" cy="1912680"/>
            <a:chOff x="4606920" y="2765520"/>
            <a:chExt cx="1168560" cy="1912680"/>
          </a:xfrm>
        </p:grpSpPr>
        <p:sp>
          <p:nvSpPr>
            <p:cNvPr id="1962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606920" y="2765520"/>
              <a:ext cx="116856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606920" y="4449960"/>
              <a:ext cx="116856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606920" y="2765520"/>
              <a:ext cx="1168560" cy="191268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1912680"/>
                <a:gd name="textAreaBottom" fmla="*/ 1913040 h 1912680"/>
              </a:gdLst>
              <a:ahLst/>
              <a:rect l="textAreaLeft" t="textAreaTop" r="textAreaRight" b="textAreaBottom"/>
              <a:pathLst>
                <a:path w="21600" h="35350">
                  <a:moveTo>
                    <a:pt x="0" y="0"/>
                  </a:moveTo>
                  <a:arcTo wR="0" hR="0" stAng="16200000" swAng="-5400000"/>
                  <a:lnTo>
                    <a:pt x="0" y="35350"/>
                  </a:lnTo>
                  <a:arcTo wR="0" hR="0" stAng="10800000" swAng="-5400000"/>
                  <a:lnTo>
                    <a:pt x="21600" y="3535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6031080" y="2762280"/>
            <a:ext cx="1168200" cy="1913040"/>
            <a:chOff x="6031080" y="2762280"/>
            <a:chExt cx="1168200" cy="1913040"/>
          </a:xfrm>
        </p:grpSpPr>
        <p:sp>
          <p:nvSpPr>
            <p:cNvPr id="1967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50000">
                  <a:srgbClr val="ffffff"/>
                </a:gs>
                <a:gs pos="100000">
                  <a:srgbClr val="da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031080" y="2762280"/>
              <a:ext cx="1168200" cy="2275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44313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31080" y="4447080"/>
              <a:ext cx="1168200" cy="2278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031080" y="2762280"/>
              <a:ext cx="1168200" cy="1913040"/>
            </a:xfrm>
            <a:custGeom>
              <a:avLst/>
              <a:gdLst>
                <a:gd name="textAreaLeft" fmla="*/ 0 w 1168200"/>
                <a:gd name="textAreaRight" fmla="*/ 1168560 w 1168200"/>
                <a:gd name="textAreaTop" fmla="*/ 0 h 1913040"/>
                <a:gd name="textAreaBottom" fmla="*/ 1913040 h 1913040"/>
              </a:gdLst>
              <a:ahLst/>
              <a:rect l="textAreaLeft" t="textAreaTop" r="textAreaRight" b="textAreaBottom"/>
              <a:pathLst>
                <a:path w="21600" h="35368">
                  <a:moveTo>
                    <a:pt x="0" y="0"/>
                  </a:moveTo>
                  <a:arcTo wR="0" hR="0" stAng="16200000" swAng="-5400000"/>
                  <a:lnTo>
                    <a:pt x="0" y="35368"/>
                  </a:lnTo>
                  <a:arcTo wR="0" hR="0" stAng="10800000" swAng="-5400000"/>
                  <a:lnTo>
                    <a:pt x="21600" y="35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70920" y="276552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44313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70920" y="4449600"/>
            <a:ext cx="1168200" cy="228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70920" y="2765520"/>
            <a:ext cx="1168200" cy="19126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1912680"/>
              <a:gd name="textAreaBottom" fmla="*/ 1913040 h 1912680"/>
            </a:gdLst>
            <a:ahLst/>
            <a:rect l="textAreaLeft" t="textAreaTop" r="textAreaRight" b="textAreaBottom"/>
            <a:pathLst>
              <a:path w="21600" h="35361">
                <a:moveTo>
                  <a:pt x="0" y="0"/>
                </a:moveTo>
                <a:arcTo wR="0" hR="0" stAng="16200000" swAng="-5400000"/>
                <a:lnTo>
                  <a:pt x="0" y="35361"/>
                </a:lnTo>
                <a:arcTo wR="0" hR="0" stAng="10800000" swAng="-5400000"/>
                <a:lnTo>
                  <a:pt x="21600" y="353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47840" y="5266080"/>
            <a:ext cx="8248320" cy="1078200"/>
          </a:xfrm>
          <a:prstGeom prst="roundRect">
            <a:avLst>
              <a:gd name="adj" fmla="val 22824"/>
            </a:avLst>
          </a:prstGeom>
          <a:gradFill rotWithShape="0">
            <a:gsLst>
              <a:gs pos="0">
                <a:srgbClr val="428d8d">
                  <a:alpha val="0"/>
                </a:srgbClr>
              </a:gs>
              <a:gs pos="100000">
                <a:srgbClr val="006666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198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943280" y="2982960"/>
            <a:ext cx="1168200" cy="1473120"/>
            <a:chOff x="1943280" y="2982960"/>
            <a:chExt cx="1168200" cy="1473120"/>
          </a:xfrm>
        </p:grpSpPr>
        <p:sp>
          <p:nvSpPr>
            <p:cNvPr id="1986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94328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8" name=""/>
          <p:cNvGrpSpPr/>
          <p:nvPr/>
        </p:nvGrpSpPr>
        <p:grpSpPr>
          <a:xfrm>
            <a:off x="703440" y="2982960"/>
            <a:ext cx="1168200" cy="1473120"/>
            <a:chOff x="703440" y="2982960"/>
            <a:chExt cx="1168200" cy="1473120"/>
          </a:xfrm>
        </p:grpSpPr>
        <p:sp>
          <p:nvSpPr>
            <p:cNvPr id="1989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03440" y="2982960"/>
              <a:ext cx="11682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199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19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19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4606920" y="2984400"/>
            <a:ext cx="1168200" cy="1473480"/>
            <a:chOff x="4606920" y="2984400"/>
            <a:chExt cx="1168200" cy="1473480"/>
          </a:xfrm>
        </p:grpSpPr>
        <p:sp>
          <p:nvSpPr>
            <p:cNvPr id="2022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606920" y="298440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368520" y="2981160"/>
            <a:ext cx="1168200" cy="1473480"/>
            <a:chOff x="3368520" y="2981160"/>
            <a:chExt cx="1168200" cy="1473480"/>
          </a:xfrm>
        </p:grpSpPr>
        <p:sp>
          <p:nvSpPr>
            <p:cNvPr id="2025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3685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2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3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06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09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0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1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2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27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30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3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4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5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9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8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6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7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6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7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4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87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70920" y="2981160"/>
            <a:ext cx="1168200" cy="1473480"/>
            <a:chOff x="7270920" y="2981160"/>
            <a:chExt cx="1168200" cy="1473480"/>
          </a:xfrm>
        </p:grpSpPr>
        <p:sp>
          <p:nvSpPr>
            <p:cNvPr id="2190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27092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6031080" y="2981160"/>
            <a:ext cx="1168200" cy="1473480"/>
            <a:chOff x="6031080" y="2981160"/>
            <a:chExt cx="1168200" cy="1473480"/>
          </a:xfrm>
        </p:grpSpPr>
        <p:sp>
          <p:nvSpPr>
            <p:cNvPr id="2193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31080" y="2981160"/>
              <a:ext cx="116820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0" spc="-1" strike="noStrike">
                  <a:solidFill>
                    <a:srgbClr val="000000"/>
                  </a:solidFill>
                  <a:latin typeface="Arial Narrow"/>
                </a:rPr>
                <a:t>0</a:t>
              </a:r>
              <a:endParaRPr b="0" lang="en-US" sz="1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5" name=""/>
          <p:cNvSpPr/>
          <p:nvPr/>
        </p:nvSpPr>
        <p:spPr>
          <a:xfrm>
            <a:off x="447840" y="2050920"/>
            <a:ext cx="8248320" cy="3205440"/>
          </a:xfrm>
          <a:custGeom>
            <a:avLst/>
            <a:gdLst/>
            <a:ahLst/>
            <a:rect l="l" t="t" r="r" b="b"/>
            <a:pathLst>
              <a:path w="5920" h="2300">
                <a:moveTo>
                  <a:pt x="5758" y="0"/>
                </a:moveTo>
                <a:cubicBezTo>
                  <a:pt x="161" y="0"/>
                  <a:pt x="161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138"/>
                  <a:pt x="0" y="2138"/>
                  <a:pt x="0" y="2138"/>
                </a:cubicBezTo>
                <a:cubicBezTo>
                  <a:pt x="0" y="2227"/>
                  <a:pt x="72" y="2300"/>
                  <a:pt x="161" y="2300"/>
                </a:cubicBezTo>
                <a:cubicBezTo>
                  <a:pt x="5758" y="2300"/>
                  <a:pt x="5758" y="2300"/>
                  <a:pt x="5758" y="2300"/>
                </a:cubicBezTo>
                <a:cubicBezTo>
                  <a:pt x="5847" y="2300"/>
                  <a:pt x="5920" y="2227"/>
                  <a:pt x="5920" y="2138"/>
                </a:cubicBezTo>
                <a:cubicBezTo>
                  <a:pt x="5920" y="161"/>
                  <a:pt x="5920" y="161"/>
                  <a:pt x="5920" y="161"/>
                </a:cubicBezTo>
                <a:cubicBezTo>
                  <a:pt x="5920" y="72"/>
                  <a:pt x="5847" y="0"/>
                  <a:pt x="5758" y="0"/>
                </a:cubicBezTo>
                <a:close/>
                <a:moveTo>
                  <a:pt x="1022" y="1883"/>
                </a:moveTo>
                <a:cubicBezTo>
                  <a:pt x="184" y="1883"/>
                  <a:pt x="184" y="1883"/>
                  <a:pt x="184" y="1883"/>
                </a:cubicBezTo>
                <a:cubicBezTo>
                  <a:pt x="184" y="510"/>
                  <a:pt x="184" y="510"/>
                  <a:pt x="184" y="510"/>
                </a:cubicBezTo>
                <a:cubicBezTo>
                  <a:pt x="1022" y="510"/>
                  <a:pt x="1022" y="510"/>
                  <a:pt x="1022" y="510"/>
                </a:cubicBezTo>
                <a:lnTo>
                  <a:pt x="1022" y="1883"/>
                </a:lnTo>
                <a:close/>
                <a:moveTo>
                  <a:pt x="1912" y="1885"/>
                </a:moveTo>
                <a:cubicBezTo>
                  <a:pt x="1073" y="1885"/>
                  <a:pt x="1073" y="1885"/>
                  <a:pt x="1073" y="1885"/>
                </a:cubicBezTo>
                <a:cubicBezTo>
                  <a:pt x="1073" y="513"/>
                  <a:pt x="1073" y="513"/>
                  <a:pt x="1073" y="513"/>
                </a:cubicBezTo>
                <a:cubicBezTo>
                  <a:pt x="1912" y="513"/>
                  <a:pt x="1912" y="513"/>
                  <a:pt x="1912" y="513"/>
                </a:cubicBezTo>
                <a:lnTo>
                  <a:pt x="1912" y="1885"/>
                </a:lnTo>
                <a:close/>
                <a:moveTo>
                  <a:pt x="2935" y="1883"/>
                </a:moveTo>
                <a:cubicBezTo>
                  <a:pt x="2097" y="1883"/>
                  <a:pt x="2097" y="1883"/>
                  <a:pt x="2097" y="1883"/>
                </a:cubicBezTo>
                <a:cubicBezTo>
                  <a:pt x="2097" y="510"/>
                  <a:pt x="2097" y="510"/>
                  <a:pt x="2097" y="510"/>
                </a:cubicBezTo>
                <a:cubicBezTo>
                  <a:pt x="2935" y="510"/>
                  <a:pt x="2935" y="510"/>
                  <a:pt x="2935" y="510"/>
                </a:cubicBezTo>
                <a:lnTo>
                  <a:pt x="2935" y="1883"/>
                </a:lnTo>
                <a:close/>
                <a:moveTo>
                  <a:pt x="3824" y="1885"/>
                </a:moveTo>
                <a:cubicBezTo>
                  <a:pt x="2985" y="1885"/>
                  <a:pt x="2985" y="1885"/>
                  <a:pt x="2985" y="1885"/>
                </a:cubicBezTo>
                <a:cubicBezTo>
                  <a:pt x="2985" y="513"/>
                  <a:pt x="2985" y="513"/>
                  <a:pt x="2985" y="513"/>
                </a:cubicBezTo>
                <a:cubicBezTo>
                  <a:pt x="3824" y="513"/>
                  <a:pt x="3824" y="513"/>
                  <a:pt x="3824" y="513"/>
                </a:cubicBezTo>
                <a:lnTo>
                  <a:pt x="3824" y="1885"/>
                </a:lnTo>
                <a:close/>
                <a:moveTo>
                  <a:pt x="4846" y="1883"/>
                </a:moveTo>
                <a:cubicBezTo>
                  <a:pt x="4007" y="1883"/>
                  <a:pt x="4007" y="1883"/>
                  <a:pt x="4007" y="1883"/>
                </a:cubicBezTo>
                <a:cubicBezTo>
                  <a:pt x="4007" y="510"/>
                  <a:pt x="4007" y="510"/>
                  <a:pt x="4007" y="510"/>
                </a:cubicBezTo>
                <a:cubicBezTo>
                  <a:pt x="4846" y="510"/>
                  <a:pt x="4846" y="510"/>
                  <a:pt x="4846" y="510"/>
                </a:cubicBezTo>
                <a:lnTo>
                  <a:pt x="4846" y="1883"/>
                </a:lnTo>
                <a:close/>
                <a:moveTo>
                  <a:pt x="5735" y="1885"/>
                </a:moveTo>
                <a:cubicBezTo>
                  <a:pt x="4897" y="1885"/>
                  <a:pt x="4897" y="1885"/>
                  <a:pt x="4897" y="1885"/>
                </a:cubicBezTo>
                <a:cubicBezTo>
                  <a:pt x="4897" y="513"/>
                  <a:pt x="4897" y="513"/>
                  <a:pt x="4897" y="513"/>
                </a:cubicBezTo>
                <a:cubicBezTo>
                  <a:pt x="5735" y="513"/>
                  <a:pt x="5735" y="513"/>
                  <a:pt x="5735" y="513"/>
                </a:cubicBezTo>
                <a:lnTo>
                  <a:pt x="5735" y="1885"/>
                </a:lnTo>
                <a:close/>
              </a:path>
            </a:pathLst>
          </a:custGeom>
          <a:gradFill rotWithShape="0">
            <a:gsLst>
              <a:gs pos="0">
                <a:srgbClr val="006666"/>
              </a:gs>
              <a:gs pos="100000">
                <a:srgbClr val="428d8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15884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824280" y="473292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486480" y="47329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rot="16200000">
            <a:off x="-913320" y="3472560"/>
            <a:ext cx="315144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73040" y="2085840"/>
            <a:ext cx="8197920" cy="37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162240" y="3373560"/>
            <a:ext cx="120240" cy="693360"/>
            <a:chOff x="3162240" y="3373560"/>
            <a:chExt cx="120240" cy="693360"/>
          </a:xfrm>
        </p:grpSpPr>
        <p:sp>
          <p:nvSpPr>
            <p:cNvPr id="2202" name=""/>
            <p:cNvSpPr/>
            <p:nvPr/>
          </p:nvSpPr>
          <p:spPr>
            <a:xfrm>
              <a:off x="316512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6224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5843520" y="3373560"/>
            <a:ext cx="120240" cy="693360"/>
            <a:chOff x="5843520" y="3373560"/>
            <a:chExt cx="120240" cy="693360"/>
          </a:xfrm>
        </p:grpSpPr>
        <p:sp>
          <p:nvSpPr>
            <p:cNvPr id="2205" name=""/>
            <p:cNvSpPr/>
            <p:nvPr/>
          </p:nvSpPr>
          <p:spPr>
            <a:xfrm>
              <a:off x="5846400" y="3948840"/>
              <a:ext cx="117360" cy="11808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843520" y="3373560"/>
              <a:ext cx="117360" cy="118440"/>
            </a:xfrm>
            <a:prstGeom prst="rect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706320" y="2768760"/>
            <a:ext cx="7731000" cy="1904760"/>
            <a:chOff x="706320" y="2768760"/>
            <a:chExt cx="7731000" cy="1904760"/>
          </a:xfrm>
        </p:grpSpPr>
        <p:grpSp>
          <p:nvGrpSpPr>
            <p:cNvPr id="2208" name=""/>
            <p:cNvGrpSpPr/>
            <p:nvPr/>
          </p:nvGrpSpPr>
          <p:grpSpPr>
            <a:xfrm>
              <a:off x="706320" y="2768760"/>
              <a:ext cx="1164960" cy="1904400"/>
              <a:chOff x="706320" y="2768760"/>
              <a:chExt cx="1164960" cy="1904400"/>
            </a:xfrm>
          </p:grpSpPr>
          <p:grpSp>
            <p:nvGrpSpPr>
              <p:cNvPr id="2209" name=""/>
              <p:cNvGrpSpPr/>
              <p:nvPr/>
            </p:nvGrpSpPr>
            <p:grpSpPr>
              <a:xfrm>
                <a:off x="715680" y="2778480"/>
                <a:ext cx="1145880" cy="1884960"/>
                <a:chOff x="715680" y="2778480"/>
                <a:chExt cx="1145880" cy="1884960"/>
              </a:xfrm>
            </p:grpSpPr>
            <p:sp>
              <p:nvSpPr>
                <p:cNvPr id="2210" name=""/>
                <p:cNvSpPr/>
                <p:nvPr/>
              </p:nvSpPr>
              <p:spPr>
                <a:xfrm>
                  <a:off x="7156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221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2" name=""/>
              <p:cNvSpPr/>
              <p:nvPr/>
            </p:nvSpPr>
            <p:spPr>
              <a:xfrm>
                <a:off x="7063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3" name=""/>
            <p:cNvGrpSpPr/>
            <p:nvPr/>
          </p:nvGrpSpPr>
          <p:grpSpPr>
            <a:xfrm>
              <a:off x="1944720" y="2768760"/>
              <a:ext cx="1164960" cy="1904400"/>
              <a:chOff x="1944720" y="2768760"/>
              <a:chExt cx="1164960" cy="1904400"/>
            </a:xfrm>
          </p:grpSpPr>
          <p:grpSp>
            <p:nvGrpSpPr>
              <p:cNvPr id="2214" name=""/>
              <p:cNvGrpSpPr/>
              <p:nvPr/>
            </p:nvGrpSpPr>
            <p:grpSpPr>
              <a:xfrm>
                <a:off x="1954080" y="2778480"/>
                <a:ext cx="1145880" cy="1884960"/>
                <a:chOff x="1954080" y="2778480"/>
                <a:chExt cx="1145880" cy="188496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195408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196056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7" name=""/>
              <p:cNvSpPr/>
              <p:nvPr/>
            </p:nvSpPr>
            <p:spPr>
              <a:xfrm>
                <a:off x="194472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8" name=""/>
            <p:cNvGrpSpPr/>
            <p:nvPr/>
          </p:nvGrpSpPr>
          <p:grpSpPr>
            <a:xfrm>
              <a:off x="7272360" y="2768760"/>
              <a:ext cx="1164960" cy="1904400"/>
              <a:chOff x="7272360" y="2768760"/>
              <a:chExt cx="1164960" cy="190440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7282080" y="2778480"/>
                <a:ext cx="1145880" cy="1884960"/>
                <a:chOff x="7282080" y="2778480"/>
                <a:chExt cx="1145880" cy="1884960"/>
              </a:xfrm>
            </p:grpSpPr>
            <p:sp>
              <p:nvSpPr>
                <p:cNvPr id="2220" name=""/>
                <p:cNvSpPr/>
                <p:nvPr/>
              </p:nvSpPr>
              <p:spPr>
                <a:xfrm flipH="1">
                  <a:off x="840204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7281720" y="4637880"/>
                  <a:ext cx="113940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 flipH="1">
                <a:off x="7272360" y="2768760"/>
                <a:ext cx="116496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6031440" y="2768760"/>
              <a:ext cx="1164600" cy="1904400"/>
              <a:chOff x="6031440" y="2768760"/>
              <a:chExt cx="1164600" cy="1904400"/>
            </a:xfrm>
          </p:grpSpPr>
          <p:grpSp>
            <p:nvGrpSpPr>
              <p:cNvPr id="2224" name=""/>
              <p:cNvGrpSpPr/>
              <p:nvPr/>
            </p:nvGrpSpPr>
            <p:grpSpPr>
              <a:xfrm>
                <a:off x="6041160" y="2778480"/>
                <a:ext cx="1145520" cy="1884960"/>
                <a:chOff x="6041160" y="2778480"/>
                <a:chExt cx="1145520" cy="1884960"/>
              </a:xfrm>
            </p:grpSpPr>
            <p:sp>
              <p:nvSpPr>
                <p:cNvPr id="2225" name=""/>
                <p:cNvSpPr/>
                <p:nvPr/>
              </p:nvSpPr>
              <p:spPr>
                <a:xfrm flipH="1">
                  <a:off x="7160760" y="2778480"/>
                  <a:ext cx="25560" cy="1878480"/>
                </a:xfrm>
                <a:custGeom>
                  <a:avLst/>
                  <a:gdLst/>
                  <a:ahLst/>
                  <a:rect l="l" t="t" r="r" b="b"/>
                  <a:pathLst>
                    <a:path w="16" h="1172">
                      <a:moveTo>
                        <a:pt x="0" y="0"/>
                      </a:moveTo>
                      <a:lnTo>
                        <a:pt x="0" y="1018"/>
                      </a:lnTo>
                      <a:lnTo>
                        <a:pt x="0" y="1172"/>
                      </a:lnTo>
                      <a:lnTo>
                        <a:pt x="16" y="1156"/>
                      </a:lnTo>
                      <a:lnTo>
                        <a:pt x="16" y="1018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23232"/>
                    </a:gs>
                    <a:gs pos="100000">
                      <a:srgbClr val="21212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6041160" y="4637880"/>
                  <a:ext cx="1139040" cy="25560"/>
                </a:xfrm>
                <a:custGeom>
                  <a:avLst/>
                  <a:gdLst/>
                  <a:ahLst/>
                  <a:rect l="l" t="t" r="r" b="b"/>
                  <a:pathLst>
                    <a:path w="358" h="8">
                      <a:moveTo>
                        <a:pt x="358" y="1"/>
                      </a:moveTo>
                      <a:cubicBezTo>
                        <a:pt x="24" y="1"/>
                        <a:pt x="24" y="1"/>
                        <a:pt x="24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24" y="8"/>
                        <a:pt x="24" y="8"/>
                        <a:pt x="24" y="8"/>
                      </a:cubicBezTo>
                      <a:cubicBezTo>
                        <a:pt x="358" y="8"/>
                        <a:pt x="358" y="8"/>
                        <a:pt x="358" y="8"/>
                      </a:cubicBezTo>
                      <a:cubicBezTo>
                        <a:pt x="358" y="0"/>
                        <a:pt x="358" y="0"/>
                        <a:pt x="358" y="0"/>
                      </a:cubicBezTo>
                      <a:cubicBezTo>
                        <a:pt x="358" y="0"/>
                        <a:pt x="358" y="1"/>
                        <a:pt x="358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15151"/>
                    </a:gs>
                    <a:gs pos="100000">
                      <a:srgbClr val="3d3d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7" name=""/>
              <p:cNvSpPr/>
              <p:nvPr/>
            </p:nvSpPr>
            <p:spPr>
              <a:xfrm flipH="1">
                <a:off x="6031080" y="2768760"/>
                <a:ext cx="1164600" cy="1904400"/>
              </a:xfrm>
              <a:custGeom>
                <a:avLst/>
                <a:gdLst/>
                <a:ahLst/>
                <a:rect l="l" t="t" r="r" b="b"/>
                <a:pathLst>
                  <a:path w="366" h="600">
                    <a:moveTo>
                      <a:pt x="366" y="599"/>
                    </a:moveTo>
                    <a:cubicBezTo>
                      <a:pt x="366" y="517"/>
                      <a:pt x="366" y="517"/>
                      <a:pt x="366" y="517"/>
                    </a:cubicBezTo>
                    <a:cubicBezTo>
                      <a:pt x="366" y="2"/>
                      <a:pt x="366" y="2"/>
                      <a:pt x="366" y="2"/>
                    </a:cubicBezTo>
                    <a:cubicBezTo>
                      <a:pt x="366" y="1"/>
                      <a:pt x="366" y="1"/>
                      <a:pt x="365" y="0"/>
                    </a:cubicBezTo>
                    <a:cubicBezTo>
                      <a:pt x="365" y="0"/>
                      <a:pt x="365" y="0"/>
                      <a:pt x="365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517"/>
                      <a:pt x="0" y="517"/>
                      <a:pt x="0" y="517"/>
                    </a:cubicBezTo>
                    <a:cubicBezTo>
                      <a:pt x="0" y="599"/>
                      <a:pt x="0" y="599"/>
                      <a:pt x="0" y="599"/>
                    </a:cubicBezTo>
                    <a:cubicBezTo>
                      <a:pt x="0" y="600"/>
                      <a:pt x="1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" y="600"/>
                      <a:pt x="2" y="600"/>
                      <a:pt x="2" y="600"/>
                    </a:cubicBezTo>
                    <a:cubicBezTo>
                      <a:pt x="29" y="600"/>
                      <a:pt x="29" y="600"/>
                      <a:pt x="29" y="600"/>
                    </a:cubicBezTo>
                    <a:cubicBezTo>
                      <a:pt x="365" y="600"/>
                      <a:pt x="365" y="600"/>
                      <a:pt x="365" y="600"/>
                    </a:cubicBezTo>
                    <a:cubicBezTo>
                      <a:pt x="366" y="600"/>
                      <a:pt x="366" y="600"/>
                      <a:pt x="366" y="599"/>
                    </a:cubicBezTo>
                    <a:cubicBezTo>
                      <a:pt x="366" y="599"/>
                      <a:pt x="366" y="599"/>
                      <a:pt x="366" y="599"/>
                    </a:cubicBezTo>
                    <a:close/>
                    <a:moveTo>
                      <a:pt x="3" y="517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517"/>
                      <a:pt x="11" y="517"/>
                      <a:pt x="11" y="517"/>
                    </a:cubicBezTo>
                    <a:cubicBezTo>
                      <a:pt x="11" y="587"/>
                      <a:pt x="11" y="587"/>
                      <a:pt x="11" y="587"/>
                    </a:cubicBezTo>
                    <a:cubicBezTo>
                      <a:pt x="3" y="595"/>
                      <a:pt x="3" y="595"/>
                      <a:pt x="3" y="595"/>
                    </a:cubicBezTo>
                    <a:lnTo>
                      <a:pt x="3" y="517"/>
                    </a:lnTo>
                    <a:close/>
                    <a:moveTo>
                      <a:pt x="363" y="597"/>
                    </a:moveTo>
                    <a:cubicBezTo>
                      <a:pt x="29" y="597"/>
                      <a:pt x="29" y="597"/>
                      <a:pt x="29" y="597"/>
                    </a:cubicBezTo>
                    <a:cubicBezTo>
                      <a:pt x="5" y="597"/>
                      <a:pt x="5" y="597"/>
                      <a:pt x="5" y="597"/>
                    </a:cubicBezTo>
                    <a:cubicBezTo>
                      <a:pt x="13" y="590"/>
                      <a:pt x="13" y="590"/>
                      <a:pt x="13" y="590"/>
                    </a:cubicBezTo>
                    <a:cubicBezTo>
                      <a:pt x="29" y="590"/>
                      <a:pt x="29" y="590"/>
                      <a:pt x="29" y="590"/>
                    </a:cubicBezTo>
                    <a:cubicBezTo>
                      <a:pt x="363" y="590"/>
                      <a:pt x="363" y="590"/>
                      <a:pt x="363" y="590"/>
                    </a:cubicBezTo>
                    <a:cubicBezTo>
                      <a:pt x="363" y="590"/>
                      <a:pt x="363" y="589"/>
                      <a:pt x="363" y="589"/>
                    </a:cubicBezTo>
                    <a:lnTo>
                      <a:pt x="363" y="597"/>
                    </a:lnTo>
                    <a:close/>
                    <a:moveTo>
                      <a:pt x="363" y="517"/>
                    </a:moveTo>
                    <a:cubicBezTo>
                      <a:pt x="363" y="587"/>
                      <a:pt x="363" y="587"/>
                      <a:pt x="363" y="587"/>
                    </a:cubicBezTo>
                    <a:cubicBezTo>
                      <a:pt x="363" y="587"/>
                      <a:pt x="363" y="587"/>
                      <a:pt x="363" y="587"/>
                    </a:cubicBezTo>
                    <a:cubicBezTo>
                      <a:pt x="29" y="587"/>
                      <a:pt x="29" y="587"/>
                      <a:pt x="29" y="587"/>
                    </a:cubicBezTo>
                    <a:cubicBezTo>
                      <a:pt x="14" y="587"/>
                      <a:pt x="14" y="587"/>
                      <a:pt x="14" y="587"/>
                    </a:cubicBezTo>
                    <a:cubicBezTo>
                      <a:pt x="14" y="517"/>
                      <a:pt x="14" y="517"/>
                      <a:pt x="14" y="517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63" y="3"/>
                      <a:pt x="363" y="3"/>
                      <a:pt x="363" y="3"/>
                    </a:cubicBezTo>
                    <a:lnTo>
                      <a:pt x="363" y="517"/>
                    </a:lnTo>
                    <a:close/>
                  </a:path>
                </a:pathLst>
              </a:cu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8" name=""/>
            <p:cNvSpPr/>
            <p:nvPr/>
          </p:nvSpPr>
          <p:spPr>
            <a:xfrm>
              <a:off x="3375000" y="4638600"/>
              <a:ext cx="115272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18080" y="4638600"/>
              <a:ext cx="1152360" cy="34920"/>
            </a:xfrm>
            <a:prstGeom prst="rect">
              <a:avLst/>
            </a:prstGeom>
            <a:solidFill>
              <a:srgbClr val="4d4d4d"/>
            </a:solidFill>
            <a:ln w="1152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2257560" y="2139120"/>
            <a:ext cx="46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5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2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5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0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4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8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2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6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1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9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1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2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1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4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1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8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1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0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ntr" presetID="1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4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12" presetSubtype="4">
                                  <p:stCondLst>
                                    <p:cond delay="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1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1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12" presetSubtype="4">
                                  <p:stCondLst>
                                    <p:cond delay="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12" presetSubtype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28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1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5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7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0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4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12" presetSubtype="4">
                                  <p:stCondLst>
                                    <p:cond delay="1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4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0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xit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6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xit" presetID="1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5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2" presetSubtype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1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12" presetSubtype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8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xit" presetID="12" presetSubtype="4">
                                  <p:stCondLst>
                                    <p:cond delay="1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0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12" presetSubtype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4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xit" presetID="12" presetSubtype="4">
                                  <p:stCondLst>
                                    <p:cond delay="1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7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2" presetSubtype="1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0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xit" presetID="12" presetSubtype="4">
                                  <p:stCondLst>
                                    <p:cond delay="1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12" presetSubtype="1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6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xit" presetID="12" presetSubtype="4">
                                  <p:stCondLst>
                                    <p:cond delay="1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8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2" presetSubtype="1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2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xit" presetID="12" presetSubtype="4">
                                  <p:stCondLst>
                                    <p:cond delay="1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94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2" presetSubtype="1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0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3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2" presetSubtype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12" presetSubtype="4">
                                  <p:stCondLst>
                                    <p:cond delay="2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2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12" presetSubtype="1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12" presetSubtype="4">
                                  <p:stCondLst>
                                    <p:cond delay="2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8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2" presetSubtype="1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12" presetSubtype="4">
                                  <p:stCondLst>
                                    <p:cond delay="2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24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12" presetSubtype="1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8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xit" presetID="12" presetSubtype="4">
                                  <p:stCondLst>
                                    <p:cond delay="2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0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2" presetSubtype="1">
                                  <p:stCondLst>
                                    <p:cond delay="240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4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xit" presetID="12" presetSubtype="4">
                                  <p:stCondLst>
                                    <p:cond delay="2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36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12" presetSubtype="1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12" presetSubtype="4">
                                  <p:stCondLst>
                                    <p:cond delay="2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2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2" presetSubtype="1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6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2" presetSubtype="4">
                                  <p:stCondLst>
                                    <p:cond delay="2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8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ntr" presetID="12" presetSubtype="1">
                                  <p:stCondLst>
                                    <p:cond delay="2700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xit" presetID="12" presetSubtype="4">
                                  <p:stCondLst>
                                    <p:cond delay="2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2" presetSubtype="1">
                                  <p:stCondLst>
                                    <p:cond delay="2800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8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xit" presetID="12" presetSubtype="4">
                                  <p:stCondLst>
                                    <p:cond delay="2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0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2" presetSubtype="1">
                                  <p:stCondLst>
                                    <p:cond delay="2900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4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6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0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12" presetSubtype="4">
                                  <p:stCondLst>
                                    <p:cond delay="3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2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2" presetSubtype="1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6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xit" presetID="12" presetSubtype="4">
                                  <p:stCondLst>
                                    <p:cond delay="3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12" presetSubtype="1">
                                  <p:stCondLst>
                                    <p:cond delay="310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2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2" presetSubtype="4">
                                  <p:stCondLst>
                                    <p:cond delay="3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84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2" presetSubtype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2" presetSubtype="4">
                                  <p:stCondLst>
                                    <p:cond delay="3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0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12" presetSubtype="1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4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xit" presetID="12" presetSubtype="4">
                                  <p:stCondLst>
                                    <p:cond delay="3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9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0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2" presetSubtype="4">
                                  <p:stCondLst>
                                    <p:cond delay="3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12" presetSubtype="1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6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xit" presetID="12" presetSubtype="4">
                                  <p:stCondLst>
                                    <p:cond delay="3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8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nodeType="withEffect" fill="hold" presetClass="entr" presetID="12" presetSubtype="1">
                                  <p:stCondLst>
                                    <p:cond delay="360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2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2" presetSubtype="4">
                                  <p:stCondLst>
                                    <p:cond delay="3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14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12" presetSubtype="1">
                                  <p:stCondLst>
                                    <p:cond delay="3700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12" presetSubtype="4">
                                  <p:stCondLst>
                                    <p:cond delay="3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12" presetSubtype="1">
                                  <p:stCondLst>
                                    <p:cond delay="3800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4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12" presetSubtype="4">
                                  <p:stCondLst>
                                    <p:cond delay="3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2" presetSubtype="1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0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6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xit" presetID="12" presetSubtype="4">
                                  <p:stCondLst>
                                    <p:cond delay="4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12" presetSubtype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xit" presetID="12" presetSubtype="4">
                                  <p:stCondLst>
                                    <p:cond delay="4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4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12" presetSubtype="1">
                                  <p:stCondLst>
                                    <p:cond delay="410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8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12" presetSubtype="4">
                                  <p:stCondLst>
                                    <p:cond delay="4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0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12" presetSubtype="1">
                                  <p:stCondLst>
                                    <p:cond delay="4200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4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12" presetSubtype="4">
                                  <p:stCondLst>
                                    <p:cond delay="4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56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12" presetSubtype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0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12" presetSubtype="4">
                                  <p:stCondLst>
                                    <p:cond delay="4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2" presetSubtype="1">
                                  <p:stCondLst>
                                    <p:cond delay="4400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12" presetSubtype="4">
                                  <p:stCondLst>
                                    <p:cond delay="4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6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2" presetSubtype="1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2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12" presetSubtype="4">
                                  <p:stCondLst>
                                    <p:cond delay="4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74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2" presetSubtype="1">
                                  <p:stCondLst>
                                    <p:cond delay="460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12" presetSubtype="4">
                                  <p:stCondLst>
                                    <p:cond delay="4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2" presetSubtype="1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4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12" presetSubtype="4">
                                  <p:stCondLst>
                                    <p:cond delay="4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8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12" presetSubtype="1">
                                  <p:stCondLst>
                                    <p:cond delay="4800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12" presetSubtype="4">
                                  <p:stCondLst>
                                    <p:cond delay="4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2" presetSubtype="1">
                                  <p:stCondLst>
                                    <p:cond delay="490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6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9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2" presetSubtype="4">
                                  <p:stCondLst>
                                    <p:cond delay="50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2" presetSubtype="1">
                                  <p:stCondLst>
                                    <p:cond delay="5000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8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12" presetSubtype="4">
                                  <p:stCondLst>
                                    <p:cond delay="51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ntr" presetID="12" presetSubtype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4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12" presetSubtype="4">
                                  <p:stCondLst>
                                    <p:cond delay="5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1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2" presetSubtype="1">
                                  <p:stCondLst>
                                    <p:cond delay="5200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12" presetSubtype="4">
                                  <p:stCondLst>
                                    <p:cond delay="5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12" presetSubtype="1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6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12" presetSubtype="4">
                                  <p:stCondLst>
                                    <p:cond delay="54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2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2" presetSubtype="1">
                                  <p:stCondLst>
                                    <p:cond delay="540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2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12" presetSubtype="4">
                                  <p:stCondLst>
                                    <p:cond delay="55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12" presetSubtype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8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12" presetSubtype="4">
                                  <p:stCondLst>
                                    <p:cond delay="56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0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12" presetSubtype="1">
                                  <p:stCondLst>
                                    <p:cond delay="560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2" presetSubtype="4">
                                  <p:stCondLst>
                                    <p:cond delay="57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12" presetSubtype="1">
                                  <p:stCondLst>
                                    <p:cond delay="5700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12" presetSubtype="4">
                                  <p:stCondLst>
                                    <p:cond delay="58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2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12" presetSubtype="1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12" presetSubtype="4">
                                  <p:stCondLst>
                                    <p:cond delay="59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58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12" presetSubtype="1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2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4:50:58Z</dcterms:created>
  <dc:creator>1</dc:creator>
  <dc:description/>
  <dc:language>en-US</dc:language>
  <cp:lastModifiedBy>1</cp:lastModifiedBy>
  <dcterms:modified xsi:type="dcterms:W3CDTF">2012-03-12T15:48:02Z</dcterms:modified>
  <cp:revision>5</cp:revision>
  <dc:subject/>
  <dc:title>Антон Павлович Чехов</dc:title>
</cp:coreProperties>
</file>