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C78-BE16-47AB-B559-C8A7934C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3B4-2AEB-4CAC-AE37-B168BB9A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350E5-9078-4FB8-9F8B-9D247C3D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025E0-E559-4507-B2D1-29A1916C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5097E-A21F-41A6-94DE-3D8DA20C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6838D-C84A-45A5-BB5E-446E63F4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569B8-7AE0-4E1A-94B9-9969D3D8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3AFA4-418C-474E-B0F5-EBB2639B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38936-1AE0-4A80-A3B1-B3831B9F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0FF77-2ECA-4BB1-9603-F0782EF0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4F08C-7F2B-4AB1-A28E-390DE748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8F598-D74C-4636-ADB2-72DE2ECD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23E-09C3-456F-9339-8AF42E9C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8E869-8E20-4BA5-81D5-7732F1A6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D81B7-FFF6-4544-A43F-971D1C06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78271-A400-4FCB-B2EF-56A2D88A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B4FEF-BD4B-425F-B27B-CBEB5F84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BEA91-714C-4BDE-BED6-B7079C7B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445D8-4434-4B1C-A450-7118D43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B5E68-B2CF-4C91-96E7-52E103F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A0386-F433-46D6-BEB1-464C050D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CA1B2-1DED-4383-9E31-3AE35E67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777E6-439C-4814-B809-3935B99E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B02-A8C4-4D87-AE34-112C0A26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CFBC9-22D1-4A6D-AB63-05A27776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CADA9-AD5B-4408-9752-8A4AD2BD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24912-FD73-4863-95C0-66605D3E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FBACB-4F8A-4D25-AD6E-B4DBB02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940E8-C95B-4E2C-A1C8-E845A9A5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09BF0-738C-4A43-8031-156318F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A5858-3B1C-4580-A866-2B9B2061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DCE00-B546-457D-B543-F81FAEFF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FAF02-5933-4F7B-AC98-65A57B2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BA939-3FA8-45C6-AA1D-09B1CAD7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C0EB-0D4F-45A1-9204-D8EAF4B6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69AF5-B0E3-4C74-998E-F3F038E0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2A937-7489-4C11-960E-E6F99691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75448-5F10-40F5-8D06-5504C0CF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F7867-4E90-4FFA-87E0-4807C29C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A2A41-71D9-4D75-9621-2ED036A6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B524A-C18C-4AC1-9632-AB8F7093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44C28-2824-4D7C-AECC-1527E063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8BB46-8585-45CE-A648-98DFCCCE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2BD39-8EBE-419C-BF1F-3E8EF24F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B6315-77A7-4BCC-A1D5-E36D9F70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D3CF-AA35-4AAD-86EA-2A4EE6E1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C8B09-2AD1-4C09-AB55-773052C4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540C8-9860-470F-84A2-AF533E8B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CAFF6-FBB0-413D-9330-98C08B74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9782F-C5A6-46E9-9B73-BDC8C65C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37A65-60EB-4591-961E-8583CACD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BDEE3-C6FF-4C1F-A3B8-B1BBD89F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EC834-C9CF-4251-86AD-B77EEBC9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D749A-DD9B-4999-9B9B-D5EDC6E0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66B69-0CC6-448C-A70A-AE27945C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B7DDA-EF52-4818-B094-4C7C866E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6750-D70D-44B5-85E8-94936014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E4400-081A-4A02-8548-8A61CBF2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E89C9-9290-4C2A-A9E1-8E5582C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F1E60-7ADF-4C5D-BA2E-9321A1A9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767A6-919D-4F4E-894C-0C51D568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74E25-662B-4B74-9450-75E5A5A3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35B3B-A5F5-4E45-A96F-ACB1E331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C6A71-AE04-4CF5-8FAC-A621E14B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7512-1D5F-4472-B356-B30D0825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D01B-4685-4CDE-AB6E-8A3BD5FD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68D2-98DD-4F70-B5C9-55B38AEA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E256-41CD-40D8-B0AE-878C961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02A-51AC-4A21-8244-EEA9103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0930-E1C7-4FFD-9D32-D31A4A4E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FC63-19A8-4B08-A767-F812DC5A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5838-DF99-412D-B0E2-19DB950C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A5A7-5A08-4B50-B0B5-DB9FF3E1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56C4-BD29-4BCA-BCCB-BEC90521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A62C7-0445-4100-A554-91994E6C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E06B-023C-4F5E-BF86-ABD0A291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FA02-DFC1-434E-B11C-B2001EFD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8A13-A608-4F28-A492-0DD0988C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DADE-13AB-43DB-A3D3-4E857E05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EA5-81AE-49AD-BCDF-616CD798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ADF5-A5F1-498B-9B02-E5EFD14C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8CB7-3024-4B6E-B4D3-6E7BDCD1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86FC-D85B-4A44-B36D-F79D5C7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7ED1-B578-484A-A7C7-7DB2495D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0CF4-A781-4BC5-895A-F73871EC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920C-A4BF-4EB0-AE25-EAF4931D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07A66-AA86-4410-B14C-D1695C7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AC48E-CF3F-44BA-B565-6D7C1829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B8C6-FB19-49DD-88E4-94557B53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7CE54-3B67-4DEA-AA4C-9288667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2D3-B107-4037-A8DA-01A8D65E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D54F-87AA-410C-A76D-46CE0A35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F848-27D4-4B0B-B32E-21AD7D14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8A33-4195-409C-9A1F-5646629D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D814-B6DF-45F0-BF48-50DFDB5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91507-E3B0-49A0-B91C-ED46A560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3B023-BF92-4718-9EC6-5033C73D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4000-13F2-40B3-AB77-C8C3A2D6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3A01-6854-4327-99C7-ACFD48BB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0621-5941-47AC-80C7-DD81141B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62878-ABC9-4701-B71E-172926BB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D98-DD1D-44A5-B9E4-BA6A2B1E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A9276-A8E7-48DA-B3CB-60EB85EE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F652A-66A4-4A30-9B19-00E7967E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7684B-3212-45AD-852F-99ECAA9F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0A900-F150-42FA-91FF-29447B99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79813-8DC2-45D3-8E0C-65F5D9D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6A86F-3746-4069-B9A9-5E2AAE1D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C8CDB-DFB0-4916-9CA0-E55EA55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4E80-916D-4115-88CF-685C88B9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3C1E5-E53D-431B-9D5B-23EDB154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3ED2F-4A9F-419F-9DA1-8B388DC2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B08-2A6F-4AEC-84A2-A383EB99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8D45B-8A11-4054-839F-8CBC9C14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1D979-DC7A-4246-95E2-D60FEFEB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ED580-1D77-4092-998A-D1E88897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BE340-F30C-4011-B972-9C401545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7AEC2-262E-465B-9155-88FE8C67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2AB08-A893-4A1E-B358-1453454F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E449B-E7CE-4AE9-AB12-0AD40416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30121-6C71-4E34-AC46-357F4C8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88F7A-8A08-48C8-918E-2D6672AA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7AF50-CE86-4A0A-B057-EE9E55BD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5BB-F9C9-487C-B1BD-EF568AA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2D223-7228-4E2A-B3CA-D5DDE854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BE3B4-1A73-434C-B970-C7769CEA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1CD47-0669-4347-AFE6-BA718619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52247-F1E6-45D4-A3A1-229A656D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3DF02-ED30-470B-9ADD-AD4FD5B1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7B373-C320-4AE8-91A2-15674B52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83FD-8D4B-4C72-B8B3-6AACCEBF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71E4-61AD-46EF-8339-F4C41EFB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0E21-53B0-45EE-9350-D0B593AA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B80FC-4B5C-4511-988C-BB0AEE58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A80-BF8B-41B4-8FB7-34D0A53F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CA5E8-386E-486E-9079-835BEEB2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FCB1-9999-4F95-BF04-86211262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8CDD3-A2AC-4F83-A17A-C3324DC2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A6B84-6295-46CB-9BD7-4CA8A096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EC1F0-0705-4701-BB52-A77B2864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DF421-8158-44A6-AEE4-D51DB96D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0DE5A-B003-4F0E-9B95-4D6544F0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6ADD1-BA93-45B3-AAF6-81274D4A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53AD6-0B6B-4B16-BD88-54B64B6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E826D-18B1-4DF1-9C1F-F18EEFAC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D58-05E7-431D-B31B-56C222F9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6231B-2BC9-4573-B8E9-2689E40D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11927-0C17-42D1-B13C-185C341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B92DC-D8A5-41DC-8D3D-7A0334BF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453BB-8AEF-4E7A-8D7F-DBFF4B2C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D1BB5-2DFB-4A05-948E-74D3CE8F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B294-CEB8-4189-A5D5-10949835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2751C-3BB9-4C07-B5A2-5E10AD98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E96A5-F538-4741-BC6E-BE2D6CF1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5796F-E16B-4B5B-97FF-DFA1F737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40939-AFEC-495E-859B-DE4543AD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E735-54E2-43A8-B183-ABA50F2E20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083A-2D28-4CD8-81CA-F2FBB53971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4FC8-B7F8-459D-8746-7255095A06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1CC3-F85F-47BC-B780-D9ED020908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8A21-D8FF-43C4-9663-41DD7ACFF5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612B-5821-4A4C-9819-0CDF02209C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56FE-B20A-4BFF-8131-877FFB4E0B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3BEF-9D17-487F-96F9-A32AC175EF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9FA3-5B5E-497B-BCD1-62810406F2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50BB-9269-48BD-8744-CB04705749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178E-7C38-400F-AF5A-244A1D1C6A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83C4-3805-46ED-8AC5-C6DB8A24B3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CAE9-B073-4C5B-AB42-0A30BC4EAB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80280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merican Retro"/>
              </a:rPr>
              <a:t>Смежные   уг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63640" y="907560"/>
            <a:ext cx="6400800" cy="14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3"/>
          <p:cNvSpPr/>
          <p:nvPr/>
        </p:nvSpPr>
        <p:spPr>
          <a:xfrm>
            <a:off x="1800360" y="2060640"/>
            <a:ext cx="73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&l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решений – 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611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99"/>
                </a:solidFill>
                <a:uFillTx/>
                <a:latin typeface="American Retro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ить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тему « Смежные углы»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Olietta script-Poesia"/>
              </a:rPr>
              <a:t>Спасибо за урок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5" name="Line 10"/>
          <p:cNvSpPr/>
          <p:nvPr/>
        </p:nvSpPr>
        <p:spPr>
          <a:xfrm>
            <a:off x="3276720" y="3213000"/>
            <a:ext cx="331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 flipV="1">
            <a:off x="3276720" y="1484280"/>
            <a:ext cx="1942920" cy="1728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 flipH="1" flipV="1">
            <a:off x="2916000" y="1052280"/>
            <a:ext cx="360360" cy="21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48616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534528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656928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2968560" y="316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618360" y="3592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0"/>
          <p:cNvSpPr/>
          <p:nvPr/>
        </p:nvSpPr>
        <p:spPr>
          <a:xfrm rot="19088400">
            <a:off x="3636720" y="2059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2"/>
          <p:cNvSpPr/>
          <p:nvPr/>
        </p:nvSpPr>
        <p:spPr>
          <a:xfrm>
            <a:off x="7236000" y="5516640"/>
            <a:ext cx="1152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Дуга 26"/>
          <p:cNvSpPr/>
          <p:nvPr/>
        </p:nvSpPr>
        <p:spPr>
          <a:xfrm>
            <a:off x="3571920" y="2928960"/>
            <a:ext cx="142920" cy="50004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  <a:lnTo>
                  <a:pt x="71438" y="250031"/>
                </a:lnTo>
                <a:close/>
              </a:path>
              <a:path fill="none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Дуга 30"/>
          <p:cNvSpPr/>
          <p:nvPr/>
        </p:nvSpPr>
        <p:spPr>
          <a:xfrm>
            <a:off x="3000240" y="2928960"/>
            <a:ext cx="500040" cy="7128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71280"/>
              <a:gd name="textAreaBottom" fmla="*/ 35640 h 71280"/>
            </a:gdLst>
            <a:ahLst/>
            <a:rect l="textAreaLeft" t="textAreaTop" r="textAreaRight" b="textAreaBottom"/>
            <a:pathLst>
              <a:path stroke="0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  <a:lnTo>
                  <a:pt x="250032" y="35719"/>
                </a:lnTo>
                <a:close/>
              </a:path>
              <a:path fill="none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Дуга 31"/>
          <p:cNvSpPr/>
          <p:nvPr/>
        </p:nvSpPr>
        <p:spPr>
          <a:xfrm>
            <a:off x="2857680" y="2786040"/>
            <a:ext cx="785520" cy="117360"/>
          </a:xfrm>
          <a:custGeom>
            <a:avLst/>
            <a:gdLst>
              <a:gd name="textAreaLeft" fmla="*/ 392760 w 785520"/>
              <a:gd name="textAreaRight" fmla="*/ 785880 w 785520"/>
              <a:gd name="textAreaTop" fmla="*/ 0 h 117360"/>
              <a:gd name="textAreaBottom" fmla="*/ 58680 h 117360"/>
            </a:gdLst>
            <a:ahLst/>
            <a:rect l="textAreaLeft" t="textAreaTop" r="textAreaRight" b="textAreaBottom"/>
            <a:pathLst>
              <a:path stroke="0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  <a:lnTo>
                  <a:pt x="392907" y="58738"/>
                </a:lnTo>
                <a:close/>
              </a:path>
              <a:path fill="none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9" name="Line 17"/>
          <p:cNvSpPr/>
          <p:nvPr/>
        </p:nvSpPr>
        <p:spPr>
          <a:xfrm>
            <a:off x="2195640" y="2421000"/>
            <a:ext cx="489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8"/>
          <p:cNvSpPr/>
          <p:nvPr/>
        </p:nvSpPr>
        <p:spPr>
          <a:xfrm flipV="1">
            <a:off x="4286160" y="474480"/>
            <a:ext cx="1871640" cy="19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932360" y="191628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059640" y="17733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3761280" y="2584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2556000" y="5445000"/>
            <a:ext cx="446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3"/>
          <p:cNvSpPr/>
          <p:nvPr/>
        </p:nvSpPr>
        <p:spPr>
          <a:xfrm flipV="1">
            <a:off x="4643280" y="3573000"/>
            <a:ext cx="0" cy="187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48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30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3977280" y="57531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4643280" y="5300640"/>
            <a:ext cx="14472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4500720" y="5300640"/>
            <a:ext cx="14256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9"/>
          <p:cNvSpPr/>
          <p:nvPr/>
        </p:nvSpPr>
        <p:spPr>
          <a:xfrm>
            <a:off x="7164360" y="2637000"/>
            <a:ext cx="129708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21"/>
          <p:cNvSpPr/>
          <p:nvPr/>
        </p:nvSpPr>
        <p:spPr>
          <a:xfrm>
            <a:off x="4429080" y="2214720"/>
            <a:ext cx="142920" cy="35712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  <a:lnTo>
                  <a:pt x="71438" y="178594"/>
                </a:lnTo>
                <a:close/>
              </a:path>
              <a:path fill="none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23"/>
          <p:cNvSpPr/>
          <p:nvPr/>
        </p:nvSpPr>
        <p:spPr>
          <a:xfrm flipV="1" rot="10129200">
            <a:off x="3960360" y="2194560"/>
            <a:ext cx="571680" cy="377640"/>
          </a:xfrm>
          <a:custGeom>
            <a:avLst/>
            <a:gdLst>
              <a:gd name="textAreaLeft" fmla="*/ 47520 w 571680"/>
              <a:gd name="textAreaRight" fmla="*/ 564120 w 571680"/>
              <a:gd name="textAreaTop" fmla="*/ 0 h 377640"/>
              <a:gd name="textAreaBottom" fmla="*/ 145800 h 377640"/>
            </a:gdLst>
            <a:ahLst/>
            <a:rect l="textAreaLeft" t="textAreaTop" r="textAreaRight" b="textAreaBottom"/>
            <a:pathLst>
              <a:path stroke="0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  <a:lnTo>
                  <a:pt x="285750" y="188913"/>
                </a:lnTo>
                <a:close/>
              </a:path>
              <a:path fill="none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7020000" y="5805360"/>
            <a:ext cx="143964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6" name="Line 5"/>
          <p:cNvSpPr/>
          <p:nvPr/>
        </p:nvSpPr>
        <p:spPr>
          <a:xfrm>
            <a:off x="4859280" y="3860640"/>
            <a:ext cx="2160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 flipV="1">
            <a:off x="4859280" y="1341360"/>
            <a:ext cx="72072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 flipH="1">
            <a:off x="1619280" y="3860640"/>
            <a:ext cx="324000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8"/>
          <p:cNvSpPr/>
          <p:nvPr/>
        </p:nvSpPr>
        <p:spPr>
          <a:xfrm flipH="1">
            <a:off x="4211640" y="3357720"/>
            <a:ext cx="792000" cy="5029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9"/>
          <p:cNvSpPr/>
          <p:nvPr/>
        </p:nvSpPr>
        <p:spPr>
          <a:xfrm>
            <a:off x="5005440" y="3284640"/>
            <a:ext cx="503280" cy="936360"/>
          </a:xfrm>
          <a:custGeom>
            <a:avLst/>
            <a:gdLst>
              <a:gd name="textAreaLeft" fmla="*/ 0 w 503280"/>
              <a:gd name="textAreaRight" fmla="*/ 503640 w 5032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fill="none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</a:path>
              <a:path stroke="0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  <a:lnTo>
                  <a:pt x="3602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6443640" y="5661000"/>
            <a:ext cx="136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3185280" y="284328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704560" y="341964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5" name="Line 4"/>
          <p:cNvSpPr/>
          <p:nvPr/>
        </p:nvSpPr>
        <p:spPr>
          <a:xfrm>
            <a:off x="2268360" y="3645000"/>
            <a:ext cx="554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 flipV="1">
            <a:off x="4788000" y="1052280"/>
            <a:ext cx="158436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6"/>
          <p:cNvSpPr/>
          <p:nvPr/>
        </p:nvSpPr>
        <p:spPr>
          <a:xfrm flipH="1">
            <a:off x="4500000" y="3357720"/>
            <a:ext cx="431640" cy="28728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7"/>
          <p:cNvSpPr/>
          <p:nvPr/>
        </p:nvSpPr>
        <p:spPr>
          <a:xfrm>
            <a:off x="5003640" y="328464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8"/>
          <p:cNvSpPr/>
          <p:nvPr/>
        </p:nvSpPr>
        <p:spPr>
          <a:xfrm>
            <a:off x="5076720" y="3141720"/>
            <a:ext cx="287280" cy="503280"/>
          </a:xfrm>
          <a:custGeom>
            <a:avLst/>
            <a:gdLst>
              <a:gd name="textAreaLeft" fmla="*/ 0 w 287280"/>
              <a:gd name="textAreaRight" fmla="*/ 287640 w 287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265640" y="2916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60920" y="2987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2"/>
              <p:cNvSpPr txBox="1"/>
              <p:nvPr/>
            </p:nvSpPr>
            <p:spPr>
              <a:xfrm>
                <a:off x="3419640" y="4437000"/>
                <a:ext cx="761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13"/>
          <p:cNvSpPr/>
          <p:nvPr/>
        </p:nvSpPr>
        <p:spPr>
          <a:xfrm>
            <a:off x="40694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4"/>
              <p:cNvSpPr txBox="1"/>
              <p:nvPr/>
            </p:nvSpPr>
            <p:spPr>
              <a:xfrm>
                <a:off x="4932360" y="443700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Text Box 15"/>
          <p:cNvSpPr/>
          <p:nvPr/>
        </p:nvSpPr>
        <p:spPr>
          <a:xfrm>
            <a:off x="558324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 = 18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6"/>
          <p:cNvSpPr/>
          <p:nvPr/>
        </p:nvSpPr>
        <p:spPr>
          <a:xfrm>
            <a:off x="6588000" y="5661000"/>
            <a:ext cx="100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395280" y="907920"/>
          <a:ext cx="8567640" cy="4888080"/>
        </p:xfrm>
        <a:graphic>
          <a:graphicData uri="http://schemas.openxmlformats.org/drawingml/2006/table">
            <a:tbl>
              <a:tblPr/>
              <a:tblGrid>
                <a:gridCol w="4537080"/>
                <a:gridCol w="403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Text Box 75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250920" y="1125360"/>
          <a:ext cx="8642160" cy="499932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358920" y="690840"/>
            <a:ext cx="87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умма двух углов = 200 градусов. Смежные ли эти углы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Угол, смежный с углом в 30 градусов является туп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Могут ли два смежных угла быть туп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жет ли при пересечении двух прямых образоваться четыре прямых уг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637080" y="1890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79280" y="98208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Если два различных тупых угла имеют общую сторону, то эти углы смежные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Один из двух углов, образованных при пересечении двух прямых – прямой. Остальные углы тоже прямые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1:10:34Z</dcterms:created>
  <dc:creator>Шевчук</dc:creator>
  <dc:description/>
  <dc:language>en-US</dc:language>
  <cp:lastModifiedBy>Макаров</cp:lastModifiedBy>
  <dcterms:modified xsi:type="dcterms:W3CDTF">2012-03-17T10:30:34Z</dcterms:modified>
  <cp:revision>29</cp:revision>
  <dc:subject/>
  <dc:title>Смежные  и вертикальные углы</dc:title>
</cp:coreProperties>
</file>