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0C5-B03C-430F-9E0D-A6783122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2D8-79CE-45AE-80E1-52DB5DCE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94868-6F8C-432E-B322-19C9EDD5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93D4A-0A9F-4BEB-9B12-893D248A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C7632-F8E3-429D-A040-F11C4E62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17147-E3AD-4772-84D4-D6D4E9A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B211A-41B7-47C0-BDB1-BA22E178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F5123-DD21-44DF-8F9D-4D21932B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63428-76C9-44F6-A3B8-7E954069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806F4-07B7-4596-9567-37F0464E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7DA38-D38A-41A2-A9B4-546DE8E1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A5F38-97A9-4C22-91BD-159418A4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F1C-D09E-423D-B442-295476D2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63D23-D726-42B4-B66E-50029E91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5A23F-5207-4CD4-98E3-18059A81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1CA68-7B0B-4BF7-93DD-BB94FD8C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191F5-7507-4D9F-B75B-4FF4BA32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C4A16-8008-4AD2-A0AB-BE9D187B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92DBF-0CAC-4B6E-BB41-48570AFB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297E8-ED08-4FE3-9954-C0939560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7DA93-E08F-445E-95AE-E913FD92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35027-B810-4929-86A5-67A47DAF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3670D-DFB5-4AF4-B317-CFF14D42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373-F184-4717-90DA-F21FE39B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F45ED-92EA-476E-B9EB-42018191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6D37E-143E-42EE-A88C-A6D038A0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E4611-72AA-4068-BC68-242B4ACB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57378-BE16-4CDB-96E0-BCFBF3AC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0D126-2866-4570-903E-8DF6E6DF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57C88-9941-434F-A425-A0DEECDF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08B85-99E4-4F50-94CB-7484C4D3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FF22E-60CB-418F-962B-12390530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FC23E-BFC7-4EB4-8FE0-568D12DE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4AC70-572D-42D2-9ADE-A323879D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911D-2B21-45BD-AE59-05C21EF5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BA0F9-5B57-4687-921D-86186195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7A85C-F175-444D-B2F1-0B33E16C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3E43D-EADB-4A10-91DE-CF5BE658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535EE-2E2D-4265-B355-CAAF8331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CA003-F3E6-44BE-83F1-42A6A8B8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1A297-E0DE-4E66-8EFD-3F2C2782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4319C-A7CF-4845-BB9E-5FEC9F1E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534CD-FB23-4463-BAC4-D408CE2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9F2AC-58A3-4E26-AC93-D96A1B6A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5E6BA-5782-48B5-B63C-F6D4C8BD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F5B9-C5C7-4B2F-AC37-33FF89EF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C540A-2D8F-49A9-A4E9-4F40395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99F5D-86D5-4932-B997-6D80C419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2B38B-54E5-4961-BD53-F27AB5CF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855A9-1E29-4EBC-8CE6-C8953BD0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8C158-24D6-4DCD-B691-34B25E6C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FCF8D-74F1-4780-B70C-4CCEE8C5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1BFE3-777A-4D06-A934-4C248171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D09A7-BBEE-4E98-A0E1-7000FD11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C17A8-71D6-4DC6-8364-985DF9B8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FEB38-A72F-418D-A0DA-4752BDBF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2488-8ABB-4E69-827D-C14B7A9E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C7B50-5706-41C9-9F3E-E121722D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B35AD-1E14-416E-A066-3A6240B5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50F92-EA22-4721-8B71-5E3292A4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ED4C0-7A43-413C-8D23-BAA0D62E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71696-1D5C-4E31-8815-5D641714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6807C-61AF-4F08-8987-796928E7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DA93E-D2FE-4A5B-BEDC-547B83C1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80FF-91E2-45AB-A171-7135F7E8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971D-3E1F-4B2F-98C9-68F6EF3B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132C-2984-4DD1-B6BB-D40314A1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B45F-E490-4BB2-9876-DFB1571F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21B-B626-48EF-9CBA-E8A7DE56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A01B-F438-4BB8-8568-B548931A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79A2-85A3-422B-BEA2-19153314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BFD0-F977-4503-98E1-37C41AE8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B03A-B9AA-4050-B5A9-F98A89F6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4EFA-09AA-4DD2-BDC6-F92B888C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B5AC-93F8-4F18-9373-F42472B8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7F61-ABE2-43C2-A2CB-23A1C075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DFE4-42C9-4C4B-94D3-2FDFCF03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FC71-AAAE-4119-B055-802492C4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B991-4415-426E-9D4E-313DD926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657-675F-425B-B055-578190FB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16BBB-EEC3-4640-AE20-6CA93407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8C4C1-311D-49E0-8456-AC92E51B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24F4-AB8B-4FEE-8BDD-2D659350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39C4-B83A-43BC-AEDA-8730B203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A83E-6A51-4957-B6E8-A0D95CE1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1D88-0725-4F1A-A857-0EEC1D5D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ECA3-E083-40D1-8245-3112046B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CDD3-41D2-43A5-9ADB-49E0EBA1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DD41-0AB6-48B9-BEA0-236D6DC9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58C8D-306B-48FD-87A9-9B66D7E5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DED-2BB1-4BAE-AC3D-25C3A06C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EE3E-37AC-4B98-BAE7-9006C4B8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95952-582F-4FD6-80EF-E0D3D72C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225F-9990-4253-8010-951F22C3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B110E-F185-4360-9F6E-5FD3A2A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A145-471A-4B20-978F-B114D0C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261BF-A9A5-4BD4-BEC2-49CE6B7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5E02-6E9C-41C4-B9ED-F84D5378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DE53-D95B-4FD9-A2AC-30E424A4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B2EF-384B-4AB1-886C-F55F92A1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2330D-BDAD-4D8B-8721-C3C6371D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F82-155B-431F-8661-DA93C3C2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9E48-2201-4690-AAE9-09191F8E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9AD47-42B7-451F-9F5F-916F2138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1A65F-83B6-4565-B61A-E5EC527F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DD0C-EEF3-4F57-B183-254CBC82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1607B-BCD5-4049-83F7-47C160E0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74977-4C4A-46F1-80F2-8F50D632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7441-3401-4CD9-A327-CF5C9E1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0C854-3165-4F03-B822-D81A43C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987B4-CF2A-4845-9E4B-ED86E6C1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D8C9-EB38-45B7-B8CF-4925E46F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E28-2849-4840-BC71-5EA72D01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0A26-816F-4148-95C3-052FECAB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E6D5B-BBF5-47A4-A56E-82E4243B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49E29-9FD8-45CE-9CB0-B790187D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13C8-B5C3-41E8-9005-92350F45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ED20-3C9A-4497-9F64-83BB5A3D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240D8-D64F-4176-8670-EEEB4049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9BC8F-9D3F-48A3-85FA-CACBFED1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BDDFF-B87D-4903-98C9-51BD5C0E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F52DA-0BB0-4BEB-BD19-574B7CDC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A6FDF-DBD6-4F42-99A8-75CE9FB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130-EF1D-40F4-8CD3-3A4955F5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00E7D-976A-4F35-B606-AFFAB94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895D5-BEA5-4F22-A125-2BD6A0D8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2C289-73EB-4B49-8A38-807CF5CF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09E89-7E4B-40DC-A09F-6423AE88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769A5-6DD4-4BAD-83C1-6327C74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9DE0B-B9B2-40FD-9838-205602A8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C8633-3293-46C0-A907-1393D287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6240D-883D-4A80-88E4-208BD854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75DE4-67D7-4EA5-B9B6-E841497B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2F09B-AB74-4A24-8138-5F8C6D0B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5A7-1D76-46DA-BD1E-8322B51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16190-A33E-46AB-B884-7025426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2F8DB-F553-4F4E-9421-5C7DE907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14A33-0600-4165-9505-C8240BAB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0DB6C-B64A-4BEC-90C5-9FCBDC5C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38656-01F7-4171-80EF-180A4F27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25848-0CF7-4B6E-8319-327ED9F6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38B40-F451-47A8-9C61-4661F59A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1CA8B-ACDF-4C67-861B-4215D207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63C9B-107D-4945-89B2-44F123CE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7310F-31B3-4DDB-B4F8-36C90BA0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B12-E3CF-4879-8C2F-3FC5B041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28655-6AEE-4206-A4C1-CAF8F2C6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4679E-446F-4050-9F69-DC7A7EAA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0AD93-235A-46BF-A5B4-A1943160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766B1-5444-4F7C-BF78-93016C39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ABE7-DF3D-4DB8-8A42-E18B6E9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8CBFC-7854-46AA-8CDC-BA9735D5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8DBED-9BC3-4804-B1A6-67322A1A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44161-31BB-46EF-B60E-31FEDA15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4AA6F-0468-4D0F-AF2B-7DBC0077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03B06-A239-4AA3-9ACF-31FD4986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85AE-9D72-4A3A-A516-175E07721B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EAEF-1203-4B59-B86F-AB75423EC8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F166-A25E-41B8-8FAF-2A9EF8979B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DCEB-F994-4968-9381-5BA3F72D2E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4DC3-264D-40AC-A147-7FCA7477E5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7E0F-1D1B-4C78-97F9-2CEF496C33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76CF-F922-4537-8948-75D841920F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CD08-8480-4A64-AD54-3D5DD14BDE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7A30-60BC-4001-845E-267A60DC90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A62E-D45C-4B9D-B281-DD3C1B6C2D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B166-ECFF-49DD-BAC2-0BD6D3A5EF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C40B-C399-4649-BC8B-812DE2B198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909A-D5E6-45E9-A6FB-7261E0158B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80280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merican Retro"/>
              </a:rPr>
              <a:t>Смежные   уг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63640" y="907560"/>
            <a:ext cx="6400800" cy="14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3"/>
          <p:cNvSpPr/>
          <p:nvPr/>
        </p:nvSpPr>
        <p:spPr>
          <a:xfrm>
            <a:off x="1800360" y="2060640"/>
            <a:ext cx="73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&l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решений – 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611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99"/>
                </a:solidFill>
                <a:uFillTx/>
                <a:latin typeface="American Retro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ить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тему « Смежные углы»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Olietta script-Poesia"/>
              </a:rPr>
              <a:t>Спасибо за урок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5" name="Line 10"/>
          <p:cNvSpPr/>
          <p:nvPr/>
        </p:nvSpPr>
        <p:spPr>
          <a:xfrm>
            <a:off x="3276720" y="3213000"/>
            <a:ext cx="331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 flipV="1">
            <a:off x="3276720" y="1484280"/>
            <a:ext cx="1942920" cy="1728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 flipH="1" flipV="1">
            <a:off x="2916000" y="1052280"/>
            <a:ext cx="360360" cy="21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48616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534528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656928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2968560" y="316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618360" y="3592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0"/>
          <p:cNvSpPr/>
          <p:nvPr/>
        </p:nvSpPr>
        <p:spPr>
          <a:xfrm rot="19088400">
            <a:off x="3636720" y="2059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2"/>
          <p:cNvSpPr/>
          <p:nvPr/>
        </p:nvSpPr>
        <p:spPr>
          <a:xfrm>
            <a:off x="7236000" y="5516640"/>
            <a:ext cx="1152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Дуга 26"/>
          <p:cNvSpPr/>
          <p:nvPr/>
        </p:nvSpPr>
        <p:spPr>
          <a:xfrm>
            <a:off x="3571920" y="2928960"/>
            <a:ext cx="142920" cy="50004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  <a:lnTo>
                  <a:pt x="71438" y="250031"/>
                </a:lnTo>
                <a:close/>
              </a:path>
              <a:path fill="none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Дуга 30"/>
          <p:cNvSpPr/>
          <p:nvPr/>
        </p:nvSpPr>
        <p:spPr>
          <a:xfrm>
            <a:off x="3000240" y="2928960"/>
            <a:ext cx="500040" cy="7128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71280"/>
              <a:gd name="textAreaBottom" fmla="*/ 35640 h 71280"/>
            </a:gdLst>
            <a:ahLst/>
            <a:rect l="textAreaLeft" t="textAreaTop" r="textAreaRight" b="textAreaBottom"/>
            <a:pathLst>
              <a:path stroke="0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  <a:lnTo>
                  <a:pt x="250032" y="35719"/>
                </a:lnTo>
                <a:close/>
              </a:path>
              <a:path fill="none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Дуга 31"/>
          <p:cNvSpPr/>
          <p:nvPr/>
        </p:nvSpPr>
        <p:spPr>
          <a:xfrm>
            <a:off x="2857680" y="2786040"/>
            <a:ext cx="785520" cy="117360"/>
          </a:xfrm>
          <a:custGeom>
            <a:avLst/>
            <a:gdLst>
              <a:gd name="textAreaLeft" fmla="*/ 392760 w 785520"/>
              <a:gd name="textAreaRight" fmla="*/ 785880 w 785520"/>
              <a:gd name="textAreaTop" fmla="*/ 0 h 117360"/>
              <a:gd name="textAreaBottom" fmla="*/ 58680 h 117360"/>
            </a:gdLst>
            <a:ahLst/>
            <a:rect l="textAreaLeft" t="textAreaTop" r="textAreaRight" b="textAreaBottom"/>
            <a:pathLst>
              <a:path stroke="0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  <a:lnTo>
                  <a:pt x="392907" y="58738"/>
                </a:lnTo>
                <a:close/>
              </a:path>
              <a:path fill="none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9" name="Line 17"/>
          <p:cNvSpPr/>
          <p:nvPr/>
        </p:nvSpPr>
        <p:spPr>
          <a:xfrm>
            <a:off x="2195640" y="2421000"/>
            <a:ext cx="489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8"/>
          <p:cNvSpPr/>
          <p:nvPr/>
        </p:nvSpPr>
        <p:spPr>
          <a:xfrm flipV="1">
            <a:off x="4286160" y="474480"/>
            <a:ext cx="1871640" cy="19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932360" y="191628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059640" y="17733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3761280" y="2584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2556000" y="5445000"/>
            <a:ext cx="446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3"/>
          <p:cNvSpPr/>
          <p:nvPr/>
        </p:nvSpPr>
        <p:spPr>
          <a:xfrm flipV="1">
            <a:off x="4643280" y="3573000"/>
            <a:ext cx="0" cy="187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48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30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3977280" y="57531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4643280" y="5300640"/>
            <a:ext cx="14472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4500720" y="5300640"/>
            <a:ext cx="14256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9"/>
          <p:cNvSpPr/>
          <p:nvPr/>
        </p:nvSpPr>
        <p:spPr>
          <a:xfrm>
            <a:off x="7164360" y="2637000"/>
            <a:ext cx="129708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21"/>
          <p:cNvSpPr/>
          <p:nvPr/>
        </p:nvSpPr>
        <p:spPr>
          <a:xfrm>
            <a:off x="4429080" y="2214720"/>
            <a:ext cx="142920" cy="35712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  <a:lnTo>
                  <a:pt x="71438" y="178594"/>
                </a:lnTo>
                <a:close/>
              </a:path>
              <a:path fill="none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23"/>
          <p:cNvSpPr/>
          <p:nvPr/>
        </p:nvSpPr>
        <p:spPr>
          <a:xfrm flipV="1" rot="10129200">
            <a:off x="3960360" y="2194560"/>
            <a:ext cx="571680" cy="377640"/>
          </a:xfrm>
          <a:custGeom>
            <a:avLst/>
            <a:gdLst>
              <a:gd name="textAreaLeft" fmla="*/ 47520 w 571680"/>
              <a:gd name="textAreaRight" fmla="*/ 564120 w 571680"/>
              <a:gd name="textAreaTop" fmla="*/ 0 h 377640"/>
              <a:gd name="textAreaBottom" fmla="*/ 145800 h 377640"/>
            </a:gdLst>
            <a:ahLst/>
            <a:rect l="textAreaLeft" t="textAreaTop" r="textAreaRight" b="textAreaBottom"/>
            <a:pathLst>
              <a:path stroke="0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  <a:lnTo>
                  <a:pt x="285750" y="188913"/>
                </a:lnTo>
                <a:close/>
              </a:path>
              <a:path fill="none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7020000" y="5805360"/>
            <a:ext cx="143964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6" name="Line 5"/>
          <p:cNvSpPr/>
          <p:nvPr/>
        </p:nvSpPr>
        <p:spPr>
          <a:xfrm>
            <a:off x="4859280" y="3860640"/>
            <a:ext cx="2160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 flipV="1">
            <a:off x="4859280" y="1341360"/>
            <a:ext cx="72072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 flipH="1">
            <a:off x="1619280" y="3860640"/>
            <a:ext cx="324000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8"/>
          <p:cNvSpPr/>
          <p:nvPr/>
        </p:nvSpPr>
        <p:spPr>
          <a:xfrm flipH="1">
            <a:off x="4211640" y="3357720"/>
            <a:ext cx="792000" cy="5029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9"/>
          <p:cNvSpPr/>
          <p:nvPr/>
        </p:nvSpPr>
        <p:spPr>
          <a:xfrm>
            <a:off x="5005440" y="3284640"/>
            <a:ext cx="503280" cy="936360"/>
          </a:xfrm>
          <a:custGeom>
            <a:avLst/>
            <a:gdLst>
              <a:gd name="textAreaLeft" fmla="*/ 0 w 503280"/>
              <a:gd name="textAreaRight" fmla="*/ 503640 w 5032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fill="none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</a:path>
              <a:path stroke="0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  <a:lnTo>
                  <a:pt x="3602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6443640" y="5661000"/>
            <a:ext cx="136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3185280" y="284328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704560" y="341964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5" name="Line 4"/>
          <p:cNvSpPr/>
          <p:nvPr/>
        </p:nvSpPr>
        <p:spPr>
          <a:xfrm>
            <a:off x="2268360" y="3645000"/>
            <a:ext cx="554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 flipV="1">
            <a:off x="4788000" y="1052280"/>
            <a:ext cx="158436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6"/>
          <p:cNvSpPr/>
          <p:nvPr/>
        </p:nvSpPr>
        <p:spPr>
          <a:xfrm flipH="1">
            <a:off x="4500000" y="3357720"/>
            <a:ext cx="431640" cy="28728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7"/>
          <p:cNvSpPr/>
          <p:nvPr/>
        </p:nvSpPr>
        <p:spPr>
          <a:xfrm>
            <a:off x="5003640" y="328464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8"/>
          <p:cNvSpPr/>
          <p:nvPr/>
        </p:nvSpPr>
        <p:spPr>
          <a:xfrm>
            <a:off x="5076720" y="3141720"/>
            <a:ext cx="287280" cy="503280"/>
          </a:xfrm>
          <a:custGeom>
            <a:avLst/>
            <a:gdLst>
              <a:gd name="textAreaLeft" fmla="*/ 0 w 287280"/>
              <a:gd name="textAreaRight" fmla="*/ 287640 w 287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265640" y="2916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60920" y="2987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2"/>
              <p:cNvSpPr txBox="1"/>
              <p:nvPr/>
            </p:nvSpPr>
            <p:spPr>
              <a:xfrm>
                <a:off x="3419640" y="4437000"/>
                <a:ext cx="761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13"/>
          <p:cNvSpPr/>
          <p:nvPr/>
        </p:nvSpPr>
        <p:spPr>
          <a:xfrm>
            <a:off x="40694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4"/>
              <p:cNvSpPr txBox="1"/>
              <p:nvPr/>
            </p:nvSpPr>
            <p:spPr>
              <a:xfrm>
                <a:off x="4932360" y="443700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Text Box 15"/>
          <p:cNvSpPr/>
          <p:nvPr/>
        </p:nvSpPr>
        <p:spPr>
          <a:xfrm>
            <a:off x="558324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 = 18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6"/>
          <p:cNvSpPr/>
          <p:nvPr/>
        </p:nvSpPr>
        <p:spPr>
          <a:xfrm>
            <a:off x="6588000" y="5661000"/>
            <a:ext cx="100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395280" y="907920"/>
          <a:ext cx="8567640" cy="4888080"/>
        </p:xfrm>
        <a:graphic>
          <a:graphicData uri="http://schemas.openxmlformats.org/drawingml/2006/table">
            <a:tbl>
              <a:tblPr/>
              <a:tblGrid>
                <a:gridCol w="4537080"/>
                <a:gridCol w="403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Text Box 75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250920" y="1125360"/>
          <a:ext cx="8642160" cy="499932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358920" y="690840"/>
            <a:ext cx="87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умма двух углов = 200 градусов. Смежные ли эти углы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Угол, смежный с углом в 30 градусов является туп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Могут ли два смежных угла быть туп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жет ли при пересечении двух прямых образоваться четыре прямых уг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637080" y="1890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79280" y="98208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Если два различных тупых угла имеют общую сторону, то эти углы смежные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Один из двух углов, образованных при пересечении двух прямых – прямой. Остальные углы тоже прямые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1:10:34Z</dcterms:created>
  <dc:creator>Шевчук</dc:creator>
  <dc:description/>
  <dc:language>en-US</dc:language>
  <cp:lastModifiedBy>Макаров</cp:lastModifiedBy>
  <dcterms:modified xsi:type="dcterms:W3CDTF">2012-03-17T10:30:34Z</dcterms:modified>
  <cp:revision>29</cp:revision>
  <dc:subject/>
  <dc:title>Смежные  и вертикальные углы</dc:title>
</cp:coreProperties>
</file>