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830-F4CF-4CA8-BEB2-CD85B0E5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E23-2AEF-44EB-820B-977538C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A5C-FE55-47DF-BB3C-932D4BC0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7E0-B7EC-40E7-A0AD-FBE9EE3F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EFE-8730-4BAC-A9AA-14E1FF8C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7D0-D1FB-4A76-A1E3-1B131A4C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EB9-36E2-42F5-A85E-899347F2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F56-391A-4489-8EB0-603BD2D9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615-A204-4BA4-9BF2-7CA2BA11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EAD-FAA6-4C51-80D0-2C8341F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DC5-95AB-4AB7-8C25-E3E38BC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36A-0589-4C1C-ADE8-E7D5B42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7359-AB97-4CE0-9029-F8F832639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22280" y="3727440"/>
            <a:ext cx="4140360" cy="648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608" h="4">
                <a:moveTo>
                  <a:pt x="2608" y="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579920" y="112680"/>
            <a:ext cx="2341440" cy="36370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1475" h="2291">
                <a:moveTo>
                  <a:pt x="0" y="2291"/>
                </a:moveTo>
                <a:lnTo>
                  <a:pt x="1475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2"/>
          <p:cNvSpPr/>
          <p:nvPr/>
        </p:nvSpPr>
        <p:spPr>
          <a:xfrm>
            <a:off x="4557600" y="3713040"/>
            <a:ext cx="3573720" cy="25196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251" h="1587">
                <a:moveTo>
                  <a:pt x="0" y="0"/>
                </a:moveTo>
                <a:lnTo>
                  <a:pt x="2251" y="158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60" y="-92880"/>
            <a:ext cx="22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81440" y="291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514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rc 9"/>
          <p:cNvSpPr/>
          <p:nvPr/>
        </p:nvSpPr>
        <p:spPr>
          <a:xfrm>
            <a:off x="5029200" y="3048120"/>
            <a:ext cx="304920" cy="1218960"/>
          </a:xfrm>
          <a:custGeom>
            <a:avLst/>
            <a:gdLst>
              <a:gd name="textAreaLeft" fmla="*/ 0 w 304920"/>
              <a:gd name="textAreaRight" fmla="*/ 305280 w 304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65120" y="4950000"/>
            <a:ext cx="8359920" cy="14040"/>
          </a:xfrm>
          <a:custGeom>
            <a:avLst/>
            <a:gdLst>
              <a:gd name="textAreaLeft" fmla="*/ 0 w 8359920"/>
              <a:gd name="textAreaRight" fmla="*/ 8360280 w 8359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5266" h="9">
                <a:moveTo>
                  <a:pt x="0" y="0"/>
                </a:moveTo>
                <a:lnTo>
                  <a:pt x="5266" y="9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81040" y="3048120"/>
            <a:ext cx="3943440" cy="189072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2484" h="1191">
                <a:moveTo>
                  <a:pt x="0" y="0"/>
                </a:moveTo>
                <a:lnTo>
                  <a:pt x="2484" y="1191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60" y="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364120" y="41450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4114800" y="3505320"/>
            <a:ext cx="83808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11360" y="3933720"/>
            <a:ext cx="7503840" cy="14400"/>
          </a:xfrm>
          <a:custGeom>
            <a:avLst/>
            <a:gdLst>
              <a:gd name="textAreaLeft" fmla="*/ 0 w 7503840"/>
              <a:gd name="textAreaRight" fmla="*/ 7504200 w 750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727" h="9">
                <a:moveTo>
                  <a:pt x="0" y="9"/>
                </a:moveTo>
                <a:lnTo>
                  <a:pt x="47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4543560" y="479520"/>
            <a:ext cx="14040" cy="5979960"/>
          </a:xfrm>
          <a:custGeom>
            <a:avLst/>
            <a:gdLst>
              <a:gd name="textAreaLeft" fmla="*/ 0 w 14040"/>
              <a:gd name="textAreaRight" fmla="*/ 14400 w 14040"/>
              <a:gd name="textAreaTop" fmla="*/ 0 h 5979960"/>
              <a:gd name="textAreaBottom" fmla="*/ 5980320 h 5979960"/>
            </a:gdLst>
            <a:ahLst/>
            <a:rect l="textAreaLeft" t="textAreaTop" r="textAreaRight" b="textAreaBottom"/>
            <a:pathLst>
              <a:path w="9" h="3767">
                <a:moveTo>
                  <a:pt x="9" y="0"/>
                </a:moveTo>
                <a:lnTo>
                  <a:pt x="0" y="376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160" y="-9288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1120" y="2428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47920" y="2437200"/>
            <a:ext cx="65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24240" y="4144320"/>
            <a:ext cx="60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6"/>
          <p:cNvSpPr/>
          <p:nvPr/>
        </p:nvSpPr>
        <p:spPr>
          <a:xfrm>
            <a:off x="5181480" y="3513240"/>
            <a:ext cx="3497400" cy="144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03" h="1">
                <a:moveTo>
                  <a:pt x="0" y="0"/>
                </a:moveTo>
                <a:lnTo>
                  <a:pt x="2203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5181480" y="609480"/>
            <a:ext cx="1135080" cy="29386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2938680"/>
              <a:gd name="textAreaBottom" fmla="*/ 2938680 h 2938680"/>
            </a:gdLst>
            <a:ahLst/>
            <a:rect l="textAreaLeft" t="textAreaTop" r="textAreaRight" b="textAreaBottom"/>
            <a:pathLst>
              <a:path w="715" h="1851">
                <a:moveTo>
                  <a:pt x="0" y="1851"/>
                </a:moveTo>
                <a:lnTo>
                  <a:pt x="71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465200" y="3513240"/>
            <a:ext cx="3730680" cy="1320840"/>
          </a:xfrm>
          <a:custGeom>
            <a:avLst/>
            <a:gdLst>
              <a:gd name="textAreaLeft" fmla="*/ 0 w 3730680"/>
              <a:gd name="textAreaRight" fmla="*/ 3730680 w 37306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2350" h="832">
                <a:moveTo>
                  <a:pt x="2350" y="0"/>
                </a:moveTo>
                <a:lnTo>
                  <a:pt x="0" y="83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-9216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800" y="2460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7"/>
          <p:cNvSpPr/>
          <p:nvPr/>
        </p:nvSpPr>
        <p:spPr>
          <a:xfrm>
            <a:off x="5486400" y="2819520"/>
            <a:ext cx="380880" cy="685800"/>
          </a:xfrm>
          <a:custGeom>
            <a:avLst/>
            <a:gdLst>
              <a:gd name="textAreaLeft" fmla="*/ 0 w 380880"/>
              <a:gd name="textAreaRight" fmla="*/ 381240 w 380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flipH="1">
            <a:off x="4572000" y="28195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281240" y="4626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105520" y="35053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4680" y="3581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8367840" y="34034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539040" y="20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62120" y="54864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066680" y="554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D 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066680" y="563868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3733920" y="5638680"/>
                <a:ext cx="76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9"/>
          <p:cNvSpPr/>
          <p:nvPr/>
        </p:nvSpPr>
        <p:spPr>
          <a:xfrm>
            <a:off x="4344480" y="5562720"/>
            <a:ext cx="36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BC = 20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 rot="18199200">
            <a:off x="4647600" y="1218960"/>
            <a:ext cx="2362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957240" y="3338640"/>
            <a:ext cx="4064040" cy="1404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60" h="9">
                <a:moveTo>
                  <a:pt x="2560" y="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5021280" y="449280"/>
            <a:ext cx="1946160" cy="288936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226" h="1820">
                <a:moveTo>
                  <a:pt x="0" y="1820"/>
                </a:moveTo>
                <a:lnTo>
                  <a:pt x="1226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964040" y="3338640"/>
            <a:ext cx="2684520" cy="278604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1691" h="1755">
                <a:moveTo>
                  <a:pt x="0" y="0"/>
                </a:moveTo>
                <a:lnTo>
                  <a:pt x="1691" y="1755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28600" y="2286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960" y="4983120"/>
            <a:ext cx="91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22"/>
          <p:cNvSpPr/>
          <p:nvPr/>
        </p:nvSpPr>
        <p:spPr>
          <a:xfrm>
            <a:off x="5410080" y="2668680"/>
            <a:ext cx="76320" cy="1226880"/>
          </a:xfrm>
          <a:custGeom>
            <a:avLst/>
            <a:gdLst>
              <a:gd name="textAreaLeft" fmla="*/ 0 w 76320"/>
              <a:gd name="textAreaRight" fmla="*/ 76320 w 763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fill="none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</a:path>
              <a:path stroke="0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3886200" y="32767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536400" y="3801960"/>
            <a:ext cx="7548840" cy="1800"/>
          </a:xfrm>
          <a:custGeom>
            <a:avLst/>
            <a:gdLst>
              <a:gd name="textAreaLeft" fmla="*/ 0 w 7548840"/>
              <a:gd name="textAreaRight" fmla="*/ 7549200 w 7548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55" h="1">
                <a:moveTo>
                  <a:pt x="0" y="0"/>
                </a:moveTo>
                <a:lnTo>
                  <a:pt x="475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4484520" y="770040"/>
            <a:ext cx="14400" cy="5718240"/>
          </a:xfrm>
          <a:custGeom>
            <a:avLst/>
            <a:gdLst>
              <a:gd name="textAreaLeft" fmla="*/ 0 w 14400"/>
              <a:gd name="textAreaRight" fmla="*/ 14760 w 14400"/>
              <a:gd name="textAreaTop" fmla="*/ 0 h 5718240"/>
              <a:gd name="textAreaBottom" fmla="*/ 5718600 h 5718240"/>
            </a:gdLst>
            <a:ahLst/>
            <a:rect l="textAreaLeft" t="textAreaTop" r="textAreaRight" b="textAreaBottom"/>
            <a:pathLst>
              <a:path w="9" h="3602">
                <a:moveTo>
                  <a:pt x="0" y="0"/>
                </a:moveTo>
                <a:lnTo>
                  <a:pt x="9" y="3602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6000" y="-10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59960" y="1957320"/>
            <a:ext cx="46051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60" y="3750480"/>
            <a:ext cx="846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03-17T10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