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41C-D111-451E-B5AB-4C8F68F0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BBA-5EED-41BA-B95F-9B134C8A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91C96-C5C7-44EE-97EA-52054E42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70A7E-4889-40EC-9542-FEDA5CA3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56B95-B135-4E88-B5C7-EC041555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9B2A6-89BC-4558-A150-29CFFB47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F3365-C5EE-4BCD-8736-704B5E52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068F5-F96E-427E-BA44-3722C8C5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DD40D-1CF8-4CB1-9404-79DD8FEB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C8455-2372-43F3-9635-E14A6211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639C8-D5CD-4D41-8AC2-E24944BD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F676C-DC1C-4E33-B65B-20478248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FA7-5343-46DC-8E45-BB16E3A5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98937-9492-4976-9B9C-97B86963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DF510-2BE3-4132-8B6A-B636269B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BA968-55F5-4F78-96ED-DDE85B5F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4E39E-019C-4987-B7A5-16DEEA2B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B6E0F-0F09-4BA7-8EA2-32E0D5E4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98D63-8BC4-4096-AE19-F04B872B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AAAF1-8A6B-40FF-9A52-D19A9A94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71127-0A8F-4253-8E25-E3A016E1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48FD6-BEC9-4184-9C01-70A8E559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730C9-08B9-4CE8-91E7-791A6939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23F-B3E2-47B0-85D9-492EC4D6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7A4EC-9696-40FC-A999-E74494A7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6D775-70BC-4240-851D-7EB024F6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290FD-03B9-4ADD-99A7-F74D8F03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F8163-1971-45CA-B548-A75E7972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9568C-82AA-484E-98B6-0E899DCB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AA001-79C7-4CD8-901E-10FE1278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1BEFC-0B2D-4C86-BADE-B9FFB264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DB996-60C9-47D5-8E3D-4460E6CC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46E59-D593-43C2-BC04-B3033D31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81BC7-05F4-4052-9F14-3AA1D62A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1FDF-F774-47C2-84A1-6382E831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B5793-C336-4B11-BAFF-F39DA23A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64042-48C6-49FA-9DA9-AA79005A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92890-6F62-4613-93D3-06DA2251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3D45F-D845-4128-88D1-AB398D75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F3A9F-58BE-41C0-A6C1-57A05DAC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D89F9-2456-47D2-B454-BD2C7336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AC2C7-6EE3-440E-ACE2-1FFF3478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7CAB7-B014-4D0F-BA67-137B037E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C6872-DC52-4638-BE6F-360AC35E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29E74-2083-4689-81E9-A40CEDE5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C479-8EB2-49CB-B292-63420EC3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174C4-F3CF-4DF9-BE0C-BB26FBFC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3CD44-BFD7-41CB-8302-0B8F2FE8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D1CB8-83C1-4BC8-A3AE-AF24D81E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E390A-57C7-4F8A-95F5-8AFD7E4D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5DF32-E33E-4579-975E-FA512280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077761-A16C-40FD-8A4D-CD36DD7A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8AA97-7FE4-407A-B570-F32B5A0C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F6C21-7654-4C35-BE0E-8BA217A5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E502A-1B85-41CA-B7F6-65E3C545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30824-C9E4-41A6-8FFB-6CF1597B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CAB8-81C6-4357-A9F3-0F763115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3AA33-E641-4421-ACAB-9E91B618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047F1-92E4-4A12-96A0-89A353B5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6FEC3-ACE8-4AE6-A6DC-8B9496B8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CC336-8167-424D-9FB2-9C3B599D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AA443-D266-4DCF-BD47-922DE1B9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B1B14-0303-470E-9A89-4E9C78D6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3D8FE5-88B5-4A1E-820E-CBBEFF47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7C00-A10B-4031-9744-8A0084DA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D814-E751-4586-A893-E6A3BF6E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3B90-A21F-4535-8F88-063912EF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5312-4D83-4388-88FF-40002DBA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5C85-0A5C-422D-93F8-304051C7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36EC-0EBB-4599-B309-B389AE60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4BCB-0604-4A53-9BB6-6060FA0F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ADBE-71F7-4135-83A9-B023E482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FC10-7E2C-4772-8BE8-AFF2184C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C1B8-493C-4C29-91F8-3BFC19D3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4C05-F07C-45CB-AB06-8F0D96EC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1E1A6-410A-4953-AF9B-8A9B1D8C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47E63-F66F-4DEC-A580-0B989375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264D-C0F5-4EA0-BE67-771DDC5E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02656-C8D2-458A-9D80-34D26D4E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187-7435-4B41-BA04-44F07402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1E09F-8C60-4183-8A7B-3FD3C384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63268-7B35-40FF-8B9D-91BB864E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50539-7EF4-4981-B42A-047991CC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ECA17-3CB7-4C29-8AD7-EEE75CB6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B69E-57F0-44CC-AC58-A4291A77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1E4A0-E8D2-4D66-9777-C48F3D68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64825-0A35-4DF3-A1FF-37A14B44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EAF68-F24C-47CD-B51A-AABD845E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B9076-450C-4357-AE73-13050F4D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6B0FB-0445-425A-85D9-CB6D30F7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2E1-1179-48BB-A0F7-72DE9678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AA544-757E-4F7A-9D1D-9AB5BD2B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82183-4C8C-49FF-BB11-E712E869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0B1A2-BE95-479E-BDA8-EA9E6EB7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F9662-7DDD-4DA4-9F5A-BBAEDBCC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5786C-0822-4C65-9898-B71769CE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9C74B-735E-4258-A954-E13658A7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88BF1-B02B-46D6-A9A0-B16A4910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37913-D43A-4CA2-B9C5-66F21FBF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579C4-4D32-410E-B2FB-093FF578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39E75-6549-41B8-9BAD-F59FE043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E7D-22F9-41D3-AA0E-C99290EE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D1BA3-03C3-4D79-B2BF-2724F1BF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CC182-671A-4954-AF1F-D1A36F7D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07A4C-57E8-40A5-B2D9-0EFC3A58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F4872-DE78-4607-9FC7-42F45425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AECA2-A262-48A1-96B3-F364474E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5B9B8-D18D-4527-BA5B-5F364FD8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4C41B-DE00-4FC8-9979-402FC941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9603B-A8AB-41FD-A350-DD20D7EE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2B71C-9456-4742-A390-75633535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BB40C-0EF2-491C-9768-E2D9DE65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FF2-E3CA-4DF3-A833-1C1B7028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1206F-57DF-4276-B430-38CA6B00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8AC22-ACEE-407E-B18D-695F678D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B021C-3C38-4450-986D-2E6C8845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D51E8-5DA4-40EC-ADD7-8D20EB84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E8C81-04C8-4DDF-9DE6-DD07CAF5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52F98-6147-4BFE-963E-56E1210A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8E31C-E5FA-41B9-983F-E7336CA8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1902D-896F-455B-918A-E38FA4B0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2D2E0-B4FA-4FAD-9FE1-E77B403D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DAA11-FD6B-471A-B405-3AB22448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4C5-D8EF-4E84-9181-51507930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F1025-7350-4401-A5F9-FBB0DE53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FA5C2-802E-4814-BC43-8A1488D6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22201-DB4D-4E22-83AE-EB0CA144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77006-6CAB-432A-88D5-418E13AD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3F631-21BA-4E91-8BA5-4DBE8CB1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44AA8-8C32-4C14-A001-DA3A9F0B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8A0EF-2CDF-4878-B0B3-95799D60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2F170-AE41-4DED-8212-F482E1F5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A9C66-B0F2-4FAE-ACC3-84C9D148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E726B-9AC4-4FEE-B094-4F264191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537-EC6D-495E-BCF6-32B657B0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B5B88-B613-4427-9013-E2723D63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2F717-32AA-48F6-A2F7-C231CD78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8D2FA-1F36-425E-BA68-32E82137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C6C19-B51D-40E5-A9A1-5326F6DD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49BD2-4D29-497F-8104-59E78EC9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E728A-60C1-4936-AB99-8FD536FC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0196C-2F98-4DC8-BA84-292B59BA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D346A-83B3-4A34-B5CD-563719BB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63CE0-281F-4937-BEB1-23EB53F9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73C98-2740-46CE-86E6-4EA17655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090-0220-49A8-B733-FDB31572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F8F8D-6955-4716-98BB-53875C52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9D609-2D87-4FAA-956A-2249D58D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767C0-881D-4C07-8A4F-5B1BB5BA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BE95E-196D-49C4-9544-2663AD18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6FEB2-8821-4409-B017-BBE3242F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7CA11-182D-4E01-9575-DD43CCC4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546AB-825F-43FC-8A9F-6166FA9E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49881-0D76-4D1E-9B60-1CAEA96C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114CF-9996-4257-AE2B-F43F46CA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B359A-F3B8-4713-A204-A983F4D4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02E4-5C84-476E-A2DF-11D0F88941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724E-4B07-449A-B05B-1048754F05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A9E5-DDB9-46EF-AC19-F47D7BFD88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ED13-207F-4EC7-9EE5-1342E07C14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68DE-118E-4276-871B-33FF9416FA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3E13-3444-4F9B-86E8-87D126A5C9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418B-743A-48BB-844E-F8D8DD509A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DB62-A23C-4B69-A4E8-35C80035DA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49FE-794A-42B6-B966-48E5A77369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DE60-501B-445D-B733-23EAF21DCB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A11A-ADC9-4DF4-B645-17C52E9606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8C19-9382-4A69-B019-0016C6CF50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8080-8401-440B-BD05-690A3FD88D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16000" y="1773360"/>
            <a:ext cx="80280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00"/>
                </a:solidFill>
                <a:latin typeface="American Retro"/>
              </a:rPr>
              <a:t>Смежные   угл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763640" y="907560"/>
            <a:ext cx="6400800" cy="14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тр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Segoe Print"/>
              </a:rPr>
              <a:t>Проверяе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3"/>
          <p:cNvSpPr/>
          <p:nvPr/>
        </p:nvSpPr>
        <p:spPr>
          <a:xfrm>
            <a:off x="1800360" y="2060640"/>
            <a:ext cx="734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4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3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&l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решений – 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611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99"/>
                </a:solidFill>
                <a:uFillTx/>
                <a:latin typeface="American Retro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611360" indent="0" algn="ctr"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ить 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611360" indent="0" algn="ctr"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тему « Смежные углы»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Olietta script-Poesia"/>
              </a:rPr>
              <a:t>Спасибо за урок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55" name="Line 10"/>
          <p:cNvSpPr/>
          <p:nvPr/>
        </p:nvSpPr>
        <p:spPr>
          <a:xfrm>
            <a:off x="3276720" y="3213000"/>
            <a:ext cx="3311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 flipV="1">
            <a:off x="3276720" y="1484280"/>
            <a:ext cx="1942920" cy="1728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2"/>
          <p:cNvSpPr/>
          <p:nvPr/>
        </p:nvSpPr>
        <p:spPr>
          <a:xfrm flipH="1" flipV="1">
            <a:off x="2916000" y="1052280"/>
            <a:ext cx="360360" cy="21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248616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5345280" y="136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6569280" y="30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2968560" y="3160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3618360" y="3592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0"/>
          <p:cNvSpPr/>
          <p:nvPr/>
        </p:nvSpPr>
        <p:spPr>
          <a:xfrm rot="19088400">
            <a:off x="3636720" y="2059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32"/>
          <p:cNvSpPr/>
          <p:nvPr/>
        </p:nvSpPr>
        <p:spPr>
          <a:xfrm>
            <a:off x="7236000" y="5516640"/>
            <a:ext cx="1152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Дуга 26"/>
          <p:cNvSpPr/>
          <p:nvPr/>
        </p:nvSpPr>
        <p:spPr>
          <a:xfrm>
            <a:off x="3571920" y="2928960"/>
            <a:ext cx="142920" cy="500040"/>
          </a:xfrm>
          <a:custGeom>
            <a:avLst/>
            <a:gdLst>
              <a:gd name="textAreaLeft" fmla="*/ 71640 w 142920"/>
              <a:gd name="textAreaRight" fmla="*/ 143280 w 14292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stroke="0" w="142875" h="500062">
                <a:moveTo>
                  <a:pt x="71438" y="0"/>
                </a:moveTo>
                <a:lnTo>
                  <a:pt x="71438" y="0"/>
                </a:lnTo>
                <a:arcTo wR="71438" hR="250031" stAng="-5400000" swAng="5400000"/>
                <a:lnTo>
                  <a:pt x="71438" y="250031"/>
                </a:lnTo>
                <a:close/>
              </a:path>
              <a:path fill="none" w="142875" h="500062">
                <a:moveTo>
                  <a:pt x="71438" y="0"/>
                </a:moveTo>
                <a:lnTo>
                  <a:pt x="71438" y="0"/>
                </a:lnTo>
                <a:arcTo wR="71438" hR="250031" stAng="-5400000" swAng="5400000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Дуга 30"/>
          <p:cNvSpPr/>
          <p:nvPr/>
        </p:nvSpPr>
        <p:spPr>
          <a:xfrm>
            <a:off x="3000240" y="2928960"/>
            <a:ext cx="500040" cy="71280"/>
          </a:xfrm>
          <a:custGeom>
            <a:avLst/>
            <a:gdLst>
              <a:gd name="textAreaLeft" fmla="*/ 250200 w 500040"/>
              <a:gd name="textAreaRight" fmla="*/ 500400 w 500040"/>
              <a:gd name="textAreaTop" fmla="*/ 0 h 71280"/>
              <a:gd name="textAreaBottom" fmla="*/ 35640 h 71280"/>
            </a:gdLst>
            <a:ahLst/>
            <a:rect l="textAreaLeft" t="textAreaTop" r="textAreaRight" b="textAreaBottom"/>
            <a:pathLst>
              <a:path stroke="0" w="500063" h="71437">
                <a:moveTo>
                  <a:pt x="250032" y="0"/>
                </a:moveTo>
                <a:lnTo>
                  <a:pt x="250032" y="0"/>
                </a:lnTo>
                <a:arcTo wR="250032" hR="35719" stAng="-5400000" swAng="5400014"/>
                <a:lnTo>
                  <a:pt x="250032" y="35719"/>
                </a:lnTo>
                <a:close/>
              </a:path>
              <a:path fill="none" w="500063" h="71437">
                <a:moveTo>
                  <a:pt x="250032" y="0"/>
                </a:moveTo>
                <a:lnTo>
                  <a:pt x="250032" y="0"/>
                </a:lnTo>
                <a:arcTo wR="250032" hR="35719" stAng="-5400000" swAng="5400014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Дуга 31"/>
          <p:cNvSpPr/>
          <p:nvPr/>
        </p:nvSpPr>
        <p:spPr>
          <a:xfrm>
            <a:off x="2857680" y="2786040"/>
            <a:ext cx="785520" cy="117360"/>
          </a:xfrm>
          <a:custGeom>
            <a:avLst/>
            <a:gdLst>
              <a:gd name="textAreaLeft" fmla="*/ 392760 w 785520"/>
              <a:gd name="textAreaRight" fmla="*/ 785880 w 785520"/>
              <a:gd name="textAreaTop" fmla="*/ 0 h 117360"/>
              <a:gd name="textAreaBottom" fmla="*/ 58680 h 117360"/>
            </a:gdLst>
            <a:ahLst/>
            <a:rect l="textAreaLeft" t="textAreaTop" r="textAreaRight" b="textAreaBottom"/>
            <a:pathLst>
              <a:path stroke="0" w="785813" h="117475">
                <a:moveTo>
                  <a:pt x="392907" y="0"/>
                </a:moveTo>
                <a:lnTo>
                  <a:pt x="392907" y="0"/>
                </a:lnTo>
                <a:arcTo wR="392907" hR="58738" stAng="-5400000" swAng="5400009"/>
                <a:lnTo>
                  <a:pt x="392907" y="58738"/>
                </a:lnTo>
                <a:close/>
              </a:path>
              <a:path fill="none" w="785813" h="117475">
                <a:moveTo>
                  <a:pt x="392907" y="0"/>
                </a:moveTo>
                <a:lnTo>
                  <a:pt x="392907" y="0"/>
                </a:lnTo>
                <a:arcTo wR="392907" hR="58738" stAng="-5400000" swAng="5400009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69" name="Line 17"/>
          <p:cNvSpPr/>
          <p:nvPr/>
        </p:nvSpPr>
        <p:spPr>
          <a:xfrm>
            <a:off x="2195640" y="2421000"/>
            <a:ext cx="489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8"/>
          <p:cNvSpPr/>
          <p:nvPr/>
        </p:nvSpPr>
        <p:spPr>
          <a:xfrm flipV="1">
            <a:off x="4286160" y="474480"/>
            <a:ext cx="1871640" cy="19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932360" y="1916280"/>
            <a:ext cx="113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3059640" y="177336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3761280" y="2584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2556000" y="5445000"/>
            <a:ext cx="4464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3"/>
          <p:cNvSpPr/>
          <p:nvPr/>
        </p:nvSpPr>
        <p:spPr>
          <a:xfrm flipV="1">
            <a:off x="4643280" y="3573000"/>
            <a:ext cx="0" cy="187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4840200" y="486396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5"/>
          <p:cNvSpPr/>
          <p:nvPr/>
        </p:nvSpPr>
        <p:spPr>
          <a:xfrm>
            <a:off x="3040200" y="486396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6"/>
          <p:cNvSpPr/>
          <p:nvPr/>
        </p:nvSpPr>
        <p:spPr>
          <a:xfrm>
            <a:off x="3977280" y="57531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7"/>
          <p:cNvSpPr/>
          <p:nvPr/>
        </p:nvSpPr>
        <p:spPr>
          <a:xfrm>
            <a:off x="4643280" y="5300640"/>
            <a:ext cx="144720" cy="144360"/>
          </a:xfrm>
          <a:prstGeom prst="rect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8"/>
          <p:cNvSpPr/>
          <p:nvPr/>
        </p:nvSpPr>
        <p:spPr>
          <a:xfrm>
            <a:off x="4500720" y="5300640"/>
            <a:ext cx="142560" cy="144360"/>
          </a:xfrm>
          <a:prstGeom prst="rect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29"/>
          <p:cNvSpPr/>
          <p:nvPr/>
        </p:nvSpPr>
        <p:spPr>
          <a:xfrm>
            <a:off x="7164360" y="2637000"/>
            <a:ext cx="129708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Дуга 21"/>
          <p:cNvSpPr/>
          <p:nvPr/>
        </p:nvSpPr>
        <p:spPr>
          <a:xfrm>
            <a:off x="4429080" y="2214720"/>
            <a:ext cx="142920" cy="357120"/>
          </a:xfrm>
          <a:custGeom>
            <a:avLst/>
            <a:gdLst>
              <a:gd name="textAreaLeft" fmla="*/ 71640 w 142920"/>
              <a:gd name="textAreaRight" fmla="*/ 143280 w 142920"/>
              <a:gd name="textAreaTop" fmla="*/ 0 h 357120"/>
              <a:gd name="textAreaBottom" fmla="*/ 178560 h 357120"/>
            </a:gdLst>
            <a:ahLst/>
            <a:rect l="textAreaLeft" t="textAreaTop" r="textAreaRight" b="textAreaBottom"/>
            <a:pathLst>
              <a:path stroke="0" w="142875" h="357187">
                <a:moveTo>
                  <a:pt x="71438" y="0"/>
                </a:moveTo>
                <a:lnTo>
                  <a:pt x="71438" y="0"/>
                </a:lnTo>
                <a:arcTo wR="71438" hR="178594" stAng="-5400000" swAng="5400000"/>
                <a:lnTo>
                  <a:pt x="71438" y="178594"/>
                </a:lnTo>
                <a:close/>
              </a:path>
              <a:path fill="none" w="142875" h="357187">
                <a:moveTo>
                  <a:pt x="71438" y="0"/>
                </a:moveTo>
                <a:lnTo>
                  <a:pt x="71438" y="0"/>
                </a:lnTo>
                <a:arcTo wR="71438" hR="178594" stAng="-5400000" swAng="5400000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Дуга 23"/>
          <p:cNvSpPr/>
          <p:nvPr/>
        </p:nvSpPr>
        <p:spPr>
          <a:xfrm flipV="1" rot="10129200">
            <a:off x="3960360" y="2194560"/>
            <a:ext cx="571680" cy="377640"/>
          </a:xfrm>
          <a:custGeom>
            <a:avLst/>
            <a:gdLst>
              <a:gd name="textAreaLeft" fmla="*/ 47520 w 571680"/>
              <a:gd name="textAreaRight" fmla="*/ 564120 w 571680"/>
              <a:gd name="textAreaTop" fmla="*/ 0 h 377640"/>
              <a:gd name="textAreaBottom" fmla="*/ 145800 h 377640"/>
            </a:gdLst>
            <a:ahLst/>
            <a:rect l="textAreaLeft" t="textAreaTop" r="textAreaRight" b="textAreaBottom"/>
            <a:pathLst>
              <a:path stroke="0" w="571500" h="377825">
                <a:moveTo>
                  <a:pt x="47592" y="84520"/>
                </a:moveTo>
                <a:lnTo>
                  <a:pt x="47592" y="84520"/>
                </a:lnTo>
                <a:arcTo wR="285750" hR="188913" stAng="-9379841" swAng="8850483"/>
                <a:lnTo>
                  <a:pt x="285750" y="188913"/>
                </a:lnTo>
                <a:close/>
              </a:path>
              <a:path fill="none" w="571500" h="377825">
                <a:moveTo>
                  <a:pt x="47592" y="84520"/>
                </a:moveTo>
                <a:lnTo>
                  <a:pt x="47592" y="84520"/>
                </a:lnTo>
                <a:arcTo wR="285750" hR="188913" stAng="-9379841" swAng="8850483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7020000" y="5805360"/>
            <a:ext cx="143964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86" name="Line 5"/>
          <p:cNvSpPr/>
          <p:nvPr/>
        </p:nvSpPr>
        <p:spPr>
          <a:xfrm>
            <a:off x="4859280" y="3860640"/>
            <a:ext cx="216072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6"/>
          <p:cNvSpPr/>
          <p:nvPr/>
        </p:nvSpPr>
        <p:spPr>
          <a:xfrm flipV="1">
            <a:off x="4859280" y="1341360"/>
            <a:ext cx="720720" cy="25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7"/>
          <p:cNvSpPr/>
          <p:nvPr/>
        </p:nvSpPr>
        <p:spPr>
          <a:xfrm flipH="1">
            <a:off x="1619280" y="3860640"/>
            <a:ext cx="324000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8"/>
          <p:cNvSpPr/>
          <p:nvPr/>
        </p:nvSpPr>
        <p:spPr>
          <a:xfrm flipH="1">
            <a:off x="4211640" y="3357720"/>
            <a:ext cx="792000" cy="502920"/>
          </a:xfrm>
          <a:custGeom>
            <a:avLst/>
            <a:gdLst>
              <a:gd name="textAreaLeft" fmla="*/ 360 w 792000"/>
              <a:gd name="textAreaRight" fmla="*/ 792720 w 79200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rc 9"/>
          <p:cNvSpPr/>
          <p:nvPr/>
        </p:nvSpPr>
        <p:spPr>
          <a:xfrm>
            <a:off x="5005440" y="3284640"/>
            <a:ext cx="503280" cy="936360"/>
          </a:xfrm>
          <a:custGeom>
            <a:avLst/>
            <a:gdLst>
              <a:gd name="textAreaLeft" fmla="*/ 0 w 503280"/>
              <a:gd name="textAreaRight" fmla="*/ 503640 w 50328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fill="none" w="25202" h="21600">
                <a:moveTo>
                  <a:pt x="0" y="302"/>
                </a:moveTo>
                <a:cubicBezTo>
                  <a:pt x="1190" y="101"/>
                  <a:pt x="2395" y="-1"/>
                  <a:pt x="3602" y="0"/>
                </a:cubicBezTo>
                <a:cubicBezTo>
                  <a:pt x="15531" y="0"/>
                  <a:pt x="25202" y="9670"/>
                  <a:pt x="25202" y="21600"/>
                </a:cubicBezTo>
              </a:path>
              <a:path stroke="0" w="25202" h="21600">
                <a:moveTo>
                  <a:pt x="0" y="302"/>
                </a:moveTo>
                <a:cubicBezTo>
                  <a:pt x="1190" y="101"/>
                  <a:pt x="2395" y="-1"/>
                  <a:pt x="3602" y="0"/>
                </a:cubicBezTo>
                <a:cubicBezTo>
                  <a:pt x="15531" y="0"/>
                  <a:pt x="25202" y="9670"/>
                  <a:pt x="25202" y="21600"/>
                </a:cubicBezTo>
                <a:lnTo>
                  <a:pt x="3602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6443640" y="5661000"/>
            <a:ext cx="1368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3185280" y="2843280"/>
            <a:ext cx="13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5704560" y="3419640"/>
            <a:ext cx="13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95" name="Line 4"/>
          <p:cNvSpPr/>
          <p:nvPr/>
        </p:nvSpPr>
        <p:spPr>
          <a:xfrm>
            <a:off x="2268360" y="3645000"/>
            <a:ext cx="554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 flipV="1">
            <a:off x="4788000" y="1052280"/>
            <a:ext cx="158436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rc 6"/>
          <p:cNvSpPr/>
          <p:nvPr/>
        </p:nvSpPr>
        <p:spPr>
          <a:xfrm flipH="1">
            <a:off x="4500000" y="3357720"/>
            <a:ext cx="431640" cy="28728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rc 7"/>
          <p:cNvSpPr/>
          <p:nvPr/>
        </p:nvSpPr>
        <p:spPr>
          <a:xfrm>
            <a:off x="5003640" y="328464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rc 8"/>
          <p:cNvSpPr/>
          <p:nvPr/>
        </p:nvSpPr>
        <p:spPr>
          <a:xfrm>
            <a:off x="5076720" y="3141720"/>
            <a:ext cx="287280" cy="503280"/>
          </a:xfrm>
          <a:custGeom>
            <a:avLst/>
            <a:gdLst>
              <a:gd name="textAreaLeft" fmla="*/ 0 w 287280"/>
              <a:gd name="textAreaRight" fmla="*/ 287640 w 287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4265640" y="2916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5560920" y="2987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12"/>
              <p:cNvSpPr txBox="1"/>
              <p:nvPr/>
            </p:nvSpPr>
            <p:spPr>
              <a:xfrm>
                <a:off x="3419640" y="4437000"/>
                <a:ext cx="7617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13"/>
          <p:cNvSpPr/>
          <p:nvPr/>
        </p:nvSpPr>
        <p:spPr>
          <a:xfrm>
            <a:off x="406944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14"/>
              <p:cNvSpPr txBox="1"/>
              <p:nvPr/>
            </p:nvSpPr>
            <p:spPr>
              <a:xfrm>
                <a:off x="4932360" y="4437000"/>
                <a:ext cx="7621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Text Box 15"/>
          <p:cNvSpPr/>
          <p:nvPr/>
        </p:nvSpPr>
        <p:spPr>
          <a:xfrm>
            <a:off x="5583240" y="450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 = 18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6"/>
          <p:cNvSpPr/>
          <p:nvPr/>
        </p:nvSpPr>
        <p:spPr>
          <a:xfrm>
            <a:off x="6588000" y="5661000"/>
            <a:ext cx="1008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395280" y="907920"/>
          <a:ext cx="8567640" cy="4888080"/>
        </p:xfrm>
        <a:graphic>
          <a:graphicData uri="http://schemas.openxmlformats.org/drawingml/2006/table">
            <a:tbl>
              <a:tblPr/>
              <a:tblGrid>
                <a:gridCol w="4537080"/>
                <a:gridCol w="403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7" name="Text Box 75"/>
          <p:cNvSpPr/>
          <p:nvPr/>
        </p:nvSpPr>
        <p:spPr>
          <a:xfrm>
            <a:off x="3689640" y="2286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250920" y="1125360"/>
          <a:ext cx="8642160" cy="499932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 всег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 всег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4"/>
          <p:cNvSpPr/>
          <p:nvPr/>
        </p:nvSpPr>
        <p:spPr>
          <a:xfrm>
            <a:off x="358920" y="690840"/>
            <a:ext cx="8785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умма двух углов = 200 градусов. Смежные ли эти углы?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Т, рис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Угол, смежный с углом в 30 градусов является туп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, рис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Могут ли два смежных угла быть туп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Т, 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Может ли при пересечении двух прямых образоваться четыре прямых уг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, рис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637080" y="1890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4"/>
          <p:cNvSpPr/>
          <p:nvPr/>
        </p:nvSpPr>
        <p:spPr>
          <a:xfrm>
            <a:off x="3689640" y="2286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179280" y="982080"/>
            <a:ext cx="89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Если два различных тупых угла имеют общую сторону, то эти углы смежные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Т, рис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Один из двух углов, образованных при пересечении двух прямых – прямой. Остальные углы тоже прямые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А, рис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1:10:34Z</dcterms:created>
  <dc:creator>Шевчук</dc:creator>
  <dc:description/>
  <dc:language>en-US</dc:language>
  <cp:lastModifiedBy>Макаров</cp:lastModifiedBy>
  <dcterms:modified xsi:type="dcterms:W3CDTF">2012-03-17T10:30:34Z</dcterms:modified>
  <cp:revision>29</cp:revision>
  <dc:subject/>
  <dc:title>Смежные  и вертикальные углы</dc:title>
</cp:coreProperties>
</file>