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FA2-66E6-48CB-87A4-D73B4168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D62-A58B-4B84-9C86-242A51E8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E35C6-D5BE-43E5-A20A-DB43DF6A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BFB4D-8BFD-4D62-9C93-62263E7F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04030-1D7E-42AA-9829-389224D0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0FA64-796E-42A0-BB04-A21B9E13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A579B-2AA9-4E3C-9F4F-37C4A406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BE4B4-9D42-40F1-9608-6B49F7C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2BC5B-99A6-4011-826D-825F373A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40945-25B5-4675-AE28-59FFCB58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61FBA-DE26-4511-8ED6-08F86817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E0FFD-E9B3-4B42-914D-DCE0ABE6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63C-64BF-4BBD-9093-517950AB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D7218-EE33-46D0-A3A1-7B498F91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EEAD3-32C7-41A1-81C9-962312B7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F373E-5DAC-4EC9-9C27-C1F92531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60368-F3EB-4F1A-8FD7-B5AF75A7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1A69B-A20A-4C30-A121-E561B2D1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43D98-FE82-48B2-86C5-6DD001FA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7F714-8320-4DBC-BE59-AB62BF14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723DF-98A9-40DD-A49C-C771E95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D6CB1-7125-4223-8676-17692A8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2AEA7-CE47-4ACD-B067-DE689CEE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05D-E589-46C8-81F9-1AE31365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20C73-A5F9-4824-9354-675F3F39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36AE1-09D7-4008-8BF7-7FF15372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FE072-B7BF-4CA8-A02C-A426BD5E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68D9D-5850-42AA-8A08-81ABB233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32147-05C6-4262-9346-A9481D3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30464-9EE9-4EA8-A048-AA6A5203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4FC50-CD40-4A5F-8D2A-36F0666D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635C9-4EE5-491F-BB0C-4C2484B8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262A2-0A21-43C5-A7CF-BAE513DE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60E21-1E22-4A3A-B9FE-BAC3A519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21C8-5295-47D7-8650-33254F77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B1A04-889A-429E-A836-92B6C579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7A1E8-4810-4E6B-AC3D-36E168A3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E3FA6-92BE-4FA2-AAB4-4751338E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990C7-08CD-4F25-875F-B0A54DB5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EA4BB-78BD-4627-81F3-711CC80E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DE7B1-8293-411D-ABF2-63171189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D97BC-5F8F-474C-A9AA-15BBE9F9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C6953-D22E-4FB0-93EC-EB067B32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F05FB-1FBD-4973-ACE8-1E57875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88243-B6CF-4D57-8ACE-FF371E9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B022-DD52-4C94-B246-0B4C8FB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28CFE-1110-4BB9-B541-DBFA3B1C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AF728-AEBA-4E4F-B3C2-151B4710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42AA0-2A2E-49AB-BE87-60CAB100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20F11-5C3C-4670-9CC3-06533630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91A73-0FED-4F08-B999-E0C94E6D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8102D-B568-490C-BF75-8101F2B1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892EF-5229-4FD1-96D9-59678FFB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72D83-9016-4D2F-A4B4-22B53687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9DA6E-96F5-4C84-B053-50EB5CDA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6C2F7-3E66-4E01-83F1-4398CD6F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313C-E093-49ED-B027-C50F6CEC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DADF0-5925-4E3D-A11F-03F9204E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669BA-9204-4AF6-9056-F53774F7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41BFC-686B-4732-8566-1CF8C0B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79E90-DFB6-4481-8608-57D2C4C4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BFA36-8939-42C1-9317-5D0E7DA6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CD8F4-2C85-4036-BFF0-3179338A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145CB-D3FE-4362-8ED6-5107324B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AEE6-E612-4000-8CF7-BBAA76D0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D890-266B-49ED-8472-C5FB96BA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CB7F-391B-4134-BA26-5B5BDEE8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BC55-53AA-4880-A369-2467017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C73-4F09-4E76-A0B1-A26AE5C8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217E-93EE-45AC-9FC1-8B9707F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8E25-1F28-41EC-A5F6-9624419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2819-054D-4A04-817D-C8B92605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C391-4024-4E04-8207-E5287429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8DF2-8B9E-4644-A2A3-6664F1DB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6C84-4B97-4BA7-9EC3-2CF3697E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0C3A-3F96-4D96-9A50-D8A9CBEA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1225-1FE5-4E9A-8305-BA2B24D7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8D11-E341-4E7D-8692-BDAAA7CB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4E08-444A-4499-8D74-820EDF4E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5E6-963C-427E-AE7F-DD56F00B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0CF9-CD7E-44F4-8401-FB895CAB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4322-CD5A-4541-8101-1F7C1AD3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9FDD-5149-48C7-8C45-27505EAA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9624-90F1-49E8-871B-873CC56E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F4D6-01B9-416D-A40A-BEA9ADC8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CE28-1B27-4F41-91F6-E9D98A1C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2949-1D86-453F-BAA2-12661F45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3DDD-A159-4FF1-B4BC-C86B3734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2B2B-A24E-422B-8BC4-E282539B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B9D0-AFC0-4871-9475-5A8FD694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B70-847A-454C-8A91-E4D8FED6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7490-0D17-496B-84E3-6D2F237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5ED0D-1846-4CA8-878F-DA978601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C03F2-FDF2-4656-87B8-B6D9F78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135F-5E00-4880-A580-43EFFB1F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A43D-9BC3-4106-96B4-F588F6D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40609-0CE8-4E3A-A039-AA8B70A3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355A-0A1F-40AA-AB87-A3E4039C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3568-D82C-4029-AD1C-3923B20E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680DA-A682-4602-82B0-71CDFF15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DFAD-0F49-4298-96D7-EFC11893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FC8-91B1-4367-B8C0-8AE97D67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A147F-BCF9-4DE0-A527-25994F89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A1048-C19E-4BCC-8B40-A8C75676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F109-5F29-4C58-951A-A18829F7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C81B-8729-48CD-B5C9-7BCF27A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5A2D3-6C72-4143-821A-29B171E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12E21-CD10-4D4E-8A79-B09805D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3740-3755-4D68-B0A3-8B82FA9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FE8AF-73F2-4F79-A760-9896455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91A61-E5CC-4550-B75E-A37C4752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892C-0EBF-42C8-9CAF-A9CC04BC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E33-57BE-448A-8DF5-F2874F0E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F56D1-0C87-49E6-803E-2ED5972E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F4196-C796-41AF-A23D-F19E44D7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B4D08-6886-439B-8C9C-E60C194A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CAFE5-B806-4D4F-8E77-D30CF409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108F9-D723-4FED-AD6A-42B39FD1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2402-7DA6-4890-A489-BBF1ED95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B7D4C-64CD-4FA6-A8AE-EEBFE163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70A1-5CF6-4BC5-A5A8-85256DF0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8EB0C-46C9-49C4-8001-E1CE91F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5583-00C1-40E3-9A99-6AE8C563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C7A-6E27-41F5-A66A-0D6CA123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2C546-B84E-4D23-BD05-509F985F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B3728-2FBF-452A-9AB2-89C17DC2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B351-3FB9-4440-85F2-824C1EF3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5EF13-15BE-47A2-BE67-9A27B5B9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D58C4-28B9-431B-9C60-89D691E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BD987-C0C6-4C47-9920-188D9631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504DB-6310-4E7D-BC48-F3A6A3E6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3EBC7-DB22-40EE-9A47-90EF113B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47181-0CD8-459F-A046-C0BCE497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D485C-DADF-4F99-B669-2F63109B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05B-7EE7-4B92-813B-788CB0BF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09C3-D0CF-496B-B7CA-7FC00CC4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2B84C-B4CC-4BBC-B74E-4C5F4B9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3FA52-733D-4533-A6B7-D3E2A4C7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2478-4EFB-4A22-A2BB-FF309F25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265D8-5214-4284-90D2-63A5A09D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54848-32B2-4E2D-BFBC-827B1D75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DE81-F61C-4DBC-870F-C4AC7FD9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BBF1C-5833-41D5-894D-8C942A29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DABC8-CEA5-492B-B627-ADEE1C0E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008CF-54A7-4E02-9CC1-A7411B8B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1B5-E9F5-4887-97EF-996A7CF6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1D6B7-EB07-4C39-8265-AB486ECD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33C63-CA73-43B6-9C09-4DF336AC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0C68C-F780-48E8-BDA3-2349EDAA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52604-5BAF-4D15-B0F2-44B2809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900BE-92B5-4855-952F-56395B68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BC907-4E39-4EAE-8413-846FFF0F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6EE89-EDD1-41E8-ACBA-9FC05FF7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36910-C327-4313-9266-9E7F2772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EA3CD-407B-40C4-9B76-7C4BAB35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D5A26-BB21-4DD3-BDBB-66652744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8496-6F58-4E56-82B5-D6CF8D83CD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C245-BD59-4A90-BFDD-92B19C963E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B989-4A07-4C2A-BD71-CCFAB01180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690F-1A02-4E98-96A1-8610FD38A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D4AE-0B85-43DA-A7A6-D562E4B4B5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EF5C-6A3C-49C0-A1BE-C288AF5104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7A58-3B4C-4C41-A4F5-29C8CCC2F3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5C55-C3C2-4542-B385-E364853B97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A6E8-19F7-4B9C-8D13-E22944B557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AD6-2783-4B69-8D88-E4B5F02D22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4ACC-AB42-417A-88C9-ABB88DFCFF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87C6-E94E-493C-AD30-25957EE0B1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97D-033C-4AF9-BFF2-A4E127C7BD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8028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merican Retro"/>
              </a:rPr>
              <a:t>Смежные   уг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63640" y="907560"/>
            <a:ext cx="640080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3"/>
          <p:cNvSpPr/>
          <p:nvPr/>
        </p:nvSpPr>
        <p:spPr>
          <a:xfrm>
            <a:off x="1800360" y="2060640"/>
            <a:ext cx="73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&l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решений –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611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American Retro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ить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тему « Смежные углы»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Olietta script-Poesia"/>
              </a:rPr>
              <a:t>Спасибо за урок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5" name="Line 10"/>
          <p:cNvSpPr/>
          <p:nvPr/>
        </p:nvSpPr>
        <p:spPr>
          <a:xfrm>
            <a:off x="3276720" y="3213000"/>
            <a:ext cx="331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V="1">
            <a:off x="3276720" y="1484280"/>
            <a:ext cx="1942920" cy="172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 flipH="1" flipV="1">
            <a:off x="2916000" y="1052280"/>
            <a:ext cx="360360" cy="21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48616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534528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656928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2968560" y="316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618360" y="3592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0"/>
          <p:cNvSpPr/>
          <p:nvPr/>
        </p:nvSpPr>
        <p:spPr>
          <a:xfrm rot="19088400">
            <a:off x="3636720" y="2059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2"/>
          <p:cNvSpPr/>
          <p:nvPr/>
        </p:nvSpPr>
        <p:spPr>
          <a:xfrm>
            <a:off x="7236000" y="5516640"/>
            <a:ext cx="1152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Дуга 26"/>
          <p:cNvSpPr/>
          <p:nvPr/>
        </p:nvSpPr>
        <p:spPr>
          <a:xfrm>
            <a:off x="3571920" y="2928960"/>
            <a:ext cx="142920" cy="50004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  <a:lnTo>
                  <a:pt x="71438" y="250031"/>
                </a:lnTo>
                <a:close/>
              </a:path>
              <a:path fill="none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Дуга 30"/>
          <p:cNvSpPr/>
          <p:nvPr/>
        </p:nvSpPr>
        <p:spPr>
          <a:xfrm>
            <a:off x="3000240" y="2928960"/>
            <a:ext cx="500040" cy="7128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71280"/>
              <a:gd name="textAreaBottom" fmla="*/ 35640 h 71280"/>
            </a:gdLst>
            <a:ahLst/>
            <a:rect l="textAreaLeft" t="textAreaTop" r="textAreaRight" b="textAreaBottom"/>
            <a:pathLst>
              <a:path stroke="0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  <a:lnTo>
                  <a:pt x="250032" y="35719"/>
                </a:lnTo>
                <a:close/>
              </a:path>
              <a:path fill="none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Дуга 31"/>
          <p:cNvSpPr/>
          <p:nvPr/>
        </p:nvSpPr>
        <p:spPr>
          <a:xfrm>
            <a:off x="2857680" y="2786040"/>
            <a:ext cx="785520" cy="117360"/>
          </a:xfrm>
          <a:custGeom>
            <a:avLst/>
            <a:gdLst>
              <a:gd name="textAreaLeft" fmla="*/ 392760 w 785520"/>
              <a:gd name="textAreaRight" fmla="*/ 785880 w 785520"/>
              <a:gd name="textAreaTop" fmla="*/ 0 h 117360"/>
              <a:gd name="textAreaBottom" fmla="*/ 58680 h 117360"/>
            </a:gdLst>
            <a:ahLst/>
            <a:rect l="textAreaLeft" t="textAreaTop" r="textAreaRight" b="textAreaBottom"/>
            <a:pathLst>
              <a:path stroke="0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  <a:lnTo>
                  <a:pt x="392907" y="58738"/>
                </a:lnTo>
                <a:close/>
              </a:path>
              <a:path fill="none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9" name="Line 17"/>
          <p:cNvSpPr/>
          <p:nvPr/>
        </p:nvSpPr>
        <p:spPr>
          <a:xfrm>
            <a:off x="2195640" y="2421000"/>
            <a:ext cx="489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8"/>
          <p:cNvSpPr/>
          <p:nvPr/>
        </p:nvSpPr>
        <p:spPr>
          <a:xfrm flipV="1">
            <a:off x="4286160" y="474480"/>
            <a:ext cx="1871640" cy="19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932360" y="191628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059640" y="17733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3761280" y="2584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2556000" y="5445000"/>
            <a:ext cx="446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3"/>
          <p:cNvSpPr/>
          <p:nvPr/>
        </p:nvSpPr>
        <p:spPr>
          <a:xfrm flipV="1">
            <a:off x="4643280" y="3573000"/>
            <a:ext cx="0" cy="187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48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30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977280" y="57531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4643280" y="5300640"/>
            <a:ext cx="14472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4500720" y="5300640"/>
            <a:ext cx="14256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9"/>
          <p:cNvSpPr/>
          <p:nvPr/>
        </p:nvSpPr>
        <p:spPr>
          <a:xfrm>
            <a:off x="7164360" y="2637000"/>
            <a:ext cx="129708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21"/>
          <p:cNvSpPr/>
          <p:nvPr/>
        </p:nvSpPr>
        <p:spPr>
          <a:xfrm>
            <a:off x="4429080" y="2214720"/>
            <a:ext cx="142920" cy="35712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  <a:lnTo>
                  <a:pt x="71438" y="178594"/>
                </a:lnTo>
                <a:close/>
              </a:path>
              <a:path fill="none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23"/>
          <p:cNvSpPr/>
          <p:nvPr/>
        </p:nvSpPr>
        <p:spPr>
          <a:xfrm flipV="1" rot="10129200">
            <a:off x="3960360" y="2194560"/>
            <a:ext cx="571680" cy="377640"/>
          </a:xfrm>
          <a:custGeom>
            <a:avLst/>
            <a:gdLst>
              <a:gd name="textAreaLeft" fmla="*/ 47520 w 571680"/>
              <a:gd name="textAreaRight" fmla="*/ 564120 w 571680"/>
              <a:gd name="textAreaTop" fmla="*/ 0 h 377640"/>
              <a:gd name="textAreaBottom" fmla="*/ 145800 h 377640"/>
            </a:gdLst>
            <a:ahLst/>
            <a:rect l="textAreaLeft" t="textAreaTop" r="textAreaRight" b="textAreaBottom"/>
            <a:pathLst>
              <a:path stroke="0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  <a:lnTo>
                  <a:pt x="285750" y="188913"/>
                </a:lnTo>
                <a:close/>
              </a:path>
              <a:path fill="none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7020000" y="5805360"/>
            <a:ext cx="143964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6" name="Line 5"/>
          <p:cNvSpPr/>
          <p:nvPr/>
        </p:nvSpPr>
        <p:spPr>
          <a:xfrm>
            <a:off x="4859280" y="3860640"/>
            <a:ext cx="2160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 flipV="1">
            <a:off x="4859280" y="1341360"/>
            <a:ext cx="72072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 flipH="1">
            <a:off x="1619280" y="3860640"/>
            <a:ext cx="324000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8"/>
          <p:cNvSpPr/>
          <p:nvPr/>
        </p:nvSpPr>
        <p:spPr>
          <a:xfrm flipH="1">
            <a:off x="4211640" y="3357720"/>
            <a:ext cx="792000" cy="5029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9"/>
          <p:cNvSpPr/>
          <p:nvPr/>
        </p:nvSpPr>
        <p:spPr>
          <a:xfrm>
            <a:off x="5005440" y="3284640"/>
            <a:ext cx="503280" cy="936360"/>
          </a:xfrm>
          <a:custGeom>
            <a:avLst/>
            <a:gdLst>
              <a:gd name="textAreaLeft" fmla="*/ 0 w 503280"/>
              <a:gd name="textAreaRight" fmla="*/ 503640 w 5032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fill="none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</a:path>
              <a:path stroke="0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  <a:lnTo>
                  <a:pt x="3602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6443640" y="5661000"/>
            <a:ext cx="136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3185280" y="284328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704560" y="341964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5" name="Line 4"/>
          <p:cNvSpPr/>
          <p:nvPr/>
        </p:nvSpPr>
        <p:spPr>
          <a:xfrm>
            <a:off x="2268360" y="3645000"/>
            <a:ext cx="554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 flipV="1">
            <a:off x="4788000" y="1052280"/>
            <a:ext cx="1584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6"/>
          <p:cNvSpPr/>
          <p:nvPr/>
        </p:nvSpPr>
        <p:spPr>
          <a:xfrm flipH="1">
            <a:off x="4500000" y="3357720"/>
            <a:ext cx="431640" cy="28728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7"/>
          <p:cNvSpPr/>
          <p:nvPr/>
        </p:nvSpPr>
        <p:spPr>
          <a:xfrm>
            <a:off x="5003640" y="328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8"/>
          <p:cNvSpPr/>
          <p:nvPr/>
        </p:nvSpPr>
        <p:spPr>
          <a:xfrm>
            <a:off x="5076720" y="3141720"/>
            <a:ext cx="287280" cy="50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265640" y="2916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60920" y="2987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2"/>
              <p:cNvSpPr txBox="1"/>
              <p:nvPr/>
            </p:nvSpPr>
            <p:spPr>
              <a:xfrm>
                <a:off x="3419640" y="4437000"/>
                <a:ext cx="761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13"/>
          <p:cNvSpPr/>
          <p:nvPr/>
        </p:nvSpPr>
        <p:spPr>
          <a:xfrm>
            <a:off x="40694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4"/>
              <p:cNvSpPr txBox="1"/>
              <p:nvPr/>
            </p:nvSpPr>
            <p:spPr>
              <a:xfrm>
                <a:off x="4932360" y="443700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Text Box 15"/>
          <p:cNvSpPr/>
          <p:nvPr/>
        </p:nvSpPr>
        <p:spPr>
          <a:xfrm>
            <a:off x="55832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 = 18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6"/>
          <p:cNvSpPr/>
          <p:nvPr/>
        </p:nvSpPr>
        <p:spPr>
          <a:xfrm>
            <a:off x="6588000" y="5661000"/>
            <a:ext cx="100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395280" y="907920"/>
          <a:ext cx="8567640" cy="4888080"/>
        </p:xfrm>
        <a:graphic>
          <a:graphicData uri="http://schemas.openxmlformats.org/drawingml/2006/table">
            <a:tbl>
              <a:tblPr/>
              <a:tblGrid>
                <a:gridCol w="4537080"/>
                <a:gridCol w="403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 Box 75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250920" y="1125360"/>
          <a:ext cx="8642160" cy="499932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58920" y="690840"/>
            <a:ext cx="87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умма двух углов = 200 градусов. Смежные ли эти углы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гол, смежный с углом в 30 градусов является туп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огут ли два смежных угла быть туп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жет ли при пересечении двух прямых образоваться четыре прямых уг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637080" y="189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9280" y="98208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Если два различных тупых угла имеют общую сторону, то эти углы смежны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Один из двух углов, образованных при пересечении двух прямых – прямой. Остальные углы тоже прямы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10:34Z</dcterms:created>
  <dc:creator>Шевчук</dc:creator>
  <dc:description/>
  <dc:language>en-US</dc:language>
  <cp:lastModifiedBy>Макаров</cp:lastModifiedBy>
  <dcterms:modified xsi:type="dcterms:W3CDTF">2012-03-17T10:30:34Z</dcterms:modified>
  <cp:revision>29</cp:revision>
  <dc:subject/>
  <dc:title>Смежные  и вертикальные углы</dc:title>
</cp:coreProperties>
</file>