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6B39-E6FC-4F41-999F-9620EC3967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BC9D-C667-4352-84E9-C7BBC21EF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E9E-E92E-4920-B46E-1B02CC53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1D4-348A-4650-B850-570D9E8E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F93-711E-4CE2-96F4-80A48368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976-AF4D-4FB4-9FB4-17325054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1C91-752B-4281-BC5B-AAC41C57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AF6C-9C86-483A-AA4A-BB8A5937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4306-439C-4599-AF21-7474D7CA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47D6-438D-449A-B3F1-71283440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735C-AD5C-40D6-B33B-50C876C5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CB1A-FD74-4758-8973-3FE4AF6D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F266-E9B3-4035-8FD0-FA964DC0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8CC-ED39-4583-9865-05A02D98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2918-1439-4994-BBDC-DA044946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924-3EC6-4528-9612-A302E53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89CF-75F6-431B-A153-82D323A7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D82B-31C6-49AD-95CA-FD811761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0EAD-E3BD-4D5A-A7CF-C8845999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3B3-7BE5-41F5-AD2F-2C6EB1E9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125-29A3-4CF6-975C-3D9519B0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451-0D63-4A7F-B0D4-6D27BCC9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E23-1F8B-4AA4-A426-B2F51A0C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351-B0CB-4D07-83E9-1CB8221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599-5C84-4356-8F60-5A06462D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CC6-BAC3-4763-A2FC-7F0C4C4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EA7B-ABF4-495D-922C-F912A49C2E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0A38-BD84-4304-88C3-950C396023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28680" y="3714840"/>
            <a:ext cx="27147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Book Antiqua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749160"/>
            <a:ext cx="7358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1600200"/>
          <a:ext cx="8472600" cy="408456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казывает на род имени сущест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витель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Есть мягкий знак после шипящего – ж. р., нет мягкого знака – м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Правило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о правописании </a:t>
            </a:r>
            <a:r>
              <a:rPr b="1" lang="ru-RU" sz="4800" spc="-1" strike="noStrike">
                <a:solidFill>
                  <a:srgbClr val="0033cc"/>
                </a:solidFill>
                <a:latin typeface="Book Antiqua"/>
              </a:rPr>
              <a:t>Ь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 на конце     существительных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после шипящих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08120" y="4071600"/>
            <a:ext cx="6321600" cy="212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7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Ж.р.</a:t>
            </a:r>
            <a:r>
              <a:rPr b="1" lang="ru-RU" sz="37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</a:t>
            </a:r>
            <a:r>
              <a:rPr b="1" lang="ru-RU" sz="6100" spc="-1" strike="noStrike">
                <a:solidFill>
                  <a:srgbClr val="ff0000"/>
                </a:solidFill>
                <a:latin typeface="Book Antiqua"/>
              </a:rPr>
              <a:t>                    ь                  ь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AutoShape 4"/>
          <p:cNvCxnSpPr>
            <a:stCxn id="115" idx="1"/>
            <a:endCxn id="115" idx="1"/>
          </p:cNvCxnSpPr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143000" y="4071960"/>
            <a:ext cx="7129440" cy="2138400"/>
          </a:xfrm>
          <a:prstGeom prst="rect">
            <a:avLst/>
          </a:prstGeom>
          <a:solidFill>
            <a:srgbClr val="7030a0">
              <a:alpha val="3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213920"/>
            <a:ext cx="8543880" cy="523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ышу шипящий на конце слов: Ш, Ж, Щ, 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то существительное?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ю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Ж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н)                     (о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Calibri"/>
              </a:rPr>
              <a:t>не пишу 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ишу 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86240" y="2143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7150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498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498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ok Antiqua"/>
              </a:rPr>
              <a:t>Мне было легк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2212920" y="438120"/>
            <a:ext cx="5218200" cy="16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Book Antiqua"/>
              </a:rPr>
              <a:t>1</a:t>
            </a:r>
            <a:r>
              <a:rPr b="1" lang="ru-RU" sz="4400" spc="-1" strike="noStrike">
                <a:solidFill>
                  <a:srgbClr val="cc3399"/>
                </a:solidFill>
                <a:latin typeface="Book Antiqua"/>
              </a:rPr>
              <a:t>. Чистопис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    ш    щ    ж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щ   жш   шч  щ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грач  рожь   борщ  мар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Выпишите слова в два столб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…льто, в…р…бьи, к…ньки,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д…ревья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, м…рковь, пом…щ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27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ьт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ьк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ков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1600200"/>
          <a:ext cx="8472600" cy="262080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о какому признаку записаны слова в каждом столби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565360"/>
            <a:ext cx="8229600" cy="3959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788000" y="328464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36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alibri"/>
              </a:rPr>
              <a:t>без Ь       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 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2276640"/>
            <a:ext cx="8218440" cy="3240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лащ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нож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мыш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люч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349360"/>
            <a:ext cx="0" cy="295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6000" spc="-1" strike="noStrike">
                <a:solidFill>
                  <a:srgbClr val="cc3399"/>
                </a:solidFill>
                <a:latin typeface="Book Antiqua"/>
              </a:rPr>
              <a:t>               </a:t>
            </a: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Ж.Р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844640"/>
            <a:ext cx="8218440" cy="4392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0" lang="ru-RU" sz="4800" spc="-1" strike="noStrike">
                <a:solidFill>
                  <a:srgbClr val="0033cc"/>
                </a:solidFill>
                <a:latin typeface="Book Antiqua"/>
              </a:rPr>
              <a:t>без Ь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Book Antiqua"/>
              </a:rPr>
              <a:t>с 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       </a:t>
            </a: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вещ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рож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мыш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ноч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1187280" y="2924280"/>
            <a:ext cx="669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572000" y="2060640"/>
            <a:ext cx="0" cy="41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Чтобы знать, как писат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адо род определять.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Если женский род, то надо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Мягкий знак употреблять.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мы пишем рож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Мышь, печь, сушь и молодеж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Если род мужской у слова –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ету знака никакого!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пиши: калач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Врач, малыш, гараж и грач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pr.jpg"/>
          <p:cNvPicPr/>
          <p:nvPr/>
        </p:nvPicPr>
        <p:blipFill>
          <a:blip r:embed="rId1"/>
          <a:stretch/>
        </p:blipFill>
        <p:spPr>
          <a:xfrm>
            <a:off x="500040" y="2498760"/>
            <a:ext cx="2200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08:52Z</dcterms:created>
  <dc:creator>ALTECH</dc:creator>
  <dc:description/>
  <dc:language>en-US</dc:language>
  <cp:lastModifiedBy>User</cp:lastModifiedBy>
  <dcterms:modified xsi:type="dcterms:W3CDTF">2012-03-15T08:25:09Z</dcterms:modified>
  <cp:revision>43</cp:revision>
  <dc:subject/>
  <dc:title> Сценарий  урока  русского  языка .   3  класс.</dc:title>
</cp:coreProperties>
</file>