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1DA2-C53B-42EE-B4AC-1A974C1EFD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1FF-F774-4FA9-BEBE-37178C256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9FD-EBB5-4DE3-B686-B8270CB2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0B3-EC45-4784-9FA2-3869A8D0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C56-AFDA-40DB-BB89-4A60ED56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ABE-D207-4A00-8719-41B923EE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4B5-BDCE-4F9C-8359-6E28658A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D17F-A26B-4CB8-BDA1-484DED8E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49B9-FF85-4A12-81FB-339DCC2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FB3-66D5-427B-A8BC-33A16BF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7BBE-0F94-4703-A7BD-0F18F26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7E4A-5C5B-498A-97CE-4D80C603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EC4-77F1-4D04-96B5-D3162E4F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6BF-9867-46A9-B440-41C4AA71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21C-58FA-4673-9BB1-453FE46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6A7-23DD-4A26-BC51-A60181F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A283-662E-44EE-BC61-CA8BBA56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B3B-DA54-43BD-AC0A-1EB36CB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B2CF-92FF-4E17-9621-B09E727A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F9-B3DD-405B-9DFA-748AD20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A42-5034-49C7-9468-1ABA86F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32F-248E-4B4C-A285-8EA40E77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884-07C6-4777-B56B-8851B58F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A48-905A-4FE3-B06D-0F81759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128-53B4-4E46-8B6C-2CC4C30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905-51D7-4022-97FD-0857DF79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1C51-7C63-4C2C-AADB-E81104E642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B70E-0D32-4500-9FFC-248C3F65E8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928680" y="3714840"/>
            <a:ext cx="27147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Book Antiqua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749160"/>
            <a:ext cx="735804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600200"/>
          <a:ext cx="8472600" cy="408456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казывает на род имени сущест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вительн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сть мягкий знак после шипящего – ж. р., нет мягкого знака – 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Правило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о правописании </a:t>
            </a:r>
            <a:r>
              <a:rPr b="1" lang="ru-RU" sz="4800" spc="-1" strike="noStrike">
                <a:solidFill>
                  <a:srgbClr val="0033cc"/>
                </a:solidFill>
                <a:latin typeface="Book Antiqua"/>
              </a:rPr>
              <a:t>Ь</a:t>
            </a: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 на конце     существительных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после шипящих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08120" y="4071600"/>
            <a:ext cx="6321600" cy="212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7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                </a:t>
            </a: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Ж.р.</a:t>
            </a:r>
            <a:r>
              <a:rPr b="1" lang="ru-RU" sz="37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</a:t>
            </a:r>
            <a:r>
              <a:rPr b="1" lang="ru-RU" sz="6100" spc="-1" strike="noStrike">
                <a:solidFill>
                  <a:srgbClr val="ff0000"/>
                </a:solidFill>
                <a:latin typeface="Book Antiqua"/>
              </a:rPr>
              <a:t>                    ь                  ь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AutoShape 4"/>
          <p:cNvCxnSpPr>
            <a:stCxn id="115" idx="1"/>
            <a:endCxn id="115" idx="1"/>
          </p:cNvCxnSpPr>
          <p:nvPr/>
        </p:nvCxnSpPr>
        <p:spPr>
          <a:xfrm flipH="1" flipV="1">
            <a:off x="1607760" y="513216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Line 5"/>
          <p:cNvSpPr/>
          <p:nvPr/>
        </p:nvSpPr>
        <p:spPr>
          <a:xfrm flipH="1" flipV="1">
            <a:off x="1856880" y="5429160"/>
            <a:ext cx="79236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143000" y="4071960"/>
            <a:ext cx="7129440" cy="2138400"/>
          </a:xfrm>
          <a:prstGeom prst="rect">
            <a:avLst/>
          </a:prstGeom>
          <a:solidFill>
            <a:srgbClr val="7030a0">
              <a:alpha val="34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213920"/>
            <a:ext cx="8543880" cy="5239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ышу шипящий на конце слов: Ш, Ж, Щ, 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то существительное?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ю 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Ж.р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н)                     (о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Calibri"/>
              </a:rPr>
              <a:t>не пишу Ь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ишу 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86240" y="2143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71508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498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498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Book Antiqua"/>
              </a:rPr>
              <a:t>Мне было легк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12920" y="438120"/>
            <a:ext cx="5218200" cy="16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Book Antiqua"/>
              </a:rPr>
              <a:t>1</a:t>
            </a:r>
            <a:r>
              <a:rPr b="1" lang="ru-RU" sz="4400" spc="-1" strike="noStrike">
                <a:solidFill>
                  <a:srgbClr val="cc3399"/>
                </a:solidFill>
                <a:latin typeface="Book Antiqua"/>
              </a:rPr>
              <a:t>. Чистопис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    ш    щ    ж</a:t>
            </a:r>
            <a:br>
              <a:rPr sz="4000"/>
            </a:b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чщ   жш   шч  щ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грач  рожь   борщ  мар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Выпишите слова в два столб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П…льто, в…р…бьи, к…ньки,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д…ревья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, м…рковь, пом…щ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27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ьт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ьк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ков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Calibri"/>
              </a:rPr>
              <a:t>Какую работу может выполнять мягкий зна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1600200"/>
          <a:ext cx="8472600" cy="2620800"/>
        </p:xfrm>
        <a:graphic>
          <a:graphicData uri="http://schemas.openxmlformats.org/drawingml/2006/table">
            <a:tbl>
              <a:tblPr/>
              <a:tblGrid>
                <a:gridCol w="4643640"/>
                <a:gridCol w="382896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030a0"/>
                          </a:solidFill>
                          <a:latin typeface="Book Antiqua"/>
                        </a:rPr>
                        <a:t>УЗНАЛ Н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Book Antiqua"/>
                        </a:rPr>
                        <a:t>показатель мягкости согласных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 - </a:t>
                      </a: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Book Antiqua"/>
                        </a:rPr>
                        <a:t>разделитель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какому признаку записаны слова в каждом столбик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1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Book Antiqua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788000" y="328464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Calibri"/>
              </a:rPr>
              <a:t>без Ь         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с 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2276640"/>
            <a:ext cx="8218440" cy="3240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лащ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вещ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нож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рож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мыш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ыш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люч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ноч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349360"/>
            <a:ext cx="0" cy="295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Book Antiqua"/>
              </a:rPr>
              <a:t>М.Р.</a:t>
            </a:r>
            <a:r>
              <a:rPr b="1" lang="ru-RU" sz="6000" spc="-1" strike="noStrike">
                <a:solidFill>
                  <a:srgbClr val="cc3399"/>
                </a:solidFill>
                <a:latin typeface="Book Antiqua"/>
              </a:rPr>
              <a:t>               </a:t>
            </a: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Ж.Р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1844640"/>
            <a:ext cx="8218440" cy="4392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      </a:t>
            </a:r>
            <a:r>
              <a:rPr b="0" lang="ru-RU" sz="4800" spc="-1" strike="noStrike">
                <a:solidFill>
                  <a:srgbClr val="0033cc"/>
                </a:solidFill>
                <a:latin typeface="Book Antiqua"/>
              </a:rPr>
              <a:t>без Ь     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Book Antiqua"/>
              </a:rPr>
              <a:t>с 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       </a:t>
            </a:r>
            <a:r>
              <a:rPr b="0" i="1" lang="ru-RU" sz="4000" spc="-1" strike="noStrike">
                <a:solidFill>
                  <a:srgbClr val="0033cc"/>
                </a:solidFill>
                <a:latin typeface="Book Antiqua"/>
              </a:rPr>
              <a:t>плащ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вещ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нож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рож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амыш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мыш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ru-RU" sz="3600" spc="-1" strike="noStrike">
                <a:solidFill>
                  <a:srgbClr val="0033cc"/>
                </a:solidFill>
                <a:latin typeface="Book Antiqua"/>
              </a:rPr>
              <a:t>ключ</a:t>
            </a:r>
            <a:r>
              <a:rPr b="0" i="1" lang="ru-RU" sz="3600" spc="-1" strike="noStrike">
                <a:solidFill>
                  <a:srgbClr val="000000"/>
                </a:solidFill>
                <a:latin typeface="Book Antiqua"/>
              </a:rPr>
              <a:t>                             </a:t>
            </a:r>
            <a:r>
              <a:rPr b="0" i="1" lang="ru-RU" sz="4000" spc="-1" strike="noStrike">
                <a:solidFill>
                  <a:srgbClr val="0000ff"/>
                </a:solidFill>
                <a:latin typeface="Book Antiqua"/>
              </a:rPr>
              <a:t>ноч</a:t>
            </a: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Book Antiqua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187280" y="2924280"/>
            <a:ext cx="669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572000" y="2060640"/>
            <a:ext cx="0" cy="41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33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214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Чтобы знать, как писат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адо род определять.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Если женский род, то надо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 Antiqua"/>
              </a:rPr>
              <a:t>Мягкий знак употреблять.</a:t>
            </a:r>
            <a:r>
              <a:rPr b="1" lang="ru-RU" sz="2800" spc="-1" strike="noStrike">
                <a:solidFill>
                  <a:srgbClr val="0033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мы пишем рожь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Мышь, печь, сушь и молодеж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Если род мужской у слова –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Нету знака никакого!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И тогда пиши: калач,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 Antiqua"/>
              </a:rPr>
              <a:t>Врач, малыш, гараж и грач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pr.jpg"/>
          <p:cNvPicPr/>
          <p:nvPr/>
        </p:nvPicPr>
        <p:blipFill>
          <a:blip r:embed="rId1"/>
          <a:stretch/>
        </p:blipFill>
        <p:spPr>
          <a:xfrm>
            <a:off x="500040" y="2498760"/>
            <a:ext cx="2200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7:08:52Z</dcterms:created>
  <dc:creator>ALTECH</dc:creator>
  <dc:description/>
  <dc:language>en-US</dc:language>
  <cp:lastModifiedBy>User</cp:lastModifiedBy>
  <dcterms:modified xsi:type="dcterms:W3CDTF">2012-03-15T08:25:09Z</dcterms:modified>
  <cp:revision>43</cp:revision>
  <dc:subject/>
  <dc:title> Сценарий  урока  русского  языка .   3  класс.</dc:title>
</cp:coreProperties>
</file>