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35A-327B-4963-8C0C-757733B8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E00-590A-48C4-90EF-3BE70E8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0C8-11DF-433D-AC30-E9217D1F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347-B3DA-4D25-930D-1D29C24A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51C0-AE37-4776-8325-6AAA9440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9EED-790B-4BA0-A2CC-F199BA9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3708-3428-41F4-B56D-92634211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0E7B-DD83-4991-9D49-39D5D6C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F7C8-2C66-43C4-B740-AF02B378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FDE-6FAB-4C81-969F-59ED9D01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1AEB-D4D9-46D8-8202-3CB9C38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E67-6199-4BF5-9FD5-A5210B2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BB51-B2EC-4F05-B461-89EEB739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E0B-C3EE-46FB-99DF-D18D97FA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6A9C-1FE7-4603-9B19-FEF78DBC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6CF8-4219-4E09-9427-5727CED5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6400-D722-497E-B386-34A97791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887-6EAF-4938-8DE1-98C7BED1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B29-676E-45CC-B8DF-FA6C2F2E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502-8720-4F23-AB3B-8016706C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4C7-14C9-4996-A428-63579433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271-DD55-4DC0-8778-D7D52C9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A6E-8524-489E-8932-D03F5007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134-5153-4FD0-9BD6-1ADBB70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11BE-626E-489B-821B-B5843B02F0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CC2-07B1-4E10-B996-E9D2CFA4E4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4643280" y="1989000"/>
            <a:ext cx="4176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и, птицы, растения проживут и без нас, а мы без них обязательно погибнем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П.Астафь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857160" y="857160"/>
            <a:ext cx="3038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стриж белобрюх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BY_RIVER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Рисунок2.jpg"/>
          <p:cNvPicPr/>
          <p:nvPr/>
        </p:nvPicPr>
        <p:blipFill>
          <a:blip r:embed="rId3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357120" y="21420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1928880" y="3786120"/>
            <a:ext cx="6667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95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 солнца гр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83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95280" y="148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рада весне, а д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32360" y="148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68360" y="2708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лнышке тепло, пр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219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51672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932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3" descr="Рисунок8.jpg"/>
          <p:cNvPicPr/>
          <p:nvPr/>
        </p:nvPicPr>
        <p:blipFill>
          <a:blip r:embed="rId1"/>
          <a:stretch/>
        </p:blipFill>
        <p:spPr>
          <a:xfrm>
            <a:off x="2428920" y="3429000"/>
            <a:ext cx="4156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от, кто любит, приносит себя в жертву ради любимого человек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539640" y="602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400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вают хорошие и плох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1357200" y="428760"/>
            <a:ext cx="6461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вный урок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ло охоту отнимать еду у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 вылезать из норки, риск разб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аленьких птиц есть вр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ь должна сплачивать с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мамы холо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Хорошо, когда умеешь летать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трудиться, чтобы обезопаси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птиц любить, оберегать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взрослым в этом дел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        помогать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еречь леса, поля и реки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б сохранилось всё на век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214200" y="214200"/>
            <a:ext cx="3338640" cy="453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Рисунок6.jpg"/>
          <p:cNvPicPr/>
          <p:nvPr/>
        </p:nvPicPr>
        <p:blipFill>
          <a:blip r:embed="rId2"/>
          <a:stretch/>
        </p:blipFill>
        <p:spPr>
          <a:xfrm>
            <a:off x="3247920" y="4357800"/>
            <a:ext cx="54212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3:33Z</dcterms:created>
  <dc:creator>Учитель</dc:creator>
  <dc:description/>
  <dc:language>en-US</dc:language>
  <cp:lastModifiedBy>Lab</cp:lastModifiedBy>
  <dcterms:modified xsi:type="dcterms:W3CDTF">2010-10-08T12:54:14Z</dcterms:modified>
  <cp:revision>7</cp:revision>
  <dc:subject/>
  <dc:title>Слайд 1</dc:title>
</cp:coreProperties>
</file>