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D2F-323A-4B04-91AC-EB972887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408-8738-4D73-B844-C477E3F1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105-3A96-4E43-8C45-EE604473C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8EF-F30D-4905-ABD8-AD5EC3D8B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0517-0B5B-4720-A462-DE141F19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11ED-FF3E-42EC-A0AA-E0B41BC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A729-EE06-446D-BF7A-12745A5C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71FF-C05C-4DCD-8354-50003BE5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69B3-2DD0-45BC-97D8-73F329EF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7BA-636D-4826-B20B-EFA54F0C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7336-F5C1-4E24-90A7-A8EEE991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048-71D9-463C-ADF0-39837A5D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0DD3-6CDC-42BD-A6C1-E6F13E9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046C-8ACC-40D7-A917-6DFB6C9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E6D7-45D4-40F8-BE2A-C4A4199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48C-CA52-4E0C-8939-DF0A9AE1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9D65-FFF5-4023-89E8-EB700BDD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104-7ECB-40AE-88AD-8654AB83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0F27-5782-47C9-97BD-98C6363E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B3C-6C73-4884-BFBE-41971C3A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A31F-2352-4B23-AAB6-F1F251E7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F50-7788-4FB8-A66B-0A87D77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4CE-EC81-4311-AC05-59576D31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732-F306-4521-9B80-2F686123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0786-840A-4EF4-B5A4-27CEE0DF3B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9B6F-7192-4E39-B294-E52FA1AB21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4643280" y="1989000"/>
            <a:ext cx="41767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Звери, птицы, растения проживут и без нас, а мы без них обязательно погибнем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.П.Астафь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857160" y="857160"/>
            <a:ext cx="3038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стриж белобрюхи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BY_RIVER.WAV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3" descr="Рисунок2.jpg"/>
          <p:cNvPicPr/>
          <p:nvPr/>
        </p:nvPicPr>
        <p:blipFill>
          <a:blip r:embed="rId3"/>
          <a:stretch/>
        </p:blipFill>
        <p:spPr>
          <a:xfrm>
            <a:off x="19080" y="0"/>
            <a:ext cx="910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Рисунок 3" descr="Рисунок3.jpg"/>
          <p:cNvPicPr/>
          <p:nvPr/>
        </p:nvPicPr>
        <p:blipFill>
          <a:blip r:embed="rId1"/>
          <a:stretch/>
        </p:blipFill>
        <p:spPr>
          <a:xfrm>
            <a:off x="357120" y="21420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1928880" y="3786120"/>
            <a:ext cx="6667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32400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195640" y="47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3348000" y="47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чше  солнца гре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835280" y="476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95280" y="148428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рада весне, а дит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932360" y="148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59280" y="1484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68360" y="2708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солнышке тепло, при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5219640" y="2708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51672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4932360" y="2708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те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Рисунок 13" descr="Рисунок8.jpg"/>
          <p:cNvPicPr/>
          <p:nvPr/>
        </p:nvPicPr>
        <p:blipFill>
          <a:blip r:embed="rId1"/>
          <a:stretch/>
        </p:blipFill>
        <p:spPr>
          <a:xfrm>
            <a:off x="2428920" y="3429000"/>
            <a:ext cx="41562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Тот, кто любит, приносит себя в жертву ради любимого человека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539640" y="602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4000" y="587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ывают хорошие и плох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Рисунок 4" descr="Рисунок5.jpg"/>
          <p:cNvPicPr/>
          <p:nvPr/>
        </p:nvPicPr>
        <p:blipFill>
          <a:blip r:embed="rId1"/>
          <a:stretch/>
        </p:blipFill>
        <p:spPr>
          <a:xfrm>
            <a:off x="1357200" y="428760"/>
            <a:ext cx="64612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авный урок жизн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било охоту отнимать еду у друг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 вылезать из норки, риск разби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маленьких птиц есть вра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асность должна сплачивать ста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з мамы холод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Хорошо, когда умеешь летать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обходимо трудиться, чтобы обезопасить себ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птиц любить, оберегать.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удем взрослым в этом дел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         помогать: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еречь леса, поля и реки,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Чтоб сохранилось всё на веки!!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Рисунок7.jpg"/>
          <p:cNvPicPr/>
          <p:nvPr/>
        </p:nvPicPr>
        <p:blipFill>
          <a:blip r:embed="rId1"/>
          <a:stretch/>
        </p:blipFill>
        <p:spPr>
          <a:xfrm>
            <a:off x="214200" y="214200"/>
            <a:ext cx="3338640" cy="45388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Рисунок6.jpg"/>
          <p:cNvPicPr/>
          <p:nvPr/>
        </p:nvPicPr>
        <p:blipFill>
          <a:blip r:embed="rId2"/>
          <a:stretch/>
        </p:blipFill>
        <p:spPr>
          <a:xfrm>
            <a:off x="3247920" y="4357800"/>
            <a:ext cx="54212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2:13:33Z</dcterms:created>
  <dc:creator>Учитель</dc:creator>
  <dc:description/>
  <dc:language>en-US</dc:language>
  <cp:lastModifiedBy>Lab</cp:lastModifiedBy>
  <dcterms:modified xsi:type="dcterms:W3CDTF">2010-10-08T12:54:14Z</dcterms:modified>
  <cp:revision>7</cp:revision>
  <dc:subject/>
  <dc:title>Слайд 1</dc:title>
</cp:coreProperties>
</file>