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84E-00CC-48AB-AB28-9D719091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714D-F4EB-4257-98DA-0201F5B4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0A54-91BD-4DE9-B950-D8E5A824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470-C261-4C2C-95F4-8CCC3E64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B7E1-6DDE-4D7B-A197-E2299B66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CEFC-5FA5-4867-811A-5B4A5A0C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BDFE-85F7-432B-805C-46B854E9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FFF8-4D91-491D-A099-DEB12EE3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5C9F-C5AE-4B8D-9199-8C478836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030F-F059-4756-9ECD-8CCA37B6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AB05-25B6-4586-9A9B-383DC0DA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FF5-B48F-48D7-8E64-EEDB3FB6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BC2F-C797-43CC-A537-DA117758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B4DD-2FFC-4DDE-A694-5AEFC88C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69B5-A60D-4F5D-BFCC-62197C68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748B-C1D0-4539-8AE1-C363783E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7B24-691A-4011-B3BA-B372BEB6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1B8-F745-4269-99E2-A36519FF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895-45A2-4F0E-A928-E6EE99B2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0FE8-4351-425E-9161-548748C7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74A-5D8E-485C-B5C6-EADAC824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D02-E844-4726-B2EB-E310A0FE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8F6-3C07-4D88-AEA3-9A25B97F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F68-F946-4D0A-B6AE-14A5ED4E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CB24-E0D1-4870-968B-3670FF1746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FE57-4B39-4E99-B04F-9B79ED4EF36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5"/>
          <p:cNvSpPr/>
          <p:nvPr/>
        </p:nvSpPr>
        <p:spPr>
          <a:xfrm>
            <a:off x="4643280" y="1989000"/>
            <a:ext cx="41767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вери, птицы, растения проживут и без нас, а мы без них обязательно погибнем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.П.Астафь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857160" y="857160"/>
            <a:ext cx="30384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стриж белобрюх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BY_RIVER.WAV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3" descr="Рисунок2.jpg"/>
          <p:cNvPicPr/>
          <p:nvPr/>
        </p:nvPicPr>
        <p:blipFill>
          <a:blip r:embed="rId3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357120" y="214200"/>
            <a:ext cx="4214880" cy="43149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1928880" y="3786120"/>
            <a:ext cx="66675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324000" y="47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д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195640" y="47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3348000" y="476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чше  солнца гре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835280" y="47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395280" y="1484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ица рада весне, а дит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4932360" y="148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4859280" y="1484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468360" y="270828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олнышке тепло, пр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5219640" y="2708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6516720" y="2708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4932360" y="2708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Рисунок 13" descr="Рисунок8.jpg"/>
          <p:cNvPicPr/>
          <p:nvPr/>
        </p:nvPicPr>
        <p:blipFill>
          <a:blip r:embed="rId1"/>
          <a:stretch/>
        </p:blipFill>
        <p:spPr>
          <a:xfrm>
            <a:off x="2428920" y="3429000"/>
            <a:ext cx="415620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Тот, кто любит, приносит себя в жертву ради любимого человека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5"/>
          <p:cNvSpPr/>
          <p:nvPr/>
        </p:nvSpPr>
        <p:spPr>
          <a:xfrm>
            <a:off x="539640" y="602136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24000" y="587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ывают хорошие и плох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Рисунок 4" descr="Рисунок5.jpg"/>
          <p:cNvPicPr/>
          <p:nvPr/>
        </p:nvPicPr>
        <p:blipFill>
          <a:blip r:embed="rId1"/>
          <a:stretch/>
        </p:blipFill>
        <p:spPr>
          <a:xfrm>
            <a:off x="1357200" y="428760"/>
            <a:ext cx="64612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лавный урок жизн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било охоту отнимать еду у друг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 вылезать из норки, риск разб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маленьких птиц есть вра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сть должна сплачивать ста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мамы холод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Хорошо, когда умеешь летать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обходимо трудиться, чтобы обезопасить себ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удем птиц любить, оберегать.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удем взрослым в этом дел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                                помогать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еречь леса, поля и реки,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Чтоб сохранилось всё на веки!!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3" descr="Рисунок7.jpg"/>
          <p:cNvPicPr/>
          <p:nvPr/>
        </p:nvPicPr>
        <p:blipFill>
          <a:blip r:embed="rId1"/>
          <a:stretch/>
        </p:blipFill>
        <p:spPr>
          <a:xfrm>
            <a:off x="214200" y="214200"/>
            <a:ext cx="3338640" cy="45388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Рисунок6.jpg"/>
          <p:cNvPicPr/>
          <p:nvPr/>
        </p:nvPicPr>
        <p:blipFill>
          <a:blip r:embed="rId2"/>
          <a:stretch/>
        </p:blipFill>
        <p:spPr>
          <a:xfrm>
            <a:off x="3247920" y="4357800"/>
            <a:ext cx="54212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2:13:33Z</dcterms:created>
  <dc:creator>Учитель</dc:creator>
  <dc:description/>
  <dc:language>en-US</dc:language>
  <cp:lastModifiedBy>Lab</cp:lastModifiedBy>
  <dcterms:modified xsi:type="dcterms:W3CDTF">2010-10-08T12:54:14Z</dcterms:modified>
  <cp:revision>7</cp:revision>
  <dc:subject/>
  <dc:title>Слайд 1</dc:title>
</cp:coreProperties>
</file>