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16C-FD2D-432A-BCCC-F87D8E4A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467-F8B6-4FBB-B9A0-532FC6A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8F1-0EA8-4C24-A592-123D6652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89E-6D14-4C4D-8B81-80197BA6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A3C-4750-4A90-AD0F-6E6312D5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D76-3EE7-48DD-A0D6-2B7CA356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1258-5322-4620-BE0C-C761818D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5267-5891-4534-B2D2-B7C143E1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124-4C98-4B58-95EC-1DDDA5B5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5628-5D09-4E2D-8F81-E09D8463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A1AE-0E52-4C46-946B-0D83312B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4C3-9EE7-4EF5-95E3-3E9DAC57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92F2-B0A3-4992-98E2-DAAC06D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BE20-B900-4958-9FD2-3608B2A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4AB0-B953-4327-B43A-86C46DE3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11A6-FDAF-4E25-A019-0849A9F2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1ABE-172D-4B34-9CDB-2206B2BA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F77-C8CE-4A8B-953E-8122B2EC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3EA-2D08-4474-BC93-8217F14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368-2FED-4AF2-8040-4BC9FB99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795-21EA-4E61-9BCC-AA73493B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BB9-2809-4028-8158-6DF11EA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427-9C30-4CE7-B744-719967C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693-4522-42CE-A777-FDD8CD3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BD55-FF14-4227-859E-AB57FCCCC7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8E2-A160-4DDB-9E62-BA157C2CE6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4643280" y="1989000"/>
            <a:ext cx="4176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и, птицы, растения проживут и без нас, а мы без них обязательно погибнем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П.Астафь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857160" y="857160"/>
            <a:ext cx="3038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стриж белобрюх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BY_RIVER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Рисунок2.jpg"/>
          <p:cNvPicPr/>
          <p:nvPr/>
        </p:nvPicPr>
        <p:blipFill>
          <a:blip r:embed="rId3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357120" y="21420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1928880" y="3786120"/>
            <a:ext cx="6667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95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 солнца гр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83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95280" y="148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рада весне, а д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32360" y="148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68360" y="2708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лнышке тепло, пр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219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51672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932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3" descr="Рисунок8.jpg"/>
          <p:cNvPicPr/>
          <p:nvPr/>
        </p:nvPicPr>
        <p:blipFill>
          <a:blip r:embed="rId1"/>
          <a:stretch/>
        </p:blipFill>
        <p:spPr>
          <a:xfrm>
            <a:off x="2428920" y="3429000"/>
            <a:ext cx="4156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от, кто любит, приносит себя в жертву ради любимого человек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539640" y="602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400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вают хорошие и плох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1357200" y="428760"/>
            <a:ext cx="6461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вный урок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ло охоту отнимать еду у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 вылезать из норки, риск разб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аленьких птиц есть вр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ь должна сплачивать с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мамы холо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Хорошо, когда умеешь летать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трудиться, чтобы обезопаси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птиц любить, оберегать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взрослым в этом дел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        помогать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еречь леса, поля и реки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б сохранилось всё на век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214200" y="214200"/>
            <a:ext cx="3338640" cy="453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Рисунок6.jpg"/>
          <p:cNvPicPr/>
          <p:nvPr/>
        </p:nvPicPr>
        <p:blipFill>
          <a:blip r:embed="rId2"/>
          <a:stretch/>
        </p:blipFill>
        <p:spPr>
          <a:xfrm>
            <a:off x="3247920" y="4357800"/>
            <a:ext cx="54212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3:33Z</dcterms:created>
  <dc:creator>Учитель</dc:creator>
  <dc:description/>
  <dc:language>en-US</dc:language>
  <cp:lastModifiedBy>Lab</cp:lastModifiedBy>
  <dcterms:modified xsi:type="dcterms:W3CDTF">2010-10-08T12:54:14Z</dcterms:modified>
  <cp:revision>7</cp:revision>
  <dc:subject/>
  <dc:title>Слайд 1</dc:title>
</cp:coreProperties>
</file>