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436D-31A4-4208-ADB0-B4ED13A3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BC5A-0253-4C85-AAF1-23177B47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41A-6B39-4B65-92AB-D7B662CD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47F1-5A3C-4705-B4F9-8C611A12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3BB9-755E-4090-860B-3EA15335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5ED5-0004-4BF7-A3AF-F04869FB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A116-82D1-4005-B277-07BB7F72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A997-9A5D-44CD-BA8B-CC763C29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E512-95E2-4E2F-898F-6CAC1709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6C43-802B-4256-97AC-C8838F50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3C1D-DADF-4CCD-A76A-0091B8E6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051-39E0-4F20-AE7F-55FFC974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0EF0-8C90-4F83-B65A-556CEDEA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BFF0-061D-4A16-A390-F76EDF2D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194F-5478-4ADC-9FA4-2F3F5A43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9FFA-494A-4B40-B590-301027F4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4D96-FB6C-4A8B-A0D0-27D14023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E1B8-24E2-4585-A110-B922ADAA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5F7A-11FD-400C-B300-55363770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52C-8E84-468D-841D-1DDB4045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B818-2BA2-44A9-86C7-0F68EAC0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5967-B50F-49FE-8E3A-BB44F7EF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A4C-6E02-48F0-80B0-A07CE45C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824A-979C-4B64-81AA-EC5724F7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2CFC-E23C-4F13-ACB1-AEF3B5D946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795C-20A7-404F-A154-D51EA8C698B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5"/>
          <p:cNvSpPr/>
          <p:nvPr/>
        </p:nvSpPr>
        <p:spPr>
          <a:xfrm>
            <a:off x="4643280" y="1989000"/>
            <a:ext cx="41767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вери, птицы, растения проживут и без нас, а мы без них обязательно погибнем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.П.Астафь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857160" y="857160"/>
            <a:ext cx="30384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стриж белобрюх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BY_RIVER.WAV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3" descr="Рисунок2.jpg"/>
          <p:cNvPicPr/>
          <p:nvPr/>
        </p:nvPicPr>
        <p:blipFill>
          <a:blip r:embed="rId3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357120" y="214200"/>
            <a:ext cx="4214880" cy="43149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1928880" y="3786120"/>
            <a:ext cx="66675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324000" y="47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д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195640" y="47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3348000" y="476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чше  солнца гре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835280" y="47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395280" y="1484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ица рада весне, а дит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4932360" y="148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4859280" y="1484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468360" y="270828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олнышке тепло, пр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5219640" y="2708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6516720" y="2708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4932360" y="2708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Рисунок 13" descr="Рисунок8.jpg"/>
          <p:cNvPicPr/>
          <p:nvPr/>
        </p:nvPicPr>
        <p:blipFill>
          <a:blip r:embed="rId1"/>
          <a:stretch/>
        </p:blipFill>
        <p:spPr>
          <a:xfrm>
            <a:off x="2428920" y="3429000"/>
            <a:ext cx="415620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Тот, кто любит, приносит себя в жертву ради любимого человека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5"/>
          <p:cNvSpPr/>
          <p:nvPr/>
        </p:nvSpPr>
        <p:spPr>
          <a:xfrm>
            <a:off x="539640" y="602136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24000" y="587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ывают хорошие и плох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Рисунок 4" descr="Рисунок5.jpg"/>
          <p:cNvPicPr/>
          <p:nvPr/>
        </p:nvPicPr>
        <p:blipFill>
          <a:blip r:embed="rId1"/>
          <a:stretch/>
        </p:blipFill>
        <p:spPr>
          <a:xfrm>
            <a:off x="1357200" y="428760"/>
            <a:ext cx="64612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лавный урок жизн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било охоту отнимать еду у друг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 вылезать из норки, риск разб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маленьких птиц есть вра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сть должна сплачивать ста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 мамы холод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Хорошо, когда умеешь летать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обходимо трудиться, чтобы обезопасить себ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удем птиц любить, оберегать.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удем взрослым в этом дел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                                помогать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еречь леса, поля и реки,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Чтоб сохранилось всё на веки!!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3" descr="Рисунок7.jpg"/>
          <p:cNvPicPr/>
          <p:nvPr/>
        </p:nvPicPr>
        <p:blipFill>
          <a:blip r:embed="rId1"/>
          <a:stretch/>
        </p:blipFill>
        <p:spPr>
          <a:xfrm>
            <a:off x="214200" y="214200"/>
            <a:ext cx="3338640" cy="45388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Рисунок6.jpg"/>
          <p:cNvPicPr/>
          <p:nvPr/>
        </p:nvPicPr>
        <p:blipFill>
          <a:blip r:embed="rId2"/>
          <a:stretch/>
        </p:blipFill>
        <p:spPr>
          <a:xfrm>
            <a:off x="3247920" y="4357800"/>
            <a:ext cx="54212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2:13:33Z</dcterms:created>
  <dc:creator>Учитель</dc:creator>
  <dc:description/>
  <dc:language>en-US</dc:language>
  <cp:lastModifiedBy>Lab</cp:lastModifiedBy>
  <dcterms:modified xsi:type="dcterms:W3CDTF">2010-10-08T12:54:14Z</dcterms:modified>
  <cp:revision>7</cp:revision>
  <dc:subject/>
  <dc:title>Слайд 1</dc:title>
</cp:coreProperties>
</file>