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8E0-D7BB-4430-89DF-2706C121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ADB-F38A-4DE7-A68C-C10D2DE7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146-FC7B-4D46-AB88-656C480E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76B-6719-43A4-A7C7-E3567E72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56CD-9546-4732-A335-9AE057F5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0406-9D29-4E2A-A3A0-389A6335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DADE-311D-4C22-9C99-6416B9F9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EC34-29D3-4EB5-B461-754F144A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CC69-1230-410C-AF9E-ADFA2CA3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6E65-FB1E-46A7-97C2-55BA9BC2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1BAB-9ECE-4A65-B313-8CE31AE7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56D-FCC3-40CE-BFB5-5DAA3650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AB56-8C40-47D4-9ECF-67AFCA1F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437D-1218-4222-89E9-4710EE9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9FFB-22AC-4020-B31C-E36E45BB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A70B-BD49-4070-B819-018A433D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371F-8ADF-441C-B0AE-CC83F1D2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DD9-DF92-497F-8686-3D2515E2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3BB-BD1F-4576-B916-F49B1C03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3BE-5D57-473F-9CAF-21C6247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DFA-33F1-4BAD-86C9-39D4E2E0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D95-7C46-4ACD-AC3D-75D78E42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2B5-27D9-4DFB-AB07-1203EEA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21D-F8F3-48C5-A7A7-EA3F9941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E8F9-99A6-4C9C-BB1F-41A7CF54C3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CB9C-A588-4E41-A575-2E6815A0B5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4643280" y="1989000"/>
            <a:ext cx="41767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вери, птицы, растения проживут и без нас, а мы без них обязательно погибнем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.П.Астафь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857160" y="857160"/>
            <a:ext cx="3038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стриж белобрюх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BY_RIVER.WAV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3" descr="Рисунок2.jpg"/>
          <p:cNvPicPr/>
          <p:nvPr/>
        </p:nvPicPr>
        <p:blipFill>
          <a:blip r:embed="rId3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357120" y="214200"/>
            <a:ext cx="4214880" cy="43149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1928880" y="3786120"/>
            <a:ext cx="6667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2400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195640" y="47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348000" y="47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е  солнца гр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83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95280" y="148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рада весне, а дит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932360" y="148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59280" y="148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68360" y="2708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лнышке тепло, пр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521964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51672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93236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13" descr="Рисунок8.jpg"/>
          <p:cNvPicPr/>
          <p:nvPr/>
        </p:nvPicPr>
        <p:blipFill>
          <a:blip r:embed="rId1"/>
          <a:stretch/>
        </p:blipFill>
        <p:spPr>
          <a:xfrm>
            <a:off x="2428920" y="3429000"/>
            <a:ext cx="41562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от, кто любит, приносит себя в жертву ради любимого человек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539640" y="6021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24000" y="587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ывают хорошие и плох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Рисунок 4" descr="Рисунок5.jpg"/>
          <p:cNvPicPr/>
          <p:nvPr/>
        </p:nvPicPr>
        <p:blipFill>
          <a:blip r:embed="rId1"/>
          <a:stretch/>
        </p:blipFill>
        <p:spPr>
          <a:xfrm>
            <a:off x="1357200" y="428760"/>
            <a:ext cx="64612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авный урок жи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било охоту отнимать еду у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 вылезать из норки, риск разб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маленьких птиц есть вра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ь должна сплачивать ст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мамы холод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Хорошо, когда умеешь летать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трудиться, чтобы обезопасить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птиц любить, оберегать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взрослым в этом дел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            помогать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еречь леса, поля и реки,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б сохранилось всё на веки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Рисунок7.jpg"/>
          <p:cNvPicPr/>
          <p:nvPr/>
        </p:nvPicPr>
        <p:blipFill>
          <a:blip r:embed="rId1"/>
          <a:stretch/>
        </p:blipFill>
        <p:spPr>
          <a:xfrm>
            <a:off x="214200" y="214200"/>
            <a:ext cx="3338640" cy="4538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Рисунок6.jpg"/>
          <p:cNvPicPr/>
          <p:nvPr/>
        </p:nvPicPr>
        <p:blipFill>
          <a:blip r:embed="rId2"/>
          <a:stretch/>
        </p:blipFill>
        <p:spPr>
          <a:xfrm>
            <a:off x="3247920" y="4357800"/>
            <a:ext cx="54212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13:33Z</dcterms:created>
  <dc:creator>Учитель</dc:creator>
  <dc:description/>
  <dc:language>en-US</dc:language>
  <cp:lastModifiedBy>Lab</cp:lastModifiedBy>
  <dcterms:modified xsi:type="dcterms:W3CDTF">2010-10-08T12:54:14Z</dcterms:modified>
  <cp:revision>7</cp:revision>
  <dc:subject/>
  <dc:title>Слайд 1</dc:title>
</cp:coreProperties>
</file>