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3C1-17F4-48FC-AEB8-9FE6146C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D59A-B63F-4033-83D7-BDC856A3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BDF-DBEE-4D82-A13B-81FF0B47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ABE-4049-4160-902F-1BF077AF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0EFD-2E64-4A64-B5B5-9EDDBE10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E2D5-8204-43A6-BAC3-96CC3E26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988-8725-49A2-B676-D64A6627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821-3954-498E-BF3F-149F185C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598-2F3B-4378-B780-8843EC80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3D0-F057-457A-BB29-DF61453A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0B1-D220-458A-B847-904EFD1F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337-3197-4539-9094-32199365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1B8A-20B5-4130-997A-1346DFD7B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Жизнь на разных материках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я части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. Рис – культурное растение, родина которого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2. Жираф – животное обитающее в 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3. Секвойя – растение характерное для 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4. Большую панду иначе называют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5. Кенгуру  - животное, обитающее в 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5. Пингвин – животное обитающее в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6. «Пищей богов», «сыном воды и солнца» называют растение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7. Большая панда обитает на территории 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8. Баобаб – растение обитающее в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я части 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28640"/>
          <a:ext cx="7859880" cy="4497480"/>
        </p:xfrm>
        <a:graphic>
          <a:graphicData uri="http://schemas.openxmlformats.org/drawingml/2006/table">
            <a:tbl>
              <a:tblPr/>
              <a:tblGrid>
                <a:gridCol w="2602080"/>
                <a:gridCol w="3025440"/>
                <a:gridCol w="2232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к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е части 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ьте сообщение об одном растении или животном из тех, которые показаны на карте в учебник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122 - 12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Нарисуйте растение или животное которое вам особенно нравиться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54:03Z</dcterms:created>
  <dc:creator>Долгорукова</dc:creator>
  <dc:description/>
  <dc:language>en-US</dc:language>
  <cp:lastModifiedBy>Admin</cp:lastModifiedBy>
  <dcterms:modified xsi:type="dcterms:W3CDTF">2012-03-16T13:38:33Z</dcterms:modified>
  <cp:revision>18</cp:revision>
  <dc:subject/>
  <dc:title>Общие признаки хордовых животных</dc:title>
</cp:coreProperties>
</file>