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CD3-3CA8-46F6-8936-36C1DF88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E64-5D70-406E-83A2-D5A5E93A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149-DF76-43EF-9585-65CB6F8C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1E4-0797-4BD9-BC6F-CCDA3EE4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7C9-1BAF-42B8-89B7-FF53DC26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6E3-8379-43DE-B65B-47C8054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781-CAEC-44C3-B64A-A784D8C6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844-4EAF-4030-B840-8823DFC9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08C-9994-4D76-8E8B-8F375AAD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F5C-3889-45C6-AAD0-5851762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FDD-FC68-4CDC-A027-98B28AE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797-02E8-4B29-B871-F99A054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20E0-46CB-42F5-BF52-0F6348497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Жизнь на разных материка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Рис – культурное растение, родина которого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Жираф – животное обитающее в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Секвойя – растение характерное для 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Большую панду иначе называют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Кенгуру  - животное, обитающее в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Пингвин – животно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«Пищей богов», «сыном воды и солнца» называют растение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Большая панда обитает на территории 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8. Баобаб – растени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28640"/>
          <a:ext cx="7859880" cy="4497480"/>
        </p:xfrm>
        <a:graphic>
          <a:graphicData uri="http://schemas.openxmlformats.org/drawingml/2006/table">
            <a:tbl>
              <a:tblPr/>
              <a:tblGrid>
                <a:gridCol w="2602080"/>
                <a:gridCol w="3025440"/>
                <a:gridCol w="2232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к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части 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те сообщение об одном растении или животном из тех, которые показаны на карте в учебник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122 - 1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Нарисуйте растение или животное которое вам особенно нравиться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54:03Z</dcterms:created>
  <dc:creator>Долгорукова</dc:creator>
  <dc:description/>
  <dc:language>en-US</dc:language>
  <cp:lastModifiedBy>Admin</cp:lastModifiedBy>
  <dcterms:modified xsi:type="dcterms:W3CDTF">2012-03-16T13:38:33Z</dcterms:modified>
  <cp:revision>18</cp:revision>
  <dc:subject/>
  <dc:title>Общие признаки хордовых животных</dc:title>
</cp:coreProperties>
</file>