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6F6-BBF8-47D2-BF10-A108ECDA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44D-C514-4CC3-BFA8-C7061F79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D02-A57A-4659-9C2F-BB8FAB92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DBD-BB18-4596-8691-BFFD6036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002-E0CF-4742-BDF7-F92F8A8C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EC2-2CF6-4516-9ED4-38CECF78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BA1-1467-4A4A-B302-A9D17142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77A-C4A8-453D-B501-77CA5BE4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25A-E098-4ED1-9B90-FF330261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7FB-289D-480B-ACE6-43E0C844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FA0-80CC-45DA-BB45-0816964A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B23-145F-4FBE-8563-0753C10D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64DE-B1BE-43A2-B212-F7E22954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Жизнь на разных материка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 части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 Рис – культурное растение, родина которого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Жираф – животное обитающее в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 Секвойя – растение характерное для 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4. Большую панду иначе называют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. Кенгуру  - животное, обитающее в 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. Пингвин – животное обитающее в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6. «Пищей богов», «сыном воды и солнца» называют растение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7. Большая панда обитает на территории 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8. Баобаб – растение обитающее в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 части 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28640"/>
          <a:ext cx="7859880" cy="4497480"/>
        </p:xfrm>
        <a:graphic>
          <a:graphicData uri="http://schemas.openxmlformats.org/drawingml/2006/table">
            <a:tbl>
              <a:tblPr/>
              <a:tblGrid>
                <a:gridCol w="2602080"/>
                <a:gridCol w="3025440"/>
                <a:gridCol w="2232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к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части 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ьте сообщение об одном растении или животном из тех, которые показаны на карте в учебник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122 - 12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Нарисуйте растение или животное которое вам особенно нравиться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54:03Z</dcterms:created>
  <dc:creator>Долгорукова</dc:creator>
  <dc:description/>
  <dc:language>en-US</dc:language>
  <cp:lastModifiedBy>Admin</cp:lastModifiedBy>
  <dcterms:modified xsi:type="dcterms:W3CDTF">2012-03-16T13:38:33Z</dcterms:modified>
  <cp:revision>18</cp:revision>
  <dc:subject/>
  <dc:title>Общие признаки хордовых животных</dc:title>
</cp:coreProperties>
</file>