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52B-97E3-42AB-8F01-027D53B7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D9A-794A-4B52-B39E-9F101DDD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7503-54BA-49D1-AD32-609C8D52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442-4D87-4598-9263-3015B39C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BEBC-B643-47AA-A2E5-6E163D84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912AA-3C72-474D-A3B0-DBA06F30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7B90-6987-404E-B909-10011497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7346-CC7E-493E-A1EC-91D24B52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C8C5-8D6F-4CDB-85E0-41242A9A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B361-71C5-4BB3-AC9B-7205108C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3AE8-2FD5-44B2-AEF1-FCADD504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D94-BB0D-4D41-A5CB-C325B401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3B46-887E-473A-AEED-B8453E2B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9890-BC35-4D39-9E0A-082B6555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E1F9-6098-4FC5-BDA2-9B14D788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6D2C-B22D-4DEF-BCC2-F3319B82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AF9D-D54C-4567-AD87-40DDCED2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262B-AD82-466D-ACC6-E58B5992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95F3D-1697-4617-94EC-FD6B9B80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20663-7B60-4BAA-B33A-29F68D27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54E15-CE8C-4720-B1CC-ABB83E07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5E3F-1A7F-4E5E-B77A-AA43E40A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EF5-4233-479D-98F6-921766B1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31E1F-EC4C-4229-A603-287AE053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DE7E8-3F47-44CB-B8CA-EC88495C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171FF-8059-4A34-A2AF-136A7B29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9773A-E722-443B-99F0-7CC267D5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84D2E-3CE9-4484-A77C-6FFAFC60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1D19-E77A-4D16-851C-65A3D9C9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30BB8-66B9-4882-B901-77C81D1C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6812-4488-4315-A6AE-8E5A2F8C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3E034-8C1D-4123-81F1-BD7C4641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16F43-881D-46B8-82DC-0030D1BF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E8D-B8C0-4BDC-82AC-AB3F9ACE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192EF-407F-4A27-BD5E-99A5AC37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82C6-B4B4-4D2A-AAF0-CF705823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8F174-6529-49F1-A00D-B6102BAF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292DE-895D-48FF-AA7E-09004CF4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FE74-07F7-41EB-99FE-99CB911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E198E-AA9C-4234-9ADC-DAA09F82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C339A-24B6-4F4A-A15F-68266E3F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BFFF2-F8A5-4F74-A164-0A79321F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FB2F-ED87-4CF7-9928-5C45BEBE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B47E8-45B9-4A64-9096-3B3BF923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D00A-797F-4065-BFCD-67FAC5EF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87E76-2718-43F6-9F6F-A3F74E4B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C60A6-0F08-425C-9EA2-000166D5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19DB4-37AD-48B1-92A3-13D6F50E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29F0D-3068-479D-A2E2-AECD0D2B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B9405-3A3A-43E3-B198-C3A15A42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8464A-FC3B-4D4F-A67C-3E3E5D7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4C558-7F3C-4D62-B269-FE3AFA5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E656B-BE7E-46AD-86DD-21D027FC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F2CF-4B0C-48A2-9194-F903BAEE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582A3-81B9-4CE9-BA0F-0B9368B3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298-61F2-42C4-B632-AD8B5814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527BE-377D-469A-8B4D-D88E6D67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D5581-E5F5-4136-880B-2AE7910C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9C469-CF7C-495C-AB52-AF0FF21B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E732F-A435-4818-8132-3246BCB5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7CC08-B0E3-4D38-9DB0-3A18422A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A83F1-402F-46A8-9507-EE47B9A0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9CC29-57CB-4174-9A52-D48BEE37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A2B3-2EFD-45B5-A694-65727B08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94507-19A5-4B59-9596-0CFCD64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0BFBD-DCF5-44CA-962C-EA25B4E6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F82-11F1-4825-BB9A-7BC0366D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C7338-2CDA-458B-B272-8C3248D4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A9077-0140-43F7-AFF6-019ECDFB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B012-2003-4CAF-8F38-4650017C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BB36C-13A8-43AD-80C2-E7DEA523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307F6-C93D-403F-A598-7E698F40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0BE79-F49D-40D1-9634-5060CDF2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EEDB6-FD6C-4655-B0C9-8F399064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5B576-22FF-4B36-98A6-702BAFAF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7440-8F02-4776-AEA1-62678F9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CCAEF-38BE-45E8-BC52-FEDBE466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002C-7FBD-4F9F-B439-0E54005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60784-4B83-4E1E-87B0-02B12602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7BDC7-649A-4846-AE27-9DE61C39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73196-D37F-44D4-82FB-AE203CCD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A2203-55CE-4065-A0BF-F8C07B62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875FD-C2DD-4D8C-B424-D69D7EC9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591-652B-4AAC-B9EE-CBDD4789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917A-4EEE-40DA-94C6-4972F39E348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CCAB-ABD7-4DA3-82D7-6096A5A9F3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3A3A-583A-4332-AADC-341E28625D5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0F0C-38AE-415F-8D6A-4E78D600217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329F-EA2B-4538-83D4-BCB6FB6C5C6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4C27-D851-4F40-B372-5F191377CF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82B3-88E1-4855-97E4-429FA4CF93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0294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b1d15"/>
                </a:solidFill>
                <a:latin typeface="Arial Black"/>
              </a:rPr>
              <a:t>Аксонометрическое проецирование. Аксонометрические проекции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99680" y="1143000"/>
            <a:ext cx="8124840" cy="51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1d15"/>
                </a:solidFill>
                <a:latin typeface="a_Helver Bashkir"/>
              </a:rPr>
              <a:t>Наглядное изображение предмет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319040" y="1643040"/>
            <a:ext cx="746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6"/>
          <p:cNvSpPr/>
          <p:nvPr/>
        </p:nvSpPr>
        <p:spPr>
          <a:xfrm rot="17388000">
            <a:off x="5522400" y="430020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4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8880" y="333000"/>
            <a:ext cx="79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b3e21"/>
                </a:solidFill>
                <a:latin typeface="Alex_Bash_Arial2"/>
                <a:ea typeface="Alex_Bash_Arial2"/>
              </a:rPr>
              <a:t>Расположение осей в косоугольной фронтальной диметрической проекци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4572000" y="2349360"/>
            <a:ext cx="4608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2411280" y="4149720"/>
            <a:ext cx="232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 flipH="1" flipV="1">
            <a:off x="4571640" y="4149720"/>
            <a:ext cx="2017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4572000" y="4149720"/>
            <a:ext cx="45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429240" y="3789360"/>
            <a:ext cx="25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alibri"/>
              </a:rPr>
              <a:t>горизонта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4346640" y="195264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2052720" y="378288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6443640" y="515772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1"/>
          <p:cNvSpPr/>
          <p:nvPr/>
        </p:nvSpPr>
        <p:spPr>
          <a:xfrm flipH="1">
            <a:off x="4562640" y="2666880"/>
            <a:ext cx="1698480" cy="1486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rc 13"/>
          <p:cNvSpPr/>
          <p:nvPr/>
        </p:nvSpPr>
        <p:spPr>
          <a:xfrm flipH="1">
            <a:off x="4572000" y="4154400"/>
            <a:ext cx="1698480" cy="87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 rot="3337200">
            <a:off x="5628600" y="289152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9</a:t>
            </a: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0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4572000" y="198900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1763640" y="422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372360" y="558972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0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214280" y="642960"/>
          <a:ext cx="7786800" cy="414324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41432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Зрительное восприятие является для человека самым наглядным и информативным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Аксонометрические проекции обладают достаточной наглядностью поэтому их используют в дизайне, архитектуре, инженерном деле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1" name="Picture 5" descr="http://im8-tub-ru.yandex.net/i?id=14251198-19-72"/>
          <p:cNvPicPr/>
          <p:nvPr/>
        </p:nvPicPr>
        <p:blipFill>
          <a:blip r:embed="rId1"/>
          <a:stretch/>
        </p:blipFill>
        <p:spPr>
          <a:xfrm>
            <a:off x="1357200" y="464328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im0-tub-ru.yandex.net/i?id=328362795-15-72"/>
          <p:cNvPicPr/>
          <p:nvPr/>
        </p:nvPicPr>
        <p:blipFill>
          <a:blip r:embed="rId2"/>
          <a:stretch/>
        </p:blipFill>
        <p:spPr>
          <a:xfrm>
            <a:off x="3500280" y="464328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ttp://im7-tub-ru.yandex.net/i?id=247678577-12-72"/>
          <p:cNvPicPr/>
          <p:nvPr/>
        </p:nvPicPr>
        <p:blipFill>
          <a:blip r:embed="rId3"/>
          <a:stretch/>
        </p:blipFill>
        <p:spPr>
          <a:xfrm>
            <a:off x="6286680" y="407196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26" name="Picture 5" descr="Построить изометрическую проекцию детали по чертежу."/>
          <p:cNvPicPr/>
          <p:nvPr/>
        </p:nvPicPr>
        <p:blipFill>
          <a:blip r:embed="rId1"/>
          <a:stretch/>
        </p:blipFill>
        <p:spPr>
          <a:xfrm>
            <a:off x="857160" y="285840"/>
            <a:ext cx="77155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93642E-007 L 0.21493 0.1459 E">
                                      <p:cBhvr>
                                        <p:cTn id="19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2 0.16898 L 5E-006 2.22222E-006 E">
                                      <p:cBhvr>
                                        <p:cTn id="1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21285 0.14305 E">
                                      <p:cBhvr>
                                        <p:cTn id="205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2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27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32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37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46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51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5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61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34"/>
          <p:cNvGrpSpPr/>
          <p:nvPr/>
        </p:nvGrpSpPr>
        <p:grpSpPr>
          <a:xfrm>
            <a:off x="2625840" y="1988640"/>
            <a:ext cx="3890880" cy="3245400"/>
            <a:chOff x="2625840" y="1988640"/>
            <a:chExt cx="3890880" cy="3245400"/>
          </a:xfrm>
        </p:grpSpPr>
        <p:sp>
          <p:nvSpPr>
            <p:cNvPr id="492" name="Line 22"/>
            <p:cNvSpPr/>
            <p:nvPr/>
          </p:nvSpPr>
          <p:spPr>
            <a:xfrm flipV="1">
              <a:off x="2625840" y="1988640"/>
              <a:ext cx="194292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572000" y="1989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2627280" y="3141720"/>
              <a:ext cx="194472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 flipV="1">
              <a:off x="4572000" y="2997000"/>
              <a:ext cx="194472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2627280" y="31417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4572000" y="414324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516720" y="299736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 flipV="1">
              <a:off x="4567320" y="4081320"/>
              <a:ext cx="1944720" cy="11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2627280" y="4221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31"/>
            <p:cNvSpPr/>
            <p:nvPr/>
          </p:nvSpPr>
          <p:spPr>
            <a:xfrm flipV="1">
              <a:off x="2627280" y="3068280"/>
              <a:ext cx="194328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4572000" y="3068640"/>
              <a:ext cx="19447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4572000" y="1989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По наглядному изображению найти вид главный и вид сверху."/>
          <p:cNvPicPr/>
          <p:nvPr/>
        </p:nvPicPr>
        <p:blipFill>
          <a:blip r:embed="rId1"/>
          <a:stretch/>
        </p:blipFill>
        <p:spPr>
          <a:xfrm>
            <a:off x="1071720" y="428760"/>
            <a:ext cx="7715160" cy="6215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5143680" y="1349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2"/>
          <a:stretch/>
        </p:blipFill>
        <p:spPr>
          <a:xfrm>
            <a:off x="6558120" y="3933720"/>
            <a:ext cx="377640" cy="1857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8"/>
          <p:cNvSpPr/>
          <p:nvPr/>
        </p:nvSpPr>
        <p:spPr>
          <a:xfrm>
            <a:off x="742968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635796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5267160" y="2492280"/>
            <a:ext cx="376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0"/>
          <p:cNvSpPr/>
          <p:nvPr/>
        </p:nvSpPr>
        <p:spPr>
          <a:xfrm>
            <a:off x="5286240" y="250020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6500880" y="24289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7500960" y="2357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542916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6572160" y="38577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7715160" y="37861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143680" y="521496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6500880" y="511488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7500960" y="5143680"/>
            <a:ext cx="428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2143080" y="54291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2143080" y="221472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3857760" y="221472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214720" y="385776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392904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0"/>
          <p:cNvSpPr/>
          <p:nvPr/>
        </p:nvSpPr>
        <p:spPr>
          <a:xfrm>
            <a:off x="3071880" y="55720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3e21"/>
                </a:solidFill>
                <a:latin typeface="Arial"/>
                <a:ea typeface="Arial"/>
              </a:rPr>
              <a:t>Проверь себ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56840" y="1428480"/>
            <a:ext cx="7427880" cy="2857320"/>
          </a:xfrm>
          <a:prstGeom prst="rect">
            <a:avLst/>
          </a:prstGeom>
          <a:solidFill>
            <a:srgbClr val="d4ebf1"/>
          </a:solidFill>
          <a:ln w="0">
            <a:noFill/>
          </a:ln>
        </p:spPr>
        <p:txBody>
          <a:bodyPr anchor="t">
            <a:normAutofit fontScale="88000"/>
          </a:bodyPr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глядное изображение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    Б    В    Г     Д     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переди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  4   1   5    3  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верху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  7   9  10  11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 flipH="1">
            <a:off x="5715000" y="1785960"/>
            <a:ext cx="1440" cy="2571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"/>
          <p:cNvSpPr/>
          <p:nvPr/>
        </p:nvSpPr>
        <p:spPr>
          <a:xfrm flipH="1">
            <a:off x="635796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9"/>
          <p:cNvSpPr/>
          <p:nvPr/>
        </p:nvSpPr>
        <p:spPr>
          <a:xfrm flipH="1">
            <a:off x="685800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1"/>
          <p:cNvSpPr/>
          <p:nvPr/>
        </p:nvSpPr>
        <p:spPr>
          <a:xfrm flipH="1">
            <a:off x="7429680" y="1357200"/>
            <a:ext cx="1440" cy="2573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3"/>
          <p:cNvSpPr/>
          <p:nvPr/>
        </p:nvSpPr>
        <p:spPr>
          <a:xfrm flipH="1">
            <a:off x="5065560" y="1428120"/>
            <a:ext cx="5040" cy="2624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5"/>
          <p:cNvSpPr/>
          <p:nvPr/>
        </p:nvSpPr>
        <p:spPr>
          <a:xfrm flipH="1">
            <a:off x="814392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7"/>
          <p:cNvSpPr/>
          <p:nvPr/>
        </p:nvSpPr>
        <p:spPr>
          <a:xfrm>
            <a:off x="1428840" y="2071800"/>
            <a:ext cx="73580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>
            <a:off x="1428840" y="3143160"/>
            <a:ext cx="735804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1"/>
          <p:cNvSpPr/>
          <p:nvPr/>
        </p:nvSpPr>
        <p:spPr>
          <a:xfrm flipH="1">
            <a:off x="1355760" y="3357720"/>
            <a:ext cx="1440" cy="60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3"/>
          <p:cNvSpPr/>
          <p:nvPr/>
        </p:nvSpPr>
        <p:spPr>
          <a:xfrm>
            <a:off x="1357200" y="1428840"/>
            <a:ext cx="742968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25"/>
          <p:cNvSpPr/>
          <p:nvPr/>
        </p:nvSpPr>
        <p:spPr>
          <a:xfrm flipH="1">
            <a:off x="8786880" y="1357200"/>
            <a:ext cx="1440" cy="2644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27"/>
          <p:cNvSpPr/>
          <p:nvPr/>
        </p:nvSpPr>
        <p:spPr>
          <a:xfrm>
            <a:off x="1571760" y="4286160"/>
            <a:ext cx="721512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29"/>
          <p:cNvSpPr/>
          <p:nvPr/>
        </p:nvSpPr>
        <p:spPr>
          <a:xfrm flipH="1">
            <a:off x="5072040" y="4073400"/>
            <a:ext cx="1440" cy="2145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31"/>
          <p:cNvSpPr/>
          <p:nvPr/>
        </p:nvSpPr>
        <p:spPr>
          <a:xfrm flipH="1">
            <a:off x="5715000" y="1428840"/>
            <a:ext cx="1440" cy="428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33"/>
          <p:cNvSpPr/>
          <p:nvPr/>
        </p:nvSpPr>
        <p:spPr>
          <a:xfrm flipH="1">
            <a:off x="6357960" y="1428840"/>
            <a:ext cx="1440" cy="3571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35"/>
          <p:cNvSpPr/>
          <p:nvPr/>
        </p:nvSpPr>
        <p:spPr>
          <a:xfrm flipH="1">
            <a:off x="685800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37"/>
          <p:cNvSpPr/>
          <p:nvPr/>
        </p:nvSpPr>
        <p:spPr>
          <a:xfrm flipH="1">
            <a:off x="7429680" y="3930480"/>
            <a:ext cx="1440" cy="357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39"/>
          <p:cNvSpPr/>
          <p:nvPr/>
        </p:nvSpPr>
        <p:spPr>
          <a:xfrm flipH="1">
            <a:off x="814392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41"/>
          <p:cNvSpPr/>
          <p:nvPr/>
        </p:nvSpPr>
        <p:spPr>
          <a:xfrm flipH="1">
            <a:off x="8786880" y="400212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45"/>
          <p:cNvSpPr/>
          <p:nvPr/>
        </p:nvSpPr>
        <p:spPr>
          <a:xfrm>
            <a:off x="5070600" y="1428840"/>
            <a:ext cx="1440" cy="2857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49"/>
          <p:cNvSpPr/>
          <p:nvPr/>
        </p:nvSpPr>
        <p:spPr>
          <a:xfrm flipH="1">
            <a:off x="1356840" y="1500120"/>
            <a:ext cx="1800" cy="285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51"/>
          <p:cNvSpPr/>
          <p:nvPr/>
        </p:nvSpPr>
        <p:spPr>
          <a:xfrm>
            <a:off x="1357200" y="4286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53"/>
          <p:cNvSpPr/>
          <p:nvPr/>
        </p:nvSpPr>
        <p:spPr>
          <a:xfrm>
            <a:off x="1357200" y="3143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55"/>
          <p:cNvSpPr/>
          <p:nvPr/>
        </p:nvSpPr>
        <p:spPr>
          <a:xfrm>
            <a:off x="1357200" y="2071800"/>
            <a:ext cx="214560" cy="144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2216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_Helver Bashkir"/>
              </a:rPr>
              <a:t>Аксонометрические проекц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9720" y="1785600"/>
            <a:ext cx="8001000" cy="4357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цирование предмета на плоскость, при котором предмет на изображении  виден с трех сторон, называе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кции трехмерных объектов на плоскость, получаемые при аксонометрическом     проецировании, называю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и проекциям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Применение </a:t>
            </a:r>
            <a:br>
              <a:rPr sz="3400"/>
            </a:b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аксонометрических   проекций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1412640"/>
            <a:ext cx="7891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Аксонометрические проекции применяются для повышения наглядности изображ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тандартами рекомендуется применя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3 вида аксонометрических проекций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изометрическая проек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диметрическ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Косоугольная фронтальная диметрическая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Прямоугольная   </a:t>
            </a:r>
            <a:r>
              <a:rPr b="1" i="1" lang="ru-RU" sz="3200" spc="-1" strike="noStrike">
                <a:solidFill>
                  <a:srgbClr val="4b3e21"/>
                </a:solidFill>
                <a:latin typeface="Corbel"/>
              </a:rPr>
              <a:t>изо</a:t>
            </a: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метрическая аксонометрическая проекция (ПИАП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071720" y="164304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5436a"/>
                </a:solidFill>
                <a:latin typeface="Corbel"/>
              </a:rPr>
              <a:t>                              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мысл  приставки «изо-» в названии трактуется, как «одинаковый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В изометрической аксонометрической проекции размеры откладываются по всем трем плоскостям с одинаковыми коэффициентами искаж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ГОСТ рекомендует откладывать по всем плоскостям размеры в натуральную величину. В результате изображение получается увеличенным на 18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Расположение осей прямоугольной   изометрическая проекц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4572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V="1">
            <a:off x="2771640" y="4149360"/>
            <a:ext cx="180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 flipV="1">
            <a:off x="4572000" y="4149720"/>
            <a:ext cx="194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4572000" y="4149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732720" y="378936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1d15"/>
                </a:solidFill>
                <a:latin typeface="Calibri"/>
              </a:rPr>
              <a:t>ГОРИЗОНТ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42847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2340000" y="5078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516720" y="5084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13"/>
          <p:cNvSpPr/>
          <p:nvPr/>
        </p:nvSpPr>
        <p:spPr>
          <a:xfrm flipH="1">
            <a:off x="2988720" y="2666880"/>
            <a:ext cx="157788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14"/>
          <p:cNvSpPr/>
          <p:nvPr/>
        </p:nvSpPr>
        <p:spPr>
          <a:xfrm flipH="1">
            <a:off x="3241080" y="4143240"/>
            <a:ext cx="271116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15"/>
          <p:cNvSpPr/>
          <p:nvPr/>
        </p:nvSpPr>
        <p:spPr>
          <a:xfrm flipH="1">
            <a:off x="4571280" y="4152960"/>
            <a:ext cx="1576440" cy="71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 rot="17939400">
            <a:off x="2580120" y="3178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211640" y="5661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 rot="17209800">
            <a:off x="5430600" y="42724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3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6516720" y="2637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K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6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rc 9"/>
          <p:cNvSpPr/>
          <p:nvPr/>
        </p:nvSpPr>
        <p:spPr>
          <a:xfrm flipH="1">
            <a:off x="2981160" y="1593720"/>
            <a:ext cx="160200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rc 10"/>
          <p:cNvSpPr/>
          <p:nvPr/>
        </p:nvSpPr>
        <p:spPr>
          <a:xfrm flipH="1">
            <a:off x="3235320" y="3070080"/>
            <a:ext cx="272088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c 11"/>
          <p:cNvSpPr/>
          <p:nvPr/>
        </p:nvSpPr>
        <p:spPr>
          <a:xfrm flipH="1">
            <a:off x="4564800" y="1592280"/>
            <a:ext cx="1576440" cy="220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 rot="17939400">
            <a:off x="2581920" y="20563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4211640" y="4522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 rot="3839400">
            <a:off x="5726520" y="2071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15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Косоугольная фронтальная диметрическая проекция</a:t>
            </a:r>
            <a:r>
              <a:rPr b="0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 (КФДАП) 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42960" y="2071800"/>
            <a:ext cx="8501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Приставка «ди-» в названии означает «два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В косоугольной фронтальной диметрической   проекции размеры по осям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x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z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откладываются без искажений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 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а по ос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y</a:t>
            </a:r>
            <a:r>
              <a:rPr b="1" lang="ru-RU" sz="4000" spc="-1" strike="noStrike">
                <a:solidFill>
                  <a:srgbClr val="835e01"/>
                </a:solidFill>
                <a:latin typeface="a_Helver Bashkir"/>
              </a:rPr>
              <a:t>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сокращаются в два раза. При этом изображение получается увеличенным на 6%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</cp:lastModifiedBy>
  <dcterms:modified xsi:type="dcterms:W3CDTF">2012-03-19T13:58:49Z</dcterms:modified>
  <cp:revision>31</cp:revision>
  <dc:subject/>
  <dc:title>Слайд 1</dc:title>
</cp:coreProperties>
</file>