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97B-8860-4368-9330-103B3009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36B-A3C2-4E7A-AA14-8A260596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0A8-34BE-4863-8C62-738CE455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983-CE4F-4D03-90AF-2B94F3E1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C09-9C25-48CD-BD5F-C5F5D1B5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979-5551-435E-B9E1-391E7414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A27-694E-4198-8A94-FA8CB4DD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099-290C-4214-BE30-7CFAE194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255-8439-41D2-9F8B-49124BCB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BD5-0E73-42FD-ACB0-42211EE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EDE-285E-4457-83A8-CAB0901B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E94-8E31-42AC-ADFA-F17D58F7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CA54-25BA-4D2F-890F-F48CDE7FC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66ff"/>
            </a:gs>
            <a:gs pos="100000">
              <a:srgbClr val="def6f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9994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пуст…шь  минуту,  потеря…шь  час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91628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781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765000"/>
            <a:ext cx="842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ква Ь после шипящи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лагола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лица единственного чис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2262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ff00"/>
            </a:gs>
            <a:gs pos="100000">
              <a:srgbClr val="def6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641160"/>
            <a:ext cx="641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Ж…лать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… б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иж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… чт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02680"/>
            <a:ext cx="761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Запомни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На конце глаголов 2-го лица ед. ч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ишется мягкий знак (ь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476280"/>
            <a:ext cx="691380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440" y="3228120"/>
            <a:ext cx="82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- подобрать пословиц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оговорки на данную орф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6:47:41Z</dcterms:created>
  <dc:creator>user</dc:creator>
  <dc:description/>
  <dc:language>en-US</dc:language>
  <cp:lastModifiedBy>Гильмутдинова Елена</cp:lastModifiedBy>
  <dcterms:modified xsi:type="dcterms:W3CDTF">2012-03-20T04:08:03Z</dcterms:modified>
  <cp:revision>32</cp:revision>
  <dc:subject/>
  <dc:title>Слайд 1</dc:title>
</cp:coreProperties>
</file>