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F6E-6109-4E26-923B-2C34F012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8CB-CB0C-4AEC-BBAB-4DE9B02C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A70-F694-4F2A-91E3-B870EB7A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DF7-07CA-4E0E-BFF9-E83858DE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EAA-B589-49FE-BAF4-8D2261B6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115-2B0A-4BA0-B9C0-936A2442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03B-6C28-4CF8-A664-C5C3F833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A1A-8509-4A51-A67D-7ACF5698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5CA-84F2-467B-867D-47C3B231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310-8023-4443-9817-5C65EC1C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FCA-A576-408A-9EA2-59A91FBC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5F7-72E7-40B0-AFB2-F6BC64B7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2BD0-5BBB-4865-8F36-FC446A5B8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66ff"/>
            </a:gs>
            <a:gs pos="100000">
              <a:srgbClr val="def6f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99944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пуст…шь  минуту,  потеря…шь  час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191628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2781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765000"/>
            <a:ext cx="842472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ква Ь после шипящи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лагола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лица единственного чис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2262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ff00"/>
            </a:gs>
            <a:gs pos="100000">
              <a:srgbClr val="def6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641160"/>
            <a:ext cx="6419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Ж…лать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хотить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з… ботить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биж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м… чт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8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102680"/>
            <a:ext cx="761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Запомни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На конце глаголов 2-го лица ед. ч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пишется мягкий знак (ь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87280" y="476280"/>
            <a:ext cx="691380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9440" y="3228120"/>
            <a:ext cx="826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- подобрать пословиц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оговорки на данную орф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6:47:41Z</dcterms:created>
  <dc:creator>user</dc:creator>
  <dc:description/>
  <dc:language>en-US</dc:language>
  <cp:lastModifiedBy>Гильмутдинова Елена</cp:lastModifiedBy>
  <dcterms:modified xsi:type="dcterms:W3CDTF">2012-03-20T04:08:03Z</dcterms:modified>
  <cp:revision>32</cp:revision>
  <dc:subject/>
  <dc:title>Слайд 1</dc:title>
</cp:coreProperties>
</file>