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372-94EA-4845-92B6-56E225A1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153-6206-444C-9DB7-5179ADDB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0D68-9CB1-433F-BF75-E551AEAE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D66-F203-43BF-A6DC-2CC9AB70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E793-DC9D-40CA-B6B5-A8FDB9B7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B6B-6292-4E22-9716-72906FCD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A69A-D6F5-416F-82C2-B46FAAFA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6CD-3AD3-4C4D-AECD-D8706049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F32-423D-4D14-8809-4F5B75D1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24CB-326E-4E87-9957-099918C5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5B0-62BF-450C-B08A-0FCCD486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261-615F-412A-A1B3-F194B53F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3717-6AD8-4178-803B-2F44294F2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ff66ff"/>
            </a:gs>
            <a:gs pos="100000">
              <a:srgbClr val="def6f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99944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Упуст…шь  минуту,  потеря…шь  час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1916280"/>
            <a:ext cx="57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2781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4000" y="765000"/>
            <a:ext cx="842472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dc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ква Ь после шипящих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dc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dc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глаголах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dc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dc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лица единственного чис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dc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3933720"/>
            <a:ext cx="22622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ffff00"/>
            </a:gs>
            <a:gs pos="100000">
              <a:srgbClr val="def6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641160"/>
            <a:ext cx="6419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Ж…лать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хотитьс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з… ботитьс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бижа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м… чта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8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102680"/>
            <a:ext cx="7616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Запомни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На конце глаголов 2-го лица ед. ч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пишется мягкий знак (ь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187280" y="476280"/>
            <a:ext cx="6913800" cy="14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: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9440" y="3228120"/>
            <a:ext cx="826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- подобрать пословиц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поговорки на данную орф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6:47:41Z</dcterms:created>
  <dc:creator>user</dc:creator>
  <dc:description/>
  <dc:language>en-US</dc:language>
  <cp:lastModifiedBy>Гильмутдинова Елена</cp:lastModifiedBy>
  <dcterms:modified xsi:type="dcterms:W3CDTF">2012-03-20T04:08:03Z</dcterms:modified>
  <cp:revision>32</cp:revision>
  <dc:subject/>
  <dc:title>Слайд 1</dc:title>
</cp:coreProperties>
</file>