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FCCB-A20D-40A3-A1C4-B7403BD6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875C-94FD-40C1-ABD7-CB220478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4C47-3C75-48AE-B507-97A9E37D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E8D5-515F-4635-83A9-7C354E03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874D-CA0D-411E-BDD4-F4E29594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A125-C127-4568-BD96-1051F28D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0CD8-FD53-4D52-AC75-374F06F3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46C3-774B-4772-86A3-5711D651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7BE2-738E-4DE9-BD25-DDFE6A9C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D613-8EF9-482E-B6E1-C665EC2A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12F8-3975-4A8E-B985-38C9438E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21D2-05A1-40FC-BB8B-A2CF39FF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1BCD-8820-4CD9-AD36-C44A23425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50000">
              <a:srgbClr val="ff66ff"/>
            </a:gs>
            <a:gs pos="100000">
              <a:srgbClr val="def6f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99944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Упуст…шь  минуту,  потеря…шь  час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1916280"/>
            <a:ext cx="57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51280" y="278136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24000" y="765000"/>
            <a:ext cx="842472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dc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ква Ь после шипящих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dc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dc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глаголах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dc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dc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лица единственного чис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dc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3933720"/>
            <a:ext cx="22622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50000">
              <a:srgbClr val="ffff00"/>
            </a:gs>
            <a:gs pos="100000">
              <a:srgbClr val="def6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641160"/>
            <a:ext cx="6419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Ж…лать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хотиться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з… ботиться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бижа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м… чта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8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1102680"/>
            <a:ext cx="76165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Запомни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На конце глаголов 2-го лица ед. ч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пишется мягкий знак (ь)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187280" y="476280"/>
            <a:ext cx="6913800" cy="14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ее задание: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9440" y="3228120"/>
            <a:ext cx="826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- подобрать пословиц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поговорки на данную орфограм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6:47:41Z</dcterms:created>
  <dc:creator>user</dc:creator>
  <dc:description/>
  <dc:language>en-US</dc:language>
  <cp:lastModifiedBy>Гильмутдинова Елена</cp:lastModifiedBy>
  <dcterms:modified xsi:type="dcterms:W3CDTF">2012-03-20T04:08:03Z</dcterms:modified>
  <cp:revision>32</cp:revision>
  <dc:subject/>
  <dc:title>Слайд 1</dc:title>
</cp:coreProperties>
</file>