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8311-8695-4613-A3C3-9AAA62212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C5A3-488E-4C13-9674-5B1C4FB6A1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319F9-CE36-4F4F-85BA-86A885F1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BD914-85FC-4A8C-96D7-C5C7D024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3DD4F-47DE-4F41-AEF4-64FFE231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D6F9A-F997-4EF1-B198-FDDDFC0E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C0CAF-EE40-4E89-91E9-64C869A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66D2A-A5B2-489A-8F12-B0BAA3CB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7B855-961C-433D-8E88-68C5E113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946A1-4462-4DB4-A115-17D61C8C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58324-F62A-4BAD-A34E-4A68473B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7EB16-9BB6-4540-BAEA-09A9F98D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99B4-4C6E-4F13-8CFA-7D07B26AC15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0C1E2-325A-4F0F-850B-F499EFC8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40B2F-C312-4A14-A9D3-B877996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E2360-4FC7-48ED-8A4E-671845EC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670C5-BB26-4845-A7F7-FBBFC477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F1D19-2A1E-4792-8D08-49AC297B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7EB66-F1D2-4323-9E19-31E57F3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2004F-FC89-4B33-B0C7-C4CD077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A5710-C9C2-4527-BE26-17EF603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C005B-FDE0-4364-BDF8-F7411500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77D48-D110-4097-A401-2069E84E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8ED7-98DB-4EA5-AE47-73F7ED1F416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6ABA0-7A45-46A3-B017-046510B5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578177-1C95-4B3F-8181-BD461445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98E064-6342-49F9-A2A4-58210779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2A00A6-2198-41CA-9CBB-C3529FF6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2E8E5D-ED5D-40BD-B833-5C28BC2E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557308-15A3-4F87-B2B3-17D46FCF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EC0FA4-FC0F-46D7-BC48-9389929E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E7C120-06B7-40A4-B4EF-6F8DF1D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F0458B-4159-45C1-A808-84573D5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1D9A6A-C931-4B53-B530-A934D634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D0C5C-1BFB-48B1-8B26-81BB1383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9CFDA5-BF96-4FAA-818C-5D17C938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93F4E0-03AE-40C1-98E7-CB5C29F8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CC5039-665D-4491-B8A1-EDD8CB34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97EA4-0931-4F1C-95DF-42EFD920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A7C26-DBF2-43ED-B024-23EBF52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29BD9-F5CE-405E-ABE8-3D4B7B8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02438-8AAA-449E-B258-D319804F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CB683-5DFA-4E82-9737-4D7DF6F1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A486F-BAF0-4620-B88D-70E1DB49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901DF-60A6-4ABC-9D70-A50615AC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D6770-211C-4A80-AE8A-55C87F08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711CE-0979-4D74-B87E-72A9291A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8145D-AFAD-40CA-83EC-3569A6BB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DFDA6-0E74-4A87-9178-3FE24F65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3771A-180E-407E-9E4C-F1264758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F0118-2A01-44B8-859B-EDE70D7F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12BEC1-99DA-4720-910D-A047386C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EF87E6-2098-4A72-B1C3-A5BBD57B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FC0664-E494-42E1-81D8-B27C3654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582088-9DD2-477E-AEC4-C6FB9026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E9D084-B5C8-40B3-A5BE-DC4EE8DE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4511B-DE4F-403E-BDFC-ED44C0B3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7831F2-3F7C-4B75-9CD7-31FC4258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985C46-E108-4C48-8169-C44C401C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FB61B1-DDC2-4C24-9A6F-3FDD1B1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471C6D-F03B-44DE-BD70-AE7AF8DB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B88A6A-D483-4CB9-A74F-BFDC2E7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61C886-8194-45C7-A6C3-66E419E8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DCB574-D49A-4455-891F-AD82BE5B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752CA-7AA7-47E0-BACA-4CAD2DD5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859CD-762C-4A9C-9875-518EA91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6D411-6A8C-4114-AB17-FED68BDB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25560-9824-4614-A435-9D57D83F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B930-D17D-4D6C-A31C-BA0EF1146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376BD-DD92-4986-8182-A4AF8DB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0D834-1B43-4280-B1F8-3CE591F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05063-7285-41BD-A1B8-A67A2AF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E20A2-6B1A-4A99-825D-D920282E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AF203-03C7-45AC-8CF4-2DA47EAD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BD706-654A-4BA3-8D53-3F52E137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81EB6-A794-4D27-9B10-D7C9EA17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6B3D0C-D2F0-4D78-9CF9-2146A0A4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85090-88C8-406C-8392-763051F0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38E66-55B6-4D53-B681-0602F406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6DCC-EFF1-41CD-A0C6-C9255AA6B3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2044C-43AD-4F18-81AD-102053E6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9AF42-F351-47F6-9B29-40079AB9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353C0-561B-4F73-9517-AFBAEBB7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7FD83-2F41-4478-9889-65D09944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14F27-4961-44CB-B933-AADE7168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1A9D7-1F67-400A-BAB2-EF7FFC67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85D966-7982-4148-8578-0E6B6975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AB0AE-053E-49DA-AED3-1ACEAE24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6EB99-79A6-4959-B8A0-AB1E191F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8CBC8-49A3-4EFE-9F1C-13AEE0A3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B7F0-6225-4B7E-B0FE-5D75379E6D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9554D-B656-4729-B579-2CCDC400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9FDC8-6A1D-4145-9ABB-938B3CA9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D6BBE-2B5E-48FD-87D8-1D2F9149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F5ACF-0A7C-40A0-A296-ED9A96DC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6D8E4-6702-4544-BEC7-2B3708B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0A104-2597-4CE7-91CF-A5929F75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B7A00-C301-4F33-91F1-20AFEC0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1498A5-5DED-49F5-819D-791C2C9A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5FB8C3-6E53-4513-9856-56702689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DEC76F-F1DE-4FBA-81EE-0026E0EB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871E-0F0D-4D3E-8236-6E2F76184F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8B776E-8BAD-4130-8677-45FA1156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8FC93C-89E6-49E7-BF69-9428ECAA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D27F3A-5C52-4C7B-AAA6-9B188C30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35FB08-07EB-48D0-B81D-9C86AD16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C35DD-A7A6-4E5F-93E6-D928C3E1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7A40B-D395-409F-9F19-8FC98C0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1800E2-1729-42BB-B1AC-C082BDD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C1FE65-C85B-4F74-B3EC-A4E4819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AF4E1-FAD1-4FD8-9A25-6A6EAFE2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5FF7AF-2E68-4992-AB28-DFCC7055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11FC-9C3D-43FA-B561-3417C38A9F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C5D32F-3E12-4D80-9678-53846742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D2339-F5E3-4510-BEAE-6A70F449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722443-CC20-4D34-8E82-710CB712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715571-9876-450D-9C10-2D577C0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6DAF2-37B7-4C13-93C7-1AA8EC34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614E6B-F82D-49CC-A410-4074FAD2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2487C-DBE9-41A8-91C9-59EC4A6B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DEB083-B907-4A64-9B85-B7EED280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56A197-DA48-4FC2-B937-784441C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0C8AA-3706-484B-A221-588FB944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6BCD-34BF-43A4-93FA-CC103A9073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5CE8DC-8999-43AC-B7F7-53ECC22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DE30C-FC29-4397-B995-3EC9FFA4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F4EB58-EE8F-44A0-9F38-287ABCBF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24E811-81FC-4092-9EC6-5F781016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0A57A7-4863-4796-94FD-5FC77A02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DB6621-3233-4969-85D8-95A4451A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2FFA97-5F50-4DF3-B339-AF3EB1C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086ECB-DAC4-4A57-A4A0-F5647FFE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E0B70F-E883-416C-8D96-9DAFB7E6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F0A139-9F9C-43E9-B1A6-5D6B0114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FDB8-28BC-4D21-9A22-DD199FFA5F4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06F18B-A2FA-48B9-A077-8A45F3B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054B8-824F-4D3F-91B3-7DDE7496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4EFA2F-9F87-4B08-8F71-49482A79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118C4E-0354-47DB-AA89-C1753550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AE4FD7-BEA1-49E0-B7D9-7EC6A42E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128AB3-F412-475D-BE7E-2773AE7F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71019B-1FF3-4DCA-86E1-22781D8A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1EAB25-151F-4355-8390-A6641F29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876CF-E065-4F8B-957A-0D0D1699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05677-CD29-472D-AC5D-9E71BA9C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1946-8583-4E3C-B7F6-690937903C9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8B62C5-622D-434C-889C-1F2DD149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A0247-7A1C-4455-BA07-AF15F2B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8CC736-7F9D-44EF-BF67-9AE50C9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B3B265-30C7-41A4-963F-EFA9FC66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854EC1-C6D5-49A0-B593-689FB762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9E7FAD-0392-4122-8305-1778AF2C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15861C-4FDB-4D0A-A124-0C2E78A0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3F8E8-D632-47E0-8D03-97EDF5EA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24EBC-69B9-4D40-8A7B-7CE80684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E9FA5-A833-472C-891D-3B45DC41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1CE502-AC4D-464D-A2F6-DA65A2996DB4}" type="slidenum">
              <a: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A918F1-2FA9-4C28-9F4C-4AA931DDBB2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CA368B-8F23-4D86-B2B6-9277D2A5681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358361-89BF-4163-AEDC-B3F429DAB47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8CEF4F-7336-45BA-A1FD-A547895B42E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A947-089A-4818-AB33-5C3A55A50C2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88FC12-4842-42D5-9E9F-B59C27344A0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8EA2C2-15DD-483C-89E9-7D433D5F71A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C918AE-3C03-431C-BB02-2888BD49A74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017AD5-4FDC-47C3-9570-2BCAFE1DBE0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BA14A5-7801-4282-8034-411C4C50FD3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136F17-6937-48BF-96D5-512A14834D9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73DBF7-AA14-4AE6-B047-B542DFD9001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ечт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4" name="Picture 5" descr="000803_1063_3051_vuvv"/>
          <p:cNvPicPr/>
          <p:nvPr/>
        </p:nvPicPr>
        <p:blipFill>
          <a:blip r:embed="rId1"/>
          <a:stretch/>
        </p:blipFill>
        <p:spPr>
          <a:xfrm>
            <a:off x="3124080" y="1905120"/>
            <a:ext cx="2914920" cy="4422600"/>
          </a:xfrm>
          <a:prstGeom prst="rect">
            <a:avLst/>
          </a:prstGeom>
          <a:ln w="0">
            <a:noFill/>
          </a:ln>
        </p:spPr>
      </p:pic>
      <p:pic>
        <p:nvPicPr>
          <p:cNvPr id="565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18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Секретнич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7" name="Picture 5" descr="000803_1063_3048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328920" cy="4907160"/>
          </a:xfrm>
          <a:prstGeom prst="rect">
            <a:avLst/>
          </a:prstGeom>
          <a:ln w="0">
            <a:noFill/>
          </a:ln>
        </p:spPr>
      </p:pic>
      <p:pic>
        <p:nvPicPr>
          <p:cNvPr id="568" name="Запи2457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0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амышля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0" name="Picture 5" descr="000803_1063_3049_vuvv"/>
          <p:cNvPicPr/>
          <p:nvPr/>
        </p:nvPicPr>
        <p:blipFill>
          <a:blip r:embed="rId1"/>
          <a:stretch/>
        </p:blipFill>
        <p:spPr>
          <a:xfrm>
            <a:off x="3048120" y="1600200"/>
            <a:ext cx="3146400" cy="4708440"/>
          </a:xfrm>
          <a:prstGeom prst="rect">
            <a:avLst/>
          </a:prstGeom>
          <a:ln w="0">
            <a:noFill/>
          </a:ln>
        </p:spPr>
      </p:pic>
      <p:pic>
        <p:nvPicPr>
          <p:cNvPr id="571" name="Запи2457.WAV" descr=""/>
          <p:cNvPicPr/>
          <p:nvPr/>
        </p:nvPicPr>
        <p:blipFill>
          <a:blip r:embed="rId2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822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адостный, возбужден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3" name="Picture 5" descr="000803_1063_3047_vuvv"/>
          <p:cNvPicPr/>
          <p:nvPr/>
        </p:nvPicPr>
        <p:blipFill>
          <a:blip r:embed="rId1"/>
          <a:stretch/>
        </p:blipFill>
        <p:spPr>
          <a:xfrm>
            <a:off x="3124080" y="1523880"/>
            <a:ext cx="3019680" cy="5015160"/>
          </a:xfrm>
          <a:prstGeom prst="rect">
            <a:avLst/>
          </a:prstGeom>
          <a:ln w="0">
            <a:noFill/>
          </a:ln>
        </p:spPr>
      </p:pic>
      <p:pic>
        <p:nvPicPr>
          <p:cNvPr id="574" name="Запи2457.WAV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439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Озадачен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6" name="Picture 5" descr="000803_1063_3050_vuvv"/>
          <p:cNvPicPr/>
          <p:nvPr/>
        </p:nvPicPr>
        <p:blipFill>
          <a:blip r:embed="rId1"/>
          <a:stretch/>
        </p:blipFill>
        <p:spPr>
          <a:xfrm>
            <a:off x="3048120" y="1676520"/>
            <a:ext cx="2925720" cy="4722840"/>
          </a:xfrm>
          <a:prstGeom prst="rect">
            <a:avLst/>
          </a:prstGeom>
          <a:ln w="0">
            <a:noFill/>
          </a:ln>
        </p:spPr>
      </p:pic>
      <p:pic>
        <p:nvPicPr>
          <p:cNvPr id="577" name="Запи2473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96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ривляется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9" name="Picture 5" descr="000803_1063_3052_vuvv"/>
          <p:cNvPicPr/>
          <p:nvPr/>
        </p:nvPicPr>
        <p:blipFill>
          <a:blip r:embed="rId1"/>
          <a:stretch/>
        </p:blipFill>
        <p:spPr>
          <a:xfrm>
            <a:off x="2743200" y="1676520"/>
            <a:ext cx="3787920" cy="4566960"/>
          </a:xfrm>
          <a:prstGeom prst="rect">
            <a:avLst/>
          </a:prstGeom>
          <a:ln w="0">
            <a:noFill/>
          </a:ln>
        </p:spPr>
      </p:pic>
      <p:pic>
        <p:nvPicPr>
          <p:cNvPr id="580" name="Запи2473.WAV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54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" descr=""/>
          <p:cNvPicPr/>
          <p:nvPr/>
        </p:nvPicPr>
        <p:blipFill>
          <a:blip r:embed="rId1"/>
          <a:stretch/>
        </p:blipFill>
        <p:spPr>
          <a:xfrm>
            <a:off x="155520" y="136440"/>
            <a:ext cx="88455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79280" y="544320"/>
            <a:ext cx="8229600" cy="6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Что такое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Какие бывают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Как можно выразить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Перечисли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Перечисли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Почему важно научиться управлять своими эмоциям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В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ный тес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С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Определи, какие чувства испытывают ребята на рисунк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Закончи предложение(начало см. на доске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Напиши 2-3 совета, которые помогут твоему другу избавиться от плохого настроен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Эмоции человек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4" descr="000803_1065_1904_vnvv"/>
          <p:cNvPicPr/>
          <p:nvPr/>
        </p:nvPicPr>
        <p:blipFill>
          <a:blip r:embed="rId1"/>
          <a:stretch/>
        </p:blipFill>
        <p:spPr>
          <a:xfrm>
            <a:off x="304920" y="3962520"/>
            <a:ext cx="1633320" cy="2573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000803_1065_0322_vuvv"/>
          <p:cNvPicPr/>
          <p:nvPr/>
        </p:nvPicPr>
        <p:blipFill>
          <a:blip r:embed="rId2"/>
          <a:stretch/>
        </p:blipFill>
        <p:spPr>
          <a:xfrm>
            <a:off x="7010280" y="228600"/>
            <a:ext cx="2133720" cy="2365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0803_1065_1829_vnvv"/>
          <p:cNvPicPr/>
          <p:nvPr/>
        </p:nvPicPr>
        <p:blipFill>
          <a:blip r:embed="rId3"/>
          <a:stretch/>
        </p:blipFill>
        <p:spPr>
          <a:xfrm>
            <a:off x="6629400" y="3886200"/>
            <a:ext cx="2044800" cy="2752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0803_1065_4090_vnvv"/>
          <p:cNvPicPr/>
          <p:nvPr/>
        </p:nvPicPr>
        <p:blipFill>
          <a:blip r:embed="rId4"/>
          <a:stretch/>
        </p:blipFill>
        <p:spPr>
          <a:xfrm>
            <a:off x="152280" y="0"/>
            <a:ext cx="1662120" cy="2705040"/>
          </a:xfrm>
          <a:prstGeom prst="rect">
            <a:avLst/>
          </a:prstGeom>
          <a:ln w="0">
            <a:noFill/>
          </a:ln>
        </p:spPr>
      </p:pic>
      <p:pic>
        <p:nvPicPr>
          <p:cNvPr id="542" name="Запи2442.WAV" descr=""/>
          <p:cNvPicPr/>
          <p:nvPr/>
        </p:nvPicPr>
        <p:blipFill>
          <a:blip r:embed="rId5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4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У людей бывает разное настроение, от которого зависит выражение лица. Глядя на лицо, можно сказать, что чувствует человек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4" name="Запи2442.WAV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000803_1064_4238_vuvv"/>
          <p:cNvPicPr/>
          <p:nvPr/>
        </p:nvPicPr>
        <p:blipFill>
          <a:blip r:embed="rId2"/>
          <a:stretch/>
        </p:blipFill>
        <p:spPr>
          <a:xfrm>
            <a:off x="4495680" y="37339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000803_1064_6011_vnvv"/>
          <p:cNvPicPr/>
          <p:nvPr/>
        </p:nvPicPr>
        <p:blipFill>
          <a:blip r:embed="rId3"/>
          <a:stretch/>
        </p:blipFill>
        <p:spPr>
          <a:xfrm>
            <a:off x="228600" y="1447920"/>
            <a:ext cx="3921120" cy="413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000803_1054_6855_vuvv"/>
          <p:cNvPicPr/>
          <p:nvPr/>
        </p:nvPicPr>
        <p:blipFill>
          <a:blip r:embed="rId4"/>
          <a:stretch/>
        </p:blipFill>
        <p:spPr>
          <a:xfrm>
            <a:off x="4572000" y="1600200"/>
            <a:ext cx="22176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0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Добрый</a:t>
            </a: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9" name="Picture 5" descr="000803_1063_3043_vuvv"/>
          <p:cNvPicPr/>
          <p:nvPr/>
        </p:nvPicPr>
        <p:blipFill>
          <a:blip r:embed="rId1"/>
          <a:stretch/>
        </p:blipFill>
        <p:spPr>
          <a:xfrm>
            <a:off x="3048120" y="1828800"/>
            <a:ext cx="3287520" cy="4524480"/>
          </a:xfrm>
          <a:prstGeom prst="rect">
            <a:avLst/>
          </a:prstGeom>
          <a:ln w="0">
            <a:noFill/>
          </a:ln>
        </p:spPr>
      </p:pic>
      <p:pic>
        <p:nvPicPr>
          <p:cNvPr id="550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26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Недоволь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2" name="Picture 5" descr="000803_1063_3042_vuvv"/>
          <p:cNvPicPr/>
          <p:nvPr/>
        </p:nvPicPr>
        <p:blipFill>
          <a:blip r:embed="rId1"/>
          <a:stretch/>
        </p:blipFill>
        <p:spPr>
          <a:xfrm>
            <a:off x="2895480" y="1295280"/>
            <a:ext cx="3409920" cy="5149800"/>
          </a:xfrm>
          <a:prstGeom prst="rect">
            <a:avLst/>
          </a:prstGeom>
          <a:ln w="0">
            <a:noFill/>
          </a:ln>
        </p:spPr>
      </p:pic>
      <p:pic>
        <p:nvPicPr>
          <p:cNvPr id="553" name="Запи2457.WAV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9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Испуган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000803_1063_3045_vuvv"/>
          <p:cNvPicPr/>
          <p:nvPr/>
        </p:nvPicPr>
        <p:blipFill>
          <a:blip r:embed="rId1"/>
          <a:stretch/>
        </p:blipFill>
        <p:spPr>
          <a:xfrm>
            <a:off x="2819520" y="1676520"/>
            <a:ext cx="379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6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742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еселый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5" descr="000803_1063_3044_vuvv"/>
          <p:cNvPicPr/>
          <p:nvPr/>
        </p:nvPicPr>
        <p:blipFill>
          <a:blip r:embed="rId1"/>
          <a:stretch/>
        </p:blipFill>
        <p:spPr>
          <a:xfrm>
            <a:off x="2895480" y="1752480"/>
            <a:ext cx="3459240" cy="4560840"/>
          </a:xfrm>
          <a:prstGeom prst="rect">
            <a:avLst/>
          </a:prstGeom>
          <a:ln w="0">
            <a:noFill/>
          </a:ln>
        </p:spPr>
      </p:pic>
      <p:pic>
        <p:nvPicPr>
          <p:cNvPr id="559" name="Запи2457.WAV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6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лой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1" name="Picture 5" descr="000803_1063_3046_vuvv"/>
          <p:cNvPicPr/>
          <p:nvPr/>
        </p:nvPicPr>
        <p:blipFill>
          <a:blip r:embed="rId1"/>
          <a:stretch/>
        </p:blipFill>
        <p:spPr>
          <a:xfrm>
            <a:off x="3048120" y="1600200"/>
            <a:ext cx="2962080" cy="5014800"/>
          </a:xfrm>
          <a:prstGeom prst="rect">
            <a:avLst/>
          </a:prstGeom>
          <a:ln w="0">
            <a:noFill/>
          </a:ln>
        </p:spPr>
      </p:pic>
      <p:pic>
        <p:nvPicPr>
          <p:cNvPr id="562" name="Запи2457.WAV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5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2-03-17T03:24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