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3DEC-27B5-44AE-8367-E24E71A2F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C855-BA65-4BB0-9FEC-ED6A7ED66EC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BC586-1C5C-4D65-B519-09C6AF07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92DA0-B8BE-4685-A2D3-4C2B18A5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36AA0-FF6E-4C42-A694-54F971C0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8D7AA-D1FE-4B03-8874-B41AFFD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E8E2B-E9DC-48E1-82CB-067D562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C86F0-1AB9-4944-985F-383E440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7ECD2-F2DE-4CB3-94BA-CC29523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2E320-5837-4C21-9C77-C2281866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58EFF-EE55-4EBA-AA2A-49B77E69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BBAA1-24EE-4C2C-9608-C7DFCB63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1EB8-016C-46B6-8EB0-15EA3A3ABD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0BB21-80A7-4C16-92E7-8AA1DCA7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E7E8F-D3DD-497F-8922-E43BA440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2E50D-AA0C-4FCA-A30E-519173D2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CCC29-C19B-4994-9A27-C3132AED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EC287-933A-4FB3-9646-07F9BDE1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CDD56-9964-400E-832C-A4637250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A5FB3-16FD-43CA-9039-BC8269F0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DF82D-3DCA-49F9-A785-9BA2A7B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1E528-C0CA-4848-BC55-790DB414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465F7-B55B-42D4-A3FC-ACD73752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6F8C-18C9-4D6F-A08C-97A5F5C87DF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D1A99-EF9F-4A13-929A-F301242C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45C853-0714-4E34-B9F8-A8FAF7D4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964891-514E-4488-8493-EB189BC1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6AB8E5-EA62-4544-9D19-C530AA9C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BE8CD8-927F-4562-B7ED-DFFF6ECE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222183-CD26-4994-B6FC-4E876781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E194AB-6D08-4923-AC3A-F4A7F6B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4A5153-1E09-4094-928E-A4A5885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8624C5-0306-4061-B505-51270B4D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2FC812-9054-4B61-A2BE-03FEB7E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F7562-9C22-4D32-BB50-8A0627DF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C575B1-1E46-4FE2-BEE8-2586AD9A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C20093-501B-484E-84F6-54A3C4BB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D95632-25E8-487C-B1E9-142B35EB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3294A-E414-4B86-99D9-ED272100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D93FD-AF44-40D6-9B78-4044B27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5357B-5CA4-4E12-B328-B3A59936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BB5D1-8061-427E-B06B-1F1B1728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60BFA-CBC3-430C-BF1E-97E95A6F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FFE29-6B41-4A76-AB02-285D34D7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EAE91-C6C8-4324-83AF-3C71C68F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0D930-34C0-45A1-847A-46AE968A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4DB2F-6967-47A2-A13D-4FB7ED9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9D899-4F75-4AD7-A53F-E0959C7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75EC6-0747-4455-B187-10C72820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C2DE9-1F76-4CA1-8A45-3FFC0B91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F4A2D-7157-44EF-90AA-31D43027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2A654E-D688-4D72-8418-E7889D41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899739-5D63-4179-B620-E575AB1E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C1FA61-B32C-457C-83A3-2405C0A1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185EDC-1A26-4E25-8432-E3AF0DAD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060388-B479-4583-A052-07145FD3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B2A4F-58C0-4051-BEB9-D095110B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5F4DDA-4AA1-43CB-B064-FA4E22C5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D95CA8-D2D0-42CA-902D-8C95C0D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C4DE1B-3836-4390-A3F2-6A0B84A8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AC008B-61CB-4E11-9603-41752A5C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E3EE15-02AD-4B9A-89C5-60B83E21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A8730F-7107-4068-892F-5425FB5C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B02D47-A5E8-44DC-A21C-D1DC5E13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FEF76-A70E-4299-BA77-ED929029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BD467-92F0-4C92-8692-EC8AC799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E7D3F-C8D5-408C-85C8-1B5B9791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0638A-C748-4A1B-9EAE-D926BA4B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9770-108A-4200-86A3-6FC2B7163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1FD31-7047-4937-A4F5-6A5EBA6B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AE6DF-86A1-4335-86B1-A34A0F0B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CB59B-7DAE-440F-8BC5-BE407A9E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36745-7D55-4DD4-A54B-80E8D4A7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AF31E-A278-4D53-9FA1-014D8BED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B05B3-B443-41AC-B0F5-708BA9F8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A7F9A-786F-4883-9C45-E0E9132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8B99A-3627-41E6-B353-4FBF7D7A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3A398-FD4C-48D7-BE19-D037E6DA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2B9C4-56AE-4F99-BCF4-318707F6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2DB3-4624-4C68-B724-7E6CE082F1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8883D-00C9-499B-93C0-EFCA585D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8DA7F-0BDD-4437-99E5-4CFE694E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EF728-FB97-4797-9C67-89151B6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DFBD6-7F8F-4FEE-93CB-F518E45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FE5F8-D8F0-48A5-AAB5-401F0696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33719-BDF8-4769-9CDD-44A0952E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FEFAE-0907-40F1-B553-0B16D008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0BFA95-1FEE-46F2-B25B-DBB3D3CF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D4530-F786-4725-AF65-C1C6D202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373E6-74E3-44F7-9D04-02E3D980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0603-E651-4FFC-B191-6652244D9F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40B57-47B3-4507-B8D0-9EE3B95B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368AAB-20CF-463C-8D3C-8D1549AD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9B8B4-3A2D-4232-9F9B-C2DAA5D3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52248-44E2-48CC-A207-1FF8A7E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C1ED5-463B-4B93-AB3A-C2E1A61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E9298-367A-4CA0-9F75-1962433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28A16C-D018-4FA2-992E-CDD671FC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F5B96-128D-405B-8A03-67C36165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8EBC9-F985-4022-8EB0-A25E7F76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C43614-89EE-406D-97FE-6DBF8544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C6CC-B86E-478B-B41B-DBCEE53DE92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1E643-044E-4EA8-803A-367F68A8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D59918-F5C6-4677-BEB3-45FCD36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8313F8-5D6F-4C99-B5B4-195E942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1F1A94-D667-4072-B701-9D63F928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E7784C-3967-4838-AD5C-E41A5046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D592A-A785-40FC-A488-FA88672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187905-1DFE-41E6-B832-F6B1D41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C1A76-28AC-42B3-BED4-625A7ADD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1CCAE-D365-4136-86AA-309CC59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09D92-E982-43E7-8493-AD29F254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4E65-4283-4AC3-84B4-1F6434400C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45F800-2E23-45EA-AA13-18CA3FBE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65FAE-D96D-4B29-8CED-2B79E021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FC3F1-47C1-420B-BA1C-22C96EF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A37D2B-944A-4B5A-99AA-F96900C7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B2CD9-F0FB-4DA5-B950-289600A8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73638-11B8-45BC-A38E-3F565FF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D2D2F-A2E1-4191-9687-FA6FAF8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55E42A-2BA7-48C0-A9CC-8BF3FF8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7CA413-530E-45AC-B6B1-1181C28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F1DCC-F49A-4241-9E68-0F2C0556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D600-3EED-411F-B257-536120042A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10A4A-EB89-4D6D-86A1-0A8EA65C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7E195-8B07-4ABD-8C5F-F6B70B49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820E2D-01ED-4426-8D6C-E121EBAD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9A6746-C978-4EDA-8273-6B3C5CB0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3708A9-20C8-43E7-95ED-E912E073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3E048B-1CFA-48F5-8500-DBB2068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F6F64-1D0D-4E4C-AB8B-3B4741AE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F581AB-EAD8-4B30-9416-B987BE5A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1049B9-3691-4A32-8046-992010A7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9BC38-C9A4-487D-BC61-4242ACC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508E-F1B9-4B54-8C1D-9CD827B091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18BF2B-9AB7-4705-9E33-3E0D825F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20C015-BCEA-449E-B5F7-023E29E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751788-EBA5-4D6D-AF8E-CF08B635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0ED862-443B-450E-A18D-05F3C84B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E4C355-FB06-4378-866E-530D30F8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BE89D3-6F0C-4E6A-8861-126D520E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7505D8-9A69-49AF-8A70-6CE6186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B83F7B-EEEF-4A7A-873E-8060AD71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E3E242-AA57-40C5-932B-784A5B93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1E77F1-510F-4692-B1BA-ED9E5D4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6574-C18C-4B14-9979-4C7C1D59EC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69F8CB-BCE7-42AB-89B7-FE69CD10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C4C3D-4EB3-4735-8197-56C1245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97450B-7D4C-4C04-8A8A-CE5BCBC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EEFB1-8969-413A-AA62-BD8C0FAC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F4D124-E688-487A-AEAF-85AF6902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0D624B-7212-4F97-90B3-E4E0B036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A6CBDA-3662-4613-8FB0-B5A57AC8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75F6E-23F2-4968-BD1C-0239F365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E3959-B634-421A-A839-40B741D9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CA2ED-1B4B-45CB-A2A7-8F476789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1F32E4-ECB6-4317-89AD-0365132956A2}" type="slidenum">
              <a: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440F4E-34D9-4163-B5BF-39DF9F44F9D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3D8FAC-C570-4E97-B465-A11FF3A3776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E7AF22-4A8C-447C-9078-080A1A5551E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83E5DC-350B-423A-8884-9E8226841EF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885-6603-49E8-8981-CBB7C15E7CB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04B53E-E536-45AE-AB91-B0986B37044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64511D-B7AA-485A-8547-89ED33478F0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365B4B-6EE6-41E7-AF22-937328359A3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075EB7-385F-4018-BA6D-267FBF2E4A8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35D452-65B5-493B-9CD7-DEC20F27325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BBB5CF-3A8B-4609-A9C0-EB0B1CAAD8C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F4086B-AAB6-47FA-9D4B-956464E5B0A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4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565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7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568" name="Запи2457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0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571" name="Запи2457.WAV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3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574" name="Запи2457.WAV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577" name="Запи2473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9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580" name="Запи2473.WAV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155520" y="136440"/>
            <a:ext cx="88455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79280" y="544320"/>
            <a:ext cx="8229600" cy="6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Что такое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Какие бывают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Как можно выразить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Перечисли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Перечисли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Почему важно научиться управлять своими эмоциям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ный тес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С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Определи, какие чувства испытывают ребята на рисунк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Закончи предложение(начало см. на доске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Напиши 2-3 совета, которые помогут твоему другу избавиться от плохого настроен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542" name="Запи2442.WAV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4" name="Запи2442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9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50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2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53" name="Запи2457.WAV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6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559" name="Запи2457.WAV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1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562" name="Запи2457.WAV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2-03-17T03:24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