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90BD-0728-4219-ADB2-8A59023A9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5580-820E-43A1-9FB2-4E56710187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B3969-CCDB-4A8E-8DD6-03868153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66663-6F7E-4553-89A9-F7E6BB3F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F08A6-3F8D-4F18-88A3-C07873F1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5E295-B2C9-420F-9440-4DC67B92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06CF1-22EF-4B62-924D-EA0CFA4F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BD6B1-B430-419A-B3D6-88D19C0F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4CCA9-A240-4295-9B2B-2D0942D7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633A3-6702-4B9E-AA03-DDBE0ABA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FB71A-2072-4856-8502-F56F9DA9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BB007-F8FC-4817-97B0-9D81582D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4543-30D1-4BE4-83AD-692314F3E8F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780E3-BE70-45C2-B2C9-A3921794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3CD56-8F98-4FD8-872B-5938E0CF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57248-29A3-4349-9CBF-F7A28179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DE2EE-C4BC-48ED-A5B3-7D565500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51788-AE16-47DE-85FF-76CA1C7A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11C42-4E10-4EA4-A6F7-A2A4CDB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48321-6487-45EB-A01B-35418F2B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58CBB-C96A-4970-94D8-6C133D3A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956A7-97FA-4A9D-8508-84A7D725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2744B-FBED-4A25-B0CE-C9F4865D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2C94-EE36-4ECD-AB51-3CA4BEF7B4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8280F-6BD4-4608-9C8F-991384A4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FE0C9C-8938-44A3-9FE0-68FFB1CC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638DD9-113C-4589-8222-64BF0EBD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1D5E4A-D00E-4506-907E-14D83505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9C45AE-8D19-4CF7-A965-3907A35D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A984BE-4654-47A5-B1E1-1EC8AAE0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8B78F5-03BA-472B-9E59-584D306F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D5D72D-2BA2-4D74-8461-92800FF0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EA50E6-66A7-4485-881D-B8EFCD77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045F83-19F6-48B3-9CD8-E70052D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99638-7A22-4618-9048-4CEE81CB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729C08-4B10-4C54-97A4-A689B2D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BCB429-D35B-4C6E-A04B-1D83825B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1669EF-718B-4EB7-A47A-392B8FA6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93CF0-60A3-4C4F-8611-FB9666AA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8AA36-4789-4812-8867-251DE39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0D31C-2633-42E6-AD56-EC4C980E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2A1F9-F523-4A3E-BD35-9D85BFA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71AFB-DD68-4C32-9F1B-FD6F234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A3DD7-D0BC-4854-A0FA-FC07C72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900B8-144A-4F13-8572-0DD0F19B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264E4-EFD1-4EFB-8422-898022A7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E4022-FCF0-4F39-B3CC-0D4EAF42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F0F93-6403-4012-99CC-DBDA1FE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7E780-35D7-4977-8340-A9EFB1AB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F6C09-BF05-48EB-9EBB-21D7EE62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B6FF0-E41E-4073-98D6-6BE9600B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A52FA4-ED5A-446C-9D76-530861E9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C4321A-840E-48A5-B055-56B20232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740D7A-A3FC-4723-A8E7-EB2B47F0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63F9FD-8211-4C24-805D-D9E9F576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18CB4E-EF59-4605-BA4F-75E2B91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D7D92-BFF2-403F-96BD-708F9A4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E383AB-1ECB-4024-8F9A-D4B77475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285694-D946-40E2-B999-6C16DA46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D9E756-428B-4C49-A26B-F74FCA8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F14383-9B02-4D93-9D92-1997DEC1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F7532E-76D0-4345-995A-47D3EF17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5FF360-11FA-444B-BB4F-65C6EB5E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EF4E4B-06DC-4B03-8A4F-18EE2222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180A6-2ECE-4EF7-8E2E-DE9BBDB0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E3792-E15A-43A9-B672-C264634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DBDB9-1148-47B9-9C21-D19EAD59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23975-0DE3-4081-9391-3E8A9CCC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74AA-46C5-42E8-A857-9916AF46F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61BEA-29A1-4DE4-B8EF-E017978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FC2D0-DDA6-4E82-AC91-BD6A0660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3918E-B5FB-4E46-A0F6-1EFA41D5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94F8-4EE5-4BA6-9A4D-238EBDFA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B8D7F-3AE9-4EC9-B06C-0756F358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EE28F-07DF-4004-BC84-40372B4D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01FC6-B320-40F3-94E4-F9D6EC9D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F944E-D42A-44F2-ADC0-29963182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A18F3-107B-41B6-98B9-F1098735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72739-2ECA-4004-B75E-5A28A12E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E35F-FD8F-4AD1-802F-784D7722EB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E79A2-5E61-496C-B9F5-A1560F8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8A9CA-BFD3-4FA7-A885-E248600A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5E41C-2C00-4637-9988-C7CC6C6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2DF87-0448-4DF4-8181-0A12A22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2C96A-E4A4-4AA3-9723-1B952B16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4D22B-7B10-4A2A-8C43-8EFA8C43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94C9B-AE1D-43BA-9EEA-23191B6B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ED833-BB66-4F70-86E6-9BC3AF8C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6E4AE-CE0F-4F42-966F-1B42D4A3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4F0F0-266F-4337-AB82-FB08123C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1797-E4A8-4F7B-9844-72E2BBC233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BC4E7-959B-4507-BD64-3578AB87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092D7-A52A-4A58-A2BC-C1EBF762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E0B07-8884-4662-A96C-FCA2EC68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2D0D0-C718-4471-BE44-FB4C31F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C88B6-5EEF-4E5B-9DF0-C5F1BD31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31E88-DC5B-4B35-B074-7C87CAF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4DE5D-FCE8-4224-9AC4-864A733B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02E6B-6A7A-4877-BF00-49EEB7BC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E2E02-F133-4FE6-B0FD-B5903011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95F381-9D51-4D2A-9AAC-8CF6DC47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A745-677A-40EC-A079-5A1ACEE220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C9A28-C06D-45E1-9F27-54ADFFA6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D7EA9A-0E85-49C8-9256-CDF8DCD4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38CD2-F4DC-43A7-8FFE-8CD2DD1F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AEB752-94AA-4C75-98BD-F0292820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3524B5-8B65-42FD-A8A8-9F5E7B06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9A9E97-72DD-4349-B894-6761D54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30F3A4-8B14-44F1-B9E5-7157208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0D26F3-785C-4D08-A0DB-463721B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495F78-C75B-48BE-9DDD-BB052100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0F1FC-D56B-45C0-8BF5-E10924A3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04F3-AC66-4C15-A28F-2D56FA600C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2B878-BAA2-43A2-9365-65151C1F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6F98B2-5389-4EB3-A5C5-5DEC12B4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625BE1-AB1D-45B2-97BA-2FA4B8C7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1F4D09-5B62-4FC0-A519-7D9ECF46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BA093D-074B-4051-9C84-EC0A67DA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CB7D3-982B-448C-B076-CCB0D309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ABCD0-5772-4FD2-8898-F4C7271B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9CC007-DC8B-41F6-97DA-FA3472F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AFD969-B41B-4556-B30E-BA1998EF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B77FA8-6E35-4A31-B867-BAD73219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22F5-3763-4F74-9653-9624B0E36EB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E427CC-B523-44BB-9DB6-750DC776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D0559-E311-463E-B7FA-86B752EB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0554E6-BE72-4971-BEFD-9761717F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0756C-3993-4D33-937F-B3B2C76C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E2568-5775-4CD4-B7CA-EB6B17B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CC5C4-42DE-4534-B785-C20F7917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958749-8133-405C-A243-85654FC6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B0C2DB-2034-4756-A3C0-60FF8B5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F5A39-9AEC-401A-ABE2-A48EBC66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3E478E-654A-4781-9416-26996168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FD5D-87A4-434D-99BB-E1B8DBF76F8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756A9A-149E-4B3B-8D89-8D8F0E2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4CEEEF-E7B7-4DE5-8F5B-DBA00D7E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5F022F-ACCF-4C13-A2F1-3E1E5213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50281-54A4-475D-AD50-76845C5F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5F4967-14ED-42E5-8459-9FEA76AE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5F635-83EE-4C6C-BD3E-0FC3C0DE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6FDE9B-B9A3-4341-80D4-F3677C24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60C8F-872A-4538-8523-37352D05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A8DDA-B27F-49A0-92D2-23CFD745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4D4EA8-2331-47E6-9826-566D2E5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3DC4-6174-4C2D-A4CC-01A702FA5B7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6243E2-E319-4568-AAD5-86574E48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8EB262-A97D-4E56-B9B0-3FA1DCE1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AEE2B-2D62-496A-9BD6-28D43E93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62B075-CE75-48D6-9B29-DE59412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703665-A745-4475-8D59-953FC2F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9ECE8C-239C-4944-9711-45DFE65D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5AB150-8333-423F-A8B4-6C8A80B4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CAA4B-1A06-41AC-A270-80AE59BE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45CF8-EFF3-4E40-BB6A-3865A64F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5C2D1-1251-4A3C-94B5-85EC6F99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D0B80C-6E7F-405E-8BD8-3CFE2AE1C200}" type="slidenum">
              <a: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7CA5E7-4791-4926-A86F-674A3F3B3EB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516FA4-481A-4303-82BE-F31994E69C9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55BE08-CE5C-4FA4-BD8F-07654838A40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9A8C78-0D01-4BEB-81EF-333830C5B79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FB4D-C400-4BDD-AECD-02034A6F119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43B68B-4D75-424F-98E7-EF882D03B23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AAE205-AADF-423F-B6C6-56F5A348B9F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72D288-3C4D-444C-A7A7-937C9283D16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607FE8-DBBB-4B17-8257-9FFE97BB773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6264FA-8530-438E-BA24-8F8E1645EDF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F1AF97-62A6-4DEC-8983-6D92ABD7BA2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B2C6A0-F3E4-4FB5-B973-B2BA8F8CFD4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4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565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7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568" name="Запи2457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0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571" name="Запи2457.WAV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3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574" name="Запи2457.WAV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577" name="Запи2473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9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580" name="Запи2473.WAV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155520" y="136440"/>
            <a:ext cx="88455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79280" y="544320"/>
            <a:ext cx="8229600" cy="6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Что такое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Какие бывают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Как можно выразить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Перечисли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Перечисли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Почему важно научиться управлять своими эмоциям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ный тес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С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Определи, какие чувства испытывают ребята на рисунк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Закончи предложение(начало см. на доске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Напиши 2-3 совета, которые помогут твоему другу избавиться от плохого настроен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542" name="Запи2442.WAV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4" name="Запи2442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9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50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2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53" name="Запи2457.WAV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6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559" name="Запи2457.WAV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1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562" name="Запи2457.WAV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2-03-17T03:24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