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21.jpeg" ContentType="image/jpeg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D651-94EB-4E37-BB30-2F7FAF7CC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049A-3157-4D9A-8CE7-1C98C6878BC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8B71B-8EBA-48B9-B0FE-87932834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B54393-2DF8-483F-BD5D-4EB82196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E951CD-186F-4DC5-8670-E3259A37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2E292E-730B-451F-A7DC-F88630F1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0A54F-2D75-4BBE-B7EE-99A68B82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2665D-F0FE-4350-AFF2-57A0AA13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4B6C62-9B34-4EF5-981A-75F46F4B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0563D6-367E-4A5E-A615-FEF93737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05905-AD51-4610-96E2-B8D6243A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4DAB19-F27B-4B10-BCC8-619C9C55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3F54-26D7-4AC1-B19A-AD9EC38934D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D3C56C-A59D-4ECA-A188-19FFD402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ADBD70-0B57-4EE8-8316-9B3AC5ED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25F06-6BD9-40A3-BFE7-1BC7CB8D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CB04E-5B88-4BEF-89F8-CBCB0BF8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5CA7EA-3B64-4F72-B83C-CDA6B5A6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85C3FB-CEF9-43FB-9186-3C66A692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2A976-C37D-4605-A337-B777FBCC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381458-D2FF-4FA6-B945-21075C84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1ACA4-BD9E-4631-93FF-88FF7CAD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4F4CA-51FD-48AC-AA40-082F6CF2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7581-D3ED-4BC7-90F7-2BAEC4F58F8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73159-0547-46EC-B053-3D76F9F4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6B8C6B-0F74-4C54-A43A-0376541A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4E8D3E-1DE1-433D-BD9E-A2395EE9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D1DF6B-7E0C-44FC-BA8D-ADF79B6D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AAF1C3-6AFC-4E4A-BEC6-7675B437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CBEFAD-9B79-4A70-805E-48F24AFC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513E18-FACF-47DE-A1CC-CE904223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D5254E-BDBF-407E-B255-09D718B7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4F120F-B94C-4893-B7AE-C335C641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028D28-CE4F-4DEC-B331-82A52801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BE566-3FC0-4DB8-BD11-99618DB0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1BE0D0-3FC6-4C86-B516-0127F089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E78BB4-96A9-42D3-958D-232D1EEB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B20566-EC19-40E3-9569-2CD65D36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E1382-9B1B-442A-95E9-C94E13A4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85E698-BE93-4B64-A662-6F6D5CAA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73F58B-F8AA-46B9-852B-469B082A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21C9A3-07B3-429A-B83B-9D77E368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EFB75-BC41-4892-B824-F13A450A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A1ED2-9383-4328-8C75-10FB6B1D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554A6E-6E21-4F11-B78C-D2D6415D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65E72-E7DC-4CA2-A2E5-FE5D36B6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90DE76-527A-40A9-B468-6AD89E3D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8EB37-B48D-4CF9-AE73-D63EAA15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5F8F5D-34C3-4B45-A81C-669B8AA9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E812F2-15C2-426C-AB7A-69274BD7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0F57C-6C6D-40EB-9B38-702C5D02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252925-63A9-4964-97A9-7FDB1B4A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7EEE23-4D16-4DF4-B796-F70D7A5C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F34C72-9761-4E36-B05A-E2DB7670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301F4D-5500-4683-9536-AE7ABC99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C392B6-36A5-4280-90FC-40A56088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EEADC-BC4B-4906-A58C-78E005F2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97C730-2A24-48B6-BCB2-F2412385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2CECC7-2DFE-45E2-BE8D-1E583B19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ED4DBA-91D7-4110-9F09-55D57CA7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DA27AC-EB0F-40ED-B9A7-23422D89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C1FCA3-1AD5-41C9-AAE5-67883377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99C024-956B-4C48-9FA1-5DF3BC34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EEE75AF-FE3F-4417-AE78-419D6700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5EA0C-9A27-41CF-97FB-0D75E02D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0879A-EBB0-47A7-808B-371EF69B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14FF2-A8A1-4F2A-98F6-6C27E73C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85AB2-4F18-41FF-A07B-7D801B11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80F1-2E5F-46A8-AD0F-E081D919E5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F7BFC-3EC5-461B-8B8B-68737ECC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4E14B-DD3F-47A0-A2B5-CC67CC6B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C7DB5-C072-4504-8B20-90E9E9C0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D7528-391D-49BE-859A-E27B95E9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A4C5F-A615-4888-A7F5-5AD02C27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E2D4C0-BC07-406D-AEAF-9DE32EB9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3995AE-513F-4D7A-8144-261A731E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31C783-D301-4B62-8555-68F220A8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BACC2E-43E8-4623-988A-C49BFB39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631077-E116-4B3F-97FA-CC0266B0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CD71-BA9D-4CA9-A54C-47B3F0E179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12B46A-2C85-4161-8079-9385ECC8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7E4B06-9DB6-4468-A66E-2C6A62A1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8B113B-9FF0-48C3-B2AC-5B567598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6B64C3-9BA4-458F-98E8-2F55C0CB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615C7F-DFED-45A1-B6B3-101A9720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EDD013-7C0D-494B-820F-97F47117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0D5576-4697-4C48-B30E-90153E72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68E81D-4E30-46FD-9F62-239ECD60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8F5BF2-1461-44FB-B030-C1DA7916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6308AF-8402-4C11-A006-E200D796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9CF5B-18B7-4F2A-A13C-2652206AE8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81A68C-23CE-4863-802D-D69D3F58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090351-875F-44A6-8D59-63B78304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9A165C-6236-4BF8-A060-576E6DC5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55441D-ED20-48CC-9C88-7F17ACE9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08DA5C-70D3-4B63-84B4-7E21E860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1B5F0C-ABBE-479D-A96F-C95B32C4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10DDBD-FF85-42DF-8415-07F343AA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316F78-7F6D-4C2B-88E9-CA483CBF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22DF13-8D38-46B7-ABCA-59DC2830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B25528-81A2-44FB-ABFE-10748D76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58F7-CA90-4DBA-9FDD-960CDF4BBB6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DABBF5-C45D-4D4D-A16D-F807AFEF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3F91E6-8641-4722-ADC5-15CF3BFE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BF1618-1F75-4B25-95B9-0797130E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DEC37D-D171-463B-85E8-67964880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25762D-BACA-4A16-B419-63D809DA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D40ABD-7358-4A42-AA5B-95138E26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9627ED-B493-4F5C-AE64-F99937B8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A77504-E178-47C0-AC89-72FEE1E2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A5A284-3356-4543-8200-F08A88D8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3D1E1C-83F3-416C-AE80-58D406CB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E6E3-39BD-432F-9E4A-E2E6473BDE2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BD75C9-CD20-4D9D-BA71-AE67C570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87035D-6CD3-4330-BE79-3075538A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5A949F-E07D-4C21-A0FF-554B5494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73F761-19B5-421C-A814-A080D67E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091C47-FD92-48C8-B356-EC549F84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998D0A-5DF5-449F-898F-2555B65D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E6B91D-51F5-4882-9C36-E69932B9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611042-094F-46DF-B74A-4C577537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A06FC0-0AF0-4FC6-95E5-B5E85FC1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6B811A-1AEF-4BAA-8F46-9C1A0CCB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081BC-6EAB-4952-9731-30E7B4E155D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EC6E2B-D7BC-4016-A950-6EE4B0B1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04B842-E64A-452F-A565-732F8BE9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C17BF2-8D4B-41B9-A5E8-7387BA20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ED0996-5EE6-446A-9456-B3589641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AC96E9-510D-4713-A9CF-E4C82B4D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53AC49-CF1D-44E5-A005-5BEA7DFF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15E0D7-DC16-48FB-895C-CE0CC743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67A814-6AC9-4FED-9FF8-DDB571B1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1DB37E-9087-4B98-BCC1-BBF66CDC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AF1B8E-2EF1-4E11-A6D0-85163A2C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B4937-5C28-4DFF-BC71-6FC312E9092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19A618-D6C6-42D3-8342-D9F9FE8E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1AABBE-1E33-4DD5-A3A1-ED6C10AB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70FCD6-21D2-4A5C-80BD-C96A5E9D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CC069B-2AAF-49D1-A6AD-32805264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BC33E3-EB14-4298-9536-E7FC8862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134408-7CD3-4868-A77F-CEB8ABCA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162F27-7D41-4A60-915E-94DA0315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120930-E81D-42E0-B67F-7EEDFEC7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FD8EB2-8162-471E-9BDD-0A07FF38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F17F76-72DD-45E2-A850-05F6E514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0EF8-F9EE-45D6-9F6C-D7668DCA91F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5A0338-0402-4A91-B513-D1DFCDCE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2D5126-18AF-44BE-98CC-69F0197E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6165A6-F58C-4114-955A-CCD638CE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586BD6-1D99-4BB5-AAD0-AD7E09C6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8122EE-AD84-4E61-86CB-647D059D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E578BF-BC9D-4A48-BEAD-12AB1F61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B8E96D-A863-4D9C-8775-E27EB297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6CB63-8BA7-4749-8A17-FA4D59A7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CF5391-25C1-4F51-A194-E86B482A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33469-5738-415E-B777-59036F2B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B8B89A-6D2B-453E-8D1C-2BE757B54F79}" type="slidenum">
              <a:rPr b="0" lang="ru-RU" sz="18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816133-68A2-4311-9839-D7B6754CFD33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91D851-FA94-440A-92FC-777E8855A5E2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43731F-C5CB-4A2C-896F-A22F46CC5148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39CC64-AB84-4A7B-93D5-59562990A02F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7EC3-20FF-4638-9E97-9AC2285773E8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FC6A77-DD01-4665-BF5F-64C3A884BFF4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0651AB-87C9-420C-8F25-BE505A87F645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B64E4C-837E-416D-A1FB-AF9179A29FD6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60FC84-43DF-4078-9742-BC272162832C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DE7CBC-834F-4B59-9E0B-AFF07CB7181C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9F39D0-6B3A-4395-8EAE-10A40A238348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D192AE-6EC3-4C8E-9E55-96574579BE93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-20808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ЭМОЦИИ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5" name="Picture 3" descr=""/>
          <p:cNvPicPr/>
          <p:nvPr/>
        </p:nvPicPr>
        <p:blipFill>
          <a:blip r:embed="rId1"/>
          <a:stretch/>
        </p:blipFill>
        <p:spPr>
          <a:xfrm>
            <a:off x="539640" y="126036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Мечта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4" name="Picture 5" descr="000803_1063_3051_vuvv"/>
          <p:cNvPicPr/>
          <p:nvPr/>
        </p:nvPicPr>
        <p:blipFill>
          <a:blip r:embed="rId1"/>
          <a:stretch/>
        </p:blipFill>
        <p:spPr>
          <a:xfrm>
            <a:off x="3124080" y="1905120"/>
            <a:ext cx="2914920" cy="4422600"/>
          </a:xfrm>
          <a:prstGeom prst="rect">
            <a:avLst/>
          </a:prstGeom>
          <a:ln w="0">
            <a:noFill/>
          </a:ln>
        </p:spPr>
      </p:pic>
      <p:pic>
        <p:nvPicPr>
          <p:cNvPr id="565" name="Запи2457.WAV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4181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Секретнича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7" name="Picture 5" descr="000803_1063_3048_vuvv"/>
          <p:cNvPicPr/>
          <p:nvPr/>
        </p:nvPicPr>
        <p:blipFill>
          <a:blip r:embed="rId1"/>
          <a:stretch/>
        </p:blipFill>
        <p:spPr>
          <a:xfrm>
            <a:off x="2971800" y="1523880"/>
            <a:ext cx="3328920" cy="4907160"/>
          </a:xfrm>
          <a:prstGeom prst="rect">
            <a:avLst/>
          </a:prstGeom>
          <a:ln w="0">
            <a:noFill/>
          </a:ln>
        </p:spPr>
      </p:pic>
      <p:pic>
        <p:nvPicPr>
          <p:cNvPr id="568" name="Запи2457.WAV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004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Замышля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0" name="Picture 5" descr="000803_1063_3049_vuvv"/>
          <p:cNvPicPr/>
          <p:nvPr/>
        </p:nvPicPr>
        <p:blipFill>
          <a:blip r:embed="rId1"/>
          <a:stretch/>
        </p:blipFill>
        <p:spPr>
          <a:xfrm>
            <a:off x="3048120" y="1600200"/>
            <a:ext cx="3146400" cy="4708440"/>
          </a:xfrm>
          <a:prstGeom prst="rect">
            <a:avLst/>
          </a:prstGeom>
          <a:ln w="0">
            <a:noFill/>
          </a:ln>
        </p:spPr>
      </p:pic>
      <p:pic>
        <p:nvPicPr>
          <p:cNvPr id="571" name="Запи2457.WAV" descr=""/>
          <p:cNvPicPr/>
          <p:nvPr/>
        </p:nvPicPr>
        <p:blipFill>
          <a:blip r:embed="rId2"/>
          <a:stretch/>
        </p:blipFill>
        <p:spPr>
          <a:xfrm>
            <a:off x="902664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3822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Радостный, возбужденны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3" name="Picture 5" descr="000803_1063_3047_vuvv"/>
          <p:cNvPicPr/>
          <p:nvPr/>
        </p:nvPicPr>
        <p:blipFill>
          <a:blip r:embed="rId1"/>
          <a:stretch/>
        </p:blipFill>
        <p:spPr>
          <a:xfrm>
            <a:off x="3124080" y="1523880"/>
            <a:ext cx="3019680" cy="5015160"/>
          </a:xfrm>
          <a:prstGeom prst="rect">
            <a:avLst/>
          </a:prstGeom>
          <a:ln w="0">
            <a:noFill/>
          </a:ln>
        </p:spPr>
      </p:pic>
      <p:pic>
        <p:nvPicPr>
          <p:cNvPr id="574" name="Запи2457.WAV" descr=""/>
          <p:cNvPicPr/>
          <p:nvPr/>
        </p:nvPicPr>
        <p:blipFill>
          <a:blip r:embed="rId2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9439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Озадачен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6" name="Picture 5" descr="000803_1063_3050_vuvv"/>
          <p:cNvPicPr/>
          <p:nvPr/>
        </p:nvPicPr>
        <p:blipFill>
          <a:blip r:embed="rId1"/>
          <a:stretch/>
        </p:blipFill>
        <p:spPr>
          <a:xfrm>
            <a:off x="3048120" y="1676520"/>
            <a:ext cx="2925720" cy="4722840"/>
          </a:xfrm>
          <a:prstGeom prst="rect">
            <a:avLst/>
          </a:prstGeom>
          <a:ln w="0">
            <a:noFill/>
          </a:ln>
        </p:spPr>
      </p:pic>
      <p:pic>
        <p:nvPicPr>
          <p:cNvPr id="577" name="Запи2473.WAV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3961" fill="hold"/>
                                        <p:tgtEl>
                                          <p:spTgt spid="5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Кривляется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9" name="Picture 5" descr="000803_1063_3052_vuvv"/>
          <p:cNvPicPr/>
          <p:nvPr/>
        </p:nvPicPr>
        <p:blipFill>
          <a:blip r:embed="rId1"/>
          <a:stretch/>
        </p:blipFill>
        <p:spPr>
          <a:xfrm>
            <a:off x="2743200" y="1676520"/>
            <a:ext cx="3787920" cy="4566960"/>
          </a:xfrm>
          <a:prstGeom prst="rect">
            <a:avLst/>
          </a:prstGeom>
          <a:ln w="0">
            <a:noFill/>
          </a:ln>
        </p:spPr>
      </p:pic>
      <p:pic>
        <p:nvPicPr>
          <p:cNvPr id="580" name="Запи2473.WAV" descr=""/>
          <p:cNvPicPr/>
          <p:nvPr/>
        </p:nvPicPr>
        <p:blipFill>
          <a:blip r:embed="rId2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3542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1" descr=""/>
          <p:cNvPicPr/>
          <p:nvPr/>
        </p:nvPicPr>
        <p:blipFill>
          <a:blip r:embed="rId1"/>
          <a:stretch/>
        </p:blipFill>
        <p:spPr>
          <a:xfrm>
            <a:off x="155520" y="136440"/>
            <a:ext cx="884556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79280" y="544320"/>
            <a:ext cx="8229600" cy="6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ДАНИЕ 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.Что такое эмоци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.Какие бывают эмоци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.Как можно выразить эмоци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4.Перечисли положительные эмоци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5.Перечисли отрицательные эмоци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6.Почему важно научиться управлять своими эмоциям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ДАНИЕ В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омпьютерный тест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ДАНИЕ С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.Определи, какие чувства испытывают ребята на рисунке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.Закончи предложение(начало см. на доске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.Напиши 2-3 совета, которые помогут твоему другу избавиться от плохого настроения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99"/>
                </a:solidFill>
                <a:latin typeface="Arial Black"/>
              </a:rPr>
              <a:t>Эмоции человека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8" name="Picture 4" descr="000803_1065_1904_vnvv"/>
          <p:cNvPicPr/>
          <p:nvPr/>
        </p:nvPicPr>
        <p:blipFill>
          <a:blip r:embed="rId1"/>
          <a:stretch/>
        </p:blipFill>
        <p:spPr>
          <a:xfrm>
            <a:off x="304920" y="3962520"/>
            <a:ext cx="1633320" cy="25732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000803_1065_0322_vuvv"/>
          <p:cNvPicPr/>
          <p:nvPr/>
        </p:nvPicPr>
        <p:blipFill>
          <a:blip r:embed="rId2"/>
          <a:stretch/>
        </p:blipFill>
        <p:spPr>
          <a:xfrm>
            <a:off x="7010280" y="228600"/>
            <a:ext cx="2133720" cy="23652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000803_1065_1829_vnvv"/>
          <p:cNvPicPr/>
          <p:nvPr/>
        </p:nvPicPr>
        <p:blipFill>
          <a:blip r:embed="rId3"/>
          <a:stretch/>
        </p:blipFill>
        <p:spPr>
          <a:xfrm>
            <a:off x="6629400" y="3886200"/>
            <a:ext cx="2044800" cy="27525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000803_1065_4090_vnvv"/>
          <p:cNvPicPr/>
          <p:nvPr/>
        </p:nvPicPr>
        <p:blipFill>
          <a:blip r:embed="rId4"/>
          <a:stretch/>
        </p:blipFill>
        <p:spPr>
          <a:xfrm>
            <a:off x="152280" y="0"/>
            <a:ext cx="1662120" cy="2705040"/>
          </a:xfrm>
          <a:prstGeom prst="rect">
            <a:avLst/>
          </a:prstGeom>
          <a:ln w="0">
            <a:noFill/>
          </a:ln>
        </p:spPr>
      </p:pic>
      <p:pic>
        <p:nvPicPr>
          <p:cNvPr id="542" name="Запи2442.WAV" descr=""/>
          <p:cNvPicPr/>
          <p:nvPr/>
        </p:nvPicPr>
        <p:blipFill>
          <a:blip r:embed="rId5"/>
          <a:stretch/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4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У людей бывает разное настроение, от которого зависит выражение лица. Глядя на лицо, можно сказать, что чувствует человек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4" name="Запи2442.WAV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" descr="000803_1064_4238_vuvv"/>
          <p:cNvPicPr/>
          <p:nvPr/>
        </p:nvPicPr>
        <p:blipFill>
          <a:blip r:embed="rId2"/>
          <a:stretch/>
        </p:blipFill>
        <p:spPr>
          <a:xfrm>
            <a:off x="4495680" y="3733920"/>
            <a:ext cx="4419720" cy="2913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000803_1064_6011_vnvv"/>
          <p:cNvPicPr/>
          <p:nvPr/>
        </p:nvPicPr>
        <p:blipFill>
          <a:blip r:embed="rId3"/>
          <a:stretch/>
        </p:blipFill>
        <p:spPr>
          <a:xfrm>
            <a:off x="228600" y="1447920"/>
            <a:ext cx="3921120" cy="41338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" descr="000803_1054_6855_vuvv"/>
          <p:cNvPicPr/>
          <p:nvPr/>
        </p:nvPicPr>
        <p:blipFill>
          <a:blip r:embed="rId4"/>
          <a:stretch/>
        </p:blipFill>
        <p:spPr>
          <a:xfrm>
            <a:off x="4572000" y="1600200"/>
            <a:ext cx="2217600" cy="22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105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Добрый</a:t>
            </a: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9" name="Picture 5" descr="000803_1063_3043_vuvv"/>
          <p:cNvPicPr/>
          <p:nvPr/>
        </p:nvPicPr>
        <p:blipFill>
          <a:blip r:embed="rId1"/>
          <a:stretch/>
        </p:blipFill>
        <p:spPr>
          <a:xfrm>
            <a:off x="3048120" y="1828800"/>
            <a:ext cx="3287520" cy="4524480"/>
          </a:xfrm>
          <a:prstGeom prst="rect">
            <a:avLst/>
          </a:prstGeom>
          <a:ln w="0">
            <a:noFill/>
          </a:ln>
        </p:spPr>
      </p:pic>
      <p:pic>
        <p:nvPicPr>
          <p:cNvPr id="550" name="Запи2457.WAV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261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Недовольны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2" name="Picture 5" descr="000803_1063_3042_vuvv"/>
          <p:cNvPicPr/>
          <p:nvPr/>
        </p:nvPicPr>
        <p:blipFill>
          <a:blip r:embed="rId1"/>
          <a:stretch/>
        </p:blipFill>
        <p:spPr>
          <a:xfrm>
            <a:off x="2895480" y="1295280"/>
            <a:ext cx="3409920" cy="5149800"/>
          </a:xfrm>
          <a:prstGeom prst="rect">
            <a:avLst/>
          </a:prstGeom>
          <a:ln w="0">
            <a:noFill/>
          </a:ln>
        </p:spPr>
      </p:pic>
      <p:pic>
        <p:nvPicPr>
          <p:cNvPr id="553" name="Запи2457.WAV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3293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Испуган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5" name="Picture 5" descr="000803_1063_3045_vuvv"/>
          <p:cNvPicPr/>
          <p:nvPr/>
        </p:nvPicPr>
        <p:blipFill>
          <a:blip r:embed="rId1"/>
          <a:stretch/>
        </p:blipFill>
        <p:spPr>
          <a:xfrm>
            <a:off x="2819520" y="1676520"/>
            <a:ext cx="3798720" cy="4343400"/>
          </a:xfrm>
          <a:prstGeom prst="rect">
            <a:avLst/>
          </a:prstGeom>
          <a:ln w="0">
            <a:noFill/>
          </a:ln>
        </p:spPr>
      </p:pic>
      <p:pic>
        <p:nvPicPr>
          <p:cNvPr id="556" name="Запи2457.WAV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3742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Веселый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8" name="Picture 5" descr="000803_1063_3044_vuvv"/>
          <p:cNvPicPr/>
          <p:nvPr/>
        </p:nvPicPr>
        <p:blipFill>
          <a:blip r:embed="rId1"/>
          <a:stretch/>
        </p:blipFill>
        <p:spPr>
          <a:xfrm>
            <a:off x="2895480" y="1752480"/>
            <a:ext cx="3459240" cy="4560840"/>
          </a:xfrm>
          <a:prstGeom prst="rect">
            <a:avLst/>
          </a:prstGeom>
          <a:ln w="0">
            <a:noFill/>
          </a:ln>
        </p:spPr>
      </p:pic>
      <p:pic>
        <p:nvPicPr>
          <p:cNvPr id="559" name="Запи2457.WAV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416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Злой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1" name="Picture 5" descr="000803_1063_3046_vuvv"/>
          <p:cNvPicPr/>
          <p:nvPr/>
        </p:nvPicPr>
        <p:blipFill>
          <a:blip r:embed="rId1"/>
          <a:stretch/>
        </p:blipFill>
        <p:spPr>
          <a:xfrm>
            <a:off x="3048120" y="1600200"/>
            <a:ext cx="2962080" cy="5014800"/>
          </a:xfrm>
          <a:prstGeom prst="rect">
            <a:avLst/>
          </a:prstGeom>
          <a:ln w="0">
            <a:noFill/>
          </a:ln>
        </p:spPr>
      </p:pic>
      <p:pic>
        <p:nvPicPr>
          <p:cNvPr id="562" name="Запи2457.WAV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253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школа</cp:lastModifiedBy>
  <dcterms:modified xsi:type="dcterms:W3CDTF">2012-03-17T03:24:2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