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C12-5567-42B9-94DE-123AC0C0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5B5-4D89-4B04-9AC9-2AB4F396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179-B532-4793-B1E7-5C113BB8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85F-1ADA-47D4-ABEA-102A90A3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8B3-C432-4FE8-8858-1B3EB3C1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BEF-9AA4-43CA-9CFB-3ECEE3ED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B95-563E-4EE6-8853-844975CC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76F-A563-4A4D-8AA7-A63142FB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982-F4C7-466F-8EF8-631B9256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5413-BFBC-4031-88A2-60D8D839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E85-6380-43A9-8365-9942B614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35B-34D5-4B42-85C5-EC6E2007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8826-902D-440C-A505-EB40AB7AE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4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4" Type="http://schemas.openxmlformats.org/officeDocument/2006/relationships/hyperlink" Target="file:///tmp/home/.config/libreoffice/4/user/gallery/-%20&#1042;&#1077;&#1076;&#1100;%20&#1103;%20-%20&#1059;&#1084;&#1085;&#1099;&#1081;..wav" TargetMode="External"/><Relationship Id="rId5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6" Type="http://schemas.openxmlformats.org/officeDocument/2006/relationships/hyperlink" Target="file:///tmp/home/.config/libreoffice/4/user/gallery/n&#1103;%20&#1090;&#1072;&#1082;%20&#1085;&#1077;%20&#1080;&#1075;&#1088;&#1072;&#1102;1.WAV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115902561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971640" y="1557360"/>
            <a:ext cx="573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ный счёт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1763640" y="2976480"/>
            <a:ext cx="4176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клас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Picture 9" descr="60"/>
          <p:cNvPicPr/>
          <p:nvPr/>
        </p:nvPicPr>
        <p:blipFill>
          <a:blip r:embed="rId2"/>
          <a:stretch/>
        </p:blipFill>
        <p:spPr>
          <a:xfrm>
            <a:off x="0" y="0"/>
            <a:ext cx="9349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Rectangle 6"/>
          <p:cNvGrpSpPr/>
          <p:nvPr/>
        </p:nvGrpSpPr>
        <p:grpSpPr>
          <a:xfrm>
            <a:off x="2352600" y="1809720"/>
            <a:ext cx="6523200" cy="4425840"/>
            <a:chOff x="2352600" y="1809720"/>
            <a:chExt cx="6523200" cy="4425840"/>
          </a:xfrm>
        </p:grpSpPr>
        <p:pic>
          <p:nvPicPr>
            <p:cNvPr id="188" name="Rectangle 6" descr=""/>
            <p:cNvPicPr/>
            <p:nvPr/>
          </p:nvPicPr>
          <p:blipFill>
            <a:blip r:embed="rId1"/>
            <a:stretch/>
          </p:blipFill>
          <p:spPr>
            <a:xfrm>
              <a:off x="2352600" y="1809720"/>
              <a:ext cx="6523200" cy="44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411280" y="1844640"/>
              <a:ext cx="640872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8" descr=""/>
          <p:cNvPicPr/>
          <p:nvPr/>
        </p:nvPicPr>
        <p:blipFill>
          <a:blip r:embed="rId2"/>
          <a:stretch/>
        </p:blipFill>
        <p:spPr>
          <a:xfrm>
            <a:off x="250920" y="0"/>
            <a:ext cx="3246480" cy="3889440"/>
          </a:xfrm>
          <a:prstGeom prst="rect">
            <a:avLst/>
          </a:prstGeom>
          <a:ln w="0">
            <a:noFill/>
          </a:ln>
        </p:spPr>
      </p:pic>
      <p:grpSp>
        <p:nvGrpSpPr>
          <p:cNvPr id="191" name="WordArt 9"/>
          <p:cNvGrpSpPr/>
          <p:nvPr/>
        </p:nvGrpSpPr>
        <p:grpSpPr>
          <a:xfrm>
            <a:off x="2487600" y="1841400"/>
            <a:ext cx="5838840" cy="4619880"/>
            <a:chOff x="2487600" y="1841400"/>
            <a:chExt cx="5838840" cy="4619880"/>
          </a:xfrm>
        </p:grpSpPr>
        <p:pic>
          <p:nvPicPr>
            <p:cNvPr id="192" name="WordArt 9" descr=""/>
            <p:cNvPicPr/>
            <p:nvPr/>
          </p:nvPicPr>
          <p:blipFill>
            <a:blip r:embed="rId3"/>
            <a:stretch/>
          </p:blipFill>
          <p:spPr>
            <a:xfrm>
              <a:off x="2487600" y="1841400"/>
              <a:ext cx="5838840" cy="461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490840" y="1849320"/>
              <a:ext cx="5832360" cy="46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WordArt 11"/>
          <p:cNvSpPr txBox="1"/>
          <p:nvPr/>
        </p:nvSpPr>
        <p:spPr>
          <a:xfrm>
            <a:off x="2627280" y="2019240"/>
            <a:ext cx="583236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работу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4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427640" y="17953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числе 470 тысяч 3 десятка 6 единиц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4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>
            <a:hlinkClick r:id="rId4" action="ppaction://hlinksldjump"/>
          </p:cNvPr>
          <p:cNvSpPr/>
          <p:nvPr/>
        </p:nvSpPr>
        <p:spPr>
          <a:xfrm>
            <a:off x="1116000" y="3860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3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7000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427640" y="179532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ая цифра стоит в разряде сотен в числе        4325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>
            <a:hlinkClick r:id="rId3" action="ppaction://hlinksldjump"/>
          </p:cNvPr>
          <p:cNvSpPr/>
          <p:nvPr/>
        </p:nvSpPr>
        <p:spPr>
          <a:xfrm>
            <a:off x="1836720" y="2997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>
            <a:hlinkClick r:id="rId4" action="ppaction://hlinksldjump"/>
          </p:cNvPr>
          <p:cNvSpPr/>
          <p:nvPr/>
        </p:nvSpPr>
        <p:spPr>
          <a:xfrm>
            <a:off x="183672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>
            <a:hlinkClick r:id="rId5" action="ppaction://hlinksldjump"/>
          </p:cNvPr>
          <p:cNvSpPr/>
          <p:nvPr/>
        </p:nvSpPr>
        <p:spPr>
          <a:xfrm>
            <a:off x="183672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>
            <a:hlinkClick r:id="" action="ppaction://hlinkshowjump?jump=nextslide"/>
            <a:hlinkClick r:id="rId6"/>
          </p:cNvPr>
          <p:cNvSpPr/>
          <p:nvPr/>
        </p:nvSpPr>
        <p:spPr>
          <a:xfrm>
            <a:off x="183672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427640" y="2013120"/>
            <a:ext cx="43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ое число последующее для числа 6099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10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>
            <a:hlinkClick r:id="rId5" action="ppaction://hlinksldjump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99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600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427640" y="1197000"/>
            <a:ext cx="439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 каком из двух уравнений неизвестное находится слож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>
            <a:hlinkClick r:id="rId3" action="ppaction://hlinksldjump"/>
          </p:cNvPr>
          <p:cNvSpPr/>
          <p:nvPr/>
        </p:nvSpPr>
        <p:spPr>
          <a:xfrm>
            <a:off x="61128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7 – х =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>
            <a:hlinkClick r:id="" action="ppaction://hlinkshowjump?jump=nextslide"/>
            <a:hlinkClick r:id="rId4"/>
          </p:cNvPr>
          <p:cNvSpPr/>
          <p:nvPr/>
        </p:nvSpPr>
        <p:spPr>
          <a:xfrm>
            <a:off x="61128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х - 100 = 4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427640" y="1557360"/>
            <a:ext cx="43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кажите, как правильно выразить 51т3ц в килограмм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>
            <a:hlinkClick r:id="rId3" action="ppaction://hlinksldjump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>
            <a:hlinkClick r:id="rId4" action="ppaction://hlinksldjump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>
            <a:hlinkClick r:id="" action="ppaction://hlinkshowjump?jump=nextslide"/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>
            <a:hlinkClick r:id="rId6" action="ppaction://hlinksldjump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1300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427640" y="1171440"/>
            <a:ext cx="43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Выбери правильный результат для выражени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840403 – 800690: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>
            <a:hlinkClick r:id="" action="ppaction://hlinkshowjump?jump=nextslide"/>
            <a:hlinkClick r:id="rId3"/>
          </p:cNvPr>
          <p:cNvSpPr/>
          <p:nvPr/>
        </p:nvSpPr>
        <p:spPr>
          <a:xfrm>
            <a:off x="1332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>
            <a:hlinkClick r:id="rId4"/>
          </p:cNvPr>
          <p:cNvSpPr/>
          <p:nvPr/>
        </p:nvSpPr>
        <p:spPr>
          <a:xfrm>
            <a:off x="1332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87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>
            <a:hlinkClick r:id="rId5"/>
          </p:cNvPr>
          <p:cNvSpPr/>
          <p:nvPr/>
        </p:nvSpPr>
        <p:spPr>
          <a:xfrm>
            <a:off x="1332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6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>
            <a:hlinkClick r:id="rId6"/>
          </p:cNvPr>
          <p:cNvSpPr/>
          <p:nvPr/>
        </p:nvSpPr>
        <p:spPr>
          <a:xfrm>
            <a:off x="1332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98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659640" y="4141800"/>
            <a:ext cx="2297160" cy="2716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 rot="21354600">
            <a:off x="-165240" y="-99720"/>
            <a:ext cx="2865600" cy="2743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 rot="19970400">
            <a:off x="660240" y="1090080"/>
            <a:ext cx="4386600" cy="6480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 rot="19967400">
            <a:off x="756000" y="1171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Times New Roman"/>
              </a:rPr>
              <a:t>Выбери правильный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36400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</a:rPr>
              <a:t>Задание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284720" y="981000"/>
            <a:ext cx="45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427640" y="692280"/>
            <a:ext cx="43923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шите задачу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От пристани в одно и то же время в противоположных направлениях отошли два теплохода. Через 3 часа расстояние между ними было 210 км. Один теплоход шел со скоростью 40 км/ч. Найдите скорость второго тепло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79280" y="299556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79280" y="393228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179280" y="486900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79280" y="5803920"/>
            <a:ext cx="3961080" cy="72072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08000" y="30654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08000" y="40021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08000" y="49370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08000" y="58737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>
            <a:hlinkClick r:id="rId3"/>
          </p:cNvPr>
          <p:cNvSpPr/>
          <p:nvPr/>
        </p:nvSpPr>
        <p:spPr>
          <a:xfrm>
            <a:off x="1116000" y="2997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2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>
            <a:hlinkClick r:id="" action="ppaction://hlinkshowjump?jump=nextslide"/>
            <a:hlinkClick r:id="rId4"/>
          </p:cNvPr>
          <p:cNvSpPr/>
          <p:nvPr/>
        </p:nvSpPr>
        <p:spPr>
          <a:xfrm>
            <a:off x="1116000" y="38908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3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>
            <a:hlinkClick r:id="rId5"/>
          </p:cNvPr>
          <p:cNvSpPr/>
          <p:nvPr/>
        </p:nvSpPr>
        <p:spPr>
          <a:xfrm>
            <a:off x="1116000" y="48276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50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>
            <a:hlinkClick r:id="rId6"/>
          </p:cNvPr>
          <p:cNvSpPr/>
          <p:nvPr/>
        </p:nvSpPr>
        <p:spPr>
          <a:xfrm>
            <a:off x="1116000" y="57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45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film_225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/>
          <p:cNvSpPr/>
          <p:nvPr/>
        </p:nvSpPr>
        <p:spPr>
          <a:xfrm rot="4455600">
            <a:off x="5138280" y="2856240"/>
            <a:ext cx="3743280" cy="3600360"/>
          </a:xfrm>
          <a:prstGeom prst="cloudCallout">
            <a:avLst>
              <a:gd name="adj1" fmla="val -64652"/>
              <a:gd name="adj2" fmla="val 3760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8"/>
          <p:cNvSpPr txBox="1"/>
          <p:nvPr/>
        </p:nvSpPr>
        <p:spPr>
          <a:xfrm rot="2023800">
            <a:off x="5363640" y="3716280"/>
            <a:ext cx="3356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й, я ошибся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AutoShape 9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10800"/>
                </a:moveTo>
                <a:lnTo>
                  <a:pt x="26817" y="3794"/>
                </a:lnTo>
                <a:lnTo>
                  <a:pt x="26817" y="17806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03:47Z</dcterms:created>
  <dc:creator>Admin</dc:creator>
  <dc:description/>
  <dc:language>en-US</dc:language>
  <cp:lastModifiedBy>Макаров</cp:lastModifiedBy>
  <dcterms:modified xsi:type="dcterms:W3CDTF">2012-03-23T11:04:33Z</dcterms:modified>
  <cp:revision>11</cp:revision>
  <dc:subject/>
  <dc:title>Слайд 1</dc:title>
</cp:coreProperties>
</file>