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5E4-C990-4803-8109-9617A56F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88E-3C46-4A09-9E40-D33F16B8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5788-380E-48D5-9EA6-3190A3B8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6BA-79E8-4D0E-A359-AFB4A42F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6A52-647F-4941-89F3-FAC944A3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E3C-3BFB-43FF-AE58-CC1C9A4F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39E4-2573-4BE2-AC17-F8150A7F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969-F3A7-45D6-A5C7-F332A395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9213-499B-40FF-BDE3-8EEAE0EA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9FD8-B01C-4671-AC66-B5270A51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C3F-3370-40DC-B800-9F1919FD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879-F0D2-4E09-BCD1-106BA135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1D7E-2CEE-401F-9869-B3A21EF831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4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5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6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6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115902561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971640" y="1557360"/>
            <a:ext cx="5734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тный счёт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1763640" y="2976480"/>
            <a:ext cx="417672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клас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Picture 9" descr="60"/>
          <p:cNvPicPr/>
          <p:nvPr/>
        </p:nvPicPr>
        <p:blipFill>
          <a:blip r:embed="rId2"/>
          <a:stretch/>
        </p:blipFill>
        <p:spPr>
          <a:xfrm>
            <a:off x="0" y="0"/>
            <a:ext cx="9349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Rectangle 6"/>
          <p:cNvGrpSpPr/>
          <p:nvPr/>
        </p:nvGrpSpPr>
        <p:grpSpPr>
          <a:xfrm>
            <a:off x="2352600" y="1809720"/>
            <a:ext cx="6523200" cy="4425840"/>
            <a:chOff x="2352600" y="1809720"/>
            <a:chExt cx="6523200" cy="4425840"/>
          </a:xfrm>
        </p:grpSpPr>
        <p:pic>
          <p:nvPicPr>
            <p:cNvPr id="188" name="Rectangle 6" descr=""/>
            <p:cNvPicPr/>
            <p:nvPr/>
          </p:nvPicPr>
          <p:blipFill>
            <a:blip r:embed="rId1"/>
            <a:stretch/>
          </p:blipFill>
          <p:spPr>
            <a:xfrm>
              <a:off x="2352600" y="1809720"/>
              <a:ext cx="6523200" cy="44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411280" y="1844640"/>
              <a:ext cx="6408720" cy="43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8" descr=""/>
          <p:cNvPicPr/>
          <p:nvPr/>
        </p:nvPicPr>
        <p:blipFill>
          <a:blip r:embed="rId2"/>
          <a:stretch/>
        </p:blipFill>
        <p:spPr>
          <a:xfrm>
            <a:off x="250920" y="0"/>
            <a:ext cx="3246480" cy="3889440"/>
          </a:xfrm>
          <a:prstGeom prst="rect">
            <a:avLst/>
          </a:prstGeom>
          <a:ln w="0">
            <a:noFill/>
          </a:ln>
        </p:spPr>
      </p:pic>
      <p:grpSp>
        <p:nvGrpSpPr>
          <p:cNvPr id="191" name="WordArt 9"/>
          <p:cNvGrpSpPr/>
          <p:nvPr/>
        </p:nvGrpSpPr>
        <p:grpSpPr>
          <a:xfrm>
            <a:off x="2487600" y="1841400"/>
            <a:ext cx="5838840" cy="4619880"/>
            <a:chOff x="2487600" y="1841400"/>
            <a:chExt cx="5838840" cy="4619880"/>
          </a:xfrm>
        </p:grpSpPr>
        <p:pic>
          <p:nvPicPr>
            <p:cNvPr id="192" name="WordArt 9" descr=""/>
            <p:cNvPicPr/>
            <p:nvPr/>
          </p:nvPicPr>
          <p:blipFill>
            <a:blip r:embed="rId3"/>
            <a:stretch/>
          </p:blipFill>
          <p:spPr>
            <a:xfrm>
              <a:off x="2487600" y="1841400"/>
              <a:ext cx="5838840" cy="461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490840" y="1849320"/>
              <a:ext cx="5832360" cy="46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WordArt 11"/>
          <p:cNvSpPr txBox="1"/>
          <p:nvPr/>
        </p:nvSpPr>
        <p:spPr>
          <a:xfrm>
            <a:off x="2627280" y="2019240"/>
            <a:ext cx="583236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агодар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работу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4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427640" y="1795320"/>
            <a:ext cx="43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каком числе 470 тысяч 3 десятка 6 единиц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1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4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>
            <a:hlinkClick r:id="rId4" action="ppaction://hlinksldjump"/>
          </p:cNvPr>
          <p:cNvSpPr/>
          <p:nvPr/>
        </p:nvSpPr>
        <p:spPr>
          <a:xfrm>
            <a:off x="1116000" y="386064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0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>
            <a:hlinkClick r:id="rId5" action="ppaction://hlinksldjump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3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00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427640" y="1795320"/>
            <a:ext cx="43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ая цифра стоит в разряде сотен в числе        43256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>
            <a:hlinkClick r:id="rId3" action="ppaction://hlinksldjump"/>
          </p:cNvPr>
          <p:cNvSpPr/>
          <p:nvPr/>
        </p:nvSpPr>
        <p:spPr>
          <a:xfrm>
            <a:off x="1836720" y="2997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>
            <a:hlinkClick r:id="rId4" action="ppaction://hlinksldjump"/>
          </p:cNvPr>
          <p:cNvSpPr/>
          <p:nvPr/>
        </p:nvSpPr>
        <p:spPr>
          <a:xfrm>
            <a:off x="183672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>
            <a:hlinkClick r:id="rId5" action="ppaction://hlinksldjump"/>
          </p:cNvPr>
          <p:cNvSpPr/>
          <p:nvPr/>
        </p:nvSpPr>
        <p:spPr>
          <a:xfrm>
            <a:off x="183672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>
            <a:hlinkClick r:id="" action="ppaction://hlinkshowjump?jump=nextslide"/>
            <a:hlinkClick r:id="rId6"/>
          </p:cNvPr>
          <p:cNvSpPr/>
          <p:nvPr/>
        </p:nvSpPr>
        <p:spPr>
          <a:xfrm>
            <a:off x="183672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427640" y="2013120"/>
            <a:ext cx="43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ое число последующее для числа 609999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1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>
            <a:hlinkClick r:id="" action="ppaction://hlinkshowjump?jump=nextslide"/>
            <a:hlinkClick r:id="rId4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10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>
            <a:hlinkClick r:id="rId5" action="ppaction://hlinksldjump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99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0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427640" y="1197000"/>
            <a:ext cx="439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каком из двух уравнений неизвестное находится сложени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>
            <a:hlinkClick r:id="rId3" action="ppaction://hlinksldjump"/>
          </p:cNvPr>
          <p:cNvSpPr/>
          <p:nvPr/>
        </p:nvSpPr>
        <p:spPr>
          <a:xfrm>
            <a:off x="61128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57 – х =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>
            <a:hlinkClick r:id="" action="ppaction://hlinkshowjump?jump=nextslide"/>
            <a:hlinkClick r:id="rId4"/>
          </p:cNvPr>
          <p:cNvSpPr/>
          <p:nvPr/>
        </p:nvSpPr>
        <p:spPr>
          <a:xfrm>
            <a:off x="61128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х - 100 = 4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427640" y="1557360"/>
            <a:ext cx="43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кажите, как правильно выразить 51т3ц в килограмм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>
            <a:hlinkClick r:id="rId4" action="ppaction://hlinksldjump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>
            <a:hlinkClick r:id="" action="ppaction://hlinkshowjump?jump=nextslide"/>
            <a:hlinkClick r:id="rId5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0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4427640" y="1171440"/>
            <a:ext cx="439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Выбери правильный результат для выражени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840403 – 800690: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>
            <a:hlinkClick r:id="" action="ppaction://hlinkshowjump?jump=nextslide"/>
            <a:hlinkClick r:id="rId3"/>
          </p:cNvPr>
          <p:cNvSpPr/>
          <p:nvPr/>
        </p:nvSpPr>
        <p:spPr>
          <a:xfrm>
            <a:off x="1332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7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>
            <a:hlinkClick r:id="rId4"/>
          </p:cNvPr>
          <p:cNvSpPr/>
          <p:nvPr/>
        </p:nvSpPr>
        <p:spPr>
          <a:xfrm>
            <a:off x="1332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87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>
            <a:hlinkClick r:id="rId5"/>
          </p:cNvPr>
          <p:cNvSpPr/>
          <p:nvPr/>
        </p:nvSpPr>
        <p:spPr>
          <a:xfrm>
            <a:off x="1332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6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>
            <a:hlinkClick r:id="rId6"/>
          </p:cNvPr>
          <p:cNvSpPr/>
          <p:nvPr/>
        </p:nvSpPr>
        <p:spPr>
          <a:xfrm>
            <a:off x="1332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8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4427640" y="692280"/>
            <a:ext cx="43923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ешите задачу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От пристани в одно и то же время в противоположных направлениях отошли два теплохода. Через 3 часа расстояние между ними было 210 км. Один теплоход шел со скоростью 40 км/ч. Найдите скорость второго теплох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>
            <a:hlinkClick r:id="rId3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>
            <a:hlinkClick r:id="" action="ppaction://hlinkshowjump?jump=nextslide"/>
            <a:hlinkClick r:id="rId4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0">
            <a:hlinkClick r:id="rId5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1">
            <a:hlinkClick r:id="rId6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5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film_2251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 rot="4455600">
            <a:off x="5138280" y="2856240"/>
            <a:ext cx="3743280" cy="3600360"/>
          </a:xfrm>
          <a:prstGeom prst="cloudCallout">
            <a:avLst>
              <a:gd name="adj1" fmla="val -64652"/>
              <a:gd name="adj2" fmla="val 37606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8"/>
          <p:cNvSpPr txBox="1"/>
          <p:nvPr/>
        </p:nvSpPr>
        <p:spPr>
          <a:xfrm rot="2023800">
            <a:off x="5363640" y="3716280"/>
            <a:ext cx="3356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й, я ошибся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00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AutoShape 9">
            <a:hlinkClick r:id="" action="ppaction://hlinkshowjump?jump=previousslide"/>
          </p:cNvPr>
          <p:cNvSpPr/>
          <p:nvPr/>
        </p:nvSpPr>
        <p:spPr>
          <a:xfrm>
            <a:off x="7956720" y="6308640"/>
            <a:ext cx="1008000" cy="549360"/>
          </a:xfrm>
          <a:custGeom>
            <a:avLst/>
            <a:gdLst>
              <a:gd name="textAreaLeft" fmla="*/ 35280 w 1008000"/>
              <a:gd name="textAreaRight" fmla="*/ 972720 w 1008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9621" h="21600">
                <a:moveTo>
                  <a:pt x="0" y="0"/>
                </a:moveTo>
                <a:lnTo>
                  <a:pt x="39621" y="0"/>
                </a:lnTo>
                <a:lnTo>
                  <a:pt x="39621" y="21600"/>
                </a:lnTo>
                <a:lnTo>
                  <a:pt x="0" y="21600"/>
                </a:lnTo>
                <a:close/>
              </a:path>
              <a:path fill="lightenLess" w="39621" h="21600">
                <a:moveTo>
                  <a:pt x="0" y="0"/>
                </a:moveTo>
                <a:lnTo>
                  <a:pt x="39621" y="0"/>
                </a:lnTo>
                <a:lnTo>
                  <a:pt x="38221" y="1400"/>
                </a:lnTo>
                <a:lnTo>
                  <a:pt x="1400" y="1400"/>
                </a:lnTo>
                <a:close/>
              </a:path>
              <a:path fill="darken" w="39621" h="21600">
                <a:moveTo>
                  <a:pt x="39621" y="0"/>
                </a:moveTo>
                <a:lnTo>
                  <a:pt x="39621" y="21600"/>
                </a:lnTo>
                <a:lnTo>
                  <a:pt x="38221" y="20200"/>
                </a:lnTo>
                <a:lnTo>
                  <a:pt x="38221" y="1400"/>
                </a:lnTo>
                <a:close/>
              </a:path>
              <a:path fill="darkenLess" w="39621" h="21600">
                <a:moveTo>
                  <a:pt x="39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21" y="20200"/>
                </a:lnTo>
                <a:close/>
              </a:path>
              <a:path fill="lighten" w="39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21" h="21600">
                <a:moveTo>
                  <a:pt x="12804" y="10800"/>
                </a:moveTo>
                <a:lnTo>
                  <a:pt x="26817" y="3794"/>
                </a:lnTo>
                <a:lnTo>
                  <a:pt x="26817" y="17806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9:03:47Z</dcterms:created>
  <dc:creator>Admin</dc:creator>
  <dc:description/>
  <dc:language>en-US</dc:language>
  <cp:lastModifiedBy>Макаров</cp:lastModifiedBy>
  <dcterms:modified xsi:type="dcterms:W3CDTF">2012-03-23T11:04:33Z</dcterms:modified>
  <cp:revision>11</cp:revision>
  <dc:subject/>
  <dc:title>Слайд 1</dc:title>
</cp:coreProperties>
</file>