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D81-93FC-402C-A224-56E20E14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794-B8AC-476C-ABD4-FBCE0FA7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197-C79D-4C84-AB52-5F805F4F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347-443C-41BC-AE0F-4321808C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A9F-967D-48FD-A369-82ABE432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A2C-7CE4-4E0D-91FF-1934E6BE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261-8C41-4575-8B3A-AE470E2E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8D9-CA52-4CCE-A396-B1357569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157-B66B-48C6-94B4-950A2DB5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FA8-7E9F-4B9F-9C6E-924A644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19A-0A1D-44C3-B334-FA974FFF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CE7-565D-46E0-9D71-2A40648F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BF1F-2EB3-4B3E-9AA6-72B07A60D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4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115902561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71640" y="1557360"/>
            <a:ext cx="573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ный счё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763640" y="2976480"/>
            <a:ext cx="4176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9" descr="60"/>
          <p:cNvPicPr/>
          <p:nvPr/>
        </p:nvPicPr>
        <p:blipFill>
          <a:blip r:embed="rId2"/>
          <a:stretch/>
        </p:blipFill>
        <p:spPr>
          <a:xfrm>
            <a:off x="0" y="0"/>
            <a:ext cx="93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Rectangle 6"/>
          <p:cNvGrpSpPr/>
          <p:nvPr/>
        </p:nvGrpSpPr>
        <p:grpSpPr>
          <a:xfrm>
            <a:off x="2352600" y="1809720"/>
            <a:ext cx="6523200" cy="4425840"/>
            <a:chOff x="2352600" y="1809720"/>
            <a:chExt cx="6523200" cy="4425840"/>
          </a:xfrm>
        </p:grpSpPr>
        <p:pic>
          <p:nvPicPr>
            <p:cNvPr id="188" name="Rectangle 6" descr=""/>
            <p:cNvPicPr/>
            <p:nvPr/>
          </p:nvPicPr>
          <p:blipFill>
            <a:blip r:embed="rId1"/>
            <a:stretch/>
          </p:blipFill>
          <p:spPr>
            <a:xfrm>
              <a:off x="2352600" y="1809720"/>
              <a:ext cx="6523200" cy="44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411280" y="1844640"/>
              <a:ext cx="640872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8" descr=""/>
          <p:cNvPicPr/>
          <p:nvPr/>
        </p:nvPicPr>
        <p:blipFill>
          <a:blip r:embed="rId2"/>
          <a:stretch/>
        </p:blipFill>
        <p:spPr>
          <a:xfrm>
            <a:off x="250920" y="0"/>
            <a:ext cx="3246480" cy="3889440"/>
          </a:xfrm>
          <a:prstGeom prst="rect">
            <a:avLst/>
          </a:prstGeom>
          <a:ln w="0">
            <a:noFill/>
          </a:ln>
        </p:spPr>
      </p:pic>
      <p:grpSp>
        <p:nvGrpSpPr>
          <p:cNvPr id="191" name="WordArt 9"/>
          <p:cNvGrpSpPr/>
          <p:nvPr/>
        </p:nvGrpSpPr>
        <p:grpSpPr>
          <a:xfrm>
            <a:off x="2487600" y="1841400"/>
            <a:ext cx="5838840" cy="4619880"/>
            <a:chOff x="2487600" y="1841400"/>
            <a:chExt cx="5838840" cy="4619880"/>
          </a:xfrm>
        </p:grpSpPr>
        <p:pic>
          <p:nvPicPr>
            <p:cNvPr id="192" name="WordArt 9" descr=""/>
            <p:cNvPicPr/>
            <p:nvPr/>
          </p:nvPicPr>
          <p:blipFill>
            <a:blip r:embed="rId3"/>
            <a:stretch/>
          </p:blipFill>
          <p:spPr>
            <a:xfrm>
              <a:off x="2487600" y="1841400"/>
              <a:ext cx="5838840" cy="46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490840" y="1849320"/>
              <a:ext cx="5832360" cy="46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WordArt 11"/>
          <p:cNvSpPr txBox="1"/>
          <p:nvPr/>
        </p:nvSpPr>
        <p:spPr>
          <a:xfrm>
            <a:off x="2627280" y="2019240"/>
            <a:ext cx="58323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работ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427640" y="17953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числе 470 тысяч 3 десятка 6 едини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4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>
            <a:hlinkClick r:id="rId4" action="ppaction://hlinksldjump"/>
          </p:cNvPr>
          <p:cNvSpPr/>
          <p:nvPr/>
        </p:nvSpPr>
        <p:spPr>
          <a:xfrm>
            <a:off x="1116000" y="3860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427640" y="179532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ая цифра стоит в разряде сотен в числе        4325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>
            <a:hlinkClick r:id="rId3" action="ppaction://hlinksldjump"/>
          </p:cNvPr>
          <p:cNvSpPr/>
          <p:nvPr/>
        </p:nvSpPr>
        <p:spPr>
          <a:xfrm>
            <a:off x="1836720" y="2997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>
            <a:hlinkClick r:id="rId4" action="ppaction://hlinksldjump"/>
          </p:cNvPr>
          <p:cNvSpPr/>
          <p:nvPr/>
        </p:nvSpPr>
        <p:spPr>
          <a:xfrm>
            <a:off x="183672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>
            <a:hlinkClick r:id="rId5" action="ppaction://hlinksldjump"/>
          </p:cNvPr>
          <p:cNvSpPr/>
          <p:nvPr/>
        </p:nvSpPr>
        <p:spPr>
          <a:xfrm>
            <a:off x="183672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>
            <a:hlinkClick r:id="" action="ppaction://hlinkshowjump?jump=nextslide"/>
            <a:hlinkClick r:id="rId6"/>
          </p:cNvPr>
          <p:cNvSpPr/>
          <p:nvPr/>
        </p:nvSpPr>
        <p:spPr>
          <a:xfrm>
            <a:off x="183672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427640" y="20131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число последующее для числа 6099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10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99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0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27640" y="1197000"/>
            <a:ext cx="439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из двух уравнений неизвестное находится слож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>
            <a:hlinkClick r:id="rId3" action="ppaction://hlinksldjump"/>
          </p:cNvPr>
          <p:cNvSpPr/>
          <p:nvPr/>
        </p:nvSpPr>
        <p:spPr>
          <a:xfrm>
            <a:off x="61128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7 – х =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>
            <a:hlinkClick r:id="" action="ppaction://hlinkshowjump?jump=nextslide"/>
            <a:hlinkClick r:id="rId4"/>
          </p:cNvPr>
          <p:cNvSpPr/>
          <p:nvPr/>
        </p:nvSpPr>
        <p:spPr>
          <a:xfrm>
            <a:off x="61128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х - 100 = 4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427640" y="155736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кажите, как правильно выразить 51т3ц в килограмм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>
            <a:hlinkClick r:id="rId4" action="ppaction://hlinksldjump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>
            <a:hlinkClick r:id="" action="ppaction://hlinkshowjump?jump=nextslide"/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427640" y="1171440"/>
            <a:ext cx="43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Выбери правильный результат для выражени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840403 – 800690: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>
            <a:hlinkClick r:id="" action="ppaction://hlinkshowjump?jump=nextslide"/>
            <a:hlinkClick r:id="rId3"/>
          </p:cNvPr>
          <p:cNvSpPr/>
          <p:nvPr/>
        </p:nvSpPr>
        <p:spPr>
          <a:xfrm>
            <a:off x="1332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>
            <a:hlinkClick r:id="rId4"/>
          </p:cNvPr>
          <p:cNvSpPr/>
          <p:nvPr/>
        </p:nvSpPr>
        <p:spPr>
          <a:xfrm>
            <a:off x="1332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8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>
            <a:hlinkClick r:id="rId5"/>
          </p:cNvPr>
          <p:cNvSpPr/>
          <p:nvPr/>
        </p:nvSpPr>
        <p:spPr>
          <a:xfrm>
            <a:off x="1332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6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>
            <a:hlinkClick r:id="rId6"/>
          </p:cNvPr>
          <p:cNvSpPr/>
          <p:nvPr/>
        </p:nvSpPr>
        <p:spPr>
          <a:xfrm>
            <a:off x="1332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8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427640" y="692280"/>
            <a:ext cx="43923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От пристани в одно и то же время в противоположных направлениях отошли два теплохода. Через 3 часа расстояние между ними было 210 км. Один теплоход шел со скоростью 40 км/ч. Найдите скорость второго тепло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>
            <a:hlinkClick r:id="rId3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>
            <a:hlinkClick r:id="rId6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film_225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 rot="4455600">
            <a:off x="5138280" y="2856240"/>
            <a:ext cx="3743280" cy="3600360"/>
          </a:xfrm>
          <a:prstGeom prst="cloudCallout">
            <a:avLst>
              <a:gd name="adj1" fmla="val -64652"/>
              <a:gd name="adj2" fmla="val 3760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8"/>
          <p:cNvSpPr txBox="1"/>
          <p:nvPr/>
        </p:nvSpPr>
        <p:spPr>
          <a:xfrm rot="2023800">
            <a:off x="5363640" y="3716280"/>
            <a:ext cx="3356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й, я ошибся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AutoShape 9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10800"/>
                </a:moveTo>
                <a:lnTo>
                  <a:pt x="26817" y="3794"/>
                </a:lnTo>
                <a:lnTo>
                  <a:pt x="26817" y="17806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03:47Z</dcterms:created>
  <dc:creator>Admin</dc:creator>
  <dc:description/>
  <dc:language>en-US</dc:language>
  <cp:lastModifiedBy>Макаров</cp:lastModifiedBy>
  <dcterms:modified xsi:type="dcterms:W3CDTF">2012-03-23T11:04:33Z</dcterms:modified>
  <cp:revision>11</cp:revision>
  <dc:subject/>
  <dc:title>Слайд 1</dc:title>
</cp:coreProperties>
</file>