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BAC-2A96-4A0D-8D89-D0436E8D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B28-23DB-4435-AD29-80E1960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E96-4CAE-40F4-99F7-723F56D2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661-3AF4-4AC3-8A5D-E761D91E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E3A-06C4-4638-BF5A-717E4449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566-675C-4D11-9034-7A901040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47A-2C03-4773-96E6-594EA6C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ADB-ACA3-4FDF-A39C-CEF18D3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354-4E2B-408E-8D35-194724DF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7D4-AE6A-4EDC-96BB-AFBB9BE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3AE-79F4-4C44-9C8E-B365D67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DC5-4862-4798-BB39-5A97994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41D-F6D9-46E0-809D-B6BAFA4313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D18-9E6D-49CB-B54A-2B3E7056C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A1A1-5814-42BA-AEF1-9510877F14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7FCF-6E88-468E-9AFB-7FA7DCB6C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-336960" y="1216080"/>
            <a:ext cx="961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азовите коэффициент выраж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,1 ас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23 у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3,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х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е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2. Решить урав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 6;                     4) – 3 х 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х = - 3;                  5) – 6 х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х = - 5;                 6) 7 х = -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3. Решить задачу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о время прогулки по ле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через каждые 10 м встречали надсечк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ях. Какой путь мы прошли от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ки до последней, если насчитали всег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е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,1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23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1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3,2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д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е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 - 6 ;                   4) х = 2/3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х =  3 ;                    5)  х = - 5/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 х = - 2, 5 ;              6)  х = - 3/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190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9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7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8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9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Text Box 62"/>
          <p:cNvSpPr/>
          <p:nvPr/>
        </p:nvSpPr>
        <p:spPr>
          <a:xfrm>
            <a:off x="498492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22-26 правильных ответов –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17- 21 правильных ответов –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 12- 16 правильных ответов –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&lt; 12 правильных решений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–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4-09T09:15:26Z</dcterms:modified>
  <cp:revision>7</cp:revision>
  <dc:subject/>
  <dc:title>Слайд 1</dc:title>
</cp:coreProperties>
</file>