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353-6FA9-4E00-871A-097E3DA7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2FD-1D3C-425D-8C5A-A416E5C8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A37-0428-4340-817B-DF56BCCA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7B7-F1C2-401E-9AB6-0FC1582D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4BB-75B4-4E0F-BAA5-873F1E8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9B8-61ED-46AA-92F7-92D41A25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A9D-604A-4488-9CE9-3DDDB7EF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4CB-0170-4397-8E1C-483EC4B2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686-CB94-4E07-9163-BEBF0637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B44-A583-4E49-A012-425EC705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1B6-9230-44CC-A558-EBC66AD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2E7-4542-4E71-BC40-CF3EA33D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F5D6-20E4-44B8-AEFF-3DFFF95EB79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9CD0-8EFD-4372-A036-288BAF6777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A690-384B-4875-AAAC-E18336F5C02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5BA8-DDBA-404D-A21E-E120B0D57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-336960" y="1216080"/>
            <a:ext cx="961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Назовите коэффициент выраж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,1 ас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23 у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3,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х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е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2. Решить урав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= 6;                     4) – 3 х =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х = - 3;                  5) – 6 х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х = - 5;                 6) 7 х = -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3. Решить задачу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о время прогулки по ле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через каждые 10 м встречали надсечк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ьях. Какой путь мы прошли от пер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ки до последней, если насчитали всег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ек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,1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,23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1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3,2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д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5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е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 =  - 6 ;                   4) х = 2/3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х =  3 ;                    5)  х = - 5/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 х = - 2, 5 ;              6)  х = - 3/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190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9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7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х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8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су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9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Text Box 62"/>
          <p:cNvSpPr/>
          <p:nvPr/>
        </p:nvSpPr>
        <p:spPr>
          <a:xfrm>
            <a:off x="498492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22-26 правильных ответов –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5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17- 21 правильных ответов –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 12- 16 правильных ответов –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3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&lt; 12 правильных решений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–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4-09T09:15:26Z</dcterms:modified>
  <cp:revision>7</cp:revision>
  <dc:subject/>
  <dc:title>Слайд 1</dc:title>
</cp:coreProperties>
</file>