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1.png" ContentType="image/png"/>
  <Override PartName="/ppt/media/image7.jpeg" ContentType="image/jpeg"/>
  <Override PartName="/ppt/media/image18.png" ContentType="image/png"/>
  <Override PartName="/ppt/media/image15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EF6-623E-49F1-A8F6-B210D87D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F37-DB35-41C6-B66A-6CB1BBB3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CFE-7B53-459A-A63A-E7CE4A97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C49-9D94-468F-8EB8-8E9E69A5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060C-730B-4ED7-AA96-ADC86B67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E47D-BB62-4EDA-AAB8-B3AB862B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AC11-7C9F-4E91-B91A-31AEC461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08DC-0A6E-4179-9E87-B967B360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C82A-A8CD-4F98-B6F4-5960FB65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7575-1402-4E06-B880-E4931964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C56E-BF29-4E5B-9771-26C59461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B65-E245-4A80-B60F-52E3A476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6F7B-B681-496C-8830-C4E3A729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DCF1-80B8-4D7C-91A1-7B1B3540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DA07-B380-4592-863B-66624A6F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2C89-AAFD-4427-A6AF-9659090C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F457-BF57-41D1-9761-A38DE3C1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45F-04EC-4A51-969D-C775351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C5E-FEE8-4830-81BB-B1BBFBC2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2AC-DCCC-43F7-B695-9F764ADA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0ED-B569-4353-B444-BFDA7A69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319-B982-4646-B5C6-C73791AE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ABA-2BFC-4424-969C-E7939156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75C-BB50-4044-9B7E-4F49C5E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A3C4-69A5-4690-AB6C-89202DA87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050D-CC61-4B03-ABD0-090133F7C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2589" b="0"/>
          <a:stretch/>
        </p:blipFill>
        <p:spPr>
          <a:xfrm>
            <a:off x="914400" y="1284120"/>
            <a:ext cx="7238880" cy="557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искусственный спутник Земл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3600 г = 83 кг 600 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228600" y="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257 006 271,  978 340,             6 000 000,   729 180 0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0120" y="9907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19920" y="3352680"/>
            <a:ext cx="2571480" cy="19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132000" cy="426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2133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04920" y="-304920"/>
            <a:ext cx="5029200" cy="3441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905120"/>
            <a:ext cx="231480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05520" y="3638520"/>
            <a:ext cx="4343400" cy="3390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462560" y="2590920"/>
            <a:ext cx="468144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89154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Вычислите, сколько лет люди летают в космос.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1 час 48 минут. Сколько это мину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Во сколько лет Юрий Гагарин совершил свой первый космический полет, если мы знаем, что он родился 9 марта 1934 год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4. Космический корабль летит со скоростью 8 км/с. Сколько км он пролетит за минуту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. Космический челнок совершает один оборот вокруг Земли за 90 минут. 1/2 часть времени он находится на свету. Сколько минут он находится на свет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6. Космическая станция плывет над Землей на высоте 400 километров. Сколько это метр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1080" y="4572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62920" y="990720"/>
            <a:ext cx="761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29400" y="22096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48720" y="3048120"/>
            <a:ext cx="609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7080" y="4724280"/>
            <a:ext cx="533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0120" y="6019920"/>
            <a:ext cx="130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00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-304920"/>
            <a:ext cx="4573440" cy="533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1, 108, 27, 480, 45, 400 000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4419720"/>
          <a:ext cx="8839080" cy="1828800"/>
        </p:xfrm>
        <a:graphic>
          <a:graphicData uri="http://schemas.openxmlformats.org/drawingml/2006/table">
            <a:tbl>
              <a:tblPr/>
              <a:tblGrid>
                <a:gridCol w="1631880"/>
                <a:gridCol w="1636560"/>
                <a:gridCol w="1416240"/>
                <a:gridCol w="1334880"/>
                <a:gridCol w="1371600"/>
                <a:gridCol w="14479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 txBox="1"/>
          <p:nvPr/>
        </p:nvSpPr>
        <p:spPr>
          <a:xfrm>
            <a:off x="2438280" y="4114800"/>
            <a:ext cx="4538880" cy="25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1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6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74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83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0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7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8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9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500"/>
                            </p:stCondLst>
                            <p:childTnLst>
                              <p:par>
                                <p:cTn id="2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3500"/>
                            </p:stCondLst>
                            <p:childTnLst>
                              <p:par>
                                <p:cTn id="22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6500"/>
                            </p:stCondLst>
                            <p:childTnLst>
                              <p:par>
                                <p:cTn id="2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28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3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950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1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2500"/>
                            </p:stCondLst>
                            <p:childTnLst>
                              <p:par>
                                <p:cTn id="2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838080"/>
                <a:gridCol w="914400"/>
                <a:gridCol w="1600200"/>
                <a:gridCol w="1143000"/>
                <a:gridCol w="1143000"/>
                <a:gridCol w="11430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а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ё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л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З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Лю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С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лья 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ма 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ст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н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рт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д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р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ики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льб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ка 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Логическая задача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ждого марсианина по 3 руки. В шеренгу построились 10 марсиан, и каждый взял соседа за руку. Сколько рук осталось свободным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ользуя знаки действий и скобки, сделайте так, чтобы выполнялись равенств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2                    9 ӿ 9 ӿ 9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10                  9 ӿ 9 ӿ 9 = 7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 ӿ 9 ӿ 9 = 90                  9 ӿ 9 ӿ 9 = 16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4-10T19:28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