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17.gif" ContentType="image/gif"/>
  <Override PartName="/ppt/media/image16.gif" ContentType="image/gif"/>
  <Override PartName="/ppt/media/image14.gif" ContentType="image/gif"/>
  <Override PartName="/ppt/media/image1.png" ContentType="image/png"/>
  <Override PartName="/ppt/media/image7.jpeg" ContentType="image/jpeg"/>
  <Override PartName="/ppt/media/image18.png" ContentType="image/png"/>
  <Override PartName="/ppt/media/image15.gif" ContentType="image/gif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DB3-3AB2-4676-856F-038932B1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C54-D8E6-4AC9-B126-59232271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7E4-7B57-4D40-9D8D-972B3C68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3EC-12AA-4F65-A430-919E8A55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5019-7B97-4E64-8664-4B125650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EB02-132D-4F6E-B873-CD354334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6F0B-563B-4AAF-94DA-BE8E9BB0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1D5F-CEE6-4739-8027-9519D398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8117-8112-4AD1-978C-8AC380C4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1281-74A8-4553-BCA0-ECF64CC9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CDC0-1826-4E28-A88C-8035CB35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685-BCBC-4FF1-BC19-11D3171A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66EF-7198-4B2F-B820-688C8075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F1EB-F811-42F5-87E9-8CF55B28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2A4B-BBA4-4883-BA3C-83D69305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B866-E1FE-49E7-BC4C-F3372B64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758A-5034-44F5-8A84-6DFD055B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2AF-263D-4C47-8065-D74FB446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44D6-7339-43EC-8A24-4C9D7AD0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35F-ADF6-425B-90FA-CBED2C43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869-0B34-4F5A-A5A3-DF18CA2C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331-CF9B-4D1D-A309-274DD8C6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95FC-6471-47DC-BE4A-2357883A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B5E-89E6-40F6-AFF9-214685F0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EA01-194F-493E-8708-F63CC05BA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1050-DBFB-4C4E-9D23-219F4C8E5E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6.gif"/><Relationship Id="rId16" Type="http://schemas.openxmlformats.org/officeDocument/2006/relationships/image" Target="../media/image17.gif"/><Relationship Id="rId17" Type="http://schemas.openxmlformats.org/officeDocument/2006/relationships/audio" Target="file:///tmp/home/.config/libreoffice/4/user/gallery/&#1087;&#1088;&#1080;&#1085;&#1094;.wav" TargetMode="External"/><Relationship Id="rId18" Type="http://schemas.microsoft.com/office/2007/relationships/media" Target="file:///tmp/home/.config/libreoffice/4/user/gallery/&#1087;&#1088;&#1080;&#1085;&#1094;.wav" TargetMode="External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2589" b="0"/>
          <a:stretch/>
        </p:blipFill>
        <p:spPr>
          <a:xfrm>
            <a:off x="914400" y="1284120"/>
            <a:ext cx="7238880" cy="5573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искусственный спутник Земли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3600 г = 83 кг 600 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228600" y="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257 006 271,  978 340,             6 000 000,   729 180 02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0120" y="990720"/>
            <a:ext cx="1523880" cy="1295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019920" y="3352680"/>
            <a:ext cx="2571480" cy="19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3132000" cy="426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00600" y="2133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304920" y="-304920"/>
            <a:ext cx="5029200" cy="3441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905120"/>
            <a:ext cx="2314800" cy="119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а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05520" y="3638520"/>
            <a:ext cx="4343400" cy="3390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462560" y="2590920"/>
            <a:ext cx="468144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лка и Стрел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89154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Вычислите, сколько лет люди летают в космос.</a:t>
            </a:r>
            <a:r>
              <a:rPr b="1" lang="en-US" sz="2800" spc="-1" strike="noStrike">
                <a:solidFill>
                  <a:srgbClr val="00cc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1 час 48 минут. Сколько это минут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3. Во сколько лет Юрий Гагарин совершил свой первый космический полет, если мы знаем, что он родился 9 марта 1934 год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4. Космический корабль летит со скоростью 8 км/с. Сколько км он пролетит за минуту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5. Космический челнок совершает один оборот вокруг Земли за 90 минут. 1/2 часть времени он находится на свету. Сколько минут он находится на свет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6. Космическая станция плывет над Землей на высоте 400 километров. Сколько это метр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81080" y="4572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162920" y="990720"/>
            <a:ext cx="7617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0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629400" y="22096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48720" y="3048120"/>
            <a:ext cx="609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8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7080" y="4724280"/>
            <a:ext cx="533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0120" y="6019920"/>
            <a:ext cx="1304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000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cover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2860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33720" y="-304920"/>
            <a:ext cx="4573440" cy="5334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51, 108, 27, 480, 45, 400 000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4419720"/>
          <a:ext cx="8839080" cy="1828800"/>
        </p:xfrm>
        <a:graphic>
          <a:graphicData uri="http://schemas.openxmlformats.org/drawingml/2006/table">
            <a:tbl>
              <a:tblPr/>
              <a:tblGrid>
                <a:gridCol w="1631880"/>
                <a:gridCol w="1636560"/>
                <a:gridCol w="1416240"/>
                <a:gridCol w="1334880"/>
                <a:gridCol w="1371600"/>
                <a:gridCol w="144792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0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 txBox="1"/>
          <p:nvPr/>
        </p:nvSpPr>
        <p:spPr>
          <a:xfrm>
            <a:off x="2438280" y="4114800"/>
            <a:ext cx="4538880" cy="25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с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 rot="19871400">
            <a:off x="6084360" y="765000"/>
            <a:ext cx="1795680" cy="1603440"/>
          </a:xfrm>
          <a:prstGeom prst="pie">
            <a:avLst/>
          </a:prstGeom>
          <a:gradFill rotWithShape="0">
            <a:gsLst>
              <a:gs pos="0">
                <a:srgbClr val="0066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1"/>
          <p:cNvSpPr/>
          <p:nvPr/>
        </p:nvSpPr>
        <p:spPr>
          <a:xfrm>
            <a:off x="1042920" y="4797360"/>
            <a:ext cx="936720" cy="8636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3635280" y="549360"/>
            <a:ext cx="1224000" cy="107928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 rot="19975200">
            <a:off x="6283440" y="3414240"/>
            <a:ext cx="1731960" cy="1656000"/>
          </a:xfrm>
          <a:prstGeom prst="pie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 rot="19975200">
            <a:off x="779040" y="1011240"/>
            <a:ext cx="1587600" cy="1511280"/>
          </a:xfrm>
          <a:prstGeom prst="pie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5"/>
          <p:cNvSpPr/>
          <p:nvPr/>
        </p:nvSpPr>
        <p:spPr>
          <a:xfrm rot="19975200">
            <a:off x="3566880" y="4804920"/>
            <a:ext cx="1873080" cy="173664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6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2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3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4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4500"/>
                            </p:stCondLst>
                            <p:childTnLst>
                              <p:par>
                                <p:cTn id="1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74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83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4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204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7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8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9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500"/>
                            </p:stCondLst>
                            <p:childTnLst>
                              <p:par>
                                <p:cTn id="21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3500"/>
                            </p:stCondLst>
                            <p:childTnLst>
                              <p:par>
                                <p:cTn id="223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6500"/>
                            </p:stCondLst>
                            <p:childTnLst>
                              <p:par>
                                <p:cTn id="2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228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3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9500"/>
                            </p:stCondLst>
                            <p:childTnLst>
                              <p:par>
                                <p:cTn id="2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15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25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3500"/>
                            </p:stCondLst>
                            <p:childTnLst>
                              <p:par>
                                <p:cTn id="2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40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838080"/>
                <a:gridCol w="914400"/>
                <a:gridCol w="1600200"/>
                <a:gridCol w="1143000"/>
                <a:gridCol w="1143000"/>
                <a:gridCol w="114300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а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ён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ндр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л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З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ю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лья С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лья 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ка 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ст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ани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рт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оди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ар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ики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льб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ка 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Логическая задача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каждого марсианина по 3 руки. В шеренгу построились 10 марсиан, и каждый взял соседа за руку. Сколько рук осталось свободными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пользуя знаки действий и скобки, сделайте так, чтобы выполнялись равенства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2                    9 ӿ 9 ӿ 9 = 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10                  9 ӿ 9 ӿ 9 = 7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90                  9 ӿ 9 ӿ 9 = 16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4-10T19:28:0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