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gif" ContentType="image/gif"/>
  <Override PartName="/ppt/media/image9.png" ContentType="image/png"/>
  <Override PartName="/ppt/media/image17.gif" ContentType="image/gif"/>
  <Override PartName="/ppt/media/image16.gif" ContentType="image/gif"/>
  <Override PartName="/ppt/media/image14.gif" ContentType="image/gif"/>
  <Override PartName="/ppt/media/image1.png" ContentType="image/png"/>
  <Override PartName="/ppt/media/image7.jpeg" ContentType="image/jpeg"/>
  <Override PartName="/ppt/media/image18.png" ContentType="image/png"/>
  <Override PartName="/ppt/media/image15.gif" ContentType="image/gif"/>
  <Override PartName="/ppt/media/image2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333D-6BC0-455C-AAC8-6EE034FD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8326-72DC-4B6A-B952-3A958210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E3BB-9272-40F5-BEE0-9C3D6BEC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19C0-37C6-4D64-8F79-EA5C9D8A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5080-DFF9-4DB1-A36C-D4557E95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846C-FD00-4AB9-AEAE-62BE2D18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E84E-87CA-48C6-82DE-60A3ABA3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81D6-83CC-4463-9E69-7D9D2946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5126-53D8-42D0-B80A-385E96D5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84D3-6802-44EF-967E-F6E6E974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D000-A990-45A3-B554-B8C708A4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20BD-B114-4164-B1C5-809D6373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3646-9F05-4A79-A08C-03811F53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D35A-A773-4AC6-B17A-1AE6F057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61E4-1AFF-4028-80C5-DACFB89B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7C3C-0B03-4F82-BF3C-838182E8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DD4F-C397-4C01-888F-D0F92C9C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C331-6864-47E1-877C-443C5400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7172-2D1B-4F81-B40A-FAD80504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7017-E0D8-4136-9B6B-C35D1322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36C7-F824-4CB4-8DAB-5DCA8299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C3F1-A73E-4FF5-A3AF-F1B8224C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1AAA-9B36-4711-8DF4-B5CB556C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F9CF-61CB-4440-86A9-99D84726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1C54-5F98-4BDE-8EC1-D80B14D81A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2A85-C418-4EAC-8D8C-CB3E71531F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3.gif"/><Relationship Id="rId11" Type="http://schemas.openxmlformats.org/officeDocument/2006/relationships/image" Target="../media/image14.gif"/><Relationship Id="rId12" Type="http://schemas.openxmlformats.org/officeDocument/2006/relationships/image" Target="../media/image15.gif"/><Relationship Id="rId13" Type="http://schemas.openxmlformats.org/officeDocument/2006/relationships/image" Target="../media/image15.gif"/><Relationship Id="rId14" Type="http://schemas.openxmlformats.org/officeDocument/2006/relationships/image" Target="../media/image15.gif"/><Relationship Id="rId15" Type="http://schemas.openxmlformats.org/officeDocument/2006/relationships/image" Target="../media/image16.gif"/><Relationship Id="rId16" Type="http://schemas.openxmlformats.org/officeDocument/2006/relationships/image" Target="../media/image17.gif"/><Relationship Id="rId17" Type="http://schemas.openxmlformats.org/officeDocument/2006/relationships/audio" Target="file:///tmp/home/.config/libreoffice/4/user/gallery/&#1087;&#1088;&#1080;&#1085;&#1094;.wav" TargetMode="External"/><Relationship Id="rId18" Type="http://schemas.microsoft.com/office/2007/relationships/media" Target="file:///tmp/home/.config/libreoffice/4/user/gallery/&#1087;&#1088;&#1080;&#1085;&#1094;.wav" TargetMode="External"/><Relationship Id="rId19" Type="http://schemas.openxmlformats.org/officeDocument/2006/relationships/image" Target="../media/image18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0" r="2589" b="0"/>
          <a:stretch/>
        </p:blipFill>
        <p:spPr>
          <a:xfrm>
            <a:off x="914400" y="1284120"/>
            <a:ext cx="7238880" cy="55738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искусственный спутник Земли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3600 г = 83 кг 600 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-228600" y="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Arial"/>
              </a:rPr>
              <a:t>257 006 271,  978 340,             6 000 000,   729 180 02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620120" y="990720"/>
            <a:ext cx="1523880" cy="1295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6019920" y="3352680"/>
            <a:ext cx="2571480" cy="193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6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04920" y="2362320"/>
            <a:ext cx="3132000" cy="4267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wheel spokes="2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25236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00600" y="21337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-304920" y="-304920"/>
            <a:ext cx="5029200" cy="34419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90560" y="30492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1905120"/>
            <a:ext cx="2314800" cy="119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ай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105520" y="3638520"/>
            <a:ext cx="4343400" cy="3390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462560" y="2590920"/>
            <a:ext cx="4681440" cy="14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елка и Стрел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891540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Вычислите, сколько лет люди летают в космос.</a:t>
            </a:r>
            <a:r>
              <a:rPr b="1" lang="en-US" sz="2800" spc="-1" strike="noStrike">
                <a:solidFill>
                  <a:srgbClr val="00ccff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2. 1 час 48 минут. Сколько это минут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3. Во сколько лет Юрий Гагарин совершил свой первый космический полет, если мы знаем, что он родился 9 марта 1934 год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4. Космический корабль летит со скоростью 8 км/с. Сколько км он пролетит за минуту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5. Космический челнок совершает один оборот вокруг Земли за 90 минут. 1/2 часть времени он находится на свету. Сколько минут он находится на свет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6. Космическая станция плывет над Землей на высоте 400 километров. Сколько это метр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981080" y="4572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162920" y="990720"/>
            <a:ext cx="7617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0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629400" y="2209680"/>
            <a:ext cx="5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848720" y="3048120"/>
            <a:ext cx="609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8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67080" y="4724280"/>
            <a:ext cx="533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0120" y="6019920"/>
            <a:ext cx="1304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0000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slow">
    <p:cover dir="l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228600" y="-4572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133720" y="-304920"/>
            <a:ext cx="4573440" cy="5334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51, 108, 27, 480, 45, 400 000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cc"/>
                </a:solidFill>
                <a:latin typeface="Arial"/>
              </a:rPr>
              <a:t> 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4419720"/>
          <a:ext cx="8839080" cy="1828800"/>
        </p:xfrm>
        <a:graphic>
          <a:graphicData uri="http://schemas.openxmlformats.org/drawingml/2006/table">
            <a:tbl>
              <a:tblPr/>
              <a:tblGrid>
                <a:gridCol w="1631880"/>
                <a:gridCol w="1636560"/>
                <a:gridCol w="1416240"/>
                <a:gridCol w="1334880"/>
                <a:gridCol w="1371600"/>
                <a:gridCol w="144792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00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 txBox="1"/>
          <p:nvPr/>
        </p:nvSpPr>
        <p:spPr>
          <a:xfrm>
            <a:off x="2438280" y="4114800"/>
            <a:ext cx="4538880" cy="251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ос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slow">
    <p:checker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lack43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black43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 rot="19871400">
            <a:off x="6084360" y="765000"/>
            <a:ext cx="1795680" cy="1603440"/>
          </a:xfrm>
          <a:prstGeom prst="pie">
            <a:avLst/>
          </a:prstGeom>
          <a:gradFill rotWithShape="0">
            <a:gsLst>
              <a:gs pos="0">
                <a:srgbClr val="0066cc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9" descr="05_moon_meteorit_alh-81005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05_moon_meteorit_alh-81005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1"/>
          <p:cNvSpPr/>
          <p:nvPr/>
        </p:nvSpPr>
        <p:spPr>
          <a:xfrm>
            <a:off x="1042920" y="4797360"/>
            <a:ext cx="936720" cy="8636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3635280" y="549360"/>
            <a:ext cx="1224000" cy="1079280"/>
          </a:xfrm>
          <a:prstGeom prst="pie">
            <a:avLst/>
          </a:pr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 rot="19975200">
            <a:off x="6283440" y="3414240"/>
            <a:ext cx="1731960" cy="1656000"/>
          </a:xfrm>
          <a:prstGeom prst="pie">
            <a:avLst/>
          </a:pr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4"/>
          <p:cNvSpPr/>
          <p:nvPr/>
        </p:nvSpPr>
        <p:spPr>
          <a:xfrm rot="19975200">
            <a:off x="779040" y="1011240"/>
            <a:ext cx="1587600" cy="1511280"/>
          </a:xfrm>
          <a:prstGeom prst="pie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5"/>
          <p:cNvSpPr/>
          <p:nvPr/>
        </p:nvSpPr>
        <p:spPr>
          <a:xfrm rot="19975200">
            <a:off x="3566880" y="4804920"/>
            <a:ext cx="1873080" cy="1736640"/>
          </a:xfrm>
          <a:prstGeom prst="pie">
            <a:avLst/>
          </a:pr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6" descr="earth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42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mars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112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upiter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1" descr="r4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2" descr="r4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3" descr="r4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4" descr="r7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5" descr="56r2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" action="ppaction://media"/>
          </p:cNvPr>
          <p:cNvPicPr/>
          <p:nvPr>
            <a:audioFile r:link="rId17"/>
            <p:extLst>
              <p:ext uri="{DAA4B4D4-6D71-4841-9C94-3DE7FCFB9230}">
                <p14:media r:link="rId18"/>
              </p:ext>
            </p:extLst>
          </p:nvPr>
        </p:nvPicPr>
        <p:blipFill>
          <a:blip r:embed="rId19"/>
          <a:stretch>
            <a:fillRect/>
          </a:stretch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0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9000"/>
                            </p:stCondLst>
                            <p:childTnLst>
                              <p:par>
                                <p:cTn id="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7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9500"/>
                            </p:stCondLst>
                            <p:childTnLst>
                              <p:par>
                                <p:cTn id="115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3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0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500"/>
                            </p:stCondLst>
                            <p:childTnLst>
                              <p:par>
                                <p:cTn id="125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3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4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4500"/>
                            </p:stCondLst>
                            <p:childTnLst>
                              <p:par>
                                <p:cTn id="1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174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183" dur="3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1500"/>
                            </p:stCondLst>
                            <p:childTnLst>
                              <p:par>
                                <p:cTn id="1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4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204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7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85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9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500"/>
                            </p:stCondLst>
                            <p:childTnLst>
                              <p:par>
                                <p:cTn id="21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3500"/>
                            </p:stCondLst>
                            <p:childTnLst>
                              <p:par>
                                <p:cTn id="223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6500"/>
                            </p:stCondLst>
                            <p:childTnLst>
                              <p:par>
                                <p:cTn id="22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228" dur="3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0" dur="3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9500"/>
                            </p:stCondLst>
                            <p:childTnLst>
                              <p:par>
                                <p:cTn id="2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150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2500"/>
                            </p:stCondLst>
                            <p:childTnLst>
                              <p:par>
                                <p:cTn id="2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3500"/>
                            </p:stCondLst>
                            <p:childTnLst>
                              <p:par>
                                <p:cTn id="2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4000"/>
                            </p:stCondLst>
                            <p:childTnLst>
                              <p:par>
                                <p:cTn id="2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1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838080"/>
                <a:gridCol w="914400"/>
                <a:gridCol w="1600200"/>
                <a:gridCol w="1143000"/>
                <a:gridCol w="1143000"/>
                <a:gridCol w="114300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3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4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5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3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4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5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а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Лён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ндр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оли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има 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има З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Люб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лья С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лья 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има Т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ика Т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ст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о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ани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рте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оди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Мар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ики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льб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ика Я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Логическая задача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каждого марсианина по 3 руки. В шеренгу построились 10 марсиан, и каждый взял соседа за руку. Сколько рук осталось свободными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спользуя знаки действий и скобки, сделайте так, чтобы выполнялись равенства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 ӿ 9 ӿ 9 = 2                    9 ӿ 9 ӿ 9 = 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 ӿ 9 ӿ 9 = 10                  9 ӿ 9 ӿ 9 = 7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 ӿ 9 ӿ 9 = 90                  9 ӿ 9 ӿ 9 = 16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2-04-10T19:28:0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