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gif" ContentType="image/gif"/>
  <Override PartName="/ppt/media/image3.jpeg" ContentType="image/jpeg"/>
  <Override PartName="/ppt/media/image10.gif" ContentType="image/gif"/>
  <Override PartName="/ppt/media/image9.png" ContentType="image/png"/>
  <Override PartName="/ppt/media/image17.gif" ContentType="image/gif"/>
  <Override PartName="/ppt/media/image16.gif" ContentType="image/gif"/>
  <Override PartName="/ppt/media/image14.gif" ContentType="image/gif"/>
  <Override PartName="/ppt/media/image1.png" ContentType="image/png"/>
  <Override PartName="/ppt/media/image7.jpeg" ContentType="image/jpeg"/>
  <Override PartName="/ppt/media/image18.png" ContentType="image/png"/>
  <Override PartName="/ppt/media/image15.gif" ContentType="image/gif"/>
  <Override PartName="/ppt/media/image2.png" ContentType="image/png"/>
  <Override PartName="/ppt/media/image4.jpeg" ContentType="image/jpeg"/>
  <Override PartName="/ppt/media/image8.gif" ContentType="image/gif"/>
  <Override PartName="/ppt/media/image13.gif" ContentType="image/gif"/>
  <Override PartName="/ppt/media/image5.jpeg" ContentType="image/jpeg"/>
  <Override PartName="/ppt/media/image11.gif" ContentType="image/gif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07AA-D42C-4B91-A1D1-0563E1766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5899-359B-49ED-A966-47C10591D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2900-9FD4-4CBC-937D-C47D90021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FBB9-3A1C-4FBF-91F3-021C92230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E2053-EDF4-49AF-95BE-F79740AC3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03639-F8F3-462A-96B3-527D9C2B3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D2018-600E-4FA6-A031-0683FCE44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7FA27-8C80-4B92-A133-E3B55C34F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255B8-BC52-4F28-9528-9D2686D76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20858-A77F-434B-84D7-8B82D4FB3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DB206-7622-4DD0-B06E-FC47F5941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9421-3173-4729-A933-5BF9DC4C6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E4DFF-F9D5-4212-AEB5-73318A363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5ADD2-BC81-43AC-8C02-128B1ABC7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29C48-F562-484C-954C-7CABF0399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1920F-78EE-40A8-9BA9-EADC2A561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FA0AD-9613-4CD7-B216-09175DD64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57AE-6FB9-4271-BC99-9FF3CF492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4DDF-AD82-41DA-9C74-BB5EF40E2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DD5B-9F44-40A7-A3E2-2DB680289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50A3-ABA9-4CF3-B4F6-24E4AC7CB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BEBB-87E0-40EA-94A2-0E0A1800B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D577-9277-4063-8808-C81E790F3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2D70-E938-446F-BB36-B1D4B397E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DD9C5-89F7-4393-8D5E-EFC6AE9CCD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19D82-432B-48C6-ADE5-1078AD0BBC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10.gif"/><Relationship Id="rId8" Type="http://schemas.openxmlformats.org/officeDocument/2006/relationships/image" Target="../media/image11.gif"/><Relationship Id="rId9" Type="http://schemas.openxmlformats.org/officeDocument/2006/relationships/image" Target="../media/image12.gif"/><Relationship Id="rId10" Type="http://schemas.openxmlformats.org/officeDocument/2006/relationships/image" Target="../media/image13.gif"/><Relationship Id="rId11" Type="http://schemas.openxmlformats.org/officeDocument/2006/relationships/image" Target="../media/image14.gif"/><Relationship Id="rId12" Type="http://schemas.openxmlformats.org/officeDocument/2006/relationships/image" Target="../media/image15.gif"/><Relationship Id="rId13" Type="http://schemas.openxmlformats.org/officeDocument/2006/relationships/image" Target="../media/image15.gif"/><Relationship Id="rId14" Type="http://schemas.openxmlformats.org/officeDocument/2006/relationships/image" Target="../media/image15.gif"/><Relationship Id="rId15" Type="http://schemas.openxmlformats.org/officeDocument/2006/relationships/image" Target="../media/image16.gif"/><Relationship Id="rId16" Type="http://schemas.openxmlformats.org/officeDocument/2006/relationships/image" Target="../media/image17.gif"/><Relationship Id="rId17" Type="http://schemas.openxmlformats.org/officeDocument/2006/relationships/audio" Target="file:///tmp/home/.config/libreoffice/4/user/gallery/&#1087;&#1088;&#1080;&#1085;&#1094;.wav" TargetMode="External"/><Relationship Id="rId18" Type="http://schemas.microsoft.com/office/2007/relationships/media" Target="file:///tmp/home/.config/libreoffice/4/user/gallery/&#1087;&#1088;&#1080;&#1085;&#1094;.wav" TargetMode="External"/><Relationship Id="rId19" Type="http://schemas.openxmlformats.org/officeDocument/2006/relationships/image" Target="../media/image18.png"/><Relationship Id="rId2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rcRect l="0" t="0" r="2589" b="0"/>
          <a:stretch/>
        </p:blipFill>
        <p:spPr>
          <a:xfrm>
            <a:off x="914400" y="1284120"/>
            <a:ext cx="7238880" cy="557388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1 искусственный спутник Земли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83600 г = 83 кг 600 г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-609480" y="-45720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-228600" y="0"/>
            <a:ext cx="8077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ff"/>
                </a:solidFill>
                <a:latin typeface="Arial"/>
              </a:rPr>
              <a:t>257 006 271,  978 340,             6 000 000,   729 180 025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7620120" y="990720"/>
            <a:ext cx="1523880" cy="12952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6019920" y="3352680"/>
            <a:ext cx="2571480" cy="193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96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304920" y="2362320"/>
            <a:ext cx="3132000" cy="42670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 spd="slow">
    <p:wheel spokes="2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9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-252360" y="-31608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4800600" y="213372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-304920" y="-304920"/>
            <a:ext cx="5029200" cy="344196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590560" y="304920"/>
            <a:ext cx="655308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80880" y="1905120"/>
            <a:ext cx="2314800" cy="119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Лай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5105520" y="3638520"/>
            <a:ext cx="4343400" cy="33908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4462560" y="2590920"/>
            <a:ext cx="4681440" cy="14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Белка и Стрел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 spd="slow">
    <p:comb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-304920" y="-4572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0" y="0"/>
            <a:ext cx="8915400" cy="61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Вычислите, сколько лет люди летают в космос.</a:t>
            </a:r>
            <a:r>
              <a:rPr b="1" lang="en-US" sz="2800" spc="-1" strike="noStrike">
                <a:solidFill>
                  <a:srgbClr val="00ccff"/>
                </a:solidFill>
                <a:latin typeface="Times New Roman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2. 1 час 48 минут. Сколько это минут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3. Во сколько лет Юрий Гагарин совершил свой первый космический полет, если мы знаем, что он родился 9 марта 1934 года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4. Космический корабль летит со скоростью 8 км/с. Сколько км он пролетит за минуту?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5. Космический челнок совершает один оборот вокруг Земли за 90 минут. 1/2 часть времени он находится на свету. Сколько минут он находится на свету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6. Космическая станция плывет над Землей на высоте 400 километров. Сколько это метров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Arial"/>
              </a:rPr>
              <a:t>                  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981080" y="457200"/>
            <a:ext cx="457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5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7162920" y="990720"/>
            <a:ext cx="76176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10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629400" y="2209680"/>
            <a:ext cx="5335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27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7848720" y="3048120"/>
            <a:ext cx="6094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48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267080" y="4724280"/>
            <a:ext cx="5335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4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0120" y="6019920"/>
            <a:ext cx="13046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40000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ransition spd="slow">
    <p:cover dir="ld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-228600" y="-457200"/>
            <a:ext cx="9753480" cy="73152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2133720" y="-304920"/>
            <a:ext cx="4573440" cy="533412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8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51, 108, 27, 480, 45, 400 000</a:t>
            </a:r>
            <a:endParaRPr b="0" lang="en-US" sz="4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6cc"/>
                </a:solidFill>
                <a:latin typeface="Arial"/>
              </a:rPr>
              <a:t>  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304920" y="4419720"/>
          <a:ext cx="8839080" cy="1828800"/>
        </p:xfrm>
        <a:graphic>
          <a:graphicData uri="http://schemas.openxmlformats.org/drawingml/2006/table">
            <a:tbl>
              <a:tblPr/>
              <a:tblGrid>
                <a:gridCol w="1631880"/>
                <a:gridCol w="1636560"/>
                <a:gridCol w="1416240"/>
                <a:gridCol w="1334880"/>
                <a:gridCol w="1371600"/>
                <a:gridCol w="1447920"/>
              </a:tblGrid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000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0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 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Т 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 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О 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К 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6" name=""/>
          <p:cNvSpPr txBox="1"/>
          <p:nvPr/>
        </p:nvSpPr>
        <p:spPr>
          <a:xfrm>
            <a:off x="2438280" y="4114800"/>
            <a:ext cx="4538880" cy="251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Восто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ransition spd="slow">
    <p:checker dir="horz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black43"/>
          <p:cNvPicPr/>
          <p:nvPr/>
        </p:nvPicPr>
        <p:blipFill>
          <a:blip r:embed="rId1"/>
          <a:stretch/>
        </p:blipFill>
        <p:spPr>
          <a:xfrm>
            <a:off x="0" y="0"/>
            <a:ext cx="4572000" cy="35575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" descr="black43"/>
          <p:cNvPicPr/>
          <p:nvPr/>
        </p:nvPicPr>
        <p:blipFill>
          <a:blip r:embed="rId2"/>
          <a:stretch/>
        </p:blipFill>
        <p:spPr>
          <a:xfrm>
            <a:off x="4356000" y="0"/>
            <a:ext cx="4788000" cy="35575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black43"/>
          <p:cNvPicPr/>
          <p:nvPr/>
        </p:nvPicPr>
        <p:blipFill>
          <a:blip r:embed="rId3"/>
          <a:stretch/>
        </p:blipFill>
        <p:spPr>
          <a:xfrm>
            <a:off x="0" y="3300480"/>
            <a:ext cx="4572000" cy="35575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black43"/>
          <p:cNvPicPr/>
          <p:nvPr/>
        </p:nvPicPr>
        <p:blipFill>
          <a:blip r:embed="rId4"/>
          <a:stretch/>
        </p:blipFill>
        <p:spPr>
          <a:xfrm>
            <a:off x="4356000" y="3300480"/>
            <a:ext cx="4788000" cy="3557520"/>
          </a:xfrm>
          <a:prstGeom prst="rect">
            <a:avLst/>
          </a:prstGeom>
          <a:ln w="0">
            <a:noFill/>
          </a:ln>
        </p:spPr>
      </p:pic>
      <p:sp>
        <p:nvSpPr>
          <p:cNvPr id="121" name="AutoShape 6"/>
          <p:cNvSpPr/>
          <p:nvPr/>
        </p:nvSpPr>
        <p:spPr>
          <a:xfrm rot="19146000">
            <a:off x="2987280" y="1989000"/>
            <a:ext cx="3384720" cy="3314880"/>
          </a:xfrm>
          <a:custGeom>
            <a:avLst/>
            <a:gdLst>
              <a:gd name="textAreaLeft" fmla="*/ 1417320 w 3384720"/>
              <a:gd name="textAreaRight" fmla="*/ 1967400 w 3384720"/>
              <a:gd name="textAreaTop" fmla="*/ 1388160 h 3314880"/>
              <a:gd name="textAreaBottom" fmla="*/ 1926720 h 3314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046" y="9046"/>
                </a:lnTo>
                <a:lnTo>
                  <a:pt x="10800" y="0"/>
                </a:lnTo>
                <a:lnTo>
                  <a:pt x="12554" y="9046"/>
                </a:lnTo>
                <a:lnTo>
                  <a:pt x="21600" y="10800"/>
                </a:lnTo>
                <a:lnTo>
                  <a:pt x="12554" y="12554"/>
                </a:lnTo>
                <a:lnTo>
                  <a:pt x="10800" y="21600"/>
                </a:lnTo>
                <a:lnTo>
                  <a:pt x="9046" y="1255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990099"/>
              </a:gs>
              <a:gs pos="100000">
                <a:srgbClr val="ff00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7"/>
          <p:cNvSpPr/>
          <p:nvPr/>
        </p:nvSpPr>
        <p:spPr>
          <a:xfrm>
            <a:off x="3276720" y="2060640"/>
            <a:ext cx="2736720" cy="2954160"/>
          </a:xfrm>
          <a:custGeom>
            <a:avLst/>
            <a:gdLst>
              <a:gd name="textAreaLeft" fmla="*/ 1145880 w 2736720"/>
              <a:gd name="textAreaRight" fmla="*/ 1590840 w 2736720"/>
              <a:gd name="textAreaTop" fmla="*/ 1236960 h 2954160"/>
              <a:gd name="textAreaBottom" fmla="*/ 1717200 h 2954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046" y="9046"/>
                </a:lnTo>
                <a:lnTo>
                  <a:pt x="10800" y="0"/>
                </a:lnTo>
                <a:lnTo>
                  <a:pt x="12554" y="9046"/>
                </a:lnTo>
                <a:lnTo>
                  <a:pt x="21600" y="10800"/>
                </a:lnTo>
                <a:lnTo>
                  <a:pt x="12554" y="12554"/>
                </a:lnTo>
                <a:lnTo>
                  <a:pt x="10800" y="21600"/>
                </a:lnTo>
                <a:lnTo>
                  <a:pt x="9046" y="1255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00cc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AutoShape 8"/>
          <p:cNvSpPr/>
          <p:nvPr/>
        </p:nvSpPr>
        <p:spPr>
          <a:xfrm rot="19871400">
            <a:off x="6084360" y="765000"/>
            <a:ext cx="1795680" cy="1603440"/>
          </a:xfrm>
          <a:prstGeom prst="pie">
            <a:avLst/>
          </a:prstGeom>
          <a:gradFill rotWithShape="0">
            <a:gsLst>
              <a:gs pos="0">
                <a:srgbClr val="0066cc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9" descr="05_moon_meteorit_alh-81005"/>
          <p:cNvPicPr/>
          <p:nvPr/>
        </p:nvPicPr>
        <p:blipFill>
          <a:blip r:embed="rId5"/>
          <a:stretch/>
        </p:blipFill>
        <p:spPr>
          <a:xfrm>
            <a:off x="-1620720" y="0"/>
            <a:ext cx="1404720" cy="10382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0" descr="05_moon_meteorit_alh-81005"/>
          <p:cNvPicPr/>
          <p:nvPr/>
        </p:nvPicPr>
        <p:blipFill>
          <a:blip r:embed="rId6"/>
          <a:stretch/>
        </p:blipFill>
        <p:spPr>
          <a:xfrm>
            <a:off x="9325080" y="0"/>
            <a:ext cx="1404720" cy="907920"/>
          </a:xfrm>
          <a:prstGeom prst="rect">
            <a:avLst/>
          </a:prstGeom>
          <a:ln w="0">
            <a:noFill/>
          </a:ln>
        </p:spPr>
      </p:pic>
      <p:sp>
        <p:nvSpPr>
          <p:cNvPr id="126" name="AutoShape 11"/>
          <p:cNvSpPr/>
          <p:nvPr/>
        </p:nvSpPr>
        <p:spPr>
          <a:xfrm>
            <a:off x="1042920" y="4797360"/>
            <a:ext cx="936720" cy="863640"/>
          </a:xfrm>
          <a:prstGeom prst="pie">
            <a:avLst/>
          </a:prstGeom>
          <a:gradFill rotWithShape="0">
            <a:gsLst>
              <a:gs pos="0">
                <a:srgbClr val="6699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AutoShape 12"/>
          <p:cNvSpPr/>
          <p:nvPr/>
        </p:nvSpPr>
        <p:spPr>
          <a:xfrm>
            <a:off x="3635280" y="549360"/>
            <a:ext cx="1224000" cy="1079280"/>
          </a:xfrm>
          <a:prstGeom prst="pie">
            <a:avLst/>
          </a:prstGeom>
          <a:gradFill rotWithShape="0">
            <a:gsLst>
              <a:gs pos="0">
                <a:srgbClr val="ffff66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AutoShape 13"/>
          <p:cNvSpPr/>
          <p:nvPr/>
        </p:nvSpPr>
        <p:spPr>
          <a:xfrm rot="19975200">
            <a:off x="6283440" y="3414240"/>
            <a:ext cx="1731960" cy="1656000"/>
          </a:xfrm>
          <a:prstGeom prst="pie">
            <a:avLst/>
          </a:prstGeom>
          <a:gradFill rotWithShape="0">
            <a:gsLst>
              <a:gs pos="0">
                <a:srgbClr val="ff0066"/>
              </a:gs>
              <a:gs pos="100000">
                <a:srgbClr val="cc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AutoShape 14"/>
          <p:cNvSpPr/>
          <p:nvPr/>
        </p:nvSpPr>
        <p:spPr>
          <a:xfrm rot="19975200">
            <a:off x="779040" y="1011240"/>
            <a:ext cx="1587600" cy="1511280"/>
          </a:xfrm>
          <a:prstGeom prst="pie">
            <a:avLst/>
          </a:prstGeom>
          <a:gradFill rotWithShape="0">
            <a:gsLst>
              <a:gs pos="0">
                <a:srgbClr val="990099"/>
              </a:gs>
              <a:gs pos="100000">
                <a:srgbClr val="ff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AutoShape 15"/>
          <p:cNvSpPr/>
          <p:nvPr/>
        </p:nvSpPr>
        <p:spPr>
          <a:xfrm rot="19975200">
            <a:off x="3566880" y="4804920"/>
            <a:ext cx="1873080" cy="1736640"/>
          </a:xfrm>
          <a:prstGeom prst="pie">
            <a:avLst/>
          </a:prstGeom>
          <a:gradFill rotWithShape="0">
            <a:gsLst>
              <a:gs pos="0">
                <a:srgbClr val="33cc33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16" descr="earth"/>
          <p:cNvPicPr/>
          <p:nvPr/>
        </p:nvPicPr>
        <p:blipFill>
          <a:blip r:embed="rId7"/>
          <a:stretch/>
        </p:blipFill>
        <p:spPr>
          <a:xfrm>
            <a:off x="2771640" y="4076640"/>
            <a:ext cx="1511280" cy="15112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7" descr="42"/>
          <p:cNvPicPr/>
          <p:nvPr/>
        </p:nvPicPr>
        <p:blipFill>
          <a:blip r:embed="rId8"/>
          <a:stretch/>
        </p:blipFill>
        <p:spPr>
          <a:xfrm>
            <a:off x="4788000" y="386064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8" descr="mars"/>
          <p:cNvPicPr/>
          <p:nvPr/>
        </p:nvPicPr>
        <p:blipFill>
          <a:blip r:embed="rId9"/>
          <a:stretch/>
        </p:blipFill>
        <p:spPr>
          <a:xfrm>
            <a:off x="2771640" y="2205000"/>
            <a:ext cx="863640" cy="8636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9" descr="112"/>
          <p:cNvPicPr/>
          <p:nvPr/>
        </p:nvPicPr>
        <p:blipFill>
          <a:blip r:embed="rId10"/>
          <a:stretch/>
        </p:blipFill>
        <p:spPr>
          <a:xfrm>
            <a:off x="7236000" y="3213000"/>
            <a:ext cx="1079280" cy="10796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0" descr="upiter"/>
          <p:cNvPicPr/>
          <p:nvPr/>
        </p:nvPicPr>
        <p:blipFill>
          <a:blip r:embed="rId11"/>
          <a:stretch/>
        </p:blipFill>
        <p:spPr>
          <a:xfrm>
            <a:off x="2124000" y="708120"/>
            <a:ext cx="935280" cy="4982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1" descr="r4"/>
          <p:cNvPicPr/>
          <p:nvPr/>
        </p:nvPicPr>
        <p:blipFill>
          <a:blip r:embed="rId12"/>
          <a:stretch/>
        </p:blipFill>
        <p:spPr>
          <a:xfrm rot="16200000">
            <a:off x="-33120" y="5857200"/>
            <a:ext cx="1428840" cy="5716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2" descr="r4"/>
          <p:cNvPicPr/>
          <p:nvPr/>
        </p:nvPicPr>
        <p:blipFill>
          <a:blip r:embed="rId13"/>
          <a:stretch/>
        </p:blipFill>
        <p:spPr>
          <a:xfrm>
            <a:off x="395280" y="189000"/>
            <a:ext cx="1428840" cy="5713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3" descr="r4"/>
          <p:cNvPicPr/>
          <p:nvPr/>
        </p:nvPicPr>
        <p:blipFill>
          <a:blip r:embed="rId14"/>
          <a:stretch/>
        </p:blipFill>
        <p:spPr>
          <a:xfrm rot="5400000">
            <a:off x="7887960" y="617400"/>
            <a:ext cx="1428840" cy="5713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24" descr="r7"/>
          <p:cNvPicPr/>
          <p:nvPr/>
        </p:nvPicPr>
        <p:blipFill>
          <a:blip r:embed="rId15"/>
          <a:stretch/>
        </p:blipFill>
        <p:spPr>
          <a:xfrm rot="19503600">
            <a:off x="4211280" y="1700280"/>
            <a:ext cx="1657440" cy="11048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25" descr="56r2"/>
          <p:cNvPicPr/>
          <p:nvPr/>
        </p:nvPicPr>
        <p:blipFill>
          <a:blip r:embed="rId16"/>
          <a:stretch/>
        </p:blipFill>
        <p:spPr>
          <a:xfrm>
            <a:off x="-1371600" y="0"/>
            <a:ext cx="1371600" cy="4953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>
            <a:hlinkClick r:id="" action="ppaction://media"/>
          </p:cNvPr>
          <p:cNvPicPr/>
          <p:nvPr>
            <a:audioFile r:link="rId17"/>
            <p:extLst>
              <p:ext uri="{DAA4B4D4-6D71-4841-9C94-3DE7FCFB9230}">
                <p14:media r:link="rId18"/>
              </p:ext>
            </p:extLst>
          </p:nvPr>
        </p:nvPicPr>
        <p:blipFill>
          <a:blip r:embed="rId19"/>
          <a:stretch>
            <a:fillRect/>
          </a:stretch>
        </p:blipFill>
        <p:spPr>
          <a:xfrm>
            <a:off x="7596360" y="6237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4" dur="1" fill="hold"/>
                                        <p:tgtEl>
                                          <p:spTgt spid="1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3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3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3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3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3000"/>
                            </p:stCondLst>
                            <p:childTnLst>
                              <p:par>
                                <p:cTn id="8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3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3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3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3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6000"/>
                            </p:stCondLst>
                            <p:childTnLst>
                              <p:par>
                                <p:cTn id="8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90" dur="3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9000"/>
                            </p:stCondLst>
                            <p:childTnLst>
                              <p:par>
                                <p:cTn id="9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3" dur="3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2000"/>
                            </p:stCondLst>
                            <p:childTnLst>
                              <p:par>
                                <p:cTn id="9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2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4500"/>
                            </p:stCondLst>
                            <p:childTnLst>
                              <p:par>
                                <p:cTn id="107" nodeType="afterEffect" fill="hold" presetClass="entr" presetID="10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8500"/>
                            </p:stCondLst>
                            <p:childTnLst>
                              <p:par>
                                <p:cTn id="11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9500"/>
                            </p:stCondLst>
                            <p:childTnLst>
                              <p:par>
                                <p:cTn id="115" nodeType="after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6" dur="30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30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2500"/>
                            </p:stCondLst>
                            <p:childTnLst>
                              <p:par>
                                <p:cTn id="120" nodeType="after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1" dur="3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3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5500"/>
                            </p:stCondLst>
                            <p:childTnLst>
                              <p:par>
                                <p:cTn id="125" nodeType="after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6" dur="30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8500"/>
                            </p:stCondLst>
                            <p:childTnLst>
                              <p:par>
                                <p:cTn id="1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9000"/>
                            </p:stCondLst>
                            <p:childTnLst>
                              <p:par>
                                <p:cTn id="13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9500"/>
                            </p:stCondLst>
                            <p:childTnLst>
                              <p:par>
                                <p:cTn id="1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0000"/>
                            </p:stCondLst>
                            <p:childTnLst>
                              <p:par>
                                <p:cTn id="14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3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31000"/>
                            </p:stCondLst>
                            <p:childTnLst>
                              <p:par>
                                <p:cTn id="1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31500"/>
                            </p:stCondLst>
                            <p:childTnLst>
                              <p:par>
                                <p:cTn id="15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1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2500"/>
                            </p:stCondLst>
                            <p:childTnLst>
                              <p:par>
                                <p:cTn id="1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33000"/>
                            </p:stCondLst>
                            <p:childTnLst>
                              <p:par>
                                <p:cTn id="15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9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34000"/>
                            </p:stCondLst>
                            <p:childTnLst>
                              <p:par>
                                <p:cTn id="1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34500"/>
                            </p:stCondLst>
                            <p:childTnLst>
                              <p:par>
                                <p:cTn id="16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7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35500"/>
                            </p:stCondLst>
                            <p:childTnLst>
                              <p:par>
                                <p:cTn id="1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3.33333E-006 L 0.00035 -0.80532 E">
                                      <p:cBhvr>
                                        <p:cTn id="174" dur="30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38500"/>
                            </p:stCondLst>
                            <p:childTnLst>
                              <p:par>
                                <p:cTn id="17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2.96296E-006 L 0.80382 -0.01018 E">
                                      <p:cBhvr>
                                        <p:cTn id="183" dur="30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41500"/>
                            </p:stCondLst>
                            <p:childTnLst>
                              <p:par>
                                <p:cTn id="18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2" dur="30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30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44500"/>
                            </p:stCondLst>
                            <p:childTnLst>
                              <p:par>
                                <p:cTn id="1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45500"/>
                            </p:stCondLst>
                            <p:childTnLst>
                              <p:par>
                                <p:cTn id="2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path" presetID="1" repeatCount="4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677 -0.01991 C 0.02951 0.0875 -0.01042 0.2169 -0.09566 0.26829 C -0.1809 0.32084 -0.28021 0.27384 -0.31649 0.16667 C -0.35295 0.05926 -0.31319 -0.06944 -0.2276 -0.12106 C -0.14236 -0.17245 -0.0434 -0.12731 -0.00677 -0.01991 Z">
                                      <p:cBhvr>
                                        <p:cTn id="204" dur="30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57500"/>
                            </p:stCondLst>
                            <p:childTnLst>
                              <p:par>
                                <p:cTn id="2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8500"/>
                            </p:stCondLst>
                            <p:childTnLst>
                              <p:par>
                                <p:cTn id="2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59500"/>
                            </p:stCondLst>
                            <p:childTnLst>
                              <p:par>
                                <p:cTn id="2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60500"/>
                            </p:stCondLst>
                            <p:childTnLst>
                              <p:par>
                                <p:cTn id="218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3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3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63500"/>
                            </p:stCondLst>
                            <p:childTnLst>
                              <p:par>
                                <p:cTn id="223" nodeType="after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66500"/>
                            </p:stCondLst>
                            <p:childTnLst>
                              <p:par>
                                <p:cTn id="227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4.44444E-006 L -0.13385 0.30463 E">
                                      <p:cBhvr>
                                        <p:cTn id="228" dur="30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0" dur="3000" fill="hold"/>
                                        <p:tgtEl>
                                          <p:spTgt spid="139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9500"/>
                            </p:stCondLst>
                            <p:childTnLst>
                              <p:par>
                                <p:cTn id="23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3" dur="2000" fill="hold"/>
                                        <p:tgtEl>
                                          <p:spTgt spid="13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71500"/>
                            </p:stCondLst>
                            <p:childTnLst>
                              <p:par>
                                <p:cTn id="23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6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72500"/>
                            </p:stCondLst>
                            <p:childTnLst>
                              <p:par>
                                <p:cTn id="23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0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3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6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73500"/>
                            </p:stCondLst>
                            <p:childTnLst>
                              <p:par>
                                <p:cTn id="24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74000"/>
                            </p:stCondLst>
                            <p:childTnLst>
                              <p:par>
                                <p:cTn id="25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4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41"/>
                </p:tgtEl>
              </p:cMediaNode>
            </p:audio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0" y="0"/>
          <a:ext cx="9144000" cy="6873840"/>
        </p:xfrm>
        <a:graphic>
          <a:graphicData uri="http://schemas.openxmlformats.org/drawingml/2006/table">
            <a:tbl>
              <a:tblPr/>
              <a:tblGrid>
                <a:gridCol w="1523880"/>
                <a:gridCol w="838440"/>
                <a:gridCol w="838080"/>
                <a:gridCol w="914400"/>
                <a:gridCol w="1600200"/>
                <a:gridCol w="1143000"/>
                <a:gridCol w="1143000"/>
                <a:gridCol w="1143000"/>
              </a:tblGrid>
              <a:tr h="62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«3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«4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«5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«3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«4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«5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Тан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Лён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Андре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Полин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Дима Б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Дима З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Люб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Илья С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Илья Я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Дима Т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Вика Т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Наст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Сон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Дани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Арте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Родио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Мар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Никит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Альбин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Вика Я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Логическая задача</a:t>
            </a:r>
            <a:br>
              <a:rPr sz="4000"/>
            </a:b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*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 каждого марсианина по 3 руки. В шеренгу построились 10 марсиан, и каждый взял соседа за руку. Сколько рук осталось свободными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*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Используя знаки действий и скобки, сделайте так, чтобы выполнялись равенства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 ӿ 9 ӿ 9 = 2                    9 ӿ 9 ӿ 9 = 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 ӿ 9 ӿ 9 = 10                  9 ӿ 9 ӿ 9 = 7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 ӿ 9 ӿ 9 = 90                  9 ӿ 9 ӿ 9 = 16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12-04-10T19:28:00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