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0.gif" ContentType="image/gif"/>
  <Override PartName="/ppt/media/image9.png" ContentType="image/png"/>
  <Override PartName="/ppt/media/image17.gif" ContentType="image/gif"/>
  <Override PartName="/ppt/media/image16.gif" ContentType="image/gif"/>
  <Override PartName="/ppt/media/image14.gif" ContentType="image/gif"/>
  <Override PartName="/ppt/media/image1.png" ContentType="image/png"/>
  <Override PartName="/ppt/media/image7.jpeg" ContentType="image/jpeg"/>
  <Override PartName="/ppt/media/image18.png" ContentType="image/png"/>
  <Override PartName="/ppt/media/image15.gif" ContentType="image/gif"/>
  <Override PartName="/ppt/media/image2.png" ContentType="image/png"/>
  <Override PartName="/ppt/media/image4.jpeg" ContentType="image/jpeg"/>
  <Override PartName="/ppt/media/image8.gif" ContentType="image/gif"/>
  <Override PartName="/ppt/media/image13.gif" ContentType="image/gif"/>
  <Override PartName="/ppt/media/image5.jpeg" ContentType="image/jpeg"/>
  <Override PartName="/ppt/media/image11.gif" ContentType="image/gi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7F9B-FDFD-41B5-A92F-1008E65C3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A28D-AB0B-4852-B5C5-152A3E17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1E8D-3250-446C-9AB7-71697DD63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4649-C32D-4E2B-BB7A-23DC1CA7D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267B-EEC5-4D01-9083-E22093432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622B-DD98-4D00-B12C-8ABA0AE7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480E1-DBF2-40FB-8500-9E2BD3A5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8262A-AEEF-4BE9-8341-40B9D24C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F667-C851-4808-8726-8D677DFE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924A1-2A89-470D-8FA3-1C1B1528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DE4A-9A21-4A6F-9330-096DBC5D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3630-BE14-4E59-B681-6F86046E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AF2F2-5FC7-4C95-8BCC-531AD9B5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6E26-A6C8-42A3-9B17-D87C68E0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F7D9F-4F31-4A51-BDF5-E9274BF0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78F2-2F0A-4EC8-BFFD-4B4657CD7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4FD0-EC2C-495B-95C9-356F48FA4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3C9B-CFC6-4DC4-93A8-B9383F46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C983-34BF-4D95-84AE-6AA046E7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1912-85BA-474D-97CE-D4915682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4395-966E-432B-9DCB-9FC957F6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2F70-29B3-4EC0-8B4F-96ABFD73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6885-1190-46C6-811C-2021C710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B0B6-5EE0-4ED1-8D47-CD142E38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2247-E7DE-4D9C-944B-5E93056512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531A-1F1F-4488-826B-1F26FF2D04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gif"/><Relationship Id="rId8" Type="http://schemas.openxmlformats.org/officeDocument/2006/relationships/image" Target="../media/image11.gif"/><Relationship Id="rId9" Type="http://schemas.openxmlformats.org/officeDocument/2006/relationships/image" Target="../media/image12.gif"/><Relationship Id="rId10" Type="http://schemas.openxmlformats.org/officeDocument/2006/relationships/image" Target="../media/image13.gif"/><Relationship Id="rId11" Type="http://schemas.openxmlformats.org/officeDocument/2006/relationships/image" Target="../media/image14.gif"/><Relationship Id="rId12" Type="http://schemas.openxmlformats.org/officeDocument/2006/relationships/image" Target="../media/image15.gif"/><Relationship Id="rId13" Type="http://schemas.openxmlformats.org/officeDocument/2006/relationships/image" Target="../media/image15.gif"/><Relationship Id="rId14" Type="http://schemas.openxmlformats.org/officeDocument/2006/relationships/image" Target="../media/image15.gif"/><Relationship Id="rId15" Type="http://schemas.openxmlformats.org/officeDocument/2006/relationships/image" Target="../media/image16.gif"/><Relationship Id="rId16" Type="http://schemas.openxmlformats.org/officeDocument/2006/relationships/image" Target="../media/image17.gif"/><Relationship Id="rId17" Type="http://schemas.openxmlformats.org/officeDocument/2006/relationships/audio" Target="file:///tmp/home/.config/libreoffice/4/user/gallery/&#1087;&#1088;&#1080;&#1085;&#1094;.wav" TargetMode="External"/><Relationship Id="rId18" Type="http://schemas.microsoft.com/office/2007/relationships/media" Target="file:///tmp/home/.config/libreoffice/4/user/gallery/&#1087;&#1088;&#1080;&#1085;&#1094;.wav" TargetMode="External"/><Relationship Id="rId19" Type="http://schemas.openxmlformats.org/officeDocument/2006/relationships/image" Target="../media/image18.png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0" t="0" r="2589" b="0"/>
          <a:stretch/>
        </p:blipFill>
        <p:spPr>
          <a:xfrm>
            <a:off x="914400" y="1284120"/>
            <a:ext cx="7238880" cy="55738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 искусственный спутник Земли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3600 г = 83 кг 600 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60948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-228600" y="0"/>
            <a:ext cx="80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ff"/>
                </a:solidFill>
                <a:latin typeface="Arial"/>
              </a:rPr>
              <a:t>257 006 271,  978 340,             6 000 000,   729 180 02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620120" y="990720"/>
            <a:ext cx="1523880" cy="1295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6019920" y="3352680"/>
            <a:ext cx="2571480" cy="193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96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04920" y="2362320"/>
            <a:ext cx="3132000" cy="4267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slow">
    <p:wheel spokes="2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252360" y="-31608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800600" y="21337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-304920" y="-304920"/>
            <a:ext cx="5029200" cy="34419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90560" y="304920"/>
            <a:ext cx="65530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0880" y="1905120"/>
            <a:ext cx="2314800" cy="119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ай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105520" y="3638520"/>
            <a:ext cx="4343400" cy="3390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462560" y="2590920"/>
            <a:ext cx="4681440" cy="14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елка и Стрел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30492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0"/>
            <a:ext cx="8915400" cy="61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Вычислите, сколько лет люди летают в космос.</a:t>
            </a:r>
            <a:r>
              <a:rPr b="1" lang="en-US" sz="2800" spc="-1" strike="noStrike">
                <a:solidFill>
                  <a:srgbClr val="00ccff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2. 1 час 48 минут. Сколько это минут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3. Во сколько лет Юрий Гагарин совершил свой первый космический полет, если мы знаем, что он родился 9 марта 1934 года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4. Космический корабль летит со скоростью 8 км/с. Сколько км он пролетит за минуту?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5. Космический челнок совершает один оборот вокруг Земли за 90 минут. 1/2 часть времени он находится на свету. Сколько минут он находится на свету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6. Космическая станция плывет над Землей на высоте 400 километров. Сколько это метр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981080" y="45720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5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162920" y="990720"/>
            <a:ext cx="76176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0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629400" y="2209680"/>
            <a:ext cx="533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848720" y="3048120"/>
            <a:ext cx="609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48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267080" y="4724280"/>
            <a:ext cx="533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4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0120" y="6019920"/>
            <a:ext cx="1304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40000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 spd="slow">
    <p:cover dir="l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228600" y="-45720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133720" y="-304920"/>
            <a:ext cx="4573440" cy="53341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51, 108, 27, 480, 45, 400 000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cc"/>
                </a:solidFill>
                <a:latin typeface="Arial"/>
              </a:rPr>
              <a:t>  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04920" y="4419720"/>
          <a:ext cx="8839080" cy="1828800"/>
        </p:xfrm>
        <a:graphic>
          <a:graphicData uri="http://schemas.openxmlformats.org/drawingml/2006/table">
            <a:tbl>
              <a:tblPr/>
              <a:tblGrid>
                <a:gridCol w="1631880"/>
                <a:gridCol w="1636560"/>
                <a:gridCol w="1416240"/>
                <a:gridCol w="1334880"/>
                <a:gridCol w="1371600"/>
                <a:gridCol w="1447920"/>
              </a:tblGrid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00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 txBox="1"/>
          <p:nvPr/>
        </p:nvSpPr>
        <p:spPr>
          <a:xfrm>
            <a:off x="2438280" y="4114800"/>
            <a:ext cx="4538880" cy="251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ост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 spd="slow">
    <p:checker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black43"/>
          <p:cNvPicPr/>
          <p:nvPr/>
        </p:nvPicPr>
        <p:blipFill>
          <a:blip r:embed="rId1"/>
          <a:stretch/>
        </p:blipFill>
        <p:spPr>
          <a:xfrm>
            <a:off x="0" y="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black43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557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black43"/>
          <p:cNvPicPr/>
          <p:nvPr/>
        </p:nvPicPr>
        <p:blipFill>
          <a:blip r:embed="rId3"/>
          <a:stretch/>
        </p:blipFill>
        <p:spPr>
          <a:xfrm>
            <a:off x="0" y="330048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black43"/>
          <p:cNvPicPr/>
          <p:nvPr/>
        </p:nvPicPr>
        <p:blipFill>
          <a:blip r:embed="rId4"/>
          <a:stretch/>
        </p:blipFill>
        <p:spPr>
          <a:xfrm>
            <a:off x="4356000" y="3300480"/>
            <a:ext cx="4788000" cy="355752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6"/>
          <p:cNvSpPr/>
          <p:nvPr/>
        </p:nvSpPr>
        <p:spPr>
          <a:xfrm rot="19146000">
            <a:off x="2987280" y="1989000"/>
            <a:ext cx="3384720" cy="3314880"/>
          </a:xfrm>
          <a:custGeom>
            <a:avLst/>
            <a:gdLst>
              <a:gd name="textAreaLeft" fmla="*/ 1417320 w 3384720"/>
              <a:gd name="textAreaRight" fmla="*/ 1967400 w 3384720"/>
              <a:gd name="textAreaTop" fmla="*/ 1388160 h 3314880"/>
              <a:gd name="textAreaBottom" fmla="*/ 1926720 h 3314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3276720" y="2060640"/>
            <a:ext cx="2736720" cy="2954160"/>
          </a:xfrm>
          <a:custGeom>
            <a:avLst/>
            <a:gdLst>
              <a:gd name="textAreaLeft" fmla="*/ 1145880 w 2736720"/>
              <a:gd name="textAreaRight" fmla="*/ 1590840 w 2736720"/>
              <a:gd name="textAreaTop" fmla="*/ 1236960 h 2954160"/>
              <a:gd name="textAreaBottom" fmla="*/ 1717200 h 2954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8"/>
          <p:cNvSpPr/>
          <p:nvPr/>
        </p:nvSpPr>
        <p:spPr>
          <a:xfrm rot="19871400">
            <a:off x="6084360" y="765000"/>
            <a:ext cx="1795680" cy="1603440"/>
          </a:xfrm>
          <a:prstGeom prst="pie">
            <a:avLst/>
          </a:prstGeom>
          <a:gradFill rotWithShape="0">
            <a:gsLst>
              <a:gs pos="0">
                <a:srgbClr val="0066cc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9" descr="05_moon_meteorit_alh-81005"/>
          <p:cNvPicPr/>
          <p:nvPr/>
        </p:nvPicPr>
        <p:blipFill>
          <a:blip r:embed="rId5"/>
          <a:stretch/>
        </p:blipFill>
        <p:spPr>
          <a:xfrm>
            <a:off x="-1620720" y="0"/>
            <a:ext cx="1404720" cy="1038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05_moon_meteorit_alh-81005"/>
          <p:cNvPicPr/>
          <p:nvPr/>
        </p:nvPicPr>
        <p:blipFill>
          <a:blip r:embed="rId6"/>
          <a:stretch/>
        </p:blipFill>
        <p:spPr>
          <a:xfrm>
            <a:off x="9325080" y="0"/>
            <a:ext cx="1404720" cy="90792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11"/>
          <p:cNvSpPr/>
          <p:nvPr/>
        </p:nvSpPr>
        <p:spPr>
          <a:xfrm>
            <a:off x="1042920" y="4797360"/>
            <a:ext cx="936720" cy="863640"/>
          </a:xfrm>
          <a:prstGeom prst="pie">
            <a:avLst/>
          </a:prstGeom>
          <a:gradFill rotWithShape="0">
            <a:gsLst>
              <a:gs pos="0">
                <a:srgbClr val="6699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12"/>
          <p:cNvSpPr/>
          <p:nvPr/>
        </p:nvSpPr>
        <p:spPr>
          <a:xfrm>
            <a:off x="3635280" y="549360"/>
            <a:ext cx="1224000" cy="1079280"/>
          </a:xfrm>
          <a:prstGeom prst="pie">
            <a:avLst/>
          </a:prstGeom>
          <a:gradFill rotWithShape="0">
            <a:gsLst>
              <a:gs pos="0">
                <a:srgbClr val="ffff66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13"/>
          <p:cNvSpPr/>
          <p:nvPr/>
        </p:nvSpPr>
        <p:spPr>
          <a:xfrm rot="19975200">
            <a:off x="6283440" y="3414240"/>
            <a:ext cx="1731960" cy="1656000"/>
          </a:xfrm>
          <a:prstGeom prst="pie">
            <a:avLst/>
          </a:prstGeom>
          <a:gradFill rotWithShape="0">
            <a:gsLst>
              <a:gs pos="0">
                <a:srgbClr val="ff0066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14"/>
          <p:cNvSpPr/>
          <p:nvPr/>
        </p:nvSpPr>
        <p:spPr>
          <a:xfrm rot="19975200">
            <a:off x="779040" y="1011240"/>
            <a:ext cx="1587600" cy="1511280"/>
          </a:xfrm>
          <a:prstGeom prst="pie">
            <a:avLst/>
          </a:pr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15"/>
          <p:cNvSpPr/>
          <p:nvPr/>
        </p:nvSpPr>
        <p:spPr>
          <a:xfrm rot="19975200">
            <a:off x="3566880" y="4804920"/>
            <a:ext cx="1873080" cy="1736640"/>
          </a:xfrm>
          <a:prstGeom prst="pie">
            <a:avLst/>
          </a:prstGeom>
          <a:gradFill rotWithShape="0">
            <a:gsLst>
              <a:gs pos="0">
                <a:srgbClr val="33cc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16" descr="earth"/>
          <p:cNvPicPr/>
          <p:nvPr/>
        </p:nvPicPr>
        <p:blipFill>
          <a:blip r:embed="rId7"/>
          <a:stretch/>
        </p:blipFill>
        <p:spPr>
          <a:xfrm>
            <a:off x="2771640" y="4076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7" descr="42"/>
          <p:cNvPicPr/>
          <p:nvPr/>
        </p:nvPicPr>
        <p:blipFill>
          <a:blip r:embed="rId8"/>
          <a:stretch/>
        </p:blipFill>
        <p:spPr>
          <a:xfrm>
            <a:off x="478800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8" descr="mars"/>
          <p:cNvPicPr/>
          <p:nvPr/>
        </p:nvPicPr>
        <p:blipFill>
          <a:blip r:embed="rId9"/>
          <a:stretch/>
        </p:blipFill>
        <p:spPr>
          <a:xfrm>
            <a:off x="2771640" y="22050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9" descr="112"/>
          <p:cNvPicPr/>
          <p:nvPr/>
        </p:nvPicPr>
        <p:blipFill>
          <a:blip r:embed="rId10"/>
          <a:stretch/>
        </p:blipFill>
        <p:spPr>
          <a:xfrm>
            <a:off x="7236000" y="321300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0" descr="upiter"/>
          <p:cNvPicPr/>
          <p:nvPr/>
        </p:nvPicPr>
        <p:blipFill>
          <a:blip r:embed="rId11"/>
          <a:stretch/>
        </p:blipFill>
        <p:spPr>
          <a:xfrm>
            <a:off x="2124000" y="708120"/>
            <a:ext cx="935280" cy="498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1" descr="r4"/>
          <p:cNvPicPr/>
          <p:nvPr/>
        </p:nvPicPr>
        <p:blipFill>
          <a:blip r:embed="rId12"/>
          <a:stretch/>
        </p:blipFill>
        <p:spPr>
          <a:xfrm rot="16200000">
            <a:off x="-33120" y="5857200"/>
            <a:ext cx="1428840" cy="571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2" descr="r4"/>
          <p:cNvPicPr/>
          <p:nvPr/>
        </p:nvPicPr>
        <p:blipFill>
          <a:blip r:embed="rId13"/>
          <a:stretch/>
        </p:blipFill>
        <p:spPr>
          <a:xfrm>
            <a:off x="395280" y="1890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3" descr="r4"/>
          <p:cNvPicPr/>
          <p:nvPr/>
        </p:nvPicPr>
        <p:blipFill>
          <a:blip r:embed="rId14"/>
          <a:stretch/>
        </p:blipFill>
        <p:spPr>
          <a:xfrm rot="5400000">
            <a:off x="7887960" y="6174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4" descr="r7"/>
          <p:cNvPicPr/>
          <p:nvPr/>
        </p:nvPicPr>
        <p:blipFill>
          <a:blip r:embed="rId15"/>
          <a:stretch/>
        </p:blipFill>
        <p:spPr>
          <a:xfrm rot="19503600">
            <a:off x="4211280" y="1700280"/>
            <a:ext cx="1657440" cy="1104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5" descr="56r2"/>
          <p:cNvPicPr/>
          <p:nvPr/>
        </p:nvPicPr>
        <p:blipFill>
          <a:blip r:embed="rId16"/>
          <a:stretch/>
        </p:blipFill>
        <p:spPr>
          <a:xfrm>
            <a:off x="-1371600" y="0"/>
            <a:ext cx="1371600" cy="495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" action="ppaction://media"/>
          </p:cNvPr>
          <p:cNvPicPr/>
          <p:nvPr>
            <a:audioFile r:link="rId17"/>
            <p:extLst>
              <p:ext uri="{DAA4B4D4-6D71-4841-9C94-3DE7FCFB9230}">
                <p14:media r:link="rId18"/>
              </p:ext>
            </p:extLst>
          </p:nvPr>
        </p:nvPicPr>
        <p:blipFill>
          <a:blip r:embed="rId19"/>
          <a:stretch>
            <a:fillRect/>
          </a:stretch>
        </p:blipFill>
        <p:spPr>
          <a:xfrm>
            <a:off x="7596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90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9000"/>
                            </p:stCondLst>
                            <p:childTnLst>
                              <p:par>
                                <p:cTn id="9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7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8500"/>
                            </p:stCondLst>
                            <p:childTnLst>
                              <p:par>
                                <p:cTn id="1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9500"/>
                            </p:stCondLst>
                            <p:childTnLst>
                              <p:par>
                                <p:cTn id="115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3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0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3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500"/>
                            </p:stCondLst>
                            <p:childTnLst>
                              <p:par>
                                <p:cTn id="125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" dur="3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85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9000"/>
                            </p:stCondLst>
                            <p:childTnLst>
                              <p:par>
                                <p:cTn id="1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9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0000"/>
                            </p:stCondLst>
                            <p:childTnLst>
                              <p:par>
                                <p:cTn id="1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1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1500"/>
                            </p:stCondLst>
                            <p:childTnLst>
                              <p:par>
                                <p:cTn id="1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25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3000"/>
                            </p:stCondLst>
                            <p:childTnLst>
                              <p:par>
                                <p:cTn id="1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4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4500"/>
                            </p:stCondLst>
                            <p:childTnLst>
                              <p:par>
                                <p:cTn id="1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55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33333E-006 L 0.00035 -0.80532 E">
                                      <p:cBhvr>
                                        <p:cTn id="174" dur="3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8500"/>
                            </p:stCondLst>
                            <p:childTnLst>
                              <p:par>
                                <p:cTn id="1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0.80382 -0.01018 E">
                                      <p:cBhvr>
                                        <p:cTn id="183" dur="3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1500"/>
                            </p:stCondLst>
                            <p:childTnLst>
                              <p:par>
                                <p:cTn id="1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2" dur="3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3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45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55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path" presetID="1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77 -0.01991 C 0.02951 0.0875 -0.01042 0.2169 -0.09566 0.26829 C -0.1809 0.32084 -0.28021 0.27384 -0.31649 0.16667 C -0.35295 0.05926 -0.31319 -0.06944 -0.2276 -0.12106 C -0.14236 -0.17245 -0.0434 -0.12731 -0.00677 -0.01991 Z">
                                      <p:cBhvr>
                                        <p:cTn id="204" dur="3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75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85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95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500"/>
                            </p:stCondLst>
                            <p:childTnLst>
                              <p:par>
                                <p:cTn id="21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63500"/>
                            </p:stCondLst>
                            <p:childTnLst>
                              <p:par>
                                <p:cTn id="223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66500"/>
                            </p:stCondLst>
                            <p:childTnLst>
                              <p:par>
                                <p:cTn id="22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4444E-006 L -0.13385 0.30463 E">
                                      <p:cBhvr>
                                        <p:cTn id="228" dur="3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0" dur="3000" fill="hold"/>
                                        <p:tgtEl>
                                          <p:spTgt spid="139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9500"/>
                            </p:stCondLst>
                            <p:childTnLst>
                              <p:par>
                                <p:cTn id="2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3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71500"/>
                            </p:stCondLst>
                            <p:childTnLst>
                              <p:par>
                                <p:cTn id="2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72500"/>
                            </p:stCondLst>
                            <p:childTnLst>
                              <p:par>
                                <p:cTn id="2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73500"/>
                            </p:stCondLst>
                            <p:childTnLst>
                              <p:par>
                                <p:cTn id="24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74000"/>
                            </p:stCondLst>
                            <p:childTnLst>
                              <p:par>
                                <p:cTn id="2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1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0" y="0"/>
          <a:ext cx="9144000" cy="6873840"/>
        </p:xfrm>
        <a:graphic>
          <a:graphicData uri="http://schemas.openxmlformats.org/drawingml/2006/table">
            <a:tbl>
              <a:tblPr/>
              <a:tblGrid>
                <a:gridCol w="1523880"/>
                <a:gridCol w="838440"/>
                <a:gridCol w="838080"/>
                <a:gridCol w="914400"/>
                <a:gridCol w="1600200"/>
                <a:gridCol w="1143000"/>
                <a:gridCol w="1143000"/>
                <a:gridCol w="114300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«3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«4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«5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«3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«4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«5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Тан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Лён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Андре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олин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има Б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има З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Люб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Илья С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Илья Я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има Т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ика Т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аст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он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ани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Арте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Родио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Мар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ики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Альби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ика Я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Логическая задача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каждого марсианина по 3 руки. В шеренгу построились 10 марсиан, и каждый взял соседа за руку. Сколько рук осталось свободными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спользуя знаки действий и скобки, сделайте так, чтобы выполнялись равенства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 ӿ 9 ӿ 9 = 2                    9 ӿ 9 ӿ 9 = 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 ӿ 9 ӿ 9 = 10                  9 ӿ 9 ӿ 9 = 7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 ӿ 9 ӿ 9 = 90                  9 ӿ 9 ӿ 9 = 16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2-04-10T19:28:0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