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A9F-9BE3-4B34-9310-D427893D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17F-37CA-4395-9714-2DFFC8AC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E24-4167-44F4-A4BA-C0F81470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48C-747F-45B1-B3B2-48F6F994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5BC-5F76-48FA-B740-1B0B9687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2FD-47EF-40B2-92F3-81185DA1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F12-5E10-4677-9956-D2A2DAA3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5CC-829F-4BB3-A2C8-76E0717C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DD3-36F6-40E4-8200-06EB43A2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AAF-94B0-422D-9A2A-55785EE4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3C9-C076-4269-A8F8-286F91EB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8F9-68B2-4F76-A558-743300D4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BD38-BF46-4A1B-81F0-25617F5C0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215240" y="3573360"/>
            <a:ext cx="46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у выполнил ученик 2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ков Ник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Макаров</cp:lastModifiedBy>
  <dcterms:modified xsi:type="dcterms:W3CDTF">2012-04-12T04:09:12Z</dcterms:modified>
  <cp:revision>9</cp:revision>
  <dc:subject/>
  <dc:title>Слайд 1</dc:title>
</cp:coreProperties>
</file>