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1F3-4B3C-4350-99C0-54357699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194-C303-4A6D-9963-E5588212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400-86FA-4059-90D2-E988A9E9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E039-8B09-4696-834F-DE39E331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BB2-7894-4364-9CFD-07A40229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2DFE-3F74-4E09-9DA2-CC850B4E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028-8B79-45DB-8817-D19E4EB8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AAC-D7F3-4B82-9F15-D3ACF121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150-643C-4AD8-B485-D49352CC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0B96-7B0E-487E-85B1-F6752A50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690-9BEC-4D92-9041-404759F6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4A6-DC4F-4A84-A753-1A4583D1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8026-2AF3-42AF-B67C-A39E5E2AF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3382920" cy="2590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4215240" y="3573360"/>
            <a:ext cx="46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у выполнил ученик 2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удков Ник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900000" y="1628640"/>
            <a:ext cx="7559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48720" cy="4052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9280" y="551664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– хорошие родители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мят птенцов оба родителя. Они носят своим прожорливым чадам различных насекомых, их личинок, червей, слизней, улиток и прочую мелкую живность. Через пару недель скворчата вылетают из гнезда, а еще спустя 5-7 дней становятся совершенно самостоя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179280" y="58770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незда свои скворцы устраивают в дуплах или скворечниках. Внешний слой гнезда составляет разнообразная растительная ветошь, лоток выстилает самец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05792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395280" y="522936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августе и сентябре скворцы собираются в стаи, которые выбирают себе укромное место для ночевки. Порой в таких скоплениях тысячи и даже сотни тысяч пт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уже не пользуются дуплами, а ночуют открыто - в тростниках, на кустах и в лесу на деревь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дней осенью скворцы отлетают на ю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47344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168720" cy="2276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622160" y="357336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йвол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572000" y="486900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13372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6014880" y="35002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3"/>
          <a:stretch/>
        </p:blipFill>
        <p:spPr>
          <a:xfrm>
            <a:off x="5796000" y="400536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5943240" y="63086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ёрн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4"/>
          <a:stretch/>
        </p:blipFill>
        <p:spPr>
          <a:xfrm>
            <a:off x="1187280" y="4005360"/>
            <a:ext cx="3097440" cy="2246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5"/>
          <p:cNvSpPr/>
          <p:nvPr/>
        </p:nvSpPr>
        <p:spPr>
          <a:xfrm>
            <a:off x="1552680" y="630864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ннохвост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305080" cy="227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1814400" cy="2305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206520" y="364500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ёжк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119240" y="357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5867280" y="1268280"/>
            <a:ext cx="2917800" cy="3745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1694520" y="630864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5657400" y="5229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умрудный блестящи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998160" y="256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324000" y="481356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рупная птица, длина которой около 230 мм, а вес -7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ёрное оперение с металлическим блеском с белыми крапи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о у птицы массив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коротк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ногах 4 пальца с изогнутыми когт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рый, тонкий и длинный клюв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вост короткий, почти прямой на конц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398880" y="2349360"/>
            <a:ext cx="204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жная Аф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ла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6265800" cy="4703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3427560" y="6093000"/>
            <a:ext cx="42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ей стране обитают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6 видов сквор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684720" y="1916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б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50920" y="5299200"/>
            <a:ext cx="88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имуют на юге нашей страны. Скворцы – самцы прилетают первыми в середине ма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е дни после прилёта скворцы держатся в стаях. Гнёзда скворцы устраивают в дуплах, под крышами домов, охотно селятся в сделанных человеком скворечни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042160" cy="3662640"/>
          </a:xfrm>
          <a:prstGeom prst="rect">
            <a:avLst/>
          </a:prstGeom>
          <a:ln w="0">
            <a:noFill/>
          </a:ln>
        </p:spPr>
      </p:pic>
      <p:sp>
        <p:nvSpPr>
          <p:cNvPr id="54" name="WordArt 12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3065040" y="5013360"/>
            <a:ext cx="30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 - перелётные птиц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50920" y="566100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речники люди вешают на деревьях или устанавливают на высоких шестах.  В выборе жилья скворцы разборч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61672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544500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нные человеком скворцы без труда обучаются произносить отдельные слова и несложные фразы и развлекают хозяев то телефонным звонком, то дверным скрипом, то собачьим л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545080" cy="374328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250920" y="2276640"/>
            <a:ext cx="468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гонос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усен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говым мотыль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изн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ит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ранч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ждевыми червя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608720" cy="3314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324000" y="551664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- исключительно крепкие и неприхотливые птиц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рмятся чаще  всего на земле. Отыскивая пищу, ходят большими шагами, всюду всовывают свой длинный клюв и, раскрывая его, раздвигают растительную ветошь в поисках различных беспозвоноч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50920" y="2205000"/>
            <a:ext cx="482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- певчие птиц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дают широким диапазоном звуков, которые могут включать в себя свисты, скрипы, мяуканье, различные шумы и дребез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рцы могут подражать и человеческому голосу, а живя в неволе, заучивают отдельные слова и короткие предложения. Песня у скворцов громкая и по-весеннему веселая, но не слишком мелодич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545080" cy="4149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250920" y="602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- 7 красивых  голубых яиц.  Их высиживает самка в течение 14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6:43:43Z</dcterms:created>
  <dc:creator>Галина</dc:creator>
  <dc:description/>
  <dc:language>en-US</dc:language>
  <cp:lastModifiedBy>Макаров</cp:lastModifiedBy>
  <dcterms:modified xsi:type="dcterms:W3CDTF">2012-04-12T04:09:12Z</dcterms:modified>
  <cp:revision>9</cp:revision>
  <dc:subject/>
  <dc:title>Слайд 1</dc:title>
</cp:coreProperties>
</file>