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0AFB-DC60-4362-8527-F4532FFB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2F8-F889-400B-8A5D-1D6C076C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97E-90C2-476A-ADCA-F124F49A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B68-42E8-406B-AF21-D548438C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62E0-FA9A-4750-B35C-1FCA4022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ABE9-1B32-4D2A-A865-EDDD59F0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93B-A055-48D9-948A-E711BA1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C3C-D5F4-46F1-9A9B-BFDFB6F7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686-0861-4133-B043-281B879F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348-5473-4FFF-9C94-7FB8447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0363-0F7C-4A4D-9E5C-6AB14AB1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C2C-0C2F-4C20-99E0-BD5FFF8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4DA-BA9F-4F07-9171-598E64938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3382920" cy="259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215240" y="3573360"/>
            <a:ext cx="46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у выполнил ученик 2б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лудков Ник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12"/>
          <p:cNvSpPr txBox="1"/>
          <p:nvPr/>
        </p:nvSpPr>
        <p:spPr>
          <a:xfrm>
            <a:off x="900000" y="1628640"/>
            <a:ext cx="7559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6048720" cy="4052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179280" y="5516640"/>
            <a:ext cx="864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– хорошие родители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мят птенцов оба родителя. Они носят своим прожорливым чадам различных насекомых, их личинок, червей, слизней, улиток и прочую мелкую живность. Через пару недель скворчата вылетают из гнезда, а еще спустя 5-7 дней становятся совершенно самостоя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179280" y="5877000"/>
            <a:ext cx="849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незда свои скворцы устраивают в дуплах или скворечниках. Внешний слой гнезда составляет разнообразная растительная ветошь, лоток выстилает самец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761080" cy="405792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95280" y="5229360"/>
            <a:ext cx="8353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августе и сентябре скворцы собираются в стаи, которые выбирают себе укромное место для ночевки. Порой в таких скоплениях тысячи и даже сотни тысяч пт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и уже не пользуются дуплами, а ночуют открыто - в тростниках, на кустах и в лесу на деревь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дней осенью скворцы отлетают на ю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7344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3168720" cy="2276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622160" y="357336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йвол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4572000" y="4869000"/>
            <a:ext cx="1008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133720" cy="2232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6014880" y="350028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л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11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3"/>
          <a:stretch/>
        </p:blipFill>
        <p:spPr>
          <a:xfrm>
            <a:off x="5796000" y="4005360"/>
            <a:ext cx="2089080" cy="23032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5943240" y="630864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"/>
          <p:cNvPicPr/>
          <p:nvPr/>
        </p:nvPicPr>
        <p:blipFill>
          <a:blip r:embed="rId4"/>
          <a:stretch/>
        </p:blipFill>
        <p:spPr>
          <a:xfrm>
            <a:off x="1187280" y="4005360"/>
            <a:ext cx="3097440" cy="22460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5"/>
          <p:cNvSpPr/>
          <p:nvPr/>
        </p:nvSpPr>
        <p:spPr>
          <a:xfrm>
            <a:off x="1552680" y="630864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ннохвост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2305080" cy="227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3419640" y="1268280"/>
            <a:ext cx="1814400" cy="2305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"/>
          <p:cNvSpPr/>
          <p:nvPr/>
        </p:nvSpPr>
        <p:spPr>
          <a:xfrm>
            <a:off x="3206520" y="364500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рёжк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119240" y="35733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3024360" cy="2158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5867280" y="1268280"/>
            <a:ext cx="2917800" cy="3745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2"/>
          <p:cNvSpPr/>
          <p:nvPr/>
        </p:nvSpPr>
        <p:spPr>
          <a:xfrm>
            <a:off x="1694520" y="63086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зовы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5657400" y="5229360"/>
            <a:ext cx="32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умрудный блестящий сквор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998160" y="256536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324000" y="481356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рупная птица, длина которой около 230 мм, а вес -7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ёрное оперение с металлическим блеском с белыми крапинк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о у птицы массив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я коротк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ногах 4 пальца с изогнутыми когт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трый, тонкий и длинный клюв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вост короткий, почти прямой на конц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824360" cy="331164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6"/>
          <p:cNvSpPr/>
          <p:nvPr/>
        </p:nvSpPr>
        <p:spPr>
          <a:xfrm>
            <a:off x="398880" y="2349360"/>
            <a:ext cx="2048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р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з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верная Аме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Южная Афр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елланд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6265800" cy="47037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427560" y="6093000"/>
            <a:ext cx="42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шей стране обитают </a:t>
            </a: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6 видов сквор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684720" y="191628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Об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250920" y="5299200"/>
            <a:ext cx="8893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имуют на юге нашей страны. Скворцы – самцы прилетают первыми в середине ма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ые дни после прилёта скворцы держатся в стаях. Гнёзда скворцы устраивают в дуплах, под крышами домов, охотно селятся в сделанных человеком скворечни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042160" cy="3662640"/>
          </a:xfrm>
          <a:prstGeom prst="rect">
            <a:avLst/>
          </a:prstGeom>
          <a:ln w="0">
            <a:noFill/>
          </a:ln>
        </p:spPr>
      </p:pic>
      <p:sp>
        <p:nvSpPr>
          <p:cNvPr id="54" name="WordArt 12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3065040" y="5013360"/>
            <a:ext cx="30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 - перелётные птиц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250920" y="5661000"/>
            <a:ext cx="86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ечники люди вешают на деревьях или устанавливают на высоких шестах.  В выборе жилья скворцы разборч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5616720" cy="36576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445000"/>
            <a:ext cx="86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итанные человеком скворцы без труда обучаются произносить отдельные слова и несложные фразы и развлекают хозяев то телефонным звонком, то дверным скрипом, то собачьим ла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545080" cy="374328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50920" y="2276640"/>
            <a:ext cx="4681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гонос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усениц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уговым мотыль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изн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лит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ранч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ждевыми червя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608720" cy="3314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9"/>
          <p:cNvSpPr/>
          <p:nvPr/>
        </p:nvSpPr>
        <p:spPr>
          <a:xfrm>
            <a:off x="324000" y="551664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исключительно крепкие и неприхотливы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Кормятся чаще  всего на земле. Отыскивая пищу, ходят большими шагами, всюду всовывают свой длинный клюв и, раскрывая его, раздвигают растительную ветошь в поисках различных беспозвоноч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250920" y="2205000"/>
            <a:ext cx="482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00"/>
                </a:solidFill>
                <a:latin typeface="Arial"/>
              </a:rPr>
              <a:t>Скворцы - певчие птицы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дают широким диапазоном звуков, которые могут включать в себя свисты, скрипы, мяуканье, различные шумы и дребезж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ворцы могут подражать и человеческому голосу, а живя в неволе, заучивают отдельные слова и короткие предложения. Песня у скворцов громкая и по-весеннему веселая, но не слишком мелодичн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7344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0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545080" cy="41497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250920" y="602136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ладке - 7 красивых  голубых яиц.  Их высиживает самка в течение 14 дн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2340000" y="333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нтересно о скворца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6:43:43Z</dcterms:created>
  <dc:creator>Галина</dc:creator>
  <dc:description/>
  <dc:language>en-US</dc:language>
  <cp:lastModifiedBy>Макаров</cp:lastModifiedBy>
  <dcterms:modified xsi:type="dcterms:W3CDTF">2012-04-12T04:09:12Z</dcterms:modified>
  <cp:revision>9</cp:revision>
  <dc:subject/>
  <dc:title>Слайд 1</dc:title>
</cp:coreProperties>
</file>