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7F2-84BB-493B-B690-3E037052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7D9-68CD-454D-81C2-6A1CCFB1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966-6983-46D1-AEB5-45A6E055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434-54C3-4E6A-8D31-6BAB6774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731-A49F-4833-9C53-540843C4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54F-DA8E-48A5-847F-386743EC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232-CC0E-4B3B-8041-12CE955C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353-5847-4874-BDB9-35293310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F338-2AF3-41A2-9680-6C452C23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262-9914-4883-90AD-9A14C44F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EFF-30C1-4705-8DBE-3CC27027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B75-B701-4C47-9C27-7CE0394B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F73E-9DBE-4163-9A17-27E7D0F1B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215240" y="3573360"/>
            <a:ext cx="46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у выполнил ученик 2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ков Ник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4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Макаров</cp:lastModifiedBy>
  <dcterms:modified xsi:type="dcterms:W3CDTF">2012-04-12T04:09:12Z</dcterms:modified>
  <cp:revision>9</cp:revision>
  <dc:subject/>
  <dc:title>Слайд 1</dc:title>
</cp:coreProperties>
</file>