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E523-2455-4144-BD23-9B6926105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6909-AF8F-4D53-B98B-1A5951CE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21A0-26A0-4D07-AAF9-C6B97F62C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4CDC-62D5-4325-8EE6-204619F5A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2BC1-E439-4CD2-A45F-ADE6FF33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AE79-0F90-4E6F-8992-F4F71BF8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C232-D32F-43F2-A588-D3E60FBE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D3CC-680F-4BF8-954D-DBA04F68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A971-3AC3-463A-A0AE-7BDCC7987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79E4-378C-42F6-9105-DBD0604B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0093-58A6-40CF-BC44-42C0A13F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570B-E53A-4CCC-A28E-26CFD281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6776-EB09-4D54-A463-BBEFA0D15F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468360" y="3357720"/>
            <a:ext cx="3382920" cy="25905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9"/>
          <p:cNvSpPr/>
          <p:nvPr/>
        </p:nvSpPr>
        <p:spPr>
          <a:xfrm>
            <a:off x="4215240" y="3573360"/>
            <a:ext cx="469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боту выполнил ученик 2б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елудков Ники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12"/>
          <p:cNvSpPr txBox="1"/>
          <p:nvPr/>
        </p:nvSpPr>
        <p:spPr>
          <a:xfrm>
            <a:off x="900000" y="1628640"/>
            <a:ext cx="75596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6048720" cy="40528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5"/>
          <p:cNvSpPr/>
          <p:nvPr/>
        </p:nvSpPr>
        <p:spPr>
          <a:xfrm>
            <a:off x="179280" y="5516640"/>
            <a:ext cx="8640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Скворцы – хорошие родители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рмят птенцов оба родителя. Они носят своим прожорливым чадам различных насекомых, их личинок, червей, слизней, улиток и прочую мелкую живность. Через пару недель скворчата вылетают из гнезда, а еще спустя 5-7 дней становятся совершенно самостоятельны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179280" y="5877000"/>
            <a:ext cx="849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незда свои скворцы устраивают в дуплах или скворечниках. Внешний слой гнезда составляет разнообразная растительная ветошь, лоток выстилает самец перь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5761080" cy="4057920"/>
          </a:xfrm>
          <a:prstGeom prst="rect">
            <a:avLst/>
          </a:prstGeom>
          <a:ln w="0">
            <a:noFill/>
          </a:ln>
        </p:spPr>
      </p:pic>
      <p:sp>
        <p:nvSpPr>
          <p:cNvPr id="77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395280" y="5229360"/>
            <a:ext cx="8353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августе и сентябре скворцы собираются в стаи, которые выбирают себе укромное место для ночевки. Порой в таких скоплениях тысячи и даже сотни тысяч пти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и уже не пользуются дуплами, а ночуют открыто - в тростниках, на кустах и в лесу на деревь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дней осенью скворцы отлетают на ю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5473440" cy="3816360"/>
          </a:xfrm>
          <a:prstGeom prst="rect">
            <a:avLst/>
          </a:prstGeom>
          <a:ln w="0">
            <a:noFill/>
          </a:ln>
        </p:spPr>
      </p:pic>
      <p:sp>
        <p:nvSpPr>
          <p:cNvPr id="80" name="WordArt 9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3168720" cy="22762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1622160" y="3573360"/>
            <a:ext cx="21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йволов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4572000" y="4869000"/>
            <a:ext cx="1008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>
            <a:off x="5796000" y="1197000"/>
            <a:ext cx="2133720" cy="2232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9"/>
          <p:cNvSpPr/>
          <p:nvPr/>
        </p:nvSpPr>
        <p:spPr>
          <a:xfrm>
            <a:off x="6014880" y="3500280"/>
            <a:ext cx="164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л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11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7" name="Picture 12" descr=""/>
          <p:cNvPicPr/>
          <p:nvPr/>
        </p:nvPicPr>
        <p:blipFill>
          <a:blip r:embed="rId3"/>
          <a:stretch/>
        </p:blipFill>
        <p:spPr>
          <a:xfrm>
            <a:off x="5796000" y="4005360"/>
            <a:ext cx="2089080" cy="23032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3"/>
          <p:cNvSpPr/>
          <p:nvPr/>
        </p:nvSpPr>
        <p:spPr>
          <a:xfrm>
            <a:off x="5943240" y="630864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ёрн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4" descr=""/>
          <p:cNvPicPr/>
          <p:nvPr/>
        </p:nvPicPr>
        <p:blipFill>
          <a:blip r:embed="rId4"/>
          <a:stretch/>
        </p:blipFill>
        <p:spPr>
          <a:xfrm>
            <a:off x="1187280" y="4005360"/>
            <a:ext cx="3097440" cy="22460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5"/>
          <p:cNvSpPr/>
          <p:nvPr/>
        </p:nvSpPr>
        <p:spPr>
          <a:xfrm>
            <a:off x="1552680" y="6308640"/>
            <a:ext cx="24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иннохвост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2305080" cy="2271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3419640" y="1268280"/>
            <a:ext cx="1814400" cy="23050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3206520" y="3645000"/>
            <a:ext cx="21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рёжков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1119240" y="35733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й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9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6" name="Picture 10" descr=""/>
          <p:cNvPicPr/>
          <p:nvPr/>
        </p:nvPicPr>
        <p:blipFill>
          <a:blip r:embed="rId3"/>
          <a:stretch/>
        </p:blipFill>
        <p:spPr>
          <a:xfrm>
            <a:off x="1116000" y="4149720"/>
            <a:ext cx="3024360" cy="2158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"/>
          <p:cNvPicPr/>
          <p:nvPr/>
        </p:nvPicPr>
        <p:blipFill>
          <a:blip r:embed="rId4"/>
          <a:stretch/>
        </p:blipFill>
        <p:spPr>
          <a:xfrm>
            <a:off x="5867280" y="1268280"/>
            <a:ext cx="2917800" cy="37450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2"/>
          <p:cNvSpPr/>
          <p:nvPr/>
        </p:nvSpPr>
        <p:spPr>
          <a:xfrm>
            <a:off x="1694520" y="6308640"/>
            <a:ext cx="181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зов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5657400" y="5229360"/>
            <a:ext cx="32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умрудный блестящи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3998160" y="256536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324000" y="4813560"/>
            <a:ext cx="8820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крупная птица, длина которой около 230 мм, а вес -75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ёрное оперение с металлическим блеском с белыми крапинк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ло у птицы массивно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ея коротк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ногах 4 пальца с изогнутыми когтя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трый, тонкий и длинный клюв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вост короткий, почти прямой на конц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1"/>
          <a:stretch/>
        </p:blipFill>
        <p:spPr>
          <a:xfrm>
            <a:off x="2195640" y="1268280"/>
            <a:ext cx="4824360" cy="3311640"/>
          </a:xfrm>
          <a:prstGeom prst="rect">
            <a:avLst/>
          </a:prstGeom>
          <a:ln w="0">
            <a:noFill/>
          </a:ln>
        </p:spPr>
      </p:pic>
      <p:sp>
        <p:nvSpPr>
          <p:cNvPr id="46" name="WordArt 8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6"/>
          <p:cNvSpPr/>
          <p:nvPr/>
        </p:nvSpPr>
        <p:spPr>
          <a:xfrm>
            <a:off x="398880" y="2349360"/>
            <a:ext cx="2048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сс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вро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з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верная Амер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страл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Южная Афр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елланд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"/>
          <p:cNvPicPr/>
          <p:nvPr/>
        </p:nvPicPr>
        <p:blipFill>
          <a:blip r:embed="rId1"/>
          <a:stretch/>
        </p:blipFill>
        <p:spPr>
          <a:xfrm>
            <a:off x="2484360" y="1268280"/>
            <a:ext cx="6265800" cy="47037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3427560" y="6093000"/>
            <a:ext cx="429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нашей стране обитают </a:t>
            </a: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6 видов скворц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684720" y="191628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Об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250920" y="5299200"/>
            <a:ext cx="889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имуют на юге нашей страны. Скворцы – самцы прилетают первыми в середине мар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ые дни после прилёта скворцы держатся в стаях. Гнёзда скворцы устраивают в дуплах, под крышами домов, охотно селятся в сделанных человеком скворечник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2050920" y="1268280"/>
            <a:ext cx="5042160" cy="3662640"/>
          </a:xfrm>
          <a:prstGeom prst="rect">
            <a:avLst/>
          </a:prstGeom>
          <a:ln w="0">
            <a:noFill/>
          </a:ln>
        </p:spPr>
      </p:pic>
      <p:sp>
        <p:nvSpPr>
          <p:cNvPr id="54" name="WordArt 12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3065040" y="5013360"/>
            <a:ext cx="30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Скворцы  - перелётные птиц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250920" y="5661000"/>
            <a:ext cx="864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воречники люди вешают на деревьях или устанавливают на высоких шестах.  В выборе жилья скворцы разборчив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5616720" cy="3657600"/>
          </a:xfrm>
          <a:prstGeom prst="rect">
            <a:avLst/>
          </a:prstGeom>
          <a:ln w="0">
            <a:noFill/>
          </a:ln>
        </p:spPr>
      </p:pic>
      <p:sp>
        <p:nvSpPr>
          <p:cNvPr id="58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179280" y="5445000"/>
            <a:ext cx="864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спитанные человеком скворцы без труда обучаются произносить отдельные слова и несложные фразы и развлекают хозяев то телефонным звонком, то дверным скрипом, то собачьим ла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1763640" y="1197000"/>
            <a:ext cx="5545080" cy="3743280"/>
          </a:xfrm>
          <a:prstGeom prst="rect">
            <a:avLst/>
          </a:prstGeom>
          <a:ln w="0">
            <a:noFill/>
          </a:ln>
        </p:spPr>
      </p:pic>
      <p:sp>
        <p:nvSpPr>
          <p:cNvPr id="61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250920" y="2276640"/>
            <a:ext cx="4681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итаю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лгоноси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усениц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уговым мотыль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изн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лит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ранч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ждевыми червя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1"/>
          <a:stretch/>
        </p:blipFill>
        <p:spPr>
          <a:xfrm>
            <a:off x="3492360" y="1557360"/>
            <a:ext cx="4608720" cy="331452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9"/>
          <p:cNvSpPr/>
          <p:nvPr/>
        </p:nvSpPr>
        <p:spPr>
          <a:xfrm>
            <a:off x="324000" y="551664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Скворцы - исключительно крепкие и неприхотливые птицы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Кормятся чаще  всего на земле. Отыскивая пищу, ходят большими шагами, всюду всовывают свой длинный клюв и, раскрывая его, раздвигают растительную ветошь в поисках различных беспозвоночны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10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250920" y="2205000"/>
            <a:ext cx="4824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Скворцы - певчие птицы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ладают широким диапазоном звуков, которые могут включать в себя свисты, скрипы, мяуканье, различные шумы и дребезж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ворцы могут подражать и человеческому голосу, а живя в неволе, заучивают отдельные слова и короткие предложения. Песня у скворцов громкая и по-весеннему веселая, но не слишком мелодичн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"/>
          <p:cNvPicPr/>
          <p:nvPr/>
        </p:nvPicPr>
        <p:blipFill>
          <a:blip r:embed="rId1"/>
          <a:stretch/>
        </p:blipFill>
        <p:spPr>
          <a:xfrm>
            <a:off x="5219640" y="1844640"/>
            <a:ext cx="3673440" cy="3600360"/>
          </a:xfrm>
          <a:prstGeom prst="rect">
            <a:avLst/>
          </a:prstGeom>
          <a:ln w="0">
            <a:noFill/>
          </a:ln>
        </p:spPr>
      </p:pic>
      <p:sp>
        <p:nvSpPr>
          <p:cNvPr id="68" name="WordArt 10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979640" y="1341360"/>
            <a:ext cx="5545080" cy="41497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250920" y="60213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ладке - 7 красивых  голубых яиц.  Их высиживает самка в течение 14 дн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6T16:43:43Z</dcterms:created>
  <dc:creator>Галина</dc:creator>
  <dc:description/>
  <dc:language>en-US</dc:language>
  <cp:lastModifiedBy>Макаров</cp:lastModifiedBy>
  <dcterms:modified xsi:type="dcterms:W3CDTF">2012-04-12T04:09:12Z</dcterms:modified>
  <cp:revision>9</cp:revision>
  <dc:subject/>
  <dc:title>Слайд 1</dc:title>
</cp:coreProperties>
</file>