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gif" ContentType="image/gif"/>
  <Override PartName="/ppt/media/image11.wmf" ContentType="image/x-wmf"/>
  <Override PartName="/ppt/media/image12.png" ContentType="image/png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59F2-E013-4D8D-AF02-31E79542D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A09E-BCC8-4138-BAF2-EB914B72E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5358-AAC3-4EF6-8F66-BFF150218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40E6-C8B8-46AB-8D98-DC8566896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D933-B180-4386-91A0-0C9C1954E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CF3B-24F7-49AA-998F-E62B67E16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90B6-4B35-4267-924A-117E89EDC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4D9B-06B8-4B31-A705-C458EF781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A391-EADA-47B3-B3F2-F5F04719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77C8-78A8-4865-8154-CC02287A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EE07-C939-40DE-8531-24F64D5E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1177-15B1-41BB-92EF-4779AEFB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F737B-D829-4C1C-8E12-64036A383B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2428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Формулы сокращенного умножен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4357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H:\Documents and Settings\Aida\Рабочий стол\НОвая ГРАФИКА сборник\КАРТИНКИ СБОРНИК_ школьные\1.gif"/>
          <p:cNvPicPr/>
          <p:nvPr/>
        </p:nvPicPr>
        <p:blipFill>
          <a:blip r:embed="rId2"/>
          <a:stretch/>
        </p:blipFill>
        <p:spPr>
          <a:xfrm>
            <a:off x="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:\Documents and Settings\Aida\Рабочий стол\НОвая ГРАФИКА сборник\КАРТИНКИ СБОРНИК_ школьные\2.gif"/>
          <p:cNvPicPr/>
          <p:nvPr/>
        </p:nvPicPr>
        <p:blipFill>
          <a:blip r:embed="rId3"/>
          <a:stretch/>
        </p:blipFill>
        <p:spPr>
          <a:xfrm>
            <a:off x="64296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H:\Documents and Settings\Aida\Рабочий стол\НОвая ГРАФИКА сборник\КАРТИНКИ СБОРНИК_ школьные\3.gif"/>
          <p:cNvPicPr/>
          <p:nvPr/>
        </p:nvPicPr>
        <p:blipFill>
          <a:blip r:embed="rId4"/>
          <a:stretch/>
        </p:blipFill>
        <p:spPr>
          <a:xfrm>
            <a:off x="128592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H:\Documents and Settings\Aida\Рабочий стол\НОвая ГРАФИКА сборник\КАРТИНКИ СБОРНИК_ школьные\4.gif"/>
          <p:cNvPicPr/>
          <p:nvPr/>
        </p:nvPicPr>
        <p:blipFill>
          <a:blip r:embed="rId5"/>
          <a:stretch/>
        </p:blipFill>
        <p:spPr>
          <a:xfrm>
            <a:off x="3571920" y="12142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H:\Documents and Settings\Aida\Рабочий стол\НОвая ГРАФИКА сборник\КАРТИНКИ СБОРНИК_ школьные\5.gif"/>
          <p:cNvPicPr/>
          <p:nvPr/>
        </p:nvPicPr>
        <p:blipFill>
          <a:blip r:embed="rId6"/>
          <a:stretch/>
        </p:blipFill>
        <p:spPr>
          <a:xfrm>
            <a:off x="5286240" y="12142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H:\Documents and Settings\Aida\Рабочий стол\НОвая ГРАФИКА сборник\1111111111111\image316.gif"/>
          <p:cNvPicPr/>
          <p:nvPr/>
        </p:nvPicPr>
        <p:blipFill>
          <a:blip r:embed="rId7"/>
          <a:stretch/>
        </p:blipFill>
        <p:spPr>
          <a:xfrm rot="20451000">
            <a:off x="7359480" y="5319720"/>
            <a:ext cx="1257480" cy="10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9778E-007 C 1.66667E-006 0.07516 0.02326 0.13321 0.05191 0.13321 C 0.08125 0.13321 0.10469 0.07516 0.10469 -3.9778E-007 C 0.10469 -0.07539 0.1283 -0.13321 0.15764 -0.13321 C 0.18611 -0.13321 0.20989 -0.07539 0.20989 -3.9778E-007 E">
                                      <p:cBhvr>
                                        <p:cTn id="6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84921E-006 C 1.66667E-006 0.07401 0.01562 0.13136 0.03472 0.13136 C 0.05451 0.13136 0.07014 0.07401 0.07014 -2.84921E-006 C 0.07014 -0.07423 0.08594 -0.13113 0.10555 -0.13113 C 0.12482 -0.13113 0.14062 -0.07423 0.14062 -2.84921E-006 E">
                                      <p:cBhvr>
                                        <p:cTn id="8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D24A6-C324-43E4-99AB-1A59151686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OWL"/>
          <p:cNvPicPr/>
          <p:nvPr/>
        </p:nvPicPr>
        <p:blipFill>
          <a:blip r:embed="rId1"/>
          <a:stretch/>
        </p:blipFill>
        <p:spPr>
          <a:xfrm>
            <a:off x="357120" y="2571840"/>
            <a:ext cx="1857600" cy="2867040"/>
          </a:xfrm>
          <a:prstGeom prst="rect">
            <a:avLst/>
          </a:prstGeom>
          <a:ln w="0">
            <a:noFill/>
          </a:ln>
        </p:spPr>
      </p:pic>
      <p:pic>
        <p:nvPicPr>
          <p:cNvPr id="85" name="Прямоугольник 3" descr=""/>
          <p:cNvPicPr/>
          <p:nvPr/>
        </p:nvPicPr>
        <p:blipFill>
          <a:blip r:embed="rId2"/>
          <a:stretch/>
        </p:blipFill>
        <p:spPr>
          <a:xfrm>
            <a:off x="1920960" y="2425680"/>
            <a:ext cx="7296120" cy="33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C39EE-40C0-409A-8B46-6F75BC9435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3500280" y="214200"/>
            <a:ext cx="178596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Цель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5"/>
          <p:cNvSpPr/>
          <p:nvPr/>
        </p:nvSpPr>
        <p:spPr>
          <a:xfrm>
            <a:off x="500040" y="2428920"/>
            <a:ext cx="842976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Учимся применять на практике формулы сокращенного умножени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готовимся к контрольной работ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AF5A1-8A10-4963-889F-006AC8D57E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071800" y="214200"/>
            <a:ext cx="414324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baseline="30000">
                <a:solidFill>
                  <a:srgbClr val="ffffff"/>
                </a:solidFill>
                <a:latin typeface="Arial"/>
              </a:rPr>
              <a:t>Девиз</a:t>
            </a: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 урока</a:t>
            </a:r>
            <a:r>
              <a:rPr b="0" lang="ru-RU" sz="4400" spc="-1" strike="noStrike" baseline="30000">
                <a:solidFill>
                  <a:srgbClr val="ffffff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785880" y="2428920"/>
            <a:ext cx="750096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ло иметь хороший ум, главное – уметь его применять.      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.Дека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57179-70AF-491C-AA5B-00F5D55E2E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785960" y="1928880"/>
          <a:ext cx="5500800" cy="3357360"/>
        </p:xfrm>
        <a:graphic>
          <a:graphicData uri="http://schemas.openxmlformats.org/drawingml/2006/table">
            <a:tbl>
              <a:tblPr/>
              <a:tblGrid>
                <a:gridCol w="1882800"/>
                <a:gridCol w="3618000"/>
              </a:tblGrid>
              <a:tr h="671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а +в)²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а - в)(а² + ав + в²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а - в)²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а - в)(а + в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²- в² 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а + в)(а²- ав + в²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³+ в³ 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² - 2ав + в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³ - в³ 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² + 2ав + в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Rectangle 1"/>
          <p:cNvSpPr/>
          <p:nvPr/>
        </p:nvSpPr>
        <p:spPr>
          <a:xfrm>
            <a:off x="1143000" y="358560"/>
            <a:ext cx="750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берите и запишите формул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64C46-0C02-46DB-AAC9-E418ACDDC7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785960" y="1928880"/>
          <a:ext cx="5500800" cy="3357360"/>
        </p:xfrm>
        <a:graphic>
          <a:graphicData uri="http://schemas.openxmlformats.org/drawingml/2006/table">
            <a:tbl>
              <a:tblPr/>
              <a:tblGrid>
                <a:gridCol w="1882800"/>
                <a:gridCol w="3618000"/>
              </a:tblGrid>
              <a:tr h="671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а +в)²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² + 2ав + в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а - в)²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² - 2ав + в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²- в² 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а - в)(а + в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³+ в³ 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а + в)(а²- ав + в²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³ - в³ 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а - в)(а² + ав + в²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1143000" y="359280"/>
            <a:ext cx="750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делаем проверку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2DFA3-AC6C-43D6-A35F-F74C855871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2071800" y="285840"/>
            <a:ext cx="608796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читайте выраж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5"/>
          <p:cNvSpPr/>
          <p:nvPr/>
        </p:nvSpPr>
        <p:spPr>
          <a:xfrm>
            <a:off x="348120" y="1285920"/>
            <a:ext cx="413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y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-y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xy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5"/>
          <p:cNvSpPr/>
          <p:nvPr/>
        </p:nvSpPr>
        <p:spPr>
          <a:xfrm>
            <a:off x="4706280" y="1285920"/>
            <a:ext cx="423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y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+y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xy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ая соединительная линия 8"/>
          <p:cNvSpPr/>
          <p:nvPr/>
        </p:nvSpPr>
        <p:spPr>
          <a:xfrm flipH="1">
            <a:off x="4498560" y="1285920"/>
            <a:ext cx="1800" cy="5002200"/>
          </a:xfrm>
          <a:prstGeom prst="line">
            <a:avLst/>
          </a:prstGeom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5"/>
          <p:cNvSpPr/>
          <p:nvPr/>
        </p:nvSpPr>
        <p:spPr>
          <a:xfrm>
            <a:off x="0" y="2714760"/>
            <a:ext cx="4429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сть кубов двух выражений ра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едению раз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х выражений 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лный квадрат су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5"/>
          <p:cNvSpPr/>
          <p:nvPr/>
        </p:nvSpPr>
        <p:spPr>
          <a:xfrm>
            <a:off x="4518720" y="2714760"/>
            <a:ext cx="4739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а  кубов дву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жений ра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едению су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х выражений 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лный квадрат раз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H:\Documents and Settings\Aida\Рабочий стол\текстуры и фоны, клипарты\новеньки картинки\pencil rolling hc.gif"/>
          <p:cNvPicPr/>
          <p:nvPr/>
        </p:nvPicPr>
        <p:blipFill>
          <a:blip r:embed="rId1"/>
          <a:stretch/>
        </p:blipFill>
        <p:spPr>
          <a:xfrm rot="20800800">
            <a:off x="6170760" y="5732640"/>
            <a:ext cx="2697120" cy="5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C440A-9062-4642-A426-0A661D0E1A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Прямоугольник 2" descr=""/>
          <p:cNvPicPr/>
          <p:nvPr/>
        </p:nvPicPr>
        <p:blipFill>
          <a:blip r:embed="rId1"/>
          <a:stretch/>
        </p:blipFill>
        <p:spPr>
          <a:xfrm>
            <a:off x="1695600" y="2298600"/>
            <a:ext cx="540036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15439-D5CC-41BA-846E-28D9EA21D9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2071800" y="285840"/>
            <a:ext cx="608796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йдите ошиб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ая соединительная линия 8"/>
          <p:cNvSpPr/>
          <p:nvPr/>
        </p:nvSpPr>
        <p:spPr>
          <a:xfrm flipH="1">
            <a:off x="4498560" y="1285920"/>
            <a:ext cx="1800" cy="5002200"/>
          </a:xfrm>
          <a:prstGeom prst="line">
            <a:avLst/>
          </a:prstGeom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H:\Documents and Settings\Aida\Рабочий стол\текстуры и фоны, клипарты\новеньки картинки\pencil rolling hc.gif"/>
          <p:cNvPicPr/>
          <p:nvPr/>
        </p:nvPicPr>
        <p:blipFill>
          <a:blip r:embed="rId1"/>
          <a:stretch/>
        </p:blipFill>
        <p:spPr>
          <a:xfrm rot="20800800">
            <a:off x="6170760" y="5732640"/>
            <a:ext cx="2697120" cy="55404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10"/>
          <p:cNvSpPr/>
          <p:nvPr/>
        </p:nvSpPr>
        <p:spPr>
          <a:xfrm>
            <a:off x="214200" y="2214720"/>
            <a:ext cx="392904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+у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-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-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(49+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-10)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р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0р+10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а+1)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4а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2а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³- х³=(3-х)(9-3х+х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2"/>
          <p:cNvSpPr/>
          <p:nvPr/>
        </p:nvSpPr>
        <p:spPr>
          <a:xfrm>
            <a:off x="4714920" y="2214720"/>
            <a:ext cx="392904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)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²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+у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²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-25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(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+х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7-а)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7-14а+ а²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у+1)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у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6у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³+8=(с+2)(с²+2с+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52F68-2362-4F8B-AA4C-862CB0AA2E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071800" y="285840"/>
            <a:ext cx="608796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верим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ая соединительная линия 8"/>
          <p:cNvSpPr/>
          <p:nvPr/>
        </p:nvSpPr>
        <p:spPr>
          <a:xfrm flipH="1">
            <a:off x="4498560" y="1285920"/>
            <a:ext cx="1800" cy="5002200"/>
          </a:xfrm>
          <a:prstGeom prst="line">
            <a:avLst/>
          </a:prstGeom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H:\Documents and Settings\Aida\Рабочий стол\текстуры и фоны, клипарты\новеньки картинки\pencil rolling hc.gif"/>
          <p:cNvPicPr/>
          <p:nvPr/>
        </p:nvPicPr>
        <p:blipFill>
          <a:blip r:embed="rId1"/>
          <a:stretch/>
        </p:blipFill>
        <p:spPr>
          <a:xfrm rot="20800800">
            <a:off x="6170760" y="5732640"/>
            <a:ext cx="2697120" cy="55404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10"/>
          <p:cNvSpPr/>
          <p:nvPr/>
        </p:nvSpPr>
        <p:spPr>
          <a:xfrm>
            <a:off x="214200" y="2214720"/>
            <a:ext cx="392904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²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+у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-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(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-10)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р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0р+10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а+1)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4а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³- х³=(3-х)(9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х+х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12"/>
          <p:cNvSpPr/>
          <p:nvPr/>
        </p:nvSpPr>
        <p:spPr>
          <a:xfrm>
            <a:off x="4714920" y="2214720"/>
            <a:ext cx="392904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)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²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+у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²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-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(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х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7-а)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9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4а+ а²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у+1)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6у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³+8=(с+2)(с²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с+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7T04:26:35Z</dcterms:created>
  <dc:creator>Администратор</dc:creator>
  <dc:description/>
  <dc:language>en-US</dc:language>
  <cp:lastModifiedBy>АДМИН</cp:lastModifiedBy>
  <dcterms:modified xsi:type="dcterms:W3CDTF">2012-03-19T07:19:03Z</dcterms:modified>
  <cp:revision>60</cp:revision>
  <dc:subject/>
  <dc:title>Тренажер №2 “Формулы сокращенного умножения”</dc:title>
</cp:coreProperties>
</file>