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11.wmf" ContentType="image/x-wmf"/>
  <Override PartName="/ppt/media/image12.png" ContentType="image/pn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F61-77F5-4890-8004-E1A5732B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398-6989-497C-AE18-758481B4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398-B258-4ECF-A30E-FBAA17BD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19BA-C699-46D3-97DC-10FE9B46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8E32-CF86-42E5-99D4-6B69BA6A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F34-9354-4214-B98C-A2ECC13E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956-9155-4D2F-A67A-B8A4B80C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98A-BED3-409B-B1B8-645E8936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19CD-B496-44AE-B2E1-7DF4D308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804-DFF7-412B-B4BC-29C008DF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52B-3D02-4D41-9CAB-B15054DC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A56-F522-4B98-B2C6-30CD574D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0F6B-690F-44DD-BC80-1559D4B5C8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Формулы сокращенного умнож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A783-B3E5-404F-9F00-1C16719681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OWL"/>
          <p:cNvPicPr/>
          <p:nvPr/>
        </p:nvPicPr>
        <p:blipFill>
          <a:blip r:embed="rId1"/>
          <a:stretch/>
        </p:blipFill>
        <p:spPr>
          <a:xfrm>
            <a:off x="357120" y="2571840"/>
            <a:ext cx="1857600" cy="286704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3" descr=""/>
          <p:cNvPicPr/>
          <p:nvPr/>
        </p:nvPicPr>
        <p:blipFill>
          <a:blip r:embed="rId2"/>
          <a:stretch/>
        </p:blipFill>
        <p:spPr>
          <a:xfrm>
            <a:off x="1920960" y="2425680"/>
            <a:ext cx="72961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F70F-6E46-432F-826E-9360698A6E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500280" y="214200"/>
            <a:ext cx="17859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500040" y="2428920"/>
            <a:ext cx="84297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чимся применять на практике формулы сокращенного умнож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готовимся к контрольной рабо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B6F3-90CC-46F7-87BF-61EAFF43AB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071800" y="214200"/>
            <a:ext cx="414324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baseline="30000">
                <a:solidFill>
                  <a:srgbClr val="ffffff"/>
                </a:solidFill>
                <a:latin typeface="Arial"/>
              </a:rPr>
              <a:t>Девиз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урока</a:t>
            </a:r>
            <a:r>
              <a:rPr b="0" lang="ru-RU" sz="4400" spc="-1" strike="noStrike" baseline="30000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785880" y="2428920"/>
            <a:ext cx="75009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ло иметь хороший ум, главное – уметь его применять.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Дек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7EB7-2DA7-41C8-9B87-7B71E8437C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785960" y="1928880"/>
          <a:ext cx="5500800" cy="3357360"/>
        </p:xfrm>
        <a:graphic>
          <a:graphicData uri="http://schemas.openxmlformats.org/drawingml/2006/table">
            <a:tbl>
              <a:tblPr/>
              <a:tblGrid>
                <a:gridCol w="1882800"/>
                <a:gridCol w="3618000"/>
              </a:tblGrid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² +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 + 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- в²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 в)(а²-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+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-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 -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+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"/>
          <p:cNvSpPr/>
          <p:nvPr/>
        </p:nvSpPr>
        <p:spPr>
          <a:xfrm>
            <a:off x="1143000" y="35856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ерите и запишите форму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A701-DBC3-4433-A072-F40F980C65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85960" y="1928880"/>
          <a:ext cx="5500800" cy="3357360"/>
        </p:xfrm>
        <a:graphic>
          <a:graphicData uri="http://schemas.openxmlformats.org/drawingml/2006/table">
            <a:tbl>
              <a:tblPr/>
              <a:tblGrid>
                <a:gridCol w="1882800"/>
                <a:gridCol w="3618000"/>
              </a:tblGrid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+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-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- в²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 + 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+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 в)(а²-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 -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² +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1143000" y="35928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делаем проверк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0D3C-E2EC-4274-BC45-96E371753D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071800" y="285840"/>
            <a:ext cx="60879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айте выра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348120" y="1285920"/>
            <a:ext cx="413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4706280" y="1285920"/>
            <a:ext cx="42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 flipH="1">
            <a:off x="4498560" y="1285920"/>
            <a:ext cx="1800" cy="500220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0" y="2714760"/>
            <a:ext cx="442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ть кубов двух выражений ра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ю раз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выражений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ый квадрат су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4518720" y="2714760"/>
            <a:ext cx="4739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 кубов дв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й ра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ю су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выражений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ый квадрат раз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1"/>
          <a:stretch/>
        </p:blipFill>
        <p:spPr>
          <a:xfrm rot="20800800">
            <a:off x="6170760" y="5732640"/>
            <a:ext cx="269712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7429-1381-4CC5-8168-95E8829336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1695600" y="2298600"/>
            <a:ext cx="5400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B1E8-ECBC-4B97-857C-38FA453D19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071800" y="285840"/>
            <a:ext cx="60879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дите ошиб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8"/>
          <p:cNvSpPr/>
          <p:nvPr/>
        </p:nvSpPr>
        <p:spPr>
          <a:xfrm flipH="1">
            <a:off x="4498560" y="1285920"/>
            <a:ext cx="1800" cy="500220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1"/>
          <a:stretch/>
        </p:blipFill>
        <p:spPr>
          <a:xfrm rot="20800800">
            <a:off x="6170760" y="5732640"/>
            <a:ext cx="2697120" cy="55404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0"/>
          <p:cNvSpPr/>
          <p:nvPr/>
        </p:nvSpPr>
        <p:spPr>
          <a:xfrm>
            <a:off x="21420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(49+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-10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р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р+10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а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а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а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³- х³=(3-х)(9-3х+х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2"/>
          <p:cNvSpPr/>
          <p:nvPr/>
        </p:nvSpPr>
        <p:spPr>
          <a:xfrm>
            <a:off x="471492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-2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+х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7-14а+ а²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у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6у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³+8=(с+2)(с²+2с+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5EA0-B47C-444F-B91E-6EA1DDAA8C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071800" y="285840"/>
            <a:ext cx="60879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и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8"/>
          <p:cNvSpPr/>
          <p:nvPr/>
        </p:nvSpPr>
        <p:spPr>
          <a:xfrm flipH="1">
            <a:off x="4498560" y="1285920"/>
            <a:ext cx="1800" cy="500220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1"/>
          <a:stretch/>
        </p:blipFill>
        <p:spPr>
          <a:xfrm rot="20800800">
            <a:off x="6170760" y="5732640"/>
            <a:ext cx="2697120" cy="5540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0"/>
          <p:cNvSpPr/>
          <p:nvPr/>
        </p:nvSpPr>
        <p:spPr>
          <a:xfrm>
            <a:off x="21420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-10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р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р+10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а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а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³- х³=(3-х)(9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х+х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2"/>
          <p:cNvSpPr/>
          <p:nvPr/>
        </p:nvSpPr>
        <p:spPr>
          <a:xfrm>
            <a:off x="471492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-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х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9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4а+ а²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у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6у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³+8=(с+2)(с²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с+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4:26:35Z</dcterms:created>
  <dc:creator>Администратор</dc:creator>
  <dc:description/>
  <dc:language>en-US</dc:language>
  <cp:lastModifiedBy>АДМИН</cp:lastModifiedBy>
  <dcterms:modified xsi:type="dcterms:W3CDTF">2012-03-19T07:19:03Z</dcterms:modified>
  <cp:revision>60</cp:revision>
  <dc:subject/>
  <dc:title>Тренажер №2 “Формулы сокращенного умножения”</dc:title>
</cp:coreProperties>
</file>