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11.wmf" ContentType="image/x-wmf"/>
  <Override PartName="/ppt/media/image12.png" ContentType="image/png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95A-1F85-480B-B3F9-8DC4ADA9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878-864E-4459-A7F7-D246F69E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FEA-C116-4905-BE38-633254AF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FD7D-1B98-4C51-8CC4-378C04E1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170-544D-46FB-A593-B6D2C5D1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527-D4BC-436C-8ACC-D344E1EF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0629-5F0B-4CA6-9380-09F27711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A0B-05B6-4B62-A07F-BC6538D3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FFB-8E7B-468D-9CF9-50F3C5E6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C8F-2BF6-4888-AF38-1BAEC25A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D31-C274-4B41-9164-F3DC7220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7EE-7E44-43F1-9252-AE5FE0C0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E6B8-D950-4CE4-89F2-61D2FEE09A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Формулы сокращенного умнож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3EF4-9015-48AE-9B82-1E8CE4DCC0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OWL"/>
          <p:cNvPicPr/>
          <p:nvPr/>
        </p:nvPicPr>
        <p:blipFill>
          <a:blip r:embed="rId1"/>
          <a:stretch/>
        </p:blipFill>
        <p:spPr>
          <a:xfrm>
            <a:off x="357120" y="2571840"/>
            <a:ext cx="1857600" cy="286704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3" descr=""/>
          <p:cNvPicPr/>
          <p:nvPr/>
        </p:nvPicPr>
        <p:blipFill>
          <a:blip r:embed="rId2"/>
          <a:stretch/>
        </p:blipFill>
        <p:spPr>
          <a:xfrm>
            <a:off x="1920960" y="2425680"/>
            <a:ext cx="72961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6153-85ED-4663-93DA-63557280F5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500280" y="214200"/>
            <a:ext cx="17859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500040" y="2428920"/>
            <a:ext cx="84297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чимся применять на практике формулы сокращенного умнож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готовимся к контрольной рабо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9F8C-16D0-422E-A6A2-CF4BE7D97A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071800" y="214200"/>
            <a:ext cx="414324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baseline="30000">
                <a:solidFill>
                  <a:srgbClr val="ffffff"/>
                </a:solidFill>
                <a:latin typeface="Arial"/>
              </a:rPr>
              <a:t>Девиз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урока</a:t>
            </a:r>
            <a:r>
              <a:rPr b="0" lang="ru-RU" sz="4400" spc="-1" strike="noStrike" baseline="30000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785880" y="2428920"/>
            <a:ext cx="75009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ло иметь хороший ум, главное – уметь его применять.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Дек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6100-1B37-408B-A4C5-0BEC29819E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785960" y="1928880"/>
          <a:ext cx="5500800" cy="3357360"/>
        </p:xfrm>
        <a:graphic>
          <a:graphicData uri="http://schemas.openxmlformats.org/drawingml/2006/table">
            <a:tbl>
              <a:tblPr/>
              <a:tblGrid>
                <a:gridCol w="1882800"/>
                <a:gridCol w="3618000"/>
              </a:tblGrid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в)²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(а² + ав + в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²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(а + 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- в²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 в)(а²- ав + в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³+ в³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 - 2ав + в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³ - в³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 + 2ав + в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"/>
          <p:cNvSpPr/>
          <p:nvPr/>
        </p:nvSpPr>
        <p:spPr>
          <a:xfrm>
            <a:off x="1143000" y="35856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ерите и запишите форму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4A0A-A286-42CB-9CB4-976CC8B4EC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85960" y="1928880"/>
          <a:ext cx="5500800" cy="3357360"/>
        </p:xfrm>
        <a:graphic>
          <a:graphicData uri="http://schemas.openxmlformats.org/drawingml/2006/table">
            <a:tbl>
              <a:tblPr/>
              <a:tblGrid>
                <a:gridCol w="1882800"/>
                <a:gridCol w="3618000"/>
              </a:tblGrid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в)²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 + 2ав + в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²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 - 2ав + в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- в²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(а + 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³+ в³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 в)(а²- ав + в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³ - в³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(а² + ав + в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1143000" y="35928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делаем проверк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3167-26EE-4A2E-86EB-3D51801D36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071800" y="285840"/>
            <a:ext cx="60879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итайте выра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348120" y="1285920"/>
            <a:ext cx="413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-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4706280" y="1285920"/>
            <a:ext cx="42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 flipH="1">
            <a:off x="4498560" y="1285920"/>
            <a:ext cx="1800" cy="500220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0" y="2714760"/>
            <a:ext cx="442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ть кубов двух выражений ра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ю раз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выражений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ный квадрат су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4518720" y="2714760"/>
            <a:ext cx="4739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 кубов дв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й ра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ю су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выражений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ный квадрат раз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1"/>
          <a:stretch/>
        </p:blipFill>
        <p:spPr>
          <a:xfrm rot="20800800">
            <a:off x="6170760" y="5732640"/>
            <a:ext cx="269712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207B-88E8-4213-AFE9-4270020C5C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1695600" y="2298600"/>
            <a:ext cx="5400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DA28-3DD1-4610-AAD1-2FE37A7A3B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071800" y="285840"/>
            <a:ext cx="60879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дите ошиб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8"/>
          <p:cNvSpPr/>
          <p:nvPr/>
        </p:nvSpPr>
        <p:spPr>
          <a:xfrm flipH="1">
            <a:off x="4498560" y="1285920"/>
            <a:ext cx="1800" cy="500220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1"/>
          <a:stretch/>
        </p:blipFill>
        <p:spPr>
          <a:xfrm rot="20800800">
            <a:off x="6170760" y="5732640"/>
            <a:ext cx="2697120" cy="55404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0"/>
          <p:cNvSpPr/>
          <p:nvPr/>
        </p:nvSpPr>
        <p:spPr>
          <a:xfrm>
            <a:off x="214200" y="2214720"/>
            <a:ext cx="3929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+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(49+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-10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р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р+10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а+1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а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а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³- х³=(3-х)(9-3х+х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2"/>
          <p:cNvSpPr/>
          <p:nvPr/>
        </p:nvSpPr>
        <p:spPr>
          <a:xfrm>
            <a:off x="4714920" y="2214720"/>
            <a:ext cx="3929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+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-2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+х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-а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7-14а+ а²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у+1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6у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³+8=(с+2)(с²+2с+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A850-9FFF-412A-9F7F-C167F0EB51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071800" y="285840"/>
            <a:ext cx="60879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и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8"/>
          <p:cNvSpPr/>
          <p:nvPr/>
        </p:nvSpPr>
        <p:spPr>
          <a:xfrm flipH="1">
            <a:off x="4498560" y="1285920"/>
            <a:ext cx="1800" cy="500220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1"/>
          <a:stretch/>
        </p:blipFill>
        <p:spPr>
          <a:xfrm rot="20800800">
            <a:off x="6170760" y="5732640"/>
            <a:ext cx="2697120" cy="5540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0"/>
          <p:cNvSpPr/>
          <p:nvPr/>
        </p:nvSpPr>
        <p:spPr>
          <a:xfrm>
            <a:off x="214200" y="2214720"/>
            <a:ext cx="3929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+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-10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р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р+10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а+1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а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³- х³=(3-х)(9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х+х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2"/>
          <p:cNvSpPr/>
          <p:nvPr/>
        </p:nvSpPr>
        <p:spPr>
          <a:xfrm>
            <a:off x="4714920" y="2214720"/>
            <a:ext cx="3929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+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-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х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-а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9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4а+ а²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у+1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6у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³+8=(с+2)(с²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с+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4:26:35Z</dcterms:created>
  <dc:creator>Администратор</dc:creator>
  <dc:description/>
  <dc:language>en-US</dc:language>
  <cp:lastModifiedBy>АДМИН</cp:lastModifiedBy>
  <dcterms:modified xsi:type="dcterms:W3CDTF">2012-03-19T07:19:03Z</dcterms:modified>
  <cp:revision>60</cp:revision>
  <dc:subject/>
  <dc:title>Тренажер №2 “Формулы сокращенного умножения”</dc:title>
</cp:coreProperties>
</file>