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F4B-8A32-4940-AD3A-23AA069D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AFB-0A0B-4CF8-8B2C-FD4D716B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6C4AD-38D2-46F2-BE8B-787258E0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65B96-97FD-4C65-8439-2C70E069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D40F9-A55E-4725-9156-7243B2C5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1FA97-2CA4-40F7-BC23-A94F5BA8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484AC-9A5F-41E0-98E2-D4F114C2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4146F-89EA-441B-BFCA-25594A29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FE94D-0592-4EB8-ADA9-ED08A8E3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038EC-4ACA-4A32-A330-EE468AC3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854FD-1251-47DD-9190-840688EF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733-2C60-4352-A126-8B85B406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930-5BCB-495B-9AA1-DD894311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2E0D-59A8-4E6A-9AFF-F344FCAA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BB26-F917-430D-9388-18A33444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52E6-94DA-4F95-8117-572877DE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9A80-8E66-4E03-A6AF-1A996FED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7B75-4EA5-4E26-86BF-388705A0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1AA8-93C1-4554-B0EF-554C486F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8979-7D7F-4AB2-99FC-BE636540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40A-46AB-42FF-A2D3-D15B294F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3E9C-98FE-47C7-B9CE-A38D2EAA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F18B-852A-4B37-99A9-2DA557B8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971D-967A-4516-A71F-049BEBBB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23E2-F31E-47F1-AB79-EF0F6EF5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FBBD-2378-4952-807A-46E432B0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0C1B-5C5C-4917-9D6D-6F36F093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0B13A-D9E3-4EAC-9FBB-346C505F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BED0-2DE7-4FDE-8EC1-5E9E7E28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B067-F2AA-4C46-89CE-1ED18316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E667-5F8C-412A-BA27-AC87714D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419-D0C6-4DE0-8BC4-CCBB9636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B36F0-06A6-4594-9D76-39DC8269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7C47A-805A-4675-8223-EC217349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6C2D3-E419-4319-8A4E-D7A20931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0AB4A-2907-4927-BD67-B7E80749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5E23F-5E4F-41B1-9B9B-2C5C843D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A9056-8E81-41A9-826A-EF6392B7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8774D-28BA-4D00-850E-AB48DAD6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F09C8-ACD8-4E0C-AA3C-F422ACE3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75CD1-2A18-4445-8777-E189E1FE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FFC33-950C-48ED-9490-E618F808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A6E-07F1-41CF-B184-20AC716B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23679-E8AF-4423-AC37-A3DA34B8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D688A-F030-4E85-9854-F11BE0A2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E9AD4-7C5D-42CC-A18B-515B7699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F3330-58BB-45A7-A80F-8A0343FA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85078-D7D6-41F1-8C00-5024FAED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43346-38A7-42FF-8A0D-67064323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708D8-3039-4ECC-AD8B-1FB6460D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A8D16-AD4D-4CD4-BDAF-56EC49CA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52975-19C6-4DB7-B008-706A9F6E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C81E1-31CE-46A9-B7AF-F875121F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CB4-AF41-48AD-BD41-1582AD63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7F3FF-11F6-46B9-86B7-B9D17974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C3B08-680B-4A96-AF95-3FE12586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40F20-5A30-4274-893A-30E51199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AF032-79CD-46EB-8258-533DEFEB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2F62C-6C0E-4FC7-B58C-E99C0CC9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E2C6C-8972-4458-9E5F-047D25E7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EE863-C47D-4A8E-96AF-8A2ED575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826C7-6CAB-4E7C-A734-3C82807A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EC40D-44DC-4DD0-BE4E-6FA12575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B59C6-A118-4DFD-8EC9-6DD36917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D6A-4B1F-45B3-AC28-5EC316B4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C227A-4376-4E56-A426-BC6EC7F9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12A00-67FF-4373-901A-87C993A0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B6967-1858-41AE-A551-3A81EBAD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FE37F-7B70-4ACF-B9A3-F9B46522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1800B-7461-4F0C-8649-2BB5B4FA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37BF7-70D8-4658-8D53-8B6F50A8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FD6F7-CBE5-4B5B-ACB0-5C0DE3A3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6BA1E-543A-419A-9D85-944332D3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AFEF0-D104-4B8D-BB0C-0939B687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8FB5A-CAED-496A-A55F-9FDBDD5E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372-FD64-48F9-BA4E-F0436F1A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CED88-F9EF-44C2-9F13-B354E39D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2FFC1-D7D3-40A2-B730-0F8FEED1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E9837-3E12-44BF-9E2F-B2B8D7B3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577B7-856F-4B6D-8D40-9A3096B8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8B7C4-A696-46A7-849F-2FFF638B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AC778-64E4-4BCE-9172-F2117F0D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CDF9D-3AB7-47C9-9CB4-37650E13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796B8-939A-4403-99F1-292B123F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B40E0-542F-4204-A29A-217F4750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8157E-2318-42F0-9362-8D8C5DC0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F73-925E-4C48-9F52-BC14CDE5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DC1FD-CC19-4DA3-BD47-19A93220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48E58-CB28-4A6F-A5BE-9AF9FA9F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ADF29-0796-484B-BFA5-861F57D5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2E3DC-1815-4D5C-8C4E-9A123B72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2EC7F-26FF-42B3-B859-04414614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27C5A-8AB1-4644-8987-F22D8BC8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A4350-AA2A-48AA-AACD-CEE927F7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E843C-4DB2-4F5A-9CBD-62540743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AE916-2DDF-4362-8CB3-35F0B630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873BB-0C33-48A2-9C98-7BB59D58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D69-C45C-477A-9E9E-A785953F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053C5-5B68-45CA-8A1F-4CDDC693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1D350-B931-4391-92B5-56D049D9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D087B-6F99-4A32-B35C-3CF0F6CB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5B183-4D42-481A-A41F-F6434247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D78BF-CA2D-4721-92FA-FFEA15F8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EFEA0-8FAE-46E8-840D-82D97A41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CE386-FAB4-4394-9190-12780112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EE38A-E9CD-4B08-86A7-ED673017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9DF96-19EA-4B7A-AA1E-A62D8B83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18DBB-B5D3-4470-84D6-92040006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15B7-24C6-48E6-818D-5C2EDD8B95F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37C4-67DC-46C8-867D-F1A71371969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E8D8-F5E9-4331-8288-36E41F7BBA3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1F88-3FF4-4F40-A7CD-2FC8A4BE2B2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3622-7F68-41A9-A9BD-ECAEA627D5F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E487-4973-4486-8C58-3BA7CB0E700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7D8C-0F19-47BB-922C-54DF0E7227F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455E-D1B4-4E86-A96A-1DF0D643183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3B1A-1347-4293-B835-E36C121B588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24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dd2b1"/>
                </a:solidFill>
                <a:latin typeface="Franklin Gothic Book"/>
              </a:rPr>
              <a:t>Не говори, что делал, </a:t>
            </a: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dd2b1"/>
                </a:solidFill>
                <a:latin typeface="Franklin Gothic Book"/>
              </a:rPr>
              <a:t>а говори, что сделал.</a:t>
            </a: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ddd2b1"/>
                </a:solidFill>
                <a:latin typeface="Franklin Gothic Book"/>
              </a:rPr>
              <a:t>(пословица)</a:t>
            </a:r>
            <a:endParaRPr b="0" lang="en-US" sz="48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всем  удачи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1500120" y="21420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овторение основных 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1000080" y="1285920"/>
            <a:ext cx="300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428760" y="71424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системы уравнений с двумя переменными называется …,            которая обращает каждое уравнение системы в …        раве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систему уравнений – значит найти …                  или доказать, что…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ми линейных уравнений системы являются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имеет единственное решение, если эти прямые …; система не имеет решений, если прямые …        ; если прямые …                    , то решений бесконечно м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у двух линейных уравнений с двумя переменными можно решить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1500120" y="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ровер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000080" y="1285920"/>
            <a:ext cx="300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428760" y="428760"/>
            <a:ext cx="8501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системы уравнений с двумя переменными н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ра значений переме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ая обращает каждое уравнение системы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р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е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систему уравнений – значит найт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се ее реш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доказать, чт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шений н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ми линейных уравнений системы являю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ям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имеет единственное решение, если эт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есека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система не имеет решений, есл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раллель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есл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впад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решений бесконечно м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у двух линейных уравнений с двумя переменными можно решить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рафически, способом перебора (подбора), подстановки, сложе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699400" cy="1268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560" y="1071360"/>
            <a:ext cx="41907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1 вариан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3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4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8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-4х = 0,16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5х - 7 = 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2(3 – х) = 9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47960" y="1071720"/>
            <a:ext cx="4343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2 вариан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   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– 3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2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7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5у = -0,2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-4у + 1 = 21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3(у – 15) = 0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560" y="1071720"/>
            <a:ext cx="4190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1 вариан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4 – 3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8 – 2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-0,04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4,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-1,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7960" y="1071720"/>
            <a:ext cx="4343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2 вариан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2 + 3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7 – 4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-0,0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-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1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Все правильно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8-9 правильных ответов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7-6-5  правильных ответов –   </a:t>
            </a:r>
            <a:r>
              <a:rPr b="0" i="1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В  остальных случаях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1357200" y="714240"/>
            <a:ext cx="6786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2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2832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"/>
          <p:cNvSpPr/>
          <p:nvPr/>
        </p:nvSpPr>
        <p:spPr>
          <a:xfrm>
            <a:off x="142920" y="428760"/>
            <a:ext cx="25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3x + y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 5x +2</a:t>
            </a: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Левая фигурная скобка 2"/>
          <p:cNvSpPr/>
          <p:nvPr/>
        </p:nvSpPr>
        <p:spPr>
          <a:xfrm>
            <a:off x="285840" y="500040"/>
            <a:ext cx="285840" cy="7858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785880"/>
              <a:gd name="textAreaBottom" fmla="*/ 77868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3071880" y="42876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7- 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5357880" y="50004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3x + y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+ 2 (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7 – 3x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)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вал 5"/>
          <p:cNvSpPr/>
          <p:nvPr/>
        </p:nvSpPr>
        <p:spPr>
          <a:xfrm>
            <a:off x="3929040" y="500040"/>
            <a:ext cx="1071720" cy="42876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Прямая со стрелкой 7"/>
          <p:cNvCxnSpPr/>
          <p:nvPr/>
        </p:nvCxnSpPr>
        <p:spPr>
          <a:xfrm flipH="1">
            <a:off x="2571120" y="857160"/>
            <a:ext cx="1429560" cy="286560"/>
          </a:xfrm>
          <a:prstGeom prst="straightConnector1">
            <a:avLst/>
          </a:prstGeom>
          <a:ln w="19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23" name="Овал 8"/>
          <p:cNvSpPr/>
          <p:nvPr/>
        </p:nvSpPr>
        <p:spPr>
          <a:xfrm>
            <a:off x="1643040" y="928800"/>
            <a:ext cx="357120" cy="50004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Левая фигурная скобка 9"/>
          <p:cNvSpPr/>
          <p:nvPr/>
        </p:nvSpPr>
        <p:spPr>
          <a:xfrm>
            <a:off x="5357880" y="642960"/>
            <a:ext cx="214200" cy="71424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714240"/>
              <a:gd name="textAreaBottom" fmla="*/ 70884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Прямая со стрелкой 13"/>
          <p:cNvCxnSpPr>
            <a:stCxn id="421" idx="5"/>
          </p:cNvCxnSpPr>
          <p:nvPr/>
        </p:nvCxnSpPr>
        <p:spPr>
          <a:xfrm>
            <a:off x="4843440" y="864720"/>
            <a:ext cx="1944000" cy="135720"/>
          </a:xfrm>
          <a:prstGeom prst="straightConnector1">
            <a:avLst/>
          </a:prstGeom>
          <a:ln w="19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26" name="Овал 14"/>
          <p:cNvSpPr/>
          <p:nvPr/>
        </p:nvSpPr>
        <p:spPr>
          <a:xfrm>
            <a:off x="6786720" y="1000080"/>
            <a:ext cx="1285560" cy="42876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5"/>
          <p:cNvSpPr/>
          <p:nvPr/>
        </p:nvSpPr>
        <p:spPr>
          <a:xfrm>
            <a:off x="1000080" y="2000160"/>
            <a:ext cx="292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+ 14 – 6x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- 6x = 3 –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11x = 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22"/>
          <p:cNvSpPr/>
          <p:nvPr/>
        </p:nvSpPr>
        <p:spPr>
          <a:xfrm>
            <a:off x="928800" y="3357720"/>
            <a:ext cx="1071360" cy="42840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олилиния 25"/>
          <p:cNvSpPr/>
          <p:nvPr/>
        </p:nvSpPr>
        <p:spPr>
          <a:xfrm>
            <a:off x="2019240" y="939960"/>
            <a:ext cx="2703600" cy="2616120"/>
          </a:xfrm>
          <a:prstGeom prst="pie">
            <a:avLst/>
          </a:pr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Прямая со стрелкой 27"/>
          <p:cNvCxnSpPr/>
          <p:nvPr/>
        </p:nvCxnSpPr>
        <p:spPr>
          <a:xfrm flipH="1" flipV="1">
            <a:off x="4571640" y="928080"/>
            <a:ext cx="72000" cy="21492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31" name="Прямая со стрелкой 29"/>
          <p:cNvCxnSpPr/>
          <p:nvPr/>
        </p:nvCxnSpPr>
        <p:spPr>
          <a:xfrm>
            <a:off x="4713840" y="928440"/>
            <a:ext cx="143640" cy="285804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32" name="TextBox 30"/>
          <p:cNvSpPr/>
          <p:nvPr/>
        </p:nvSpPr>
        <p:spPr>
          <a:xfrm>
            <a:off x="3571920" y="385776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= 7 – 3•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1"/>
          <p:cNvSpPr/>
          <p:nvPr/>
        </p:nvSpPr>
        <p:spPr>
          <a:xfrm>
            <a:off x="785880" y="4857840"/>
            <a:ext cx="792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твет :</a:t>
            </a: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Решением системы является пара чис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x = 1;  y = 4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или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(1;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4" dur="2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7" dur="2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1"/>
          <p:cNvSpPr/>
          <p:nvPr/>
        </p:nvSpPr>
        <p:spPr>
          <a:xfrm>
            <a:off x="714240" y="0"/>
            <a:ext cx="7858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ри решении системы двух линейных уравнений с двумя переменными ну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выразить из какого-нибудь уравнения одну переменную через другу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подставить в другое уравнение системы вместо этой переменной полученное выраж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решить получившееся уравнение с одной п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найти соответствующее значение второй п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2"/>
          <p:cNvSpPr/>
          <p:nvPr/>
        </p:nvSpPr>
        <p:spPr>
          <a:xfrm>
            <a:off x="500040" y="1143000"/>
            <a:ext cx="8358120" cy="4786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1:45:06Z</dcterms:created>
  <dc:creator>Алёна</dc:creator>
  <dc:description/>
  <dc:language>en-US</dc:language>
  <cp:lastModifiedBy>iLvit</cp:lastModifiedBy>
  <dcterms:modified xsi:type="dcterms:W3CDTF">2012-04-11T17:50:32Z</dcterms:modified>
  <cp:revision>49</cp:revision>
  <dc:subject/>
  <dc:title>Слайд 1</dc:title>
</cp:coreProperties>
</file>