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7D9D-CD88-4123-B571-1C10018B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C53-0857-4B86-920A-5FE0E44B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3646A-1281-49D4-8FAD-383599D5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F5890-A1F0-4504-96D9-73C28357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DAED6-E82F-458C-886F-D2A130ED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7AE5D-9D24-46DB-AF85-CE7DFBE3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2F5EB-D9AA-43B8-A651-4C2E8A2F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C2BB2-A94B-4B3B-A228-A5D447F2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A7F08-AE7B-4451-8AF2-8D9BB46F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9B43A-6781-4E02-98B2-A0EB0E9B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13527-4357-4352-8E1D-3BE106A3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8B7-FA94-4BF3-9ACB-B55673A9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35B-FB16-46B3-B973-51A9594D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BBA-9754-479A-A95A-289CAC5A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135-BCF5-47FB-9396-22EBB345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61AF-6A6F-4CFA-BE10-B05D8766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C494-DF4E-4B6C-81D4-734827F6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7020-8934-4DA0-A59A-3C10C129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5497-4037-49F5-B773-478307EC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E141-D463-4DC9-9CF8-CB273EF2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04D-D9DE-4DB5-BF21-B0F9A9D3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48E-A256-424B-A34E-6AB9C922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0155-55F3-49C1-B752-FF9D2A66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628E-EB30-4710-90E1-C07047EA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D3FB-E2E6-4AA9-9189-B11D853F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6C9D-CF1A-4053-9192-45D305BF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10E6-3E69-4BC6-8B38-B4883B76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F855-1D5E-4BB2-885D-F175855D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D464-E8EE-4FAF-A890-1EECAC0D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912C-182F-4CA3-AB5E-406F2332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F6A8-1F72-4FFD-99DA-9D7A3FBD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89D-A42C-4E93-9B56-8ABCB1A4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5105-C20B-4914-9715-D1EC1B51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8395-F17A-409A-879B-0EE7FC0B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C0A0-5586-4C1A-917C-B0BF572C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7A50-48B6-4ED8-B4F2-9CF55EA4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32EC-FAB9-48D6-BE34-9690E271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BF39-EE2B-4231-84EA-F2A798CB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E18EA-A90B-435F-887F-ABF6D76E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93D51-4CD7-4FFC-A3FE-4F619F1E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9128E-D144-4E8E-9026-700389C3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97445-E6A3-4E66-BEFE-67C1DC8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2BE-9DB8-4AD0-9721-8D7177BC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10373-AA6C-4167-9AE9-D678FCCC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72A51-7379-4C98-83C5-2BCB423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E1F0-4FFD-4857-AE95-34287E52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21E57-4D85-4318-B22B-8DCB2D22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4F656-81F4-48A7-AEC5-BFA84F67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F224-5681-4691-A39A-162AE471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9ACF-48C9-4261-AFEB-9048D46C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CB42-37BC-47BE-8DAA-DF2758EA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25417-26B9-4551-AEF4-F1DD9450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BA09F-C0BB-49B6-9587-F2110972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A25-8021-4696-8358-84AD9787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5FBD-32D0-4BBE-B513-1ECFF328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7C851-618A-499D-A8D1-3A7E0CE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7145-0C20-482E-9478-7673A315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E404C-F5EB-479D-ABF8-D40A160C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1FB0-FF0C-4754-B859-1DD669AB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D299D-BFEC-4E19-A4B6-69D9B444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66E7F-963F-471D-BE80-FB802A9C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D3AD-159E-4AA7-A4EF-51642EAD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ED28C-EE8D-4016-8C16-7D5AB625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EB3C7-2B84-470C-B98A-622B0A48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76B-D722-446B-BDC1-07980EB8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13A4B-ACDC-49DC-AF4A-B8836461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ABD05-A5ED-4BA1-BC43-69D13A37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C663E-BD8C-45A6-AE6E-82A83FB6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1ACD8-9403-4246-8B5D-3DFD6737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B71A6-727F-417A-B60E-18692EE3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34A98-AE72-4668-859B-7D4A5E24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6416E-2C13-46E8-ADC3-4438DA90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6CCC-C113-4F1B-97BD-820D7784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3DE35-E3C0-4635-B50B-DE5133C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667E6-ED7F-4EF0-8AFC-4FFF4097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821-E866-4F98-9CD4-40C249D4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09F68-C94B-4069-AB74-3F3B0831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995B-7E93-4DCC-A44D-ED2FCEC5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7E4CB-47FD-4DB7-8263-13F47C36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3B6C2-25A6-4B33-B37C-45CB7FBD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A3DFB-320C-4FFE-BF32-79B6133D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D4C6E-32EE-49EA-A9BA-D2CFB42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048C6-6B49-47CF-A3DE-F9BF1BF6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0F0EC-C684-41F6-B5E7-21C9898E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6D401-B3E1-4EC2-940E-8C9AE877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B1802-DC76-4A51-BA66-C7EEE507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068-F246-4BB0-BCAC-F73E900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60B2-991C-4348-8399-79BD56B2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649C-699B-442A-A0BB-25830A4C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808C4-511E-4831-A358-FFE0A361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7D855-AA17-4252-9BC8-391972FB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E294-678A-48A8-BE39-6C912B9D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F4893-33EE-4F3D-890C-FE35722E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FBF56-D06A-4D8F-800C-9D0FD1B5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3E600-433E-42F7-B66F-3934CDAB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1A29D-3370-4CDB-A9A3-BF4B8B1B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C6BE8-1830-4EC8-85F1-2E7236B9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298-C4A3-41C9-BCE4-BFB75B3B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E94B8-9DE8-49B0-9D4E-34268DE9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30644-35C3-4ABC-B80F-40D5ADA5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37B5E-8222-4F62-A9F7-8220C387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9422E-C305-4F7E-84CD-5650F22D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A914A-1219-4BF1-B082-2038E36C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4746A-40F5-4F37-8E05-149B2E95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329CF-7D59-4F33-8EFA-0A50EF9E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B3C51-C518-4F6B-B9EE-A96F6308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B95B0-3E49-4644-8C0C-2563C34E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29428-3F18-468B-9907-503D067C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CB6B-A434-42E7-B751-B223FA569A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E669-D778-4FD7-93A4-91B8FBF8D9A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22AC-BDDA-4A74-AFCE-35FB791271D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2EC4-B7FE-4777-A7BA-5FE884A237C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DCAD-2B37-4BB0-A036-E9EDDE30A4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E093-90E0-4FFD-A824-F033D0A08CB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EA70-86E9-486E-A5EC-BEEC132F9C7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4B6A-2AA3-41F7-A35F-AE59CC30AF1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59D7-42CE-410A-9492-18795665BE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24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Не говори, что делал, 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dd2b1"/>
                </a:solidFill>
                <a:latin typeface="Franklin Gothic Book"/>
              </a:rPr>
              <a:t>а говори, что сделал.</a:t>
            </a:r>
            <a:endParaRPr b="0" lang="en-US" sz="54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ddd2b1"/>
                </a:solidFill>
                <a:latin typeface="Franklin Gothic Book"/>
              </a:rPr>
              <a:t>(пословица)</a:t>
            </a:r>
            <a:endParaRPr b="0" lang="en-US" sz="48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всем  удачи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500120" y="214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овторение основных 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28760" y="71424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…,            которая обращает каждое уравнение системы в …       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…                  или доказать, что…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…; система не имеет решений, если прямые …        ; если прямые …                    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1500120" y="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овер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"/>
          <p:cNvSpPr/>
          <p:nvPr/>
        </p:nvSpPr>
        <p:spPr>
          <a:xfrm>
            <a:off x="1000080" y="1285920"/>
            <a:ext cx="300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428760" y="42876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м системы уравнений с двумя переменными н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 значений переме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ая обращает каждое уравнение системы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ен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ь систему уравнений – значит найт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се ее реш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доказать, чт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й н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ми линейных уравнений системы являю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я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имеет единственное решение, если эт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ресекаю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система не имеет решений,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ралл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если прям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овпад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решений бесконечно м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у двух линейных уравнений с двумя переменными можно решить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рафически, способом перебора (подбора), подстановки, слож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-648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560" y="1071360"/>
            <a:ext cx="41907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4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8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х = 0,16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х - 7 =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2(3 – х) = 9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– 3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2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:           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4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+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= 7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5у = -0,2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-4у + 1 = 2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3(у – 15) = 0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1071720"/>
            <a:ext cx="4190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1 вариант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4 –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8 – 2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0,04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4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х = -1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7960" y="1071720"/>
            <a:ext cx="4343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Franklin Gothic Book"/>
              </a:rPr>
              <a:t>2 вариан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 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x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2 + 3у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ыразить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у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через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 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Franklin Gothic Book"/>
              </a:rPr>
              <a:t>y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 = 7 – 4х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ешить уравнения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0,0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-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Franklin Gothic Book"/>
              </a:rPr>
              <a:t>у = 1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се правильно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8-9 правильных ответов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7-6-5  правильных ответов –   </a:t>
            </a:r>
            <a:r>
              <a:rPr b="0" i="1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В  остальных случаях –    «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i="1" lang="ru-RU" sz="3200" spc="-1" strike="noStrike">
                <a:solidFill>
                  <a:srgbClr val="4e3b30"/>
                </a:solidFill>
                <a:latin typeface="Arial"/>
                <a:ea typeface="Arial"/>
              </a:rPr>
              <a:t>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1"/>
          <p:cNvSpPr/>
          <p:nvPr/>
        </p:nvSpPr>
        <p:spPr>
          <a:xfrm>
            <a:off x="1357200" y="714240"/>
            <a:ext cx="6786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42920" y="428760"/>
            <a:ext cx="25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 5x +2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Левая фигурная скобка 2"/>
          <p:cNvSpPr/>
          <p:nvPr/>
        </p:nvSpPr>
        <p:spPr>
          <a:xfrm>
            <a:off x="285840" y="500040"/>
            <a:ext cx="285840" cy="78588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785880"/>
              <a:gd name="textAreaBottom" fmla="*/ 7786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3071880" y="428760"/>
            <a:ext cx="192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- 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5357880" y="5000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x + y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2 (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7 – 3x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)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5"/>
          <p:cNvSpPr/>
          <p:nvPr/>
        </p:nvSpPr>
        <p:spPr>
          <a:xfrm>
            <a:off x="3929040" y="500040"/>
            <a:ext cx="107172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Прямая со стрелкой 7"/>
          <p:cNvCxnSpPr/>
          <p:nvPr/>
        </p:nvCxnSpPr>
        <p:spPr>
          <a:xfrm flipH="1">
            <a:off x="2571120" y="857160"/>
            <a:ext cx="1429560" cy="28656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3" name="Овал 8"/>
          <p:cNvSpPr/>
          <p:nvPr/>
        </p:nvSpPr>
        <p:spPr>
          <a:xfrm>
            <a:off x="1643040" y="928800"/>
            <a:ext cx="357120" cy="50004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Левая фигурная скобка 9"/>
          <p:cNvSpPr/>
          <p:nvPr/>
        </p:nvSpPr>
        <p:spPr>
          <a:xfrm>
            <a:off x="5357880" y="642960"/>
            <a:ext cx="214200" cy="71424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10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Прямая со стрелкой 13"/>
          <p:cNvCxnSpPr>
            <a:stCxn id="421" idx="5"/>
          </p:cNvCxnSpPr>
          <p:nvPr/>
        </p:nvCxnSpPr>
        <p:spPr>
          <a:xfrm>
            <a:off x="4843440" y="864720"/>
            <a:ext cx="1944000" cy="135720"/>
          </a:xfrm>
          <a:prstGeom prst="straightConnector1">
            <a:avLst/>
          </a:prstGeom>
          <a:ln w="19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26" name="Овал 14"/>
          <p:cNvSpPr/>
          <p:nvPr/>
        </p:nvSpPr>
        <p:spPr>
          <a:xfrm>
            <a:off x="6786720" y="1000080"/>
            <a:ext cx="1285560" cy="42876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1000080" y="2000160"/>
            <a:ext cx="2928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+ 14 – 6x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5x - 6x = 3 –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11x = 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х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2"/>
          <p:cNvSpPr/>
          <p:nvPr/>
        </p:nvSpPr>
        <p:spPr>
          <a:xfrm>
            <a:off x="928800" y="3357720"/>
            <a:ext cx="1071360" cy="42840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лилиния 25"/>
          <p:cNvSpPr/>
          <p:nvPr/>
        </p:nvSpPr>
        <p:spPr>
          <a:xfrm>
            <a:off x="2019240" y="939960"/>
            <a:ext cx="2703600" cy="2616120"/>
          </a:xfrm>
          <a:prstGeom prst="pie">
            <a:avLst/>
          </a:pr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Прямая со стрелкой 27"/>
          <p:cNvCxnSpPr/>
          <p:nvPr/>
        </p:nvCxnSpPr>
        <p:spPr>
          <a:xfrm flipH="1" flipV="1">
            <a:off x="4571640" y="928080"/>
            <a:ext cx="72000" cy="2149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31" name="Прямая со стрелкой 29"/>
          <p:cNvCxnSpPr/>
          <p:nvPr/>
        </p:nvCxnSpPr>
        <p:spPr>
          <a:xfrm>
            <a:off x="4713840" y="928440"/>
            <a:ext cx="143640" cy="285804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32" name="TextBox 30"/>
          <p:cNvSpPr/>
          <p:nvPr/>
        </p:nvSpPr>
        <p:spPr>
          <a:xfrm>
            <a:off x="3571920" y="385776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= 7 – 3•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Franklin Gothic Book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1"/>
          <p:cNvSpPr/>
          <p:nvPr/>
        </p:nvSpPr>
        <p:spPr>
          <a:xfrm>
            <a:off x="785880" y="4857840"/>
            <a:ext cx="792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твет :</a:t>
            </a: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Franklin Gothic Book"/>
              </a:rPr>
              <a:t>Решением системы является пара чисе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x = 1;  y = 4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ли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(1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4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7" dur="20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1"/>
          <p:cNvSpPr/>
          <p:nvPr/>
        </p:nvSpPr>
        <p:spPr>
          <a:xfrm>
            <a:off x="714240" y="0"/>
            <a:ext cx="7858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Franklin Gothic Book"/>
              </a:rPr>
              <a:t>При решении системы двух линейных уравнений с двумя переменными нуж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выразить из какого-нибудь уравнения одну переменную через другу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подставить в другое уравнение системы вместо этой переменной полученное выраж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решить получившееся уравнение с одн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найти соответствующее значение втор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Franklin Gothic Book"/>
              </a:rPr>
              <a:t>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2"/>
          <p:cNvSpPr/>
          <p:nvPr/>
        </p:nvSpPr>
        <p:spPr>
          <a:xfrm>
            <a:off x="500040" y="1143000"/>
            <a:ext cx="8358120" cy="4786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1:45:06Z</dcterms:created>
  <dc:creator>Алёна</dc:creator>
  <dc:description/>
  <dc:language>en-US</dc:language>
  <cp:lastModifiedBy>iLvit</cp:lastModifiedBy>
  <dcterms:modified xsi:type="dcterms:W3CDTF">2012-04-11T17:50:32Z</dcterms:modified>
  <cp:revision>49</cp:revision>
  <dc:subject/>
  <dc:title>Слайд 1</dc:title>
</cp:coreProperties>
</file>