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11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E22E-BFEE-4ED4-B6E8-604C3E7FF1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2EA5-3AA4-41F1-BBF4-267B3C0C61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546-8A71-4844-A9B5-EA041614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D8E-F9C9-495E-8DB2-7BC4179B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B6F6-9D72-4FDD-9A0B-6B5EAA19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4B3-A1A8-461D-B533-163E35A8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89B-F318-44EC-984D-9F0FB514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9147-5177-48EC-8216-F601C2C0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FED2-FE94-486B-9034-4BF1BB16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76D-9A37-4CEF-BCEA-730A9CC4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1E3C-DB7E-496B-A346-18D3AA7B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F4D1-5454-4DC7-850D-35F5AED2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0624-E3A6-409D-80A4-D70C02B6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0959-4855-46D7-B46B-F833ABE7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0B88-ECAD-4493-903E-349B8F9B5C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 rot="20871600">
            <a:off x="1692000" y="3357720"/>
            <a:ext cx="568944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PASSIVE VOI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49" name="Picture 14" descr="3315_18 (2)"/>
          <p:cNvPicPr/>
          <p:nvPr/>
        </p:nvPicPr>
        <p:blipFill>
          <a:blip r:embed="rId1"/>
          <a:stretch/>
        </p:blipFill>
        <p:spPr>
          <a:xfrm>
            <a:off x="4140360" y="260280"/>
            <a:ext cx="4225680" cy="279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newspaper  /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ead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/the 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unemployed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wspaper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is being rea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unemployed pers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IMAGE445"/>
          <p:cNvPicPr/>
          <p:nvPr/>
        </p:nvPicPr>
        <p:blipFill>
          <a:blip r:embed="rId1"/>
          <a:stretch/>
        </p:blipFill>
        <p:spPr>
          <a:xfrm>
            <a:off x="1571760" y="1428840"/>
            <a:ext cx="6267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CF0C-0B88-4E2B-8482-79FF11A7ED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04920" y="1600200"/>
          <a:ext cx="8229600" cy="427680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85" name="Rectangle 40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4"/>
          <p:cNvSpPr/>
          <p:nvPr/>
        </p:nvSpPr>
        <p:spPr>
          <a:xfrm>
            <a:off x="4067280" y="3933720"/>
            <a:ext cx="468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/is/ are + V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/is are + being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 Ben 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is being reconstruc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66"/>
          <p:cNvSpPr/>
          <p:nvPr/>
        </p:nvSpPr>
        <p:spPr>
          <a:xfrm rot="2080200">
            <a:off x="3938760" y="2994120"/>
            <a:ext cx="1933560" cy="637920"/>
          </a:xfrm>
          <a:prstGeom prst="rightArrow">
            <a:avLst>
              <a:gd name="adj1" fmla="val 50000"/>
              <a:gd name="adj2" fmla="val 531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FD1E-01AA-45FF-938A-A97649C626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91" name="Rectangle 35"/>
          <p:cNvSpPr/>
          <p:nvPr/>
        </p:nvSpPr>
        <p:spPr>
          <a:xfrm>
            <a:off x="1908000" y="98100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6"/>
          <p:cNvSpPr/>
          <p:nvPr/>
        </p:nvSpPr>
        <p:spPr>
          <a:xfrm>
            <a:off x="3203640" y="2205000"/>
            <a:ext cx="6551640" cy="273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/were + V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               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/ were + being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minister Abbey 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was being reconstru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38"/>
          <p:cNvSpPr/>
          <p:nvPr/>
        </p:nvSpPr>
        <p:spPr>
          <a:xfrm rot="18669600">
            <a:off x="4002840" y="4934520"/>
            <a:ext cx="1049400" cy="485640"/>
          </a:xfrm>
          <a:prstGeom prst="rightArrow">
            <a:avLst>
              <a:gd name="adj1" fmla="val 50000"/>
              <a:gd name="adj2" fmla="val 54021"/>
            </a:avLst>
          </a:prstGeom>
          <a:solidFill>
            <a:srgbClr val="0066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indefinite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t’s practi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6FBA-0BF2-4BE5-85DE-DF7ED7FC2E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C:\Documents and Settings\Дима\Рабочий стол\ГИФ\стрелка.gif"/>
          <p:cNvPicPr/>
          <p:nvPr/>
        </p:nvPicPr>
        <p:blipFill>
          <a:blip r:embed="rId1"/>
          <a:stretch/>
        </p:blipFill>
        <p:spPr>
          <a:xfrm>
            <a:off x="4167360" y="3924360"/>
            <a:ext cx="8092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from 5 till 5.3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.m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m and Ann/</a:t>
            </a: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protect against th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rain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/ the umbre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and An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ere be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ed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IMAGE446"/>
          <p:cNvPicPr/>
          <p:nvPr/>
        </p:nvPicPr>
        <p:blipFill>
          <a:blip r:embed="rId1"/>
          <a:stretch/>
        </p:blipFill>
        <p:spPr>
          <a:xfrm>
            <a:off x="857160" y="1714680"/>
            <a:ext cx="7315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6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F523-4CFA-4CCC-B5E1-8900EE4B78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1600200"/>
          <a:ext cx="8370720" cy="420516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826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being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03" name="Rectangle 35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8"/>
          <p:cNvSpPr/>
          <p:nvPr/>
        </p:nvSpPr>
        <p:spPr>
          <a:xfrm>
            <a:off x="3492360" y="3662280"/>
            <a:ext cx="554364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ll/will hav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                        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ll/will have  been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tyakov Gallery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will have been ope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3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Ju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0"/>
          <p:cNvSpPr/>
          <p:nvPr/>
        </p:nvSpPr>
        <p:spPr>
          <a:xfrm rot="19138200">
            <a:off x="5795640" y="2421000"/>
            <a:ext cx="504720" cy="936720"/>
          </a:xfrm>
          <a:prstGeom prst="downArrow">
            <a:avLst>
              <a:gd name="adj1" fmla="val 50000"/>
              <a:gd name="adj2" fmla="val 46398"/>
            </a:avLst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525F-2BCC-456E-B368-C8A8CA96A2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628640"/>
          <a:ext cx="8229600" cy="432144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have   been +V3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1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being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35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3419640" y="3933720"/>
            <a:ext cx="46083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/has 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                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/has + been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tish Museum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as foun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1753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7"/>
          <p:cNvSpPr/>
          <p:nvPr/>
        </p:nvSpPr>
        <p:spPr>
          <a:xfrm rot="1426800">
            <a:off x="6876720" y="3428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B912-2D22-4ACC-83CA-0CE084C672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00200"/>
          <a:ext cx="8229600" cy="434988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have   been +V3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/ has been 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being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35"/>
          <p:cNvSpPr/>
          <p:nvPr/>
        </p:nvSpPr>
        <p:spPr>
          <a:xfrm>
            <a:off x="2071800" y="100008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1857240" y="2928960"/>
            <a:ext cx="5451480" cy="32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S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S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h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been + V3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I , we, you, th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been + V3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m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has</a:t>
            </a:r>
            <a:r>
              <a:rPr b="1" lang="en-US" sz="2400" spc="-1" strike="noStrike" u="sng">
                <a:solidFill>
                  <a:srgbClr val="00b0f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</a:rPr>
              <a:t>be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clea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37"/>
          <p:cNvSpPr/>
          <p:nvPr/>
        </p:nvSpPr>
        <p:spPr>
          <a:xfrm rot="20480400">
            <a:off x="6694200" y="4078080"/>
            <a:ext cx="1014480" cy="485640"/>
          </a:xfrm>
          <a:prstGeom prst="leftArrow">
            <a:avLst>
              <a:gd name="adj1" fmla="val 50000"/>
              <a:gd name="adj2" fmla="val 522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Let’s practis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9F97-3C35-43C6-B8DF-70C9B4BAE6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C:\Documents and Settings\Дима\Рабочий стол\ГИФ\из окна.gif"/>
          <p:cNvPicPr/>
          <p:nvPr/>
        </p:nvPicPr>
        <p:blipFill>
          <a:blip r:embed="rId1"/>
          <a:stretch/>
        </p:blipFill>
        <p:spPr>
          <a:xfrm>
            <a:off x="2286000" y="1419120"/>
            <a:ext cx="42861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Not long ag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key/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lo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 J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IMAGE450"/>
          <p:cNvPicPr/>
          <p:nvPr/>
        </p:nvPicPr>
        <p:blipFill>
          <a:blip r:embed="rId1"/>
          <a:stretch/>
        </p:blipFill>
        <p:spPr>
          <a:xfrm>
            <a:off x="1066680" y="1752480"/>
            <a:ext cx="62294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030F-7366-46C1-A608-1B099C9173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Как часто вы используете пассивный залог в своей речи?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How often do you use Passive Voice in your spee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5560" y="3429000"/>
            <a:ext cx="717084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DC39-E3EB-4973-8B58-FB39CC613B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1773360"/>
          <a:ext cx="8229600" cy="420660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have   </a:t>
                      </a: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bee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V3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be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/ has </a:t>
                      </a: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bee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be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 </a:t>
                      </a: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bee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7" name="Rectangle 35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371B-AAEE-4876-B473-69245FF6D7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Y  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3933720"/>
            <a:ext cx="8447040" cy="22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e redecorated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apar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partment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 been redecorated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by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BJECT AND THE OBJECT  REPLACED EACH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3132000" y="4221000"/>
            <a:ext cx="3598920" cy="503280"/>
          </a:xfrm>
          <a:prstGeom prst="line">
            <a:avLst/>
          </a:prstGeom>
          <a:ln w="381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9"/>
          <p:cNvSpPr/>
          <p:nvPr/>
        </p:nvSpPr>
        <p:spPr>
          <a:xfrm flipH="1">
            <a:off x="3708000" y="4292640"/>
            <a:ext cx="1655640" cy="3952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4" descr="IMAGE455"/>
          <p:cNvPicPr/>
          <p:nvPr/>
        </p:nvPicPr>
        <p:blipFill>
          <a:blip r:embed="rId1"/>
          <a:stretch/>
        </p:blipFill>
        <p:spPr>
          <a:xfrm>
            <a:off x="1908000" y="1125360"/>
            <a:ext cx="381024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262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6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AE71-709D-4EE4-BF7D-D00FA76339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We have learned ,that Passive Voice is everywhere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ы доказали, что употребление страдательного залога –явление часто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8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8676-C01D-4F15-B436-A6D2D508CC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smail_696191579"/>
          <p:cNvPicPr/>
          <p:nvPr/>
        </p:nvPicPr>
        <p:blipFill>
          <a:blip r:embed="rId1"/>
          <a:stretch/>
        </p:blipFill>
        <p:spPr>
          <a:xfrm>
            <a:off x="3132000" y="2492280"/>
            <a:ext cx="28576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DBBD-9426-4D84-9540-4FD0000366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Нужен ли Страдательный залог в грамматике английского язык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0080" y="3571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s it necessary to learn the theme Passive Vo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ACD5-294F-4D6E-8D34-C8E1CEDFB3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ASSIVE VOICE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is used when something is done to the su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5373720"/>
            <a:ext cx="7772400" cy="792000"/>
          </a:xfrm>
          <a:prstGeom prst="rect">
            <a:avLst/>
          </a:prstGeom>
          <a:solidFill>
            <a:srgbClr val="dddddd"/>
          </a:solidFill>
          <a:ln w="38160">
            <a:solidFill>
              <a:srgbClr val="6600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omato soup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 BEING EA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the sp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8" descr="IMAGE442"/>
          <p:cNvPicPr/>
          <p:nvPr/>
        </p:nvPicPr>
        <p:blipFill>
          <a:blip r:embed="rId1"/>
          <a:stretch/>
        </p:blipFill>
        <p:spPr>
          <a:xfrm>
            <a:off x="1763640" y="2133720"/>
            <a:ext cx="511344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744F-26F0-4C1E-A3ED-6FAC313EB9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 long ago the key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has been lost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r.Fi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066920" y="422100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6" descr="IMAGE450"/>
          <p:cNvPicPr/>
          <p:nvPr/>
        </p:nvPicPr>
        <p:blipFill>
          <a:blip r:embed="rId1"/>
          <a:stretch/>
        </p:blipFill>
        <p:spPr>
          <a:xfrm>
            <a:off x="611280" y="2205000"/>
            <a:ext cx="4608360" cy="2746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7E85-E368-486B-98E6-52698D0B44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THE GENERAL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2120" y="1371600"/>
            <a:ext cx="7772400" cy="99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660033"/>
            </a:solidFill>
            <a:miter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                    </a:t>
            </a: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to BE +  V</a:t>
            </a:r>
            <a:r>
              <a:rPr b="1" lang="en-US" sz="4800" spc="-1" strike="noStrike" baseline="-25000">
                <a:solidFill>
                  <a:srgbClr val="660033"/>
                </a:solidFill>
                <a:latin typeface="Times New Roman"/>
              </a:rPr>
              <a:t>  3  or V 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660033"/>
                </a:solidFill>
                <a:latin typeface="UniversalMath1 BT"/>
                <a:ea typeface="UniversalMath1 BT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590920"/>
            <a:ext cx="7391520" cy="3962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changed according to the tense and the subjec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Present Simple: to be = am / is /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owers are watered by him every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Past Simple: to be = was /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owers were watered by him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Future Simple: to be = shall /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owers will be  watered by him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894F-1999-42A1-99FD-19DF51D901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ACT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9"/>
          <p:cNvSpPr/>
          <p:nvPr/>
        </p:nvSpPr>
        <p:spPr>
          <a:xfrm>
            <a:off x="1828800" y="6019920"/>
            <a:ext cx="59436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exist in Passive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04920" y="1676520"/>
          <a:ext cx="8229600" cy="4119480"/>
        </p:xfrm>
        <a:graphic>
          <a:graphicData uri="http://schemas.openxmlformats.org/drawingml/2006/table">
            <a:tbl>
              <a:tblPr/>
              <a:tblGrid>
                <a:gridCol w="1295280"/>
                <a:gridCol w="1752480"/>
                <a:gridCol w="2057400"/>
                <a:gridCol w="1905120"/>
                <a:gridCol w="12193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 Prog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 V3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 ing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/h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 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 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t’s pract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E343-3663-4C21-9105-046F5D3CBF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C:\Documents and Settings\Дима\Рабочий стол\ГИФ\на книге.gif"/>
          <p:cNvPicPr/>
          <p:nvPr/>
        </p:nvPicPr>
        <p:blipFill>
          <a:blip r:embed="rId1"/>
          <a:stretch/>
        </p:blipFill>
        <p:spPr>
          <a:xfrm>
            <a:off x="3071880" y="2286000"/>
            <a:ext cx="292896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Music/ listen/ Hip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4571640"/>
            <a:ext cx="80010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ic </a:t>
            </a:r>
            <a:r>
              <a:rPr b="0" lang="en-US" sz="3200" spc="-1" strike="noStrike">
                <a:solidFill>
                  <a:srgbClr val="22228b"/>
                </a:solidFill>
                <a:latin typeface="Times New Roman"/>
              </a:rPr>
              <a:t>is being listen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Hippi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IMAGE443"/>
          <p:cNvPicPr/>
          <p:nvPr/>
        </p:nvPicPr>
        <p:blipFill>
          <a:blip r:embed="rId1"/>
          <a:stretch/>
        </p:blipFill>
        <p:spPr>
          <a:xfrm>
            <a:off x="1447920" y="1523880"/>
            <a:ext cx="683892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7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05:06:29Z</dcterms:created>
  <dc:creator>TAS</dc:creator>
  <dc:description/>
  <dc:language>en-US</dc:language>
  <cp:lastModifiedBy>acer</cp:lastModifiedBy>
  <dcterms:modified xsi:type="dcterms:W3CDTF">2012-04-16T20:26:44Z</dcterms:modified>
  <cp:revision>68</cp:revision>
  <dc:subject/>
  <dc:title>Презентация PowerPoint</dc:title>
</cp:coreProperties>
</file>