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2233-5D04-41C5-975E-41612E0721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9204-2802-4FC4-A6D5-5B71777C78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77B-700D-4ACF-AC24-7C78ED61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EC9-30F9-4704-B6F3-29487476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3F7-FD55-4A63-9411-B8DA6782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05F0-5A6B-442C-A9DB-2FC22D9C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FD3C-6E34-44F2-B3FC-99EF256C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C33-368D-4E8E-B6FB-BCBEAEF8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EB9-1B27-42EF-9D93-AAC92A0F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386-A038-4791-A1E0-AF4946CB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7879-CE85-4741-9AF4-3CD29946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7E2-BA82-4EBF-8AB8-3108D899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1A5-0FDF-470E-BD4C-160C0372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ED4-5080-44D4-A589-F5014FC5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5EB3-68D9-4521-B6E7-76ABA4ECB8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 rot="20871600">
            <a:off x="1692000" y="3357720"/>
            <a:ext cx="568944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ASSIVE VOI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49" name="Picture 14" descr="3315_18 (2)"/>
          <p:cNvPicPr/>
          <p:nvPr/>
        </p:nvPicPr>
        <p:blipFill>
          <a:blip r:embed="rId1"/>
          <a:stretch/>
        </p:blipFill>
        <p:spPr>
          <a:xfrm>
            <a:off x="4140360" y="260280"/>
            <a:ext cx="4225680" cy="27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newspaper  /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ead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/the 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unemployed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spaper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is being re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unemployed pers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IMAGE445"/>
          <p:cNvPicPr/>
          <p:nvPr/>
        </p:nvPicPr>
        <p:blipFill>
          <a:blip r:embed="rId1"/>
          <a:stretch/>
        </p:blipFill>
        <p:spPr>
          <a:xfrm>
            <a:off x="1571760" y="1428840"/>
            <a:ext cx="6267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3EEA-7561-444A-AEDC-1311374119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1600200"/>
          <a:ext cx="8229600" cy="427680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40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4"/>
          <p:cNvSpPr/>
          <p:nvPr/>
        </p:nvSpPr>
        <p:spPr>
          <a:xfrm>
            <a:off x="4067280" y="3933720"/>
            <a:ext cx="468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/is/ are + V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/is are + being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 Ben 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is being reconstruc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6"/>
          <p:cNvSpPr/>
          <p:nvPr/>
        </p:nvSpPr>
        <p:spPr>
          <a:xfrm rot="2080200">
            <a:off x="3938760" y="2994120"/>
            <a:ext cx="1933560" cy="637920"/>
          </a:xfrm>
          <a:prstGeom prst="rightArrow">
            <a:avLst>
              <a:gd name="adj1" fmla="val 50000"/>
              <a:gd name="adj2" fmla="val 531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4848-3A09-4EAE-8FD2-8E9CBB9C4E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35"/>
          <p:cNvSpPr/>
          <p:nvPr/>
        </p:nvSpPr>
        <p:spPr>
          <a:xfrm>
            <a:off x="1908000" y="98100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6"/>
          <p:cNvSpPr/>
          <p:nvPr/>
        </p:nvSpPr>
        <p:spPr>
          <a:xfrm>
            <a:off x="3203640" y="2205000"/>
            <a:ext cx="6551640" cy="27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/were + V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/ were + being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minister Abbey 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was being reconstru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8"/>
          <p:cNvSpPr/>
          <p:nvPr/>
        </p:nvSpPr>
        <p:spPr>
          <a:xfrm rot="18669600">
            <a:off x="4002840" y="4934520"/>
            <a:ext cx="1049400" cy="485640"/>
          </a:xfrm>
          <a:prstGeom prst="rightArrow">
            <a:avLst>
              <a:gd name="adj1" fmla="val 50000"/>
              <a:gd name="adj2" fmla="val 54021"/>
            </a:avLst>
          </a:prstGeom>
          <a:solidFill>
            <a:srgbClr val="0066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practi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6D9D-15A9-4A06-8365-8015D78D70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C:\Documents and Settings\Дима\Рабочий стол\ГИФ\стрелка.gif"/>
          <p:cNvPicPr/>
          <p:nvPr/>
        </p:nvPicPr>
        <p:blipFill>
          <a:blip r:embed="rId1"/>
          <a:stretch/>
        </p:blipFill>
        <p:spPr>
          <a:xfrm>
            <a:off x="4167360" y="3924360"/>
            <a:ext cx="8092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from 5 till 5.3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.m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m and Ann/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protect against th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rain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 the umbre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and An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ere be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IMAGE446"/>
          <p:cNvPicPr/>
          <p:nvPr/>
        </p:nvPicPr>
        <p:blipFill>
          <a:blip r:embed="rId1"/>
          <a:stretch/>
        </p:blipFill>
        <p:spPr>
          <a:xfrm>
            <a:off x="857160" y="1714680"/>
            <a:ext cx="7315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6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A5D3-5E99-419C-BFCB-444DDEE29A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600200"/>
          <a:ext cx="8370720" cy="42051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82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3492360" y="3662280"/>
            <a:ext cx="554364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l/will hav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l/will have  been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tyakov Gallery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will have been ope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3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Ju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0"/>
          <p:cNvSpPr/>
          <p:nvPr/>
        </p:nvSpPr>
        <p:spPr>
          <a:xfrm rot="19138200">
            <a:off x="5795640" y="2421000"/>
            <a:ext cx="504720" cy="936720"/>
          </a:xfrm>
          <a:prstGeom prst="downArrow">
            <a:avLst>
              <a:gd name="adj1" fmla="val 50000"/>
              <a:gd name="adj2" fmla="val 46398"/>
            </a:avLst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6705-7F9E-40B2-BF13-A503D23902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628640"/>
          <a:ext cx="8229600" cy="432144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been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3419640" y="3933720"/>
            <a:ext cx="46083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/has 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/has + been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tish Museum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as fou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1753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7"/>
          <p:cNvSpPr/>
          <p:nvPr/>
        </p:nvSpPr>
        <p:spPr>
          <a:xfrm rot="1426800">
            <a:off x="6876720" y="3428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1B5A-F12A-47EC-9F60-88261A4F07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229600" cy="434988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been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 has been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35"/>
          <p:cNvSpPr/>
          <p:nvPr/>
        </p:nvSpPr>
        <p:spPr>
          <a:xfrm>
            <a:off x="2071800" y="10000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1857240" y="2928960"/>
            <a:ext cx="5451480" cy="32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S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S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been + V3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I , we, you, th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been + V3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m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has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</a:rPr>
              <a:t>b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clea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7"/>
          <p:cNvSpPr/>
          <p:nvPr/>
        </p:nvSpPr>
        <p:spPr>
          <a:xfrm rot="20480400">
            <a:off x="6694200" y="4078080"/>
            <a:ext cx="1014480" cy="485640"/>
          </a:xfrm>
          <a:prstGeom prst="leftArrow">
            <a:avLst>
              <a:gd name="adj1" fmla="val 50000"/>
              <a:gd name="adj2" fmla="val 522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Let’s practis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6D79-00FF-40BB-A545-5BE18129AD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C:\Documents and Settings\Дима\Рабочий стол\ГИФ\из окна.gif"/>
          <p:cNvPicPr/>
          <p:nvPr/>
        </p:nvPicPr>
        <p:blipFill>
          <a:blip r:embed="rId1"/>
          <a:stretch/>
        </p:blipFill>
        <p:spPr>
          <a:xfrm>
            <a:off x="2286000" y="1419120"/>
            <a:ext cx="4286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Not long ag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key/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lo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 J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IMAGE450"/>
          <p:cNvPicPr/>
          <p:nvPr/>
        </p:nvPicPr>
        <p:blipFill>
          <a:blip r:embed="rId1"/>
          <a:stretch/>
        </p:blipFill>
        <p:spPr>
          <a:xfrm>
            <a:off x="1066680" y="1752480"/>
            <a:ext cx="6229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3CA6-853A-4BF2-A6D3-F76A6C5867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Как часто вы используете пассивный залог в своей речи?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How often do you use Passive Voice in your spee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560" y="3429000"/>
            <a:ext cx="717084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5080-A9B6-418A-A3AC-B563E3ADD8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773360"/>
          <a:ext cx="8229600" cy="420660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e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 has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e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441C-2EB2-4FCB-89C3-9DCA7C8787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Y  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3933720"/>
            <a:ext cx="8447040" cy="22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e redecorated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apar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artment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 been redecorated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by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 AND THE OBJECT  REPLACED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3132000" y="4221000"/>
            <a:ext cx="3598920" cy="503280"/>
          </a:xfrm>
          <a:prstGeom prst="line">
            <a:avLst/>
          </a:prstGeom>
          <a:ln w="381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 flipH="1">
            <a:off x="3708000" y="4292640"/>
            <a:ext cx="1655640" cy="3952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4" descr="IMAGE455"/>
          <p:cNvPicPr/>
          <p:nvPr/>
        </p:nvPicPr>
        <p:blipFill>
          <a:blip r:embed="rId1"/>
          <a:stretch/>
        </p:blipFill>
        <p:spPr>
          <a:xfrm>
            <a:off x="1908000" y="1125360"/>
            <a:ext cx="38102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6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9460-AE5B-43A1-B3BE-687620C28A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We have learned ,that Passive Voice is everywhere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ы доказали, что употребление страдательного залога –явление часто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27F6-5BB8-4C2D-B016-41A683527F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smail_696191579"/>
          <p:cNvPicPr/>
          <p:nvPr/>
        </p:nvPicPr>
        <p:blipFill>
          <a:blip r:embed="rId1"/>
          <a:stretch/>
        </p:blipFill>
        <p:spPr>
          <a:xfrm>
            <a:off x="3132000" y="2492280"/>
            <a:ext cx="2857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62B2-DB4A-4F95-9C6E-3C2A07AC7E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Нужен ли Страдательный залог в грамматике английского язы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0080" y="3571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s it necessary to learn the theme Passive Vo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EFB6-0FEA-4E25-B4F6-C050C30281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ASSIVE VOIC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is used when something is done to the su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5373720"/>
            <a:ext cx="7772400" cy="792000"/>
          </a:xfrm>
          <a:prstGeom prst="rect">
            <a:avLst/>
          </a:prstGeom>
          <a:solidFill>
            <a:srgbClr val="dddddd"/>
          </a:solidFill>
          <a:ln w="3816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mato soup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BEING EA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sp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IMAGE442"/>
          <p:cNvPicPr/>
          <p:nvPr/>
        </p:nvPicPr>
        <p:blipFill>
          <a:blip r:embed="rId1"/>
          <a:stretch/>
        </p:blipFill>
        <p:spPr>
          <a:xfrm>
            <a:off x="1763640" y="2133720"/>
            <a:ext cx="51134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1060-F13D-4FCE-9E0F-42E0B51E66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long ago the key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has been lost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r.F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066920" y="422100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6" descr="IMAGE450"/>
          <p:cNvPicPr/>
          <p:nvPr/>
        </p:nvPicPr>
        <p:blipFill>
          <a:blip r:embed="rId1"/>
          <a:stretch/>
        </p:blipFill>
        <p:spPr>
          <a:xfrm>
            <a:off x="611280" y="2205000"/>
            <a:ext cx="4608360" cy="2746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CBC5-1131-44CC-8678-DD5B21BAF2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THE GENERAL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371600"/>
            <a:ext cx="77724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660033"/>
            </a:solidFill>
            <a:miter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                    </a:t>
            </a: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to BE +  V</a:t>
            </a:r>
            <a:r>
              <a:rPr b="1" lang="en-US" sz="4800" spc="-1" strike="noStrike" baseline="-25000">
                <a:solidFill>
                  <a:srgbClr val="660033"/>
                </a:solidFill>
                <a:latin typeface="Times New Roman"/>
              </a:rPr>
              <a:t>  3  or V 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660033"/>
                </a:solidFill>
                <a:latin typeface="UniversalMath1 BT"/>
                <a:ea typeface="UniversalMath1 BT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391520" cy="3962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changed according to the tense and the subjec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resent Simple: to be = am / is /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are watered by him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ast Simple: to be = was /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were watered by him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Future Simple: to be = shall /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will be  watered by him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E060-CA38-43AB-A2F6-1E5DB296D0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CT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9"/>
          <p:cNvSpPr/>
          <p:nvPr/>
        </p:nvSpPr>
        <p:spPr>
          <a:xfrm>
            <a:off x="1828800" y="6019920"/>
            <a:ext cx="59436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exist in Passive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4920" y="1676520"/>
          <a:ext cx="8229600" cy="4119480"/>
        </p:xfrm>
        <a:graphic>
          <a:graphicData uri="http://schemas.openxmlformats.org/drawingml/2006/table">
            <a:tbl>
              <a:tblPr/>
              <a:tblGrid>
                <a:gridCol w="1295280"/>
                <a:gridCol w="1752480"/>
                <a:gridCol w="2057400"/>
                <a:gridCol w="1905120"/>
                <a:gridCol w="12193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 Prog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 V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 ing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h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 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pract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7667-35D8-470D-B7F7-60406E004D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:\Documents and Settings\Дима\Рабочий стол\ГИФ\на книге.gif"/>
          <p:cNvPicPr/>
          <p:nvPr/>
        </p:nvPicPr>
        <p:blipFill>
          <a:blip r:embed="rId1"/>
          <a:stretch/>
        </p:blipFill>
        <p:spPr>
          <a:xfrm>
            <a:off x="3071880" y="2286000"/>
            <a:ext cx="29289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Music/ listen/ Hip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80010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ic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s being listen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Hippi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IMAGE443"/>
          <p:cNvPicPr/>
          <p:nvPr/>
        </p:nvPicPr>
        <p:blipFill>
          <a:blip r:embed="rId1"/>
          <a:stretch/>
        </p:blipFill>
        <p:spPr>
          <a:xfrm>
            <a:off x="1447920" y="1523880"/>
            <a:ext cx="68389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5:06:29Z</dcterms:created>
  <dc:creator>TAS</dc:creator>
  <dc:description/>
  <dc:language>en-US</dc:language>
  <cp:lastModifiedBy>acer</cp:lastModifiedBy>
  <dcterms:modified xsi:type="dcterms:W3CDTF">2012-04-16T20:26:44Z</dcterms:modified>
  <cp:revision>68</cp:revision>
  <dc:subject/>
  <dc:title>Презентация PowerPoint</dc:title>
</cp:coreProperties>
</file>