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2EA-1AB9-4259-B210-8D60E0E786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6455-0361-4F49-BE95-5BB9EA5EA2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7E2-D106-4BAA-B740-271B11A1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B54-ECAC-49D8-AF11-9AD466FD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8C7-D51B-42B5-A9CB-7C6FC487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637-AECA-46E0-8814-3BA6C9C6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98B-4050-4EDC-BAB7-1B7233A4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25E-374F-4E98-9D45-B9D01957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773-B588-485F-BC73-6BD84707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D23-9E11-4F35-9727-7271B29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B98-5C4A-44E6-972D-3E0A53A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E1D-71ED-443A-AB62-A612C36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D67-B158-4ABF-9951-66EFA45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D88-F887-4348-8508-8D432671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85F6-F470-4024-91A9-016E430194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 rot="20871600">
            <a:off x="1692000" y="3357720"/>
            <a:ext cx="56894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ASSIVE VOI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49" name="Picture 14" descr="3315_18 (2)"/>
          <p:cNvPicPr/>
          <p:nvPr/>
        </p:nvPicPr>
        <p:blipFill>
          <a:blip r:embed="rId1"/>
          <a:stretch/>
        </p:blipFill>
        <p:spPr>
          <a:xfrm>
            <a:off x="4140360" y="260280"/>
            <a:ext cx="4225680" cy="27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newspaper  /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ad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/the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unemploy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spaper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is being r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unemployed pers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IMAGE445"/>
          <p:cNvPicPr/>
          <p:nvPr/>
        </p:nvPicPr>
        <p:blipFill>
          <a:blip r:embed="rId1"/>
          <a:stretch/>
        </p:blipFill>
        <p:spPr>
          <a:xfrm>
            <a:off x="1571760" y="1428840"/>
            <a:ext cx="6267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22C1-3F2A-4B79-A743-2399B1D571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600200"/>
          <a:ext cx="8229600" cy="42768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40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4067280" y="3933720"/>
            <a:ext cx="468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/ a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 a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Ben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is being reconstruc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6"/>
          <p:cNvSpPr/>
          <p:nvPr/>
        </p:nvSpPr>
        <p:spPr>
          <a:xfrm rot="2080200">
            <a:off x="3938760" y="2994120"/>
            <a:ext cx="1933560" cy="637920"/>
          </a:xfrm>
          <a:prstGeom prst="rightArrow">
            <a:avLst>
              <a:gd name="adj1" fmla="val 50000"/>
              <a:gd name="adj2" fmla="val 531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EF22-71CD-44F0-8EDB-87A8CF1AB3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5"/>
          <p:cNvSpPr/>
          <p:nvPr/>
        </p:nvSpPr>
        <p:spPr>
          <a:xfrm>
            <a:off x="1908000" y="9810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6"/>
          <p:cNvSpPr/>
          <p:nvPr/>
        </p:nvSpPr>
        <p:spPr>
          <a:xfrm>
            <a:off x="3203640" y="2205000"/>
            <a:ext cx="655164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we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 we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minister Abbey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was being reconstr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8"/>
          <p:cNvSpPr/>
          <p:nvPr/>
        </p:nvSpPr>
        <p:spPr>
          <a:xfrm rot="18669600">
            <a:off x="4002840" y="4934520"/>
            <a:ext cx="1049400" cy="485640"/>
          </a:xfrm>
          <a:prstGeom prst="rightArrow">
            <a:avLst>
              <a:gd name="adj1" fmla="val 50000"/>
              <a:gd name="adj2" fmla="val 54021"/>
            </a:avLst>
          </a:prstGeom>
          <a:solidFill>
            <a:srgbClr val="0066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410A-F4A1-4EAE-B1D1-0180E4F0D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:\Documents and Settings\Дима\Рабочий стол\ГИФ\стрелка.gif"/>
          <p:cNvPicPr/>
          <p:nvPr/>
        </p:nvPicPr>
        <p:blipFill>
          <a:blip r:embed="rId1"/>
          <a:stretch/>
        </p:blipFill>
        <p:spPr>
          <a:xfrm>
            <a:off x="4167360" y="3924360"/>
            <a:ext cx="809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from 5 till 5.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.m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 and Ann/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protect against th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rain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 the umbr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nd An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re be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IMAGE446"/>
          <p:cNvPicPr/>
          <p:nvPr/>
        </p:nvPicPr>
        <p:blipFill>
          <a:blip r:embed="rId1"/>
          <a:stretch/>
        </p:blipFill>
        <p:spPr>
          <a:xfrm>
            <a:off x="857160" y="1714680"/>
            <a:ext cx="731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E854-266E-4F96-9258-A3FB1DC2DF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600200"/>
          <a:ext cx="837072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82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3492360" y="3662280"/>
            <a:ext cx="554364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tyakov Gallery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will have been 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3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J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0"/>
          <p:cNvSpPr/>
          <p:nvPr/>
        </p:nvSpPr>
        <p:spPr>
          <a:xfrm rot="19138200">
            <a:off x="5795640" y="2421000"/>
            <a:ext cx="504720" cy="936720"/>
          </a:xfrm>
          <a:prstGeom prst="down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BE3F-09EA-4EBC-A2E2-2245D8EE8D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628640"/>
          <a:ext cx="8229600" cy="432144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419640" y="3933720"/>
            <a:ext cx="4608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/has 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/has +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Museum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as f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753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7"/>
          <p:cNvSpPr/>
          <p:nvPr/>
        </p:nvSpPr>
        <p:spPr>
          <a:xfrm rot="1426800">
            <a:off x="6876720" y="34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D3A3-BBCA-431E-93E3-6596535174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229600" cy="43498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been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5"/>
          <p:cNvSpPr/>
          <p:nvPr/>
        </p:nvSpPr>
        <p:spPr>
          <a:xfrm>
            <a:off x="2071800" y="10000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857240" y="2928960"/>
            <a:ext cx="5451480" cy="32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I , we, you, th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b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clea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7"/>
          <p:cNvSpPr/>
          <p:nvPr/>
        </p:nvSpPr>
        <p:spPr>
          <a:xfrm rot="20480400">
            <a:off x="6694200" y="4078080"/>
            <a:ext cx="1014480" cy="485640"/>
          </a:xfrm>
          <a:prstGeom prst="leftArrow">
            <a:avLst>
              <a:gd name="adj1" fmla="val 50000"/>
              <a:gd name="adj2" fmla="val 522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Let’s practi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691C-B682-42BA-B3BD-B1E0B84CD1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C:\Documents and Settings\Дима\Рабочий стол\ГИФ\из окна.gif"/>
          <p:cNvPicPr/>
          <p:nvPr/>
        </p:nvPicPr>
        <p:blipFill>
          <a:blip r:embed="rId1"/>
          <a:stretch/>
        </p:blipFill>
        <p:spPr>
          <a:xfrm>
            <a:off x="2286000" y="1419120"/>
            <a:ext cx="4286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Not long ag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key/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lo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 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IMAGE450"/>
          <p:cNvPicPr/>
          <p:nvPr/>
        </p:nvPicPr>
        <p:blipFill>
          <a:blip r:embed="rId1"/>
          <a:stretch/>
        </p:blipFill>
        <p:spPr>
          <a:xfrm>
            <a:off x="1066680" y="1752480"/>
            <a:ext cx="6229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2A2D-79C8-4579-927C-95D4D8399A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Как часто вы используете пассивный залог в своей речи?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How often do you use Passive Voice in your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560" y="3429000"/>
            <a:ext cx="717084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3F45-9713-4C88-9DF2-FE92919B3E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773360"/>
          <a:ext cx="8229600" cy="42066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1A84-8491-4AA1-BFA2-C5EF2703DC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 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447040" cy="22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artment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 been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by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 AND THE OBJECT  REPLACED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132000" y="4221000"/>
            <a:ext cx="3598920" cy="50328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3708000" y="4292640"/>
            <a:ext cx="1655640" cy="3952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4" descr="IMAGE455"/>
          <p:cNvPicPr/>
          <p:nvPr/>
        </p:nvPicPr>
        <p:blipFill>
          <a:blip r:embed="rId1"/>
          <a:stretch/>
        </p:blipFill>
        <p:spPr>
          <a:xfrm>
            <a:off x="1908000" y="1125360"/>
            <a:ext cx="3810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855E-7913-4DB7-BB6E-634012BEFB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We have learned ,that Passive Voice is everywhere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ы доказали, что употребление страдательного залога –явление част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F11C-4554-445E-90D7-F2470A5920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smail_696191579"/>
          <p:cNvPicPr/>
          <p:nvPr/>
        </p:nvPicPr>
        <p:blipFill>
          <a:blip r:embed="rId1"/>
          <a:stretch/>
        </p:blipFill>
        <p:spPr>
          <a:xfrm>
            <a:off x="3132000" y="2492280"/>
            <a:ext cx="2857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8E7B-470F-4DA5-AD6E-EAC7C1836F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ен ли Страдательный залог в грамматике английского язы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0080" y="3571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 it necessary to learn the theme Passive Vo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949F-441A-49D2-BE07-3A890DF36F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ASSIVE VOIC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is used when something is done to the su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5373720"/>
            <a:ext cx="7772400" cy="792000"/>
          </a:xfrm>
          <a:prstGeom prst="rect">
            <a:avLst/>
          </a:prstGeom>
          <a:solidFill>
            <a:srgbClr val="dddddd"/>
          </a:solidFill>
          <a:ln w="381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mato soup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BEING EA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p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IMAGE442"/>
          <p:cNvPicPr/>
          <p:nvPr/>
        </p:nvPicPr>
        <p:blipFill>
          <a:blip r:embed="rId1"/>
          <a:stretch/>
        </p:blipFill>
        <p:spPr>
          <a:xfrm>
            <a:off x="1763640" y="2133720"/>
            <a:ext cx="51134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9DD4-DDB3-474E-948C-151E89AB8D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long ago the key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as been lost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r.F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66920" y="422100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IMAGE450"/>
          <p:cNvPicPr/>
          <p:nvPr/>
        </p:nvPicPr>
        <p:blipFill>
          <a:blip r:embed="rId1"/>
          <a:stretch/>
        </p:blipFill>
        <p:spPr>
          <a:xfrm>
            <a:off x="611280" y="2205000"/>
            <a:ext cx="4608360" cy="274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D1CA-4A09-48E3-A9A5-857EE6A9E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HE GENE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371600"/>
            <a:ext cx="7772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660033"/>
            </a:solidFill>
            <a:miter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                    </a:t>
            </a: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o BE +  V</a:t>
            </a:r>
            <a:r>
              <a:rPr b="1" lang="en-US" sz="4800" spc="-1" strike="noStrike" baseline="-25000">
                <a:solidFill>
                  <a:srgbClr val="660033"/>
                </a:solidFill>
                <a:latin typeface="Times New Roman"/>
              </a:rPr>
              <a:t>  3  or V 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660033"/>
                </a:solidFill>
                <a:latin typeface="UniversalMath1 BT"/>
                <a:ea typeface="UniversalMath1 BT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962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changed according to the tense and the subjec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resent Simple: to be = am / is /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are watered by him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ast Simple: to be = was /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ere watered by him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uture Simple: to be = shall /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ill be  watered by him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F297-ABE3-42CE-AB6C-9B6E4FEFED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9"/>
          <p:cNvSpPr/>
          <p:nvPr/>
        </p:nvSpPr>
        <p:spPr>
          <a:xfrm>
            <a:off x="1828800" y="6019920"/>
            <a:ext cx="5943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exist in Passive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1676520"/>
          <a:ext cx="8229600" cy="4119480"/>
        </p:xfrm>
        <a:graphic>
          <a:graphicData uri="http://schemas.openxmlformats.org/drawingml/2006/table">
            <a:tbl>
              <a:tblPr/>
              <a:tblGrid>
                <a:gridCol w="1295280"/>
                <a:gridCol w="1752480"/>
                <a:gridCol w="2057400"/>
                <a:gridCol w="1905120"/>
                <a:gridCol w="12193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 Prog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 V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F2E7-E77F-46F1-A957-2EFA05BBD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Documents and Settings\Дима\Рабочий стол\ГИФ\на книге.gif"/>
          <p:cNvPicPr/>
          <p:nvPr/>
        </p:nvPicPr>
        <p:blipFill>
          <a:blip r:embed="rId1"/>
          <a:stretch/>
        </p:blipFill>
        <p:spPr>
          <a:xfrm>
            <a:off x="3071880" y="2286000"/>
            <a:ext cx="29289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usic/ listen/ Hip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010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s being liste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Hippi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IMAGE443"/>
          <p:cNvPicPr/>
          <p:nvPr/>
        </p:nvPicPr>
        <p:blipFill>
          <a:blip r:embed="rId1"/>
          <a:stretch/>
        </p:blipFill>
        <p:spPr>
          <a:xfrm>
            <a:off x="1447920" y="1523880"/>
            <a:ext cx="68389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5:06:29Z</dcterms:created>
  <dc:creator>TAS</dc:creator>
  <dc:description/>
  <dc:language>en-US</dc:language>
  <cp:lastModifiedBy>acer</cp:lastModifiedBy>
  <dcterms:modified xsi:type="dcterms:W3CDTF">2012-04-16T20:26:44Z</dcterms:modified>
  <cp:revision>68</cp:revision>
  <dc:subject/>
  <dc:title>Презентация PowerPoint</dc:title>
</cp:coreProperties>
</file>