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11.gif" ContentType="image/gi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311C-8AFA-4300-8669-3D1248CA02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B252-EDE1-4B6A-B847-C0CDCA3258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EB1-A870-4653-BC39-19D92E460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A45-4FD9-452B-A5AC-B12AA750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E6A-30C7-4900-952B-962BECE9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829-9820-4C8D-85DE-5B6825A9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8AD4-8D88-47A3-AB42-329839C9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E1A-29B1-4818-973F-7583ED9A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0E9-6630-4B2B-8DA6-AEBEF804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8E1-5685-4986-AE9D-83DFA2D5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6765-9454-4304-8D2E-51580B40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6566-A109-4E3A-B061-3AFDF99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9E69-EBF7-4175-A7B0-70BF941F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FD4-4064-477A-B1F0-EBF52E7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C32C-5992-40AC-9D2C-74D5B3DF81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 rot="20871600">
            <a:off x="1692000" y="3357720"/>
            <a:ext cx="56894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ASSIVE VOI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49" name="Picture 14" descr="3315_18 (2)"/>
          <p:cNvPicPr/>
          <p:nvPr/>
        </p:nvPicPr>
        <p:blipFill>
          <a:blip r:embed="rId1"/>
          <a:stretch/>
        </p:blipFill>
        <p:spPr>
          <a:xfrm>
            <a:off x="4140360" y="260280"/>
            <a:ext cx="4225680" cy="279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newspaper  /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read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/the 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unemployed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wspaper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is being rea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the unemployed pers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IMAGE445"/>
          <p:cNvPicPr/>
          <p:nvPr/>
        </p:nvPicPr>
        <p:blipFill>
          <a:blip r:embed="rId1"/>
          <a:stretch/>
        </p:blipFill>
        <p:spPr>
          <a:xfrm>
            <a:off x="1571760" y="1428840"/>
            <a:ext cx="6267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CF44-CB9C-4270-9CF7-FDD01C6D60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600200"/>
          <a:ext cx="8229600" cy="42768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40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4"/>
          <p:cNvSpPr/>
          <p:nvPr/>
        </p:nvSpPr>
        <p:spPr>
          <a:xfrm>
            <a:off x="4067280" y="3933720"/>
            <a:ext cx="4680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/ a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/is a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 Ben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is being reconstruc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6"/>
          <p:cNvSpPr/>
          <p:nvPr/>
        </p:nvSpPr>
        <p:spPr>
          <a:xfrm rot="2080200">
            <a:off x="3938760" y="2994120"/>
            <a:ext cx="1933560" cy="637920"/>
          </a:xfrm>
          <a:prstGeom prst="rightArrow">
            <a:avLst>
              <a:gd name="adj1" fmla="val 50000"/>
              <a:gd name="adj2" fmla="val 531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B072-5E5A-4877-AA02-A842F26F6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35"/>
          <p:cNvSpPr/>
          <p:nvPr/>
        </p:nvSpPr>
        <p:spPr>
          <a:xfrm>
            <a:off x="1908000" y="9810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6"/>
          <p:cNvSpPr/>
          <p:nvPr/>
        </p:nvSpPr>
        <p:spPr>
          <a:xfrm>
            <a:off x="3203640" y="2205000"/>
            <a:ext cx="6551640" cy="273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were + V 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/ were + being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stminister Abbey 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was being reconstru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8"/>
          <p:cNvSpPr/>
          <p:nvPr/>
        </p:nvSpPr>
        <p:spPr>
          <a:xfrm rot="18669600">
            <a:off x="4002840" y="4934520"/>
            <a:ext cx="1049400" cy="485640"/>
          </a:xfrm>
          <a:prstGeom prst="rightArrow">
            <a:avLst>
              <a:gd name="adj1" fmla="val 50000"/>
              <a:gd name="adj2" fmla="val 54021"/>
            </a:avLst>
          </a:prstGeom>
          <a:solidFill>
            <a:srgbClr val="0066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F783-E576-4B95-AE63-6B2EC5D1E4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:\Documents and Settings\Дима\Рабочий стол\ГИФ\стрелка.gif"/>
          <p:cNvPicPr/>
          <p:nvPr/>
        </p:nvPicPr>
        <p:blipFill>
          <a:blip r:embed="rId1"/>
          <a:stretch/>
        </p:blipFill>
        <p:spPr>
          <a:xfrm>
            <a:off x="4167360" y="3924360"/>
            <a:ext cx="80928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from 5 till 5.3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p.m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m and Ann/</a:t>
            </a:r>
            <a:r>
              <a:rPr b="0" lang="ru-RU" sz="4000" spc="-1" strike="noStrike">
                <a:solidFill>
                  <a:srgbClr val="cc0000"/>
                </a:solidFill>
                <a:latin typeface="Times New Roman"/>
              </a:rPr>
              <a:t>protect against the</a:t>
            </a: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 rain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/ the umbre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and An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ere be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IMAGE446"/>
          <p:cNvPicPr/>
          <p:nvPr/>
        </p:nvPicPr>
        <p:blipFill>
          <a:blip r:embed="rId1"/>
          <a:stretch/>
        </p:blipFill>
        <p:spPr>
          <a:xfrm>
            <a:off x="857160" y="1714680"/>
            <a:ext cx="7315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6" dur="2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60AF-819F-41CD-A231-D26A3CA8CC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600200"/>
          <a:ext cx="8370720" cy="420516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82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3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3492360" y="3662280"/>
            <a:ext cx="5543640" cy="319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ll/will have 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retyakov Gallery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will have been ope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3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Ju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0"/>
          <p:cNvSpPr/>
          <p:nvPr/>
        </p:nvSpPr>
        <p:spPr>
          <a:xfrm rot="19138200">
            <a:off x="5795640" y="2421000"/>
            <a:ext cx="504720" cy="936720"/>
          </a:xfrm>
          <a:prstGeom prst="downArrow">
            <a:avLst>
              <a:gd name="adj1" fmla="val 50000"/>
              <a:gd name="adj2" fmla="val 46398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" dur="indefinite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9DFC-F3A7-48B4-A109-018A082C2E0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628640"/>
          <a:ext cx="8229600" cy="432144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3419640" y="3933720"/>
            <a:ext cx="46083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/has 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                       to be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/has + been +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Museum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as found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1753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7"/>
          <p:cNvSpPr/>
          <p:nvPr/>
        </p:nvSpPr>
        <p:spPr>
          <a:xfrm rot="1426800">
            <a:off x="6876720" y="34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AD60-BA25-4741-9E7C-C6A548842E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600200"/>
          <a:ext cx="8229600" cy="434988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3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been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being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been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being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15" name="Rectangle 35"/>
          <p:cNvSpPr/>
          <p:nvPr/>
        </p:nvSpPr>
        <p:spPr>
          <a:xfrm>
            <a:off x="2071800" y="100008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1857240" y="2928960"/>
            <a:ext cx="5451480" cy="32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7030a0"/>
                </a:solidFill>
                <a:latin typeface="Times New Roman"/>
              </a:rPr>
              <a:t>S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imes New Roman"/>
              </a:rPr>
              <a:t>I , we, you, the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been + V3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oom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imes New Roman"/>
              </a:rPr>
              <a:t>has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</a:rPr>
              <a:t>be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</a:t>
            </a: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clean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37"/>
          <p:cNvSpPr/>
          <p:nvPr/>
        </p:nvSpPr>
        <p:spPr>
          <a:xfrm rot="20480400">
            <a:off x="6694200" y="4078080"/>
            <a:ext cx="1014480" cy="485640"/>
          </a:xfrm>
          <a:prstGeom prst="leftArrow">
            <a:avLst>
              <a:gd name="adj1" fmla="val 50000"/>
              <a:gd name="adj2" fmla="val 52224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Let’s practis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567E-BC0A-4182-9DA1-A693ECF9D3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C:\Documents and Settings\Дима\Рабочий стол\ГИФ\из окна.gif"/>
          <p:cNvPicPr/>
          <p:nvPr/>
        </p:nvPicPr>
        <p:blipFill>
          <a:blip r:embed="rId1"/>
          <a:stretch/>
        </p:blipFill>
        <p:spPr>
          <a:xfrm>
            <a:off x="2286000" y="1419120"/>
            <a:ext cx="428616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Not long ag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he key/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lo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/ J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IMAGE450"/>
          <p:cNvPicPr/>
          <p:nvPr/>
        </p:nvPicPr>
        <p:blipFill>
          <a:blip r:embed="rId1"/>
          <a:stretch/>
        </p:blipFill>
        <p:spPr>
          <a:xfrm>
            <a:off x="1066680" y="1752480"/>
            <a:ext cx="6229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4D64-214B-45D0-8A59-EEA409EA11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Как часто вы используете пассивный залог в своей речи?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How often do you use Passive Voice in your spee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5560" y="3429000"/>
            <a:ext cx="717084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488-E690-4A7A-9935-5F0211BD85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PASS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4920" y="1773360"/>
          <a:ext cx="8229600" cy="4206600"/>
        </p:xfrm>
        <a:graphic>
          <a:graphicData uri="http://schemas.openxmlformats.org/drawingml/2006/table">
            <a:tbl>
              <a:tblPr/>
              <a:tblGrid>
                <a:gridCol w="1295280"/>
                <a:gridCol w="1676520"/>
                <a:gridCol w="2133360"/>
                <a:gridCol w="2438640"/>
                <a:gridCol w="685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.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  +  V3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have  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V3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V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 has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bein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</a:t>
                      </a:r>
                      <a:r>
                        <a:rPr b="1" lang="en-US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bee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35"/>
          <p:cNvSpPr/>
          <p:nvPr/>
        </p:nvSpPr>
        <p:spPr>
          <a:xfrm>
            <a:off x="2057400" y="99072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+ V3 or V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4AA1-F368-4C48-A6B9-6504CBDA97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Y  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3933720"/>
            <a:ext cx="8447040" cy="22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ve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apar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partment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 been redecorated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by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UBJECT AND THE OBJECT  REPLACED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132000" y="4221000"/>
            <a:ext cx="3598920" cy="503280"/>
          </a:xfrm>
          <a:prstGeom prst="line">
            <a:avLst/>
          </a:prstGeom>
          <a:ln w="3816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3708000" y="4292640"/>
            <a:ext cx="1655640" cy="3952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94" descr="IMAGE455"/>
          <p:cNvPicPr/>
          <p:nvPr/>
        </p:nvPicPr>
        <p:blipFill>
          <a:blip r:embed="rId1"/>
          <a:stretch/>
        </p:blipFill>
        <p:spPr>
          <a:xfrm>
            <a:off x="1908000" y="1125360"/>
            <a:ext cx="3810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02 E">
                                      <p:cBhvr>
                                        <p:cTn id="26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938C-9383-47B9-8719-1B4B93EA99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We have learned ,that Passive Voice is everywhere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ы доказали, что употребление страдательного залога –явление часто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7724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288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F4FA-773E-4098-9F84-6E681940C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4" descr="smail_696191579"/>
          <p:cNvPicPr/>
          <p:nvPr/>
        </p:nvPicPr>
        <p:blipFill>
          <a:blip r:embed="rId1"/>
          <a:stretch/>
        </p:blipFill>
        <p:spPr>
          <a:xfrm>
            <a:off x="3132000" y="2492280"/>
            <a:ext cx="285768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871C-440B-4826-8A55-0013BCE999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23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Times New Roman"/>
              </a:rPr>
              <a:t>Нужен ли Страдательный залог в грамматике английского язы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0080" y="3571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 it necessary to learn the theme Passive Vo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79C3-1BEF-4179-9F40-FD6CF281C8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ASSIVE VOIC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is used when something is done to the su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5373720"/>
            <a:ext cx="7772400" cy="792000"/>
          </a:xfrm>
          <a:prstGeom prst="rect">
            <a:avLst/>
          </a:prstGeom>
          <a:solidFill>
            <a:srgbClr val="dddddd"/>
          </a:solidFill>
          <a:ln w="38160">
            <a:solidFill>
              <a:srgbClr val="6600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omato soup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S BEING EAT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the sp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8" descr="IMAGE442"/>
          <p:cNvPicPr/>
          <p:nvPr/>
        </p:nvPicPr>
        <p:blipFill>
          <a:blip r:embed="rId1"/>
          <a:stretch/>
        </p:blipFill>
        <p:spPr>
          <a:xfrm>
            <a:off x="1763640" y="2133720"/>
            <a:ext cx="511344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EE68-7DE0-416B-BBEC-B5F3FD834D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t long ago the key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has been lost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r.Fi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66920" y="422100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6" descr="IMAGE450"/>
          <p:cNvPicPr/>
          <p:nvPr/>
        </p:nvPicPr>
        <p:blipFill>
          <a:blip r:embed="rId1"/>
          <a:stretch/>
        </p:blipFill>
        <p:spPr>
          <a:xfrm>
            <a:off x="611280" y="2205000"/>
            <a:ext cx="4608360" cy="2746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21F7-F924-4729-8B79-C522C3DB91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THE GENERAL FORM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371600"/>
            <a:ext cx="7772400" cy="990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660033"/>
            </a:solidFill>
            <a:miter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                    </a:t>
            </a: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o BE +  V</a:t>
            </a:r>
            <a:r>
              <a:rPr b="1" lang="en-US" sz="4800" spc="-1" strike="noStrike" baseline="-25000">
                <a:solidFill>
                  <a:srgbClr val="660033"/>
                </a:solidFill>
                <a:latin typeface="Times New Roman"/>
              </a:rPr>
              <a:t>  3  or V e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660033"/>
                </a:solidFill>
                <a:latin typeface="UniversalMath1 BT"/>
                <a:ea typeface="UniversalMath1 BT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962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changed according to the tense and the subjec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resent Simple: to be = am / is /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are watered by him every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ast Simple: to be = was /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ere watered by him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Future Simple: to be = shall /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lowers will be  watered by him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EAC6-E2CB-47FA-B337-AA18B7D7E9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3844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Times New Roman"/>
              </a:rPr>
              <a:t>ACTIVE   VO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9"/>
          <p:cNvSpPr/>
          <p:nvPr/>
        </p:nvSpPr>
        <p:spPr>
          <a:xfrm>
            <a:off x="1828800" y="6019920"/>
            <a:ext cx="59436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exist in Passive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04920" y="1676520"/>
          <a:ext cx="8229600" cy="4119480"/>
        </p:xfrm>
        <a:graphic>
          <a:graphicData uri="http://schemas.openxmlformats.org/drawingml/2006/table">
            <a:tbl>
              <a:tblPr/>
              <a:tblGrid>
                <a:gridCol w="1295280"/>
                <a:gridCol w="1752480"/>
                <a:gridCol w="2057400"/>
                <a:gridCol w="1905120"/>
                <a:gridCol w="121932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ect  Prog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ll/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 V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28080">
                      <a:solidFill>
                        <a:srgbClr val="660033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/ar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 /h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660033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 / 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V 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  V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660033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660033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t’s pract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D117-4CBA-483A-B6B5-CE07A53E62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C:\Documents and Settings\Дима\Рабочий стол\ГИФ\на книге.gif"/>
          <p:cNvPicPr/>
          <p:nvPr/>
        </p:nvPicPr>
        <p:blipFill>
          <a:blip r:embed="rId1"/>
          <a:stretch/>
        </p:blipFill>
        <p:spPr>
          <a:xfrm>
            <a:off x="3071880" y="2286000"/>
            <a:ext cx="29289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Music/ listen/ Hip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010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ic </a:t>
            </a:r>
            <a:r>
              <a:rPr b="0" lang="en-US" sz="3200" spc="-1" strike="noStrike">
                <a:solidFill>
                  <a:srgbClr val="22228b"/>
                </a:solidFill>
                <a:latin typeface="Times New Roman"/>
              </a:rPr>
              <a:t>is being listen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Hippi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IMAGE443"/>
          <p:cNvPicPr/>
          <p:nvPr/>
        </p:nvPicPr>
        <p:blipFill>
          <a:blip r:embed="rId1"/>
          <a:stretch/>
        </p:blipFill>
        <p:spPr>
          <a:xfrm>
            <a:off x="1447920" y="1523880"/>
            <a:ext cx="683892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7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5:06:29Z</dcterms:created>
  <dc:creator>TAS</dc:creator>
  <dc:description/>
  <dc:language>en-US</dc:language>
  <cp:lastModifiedBy>acer</cp:lastModifiedBy>
  <dcterms:modified xsi:type="dcterms:W3CDTF">2012-04-16T20:26:44Z</dcterms:modified>
  <cp:revision>68</cp:revision>
  <dc:subject/>
  <dc:title>Презентация PowerPoint</dc:title>
</cp:coreProperties>
</file>