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DB0-4F2B-4FF6-8793-2D7109E6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FF6-4BC5-4DF3-9400-7D1BDDEA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9A1-3A78-4469-B7D5-A1DEB2B5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10A-4D21-4A6E-BB5D-70CF6ADD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E47-D447-4393-B285-9EFE525A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A30-783D-4729-8CA8-61762DC2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08F-4486-400B-B0FB-6DE76C6D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21F-EFCF-4A3D-A40D-87EB29C4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4DD-CC2F-4F8C-8CC5-DA76A14C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1CF-A864-44C8-8D09-23419B7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C42-8ACA-45A8-A514-6BBCF90B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CD6-BB08-413D-857F-337C248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23E-0ED1-4C8C-B5F5-5CFE95B9C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all_things.png"/>
          <p:cNvPicPr/>
          <p:nvPr/>
        </p:nvPicPr>
        <p:blipFill>
          <a:blip r:embed="rId1"/>
          <a:stretch/>
        </p:blipFill>
        <p:spPr>
          <a:xfrm>
            <a:off x="3419640" y="2781360"/>
            <a:ext cx="5724360" cy="4076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1"/>
          <p:cNvGrpSpPr/>
          <p:nvPr/>
        </p:nvGrpSpPr>
        <p:grpSpPr>
          <a:xfrm>
            <a:off x="1927800" y="1676520"/>
            <a:ext cx="6252840" cy="2810520"/>
            <a:chOff x="1927800" y="1676520"/>
            <a:chExt cx="6252840" cy="2810520"/>
          </a:xfrm>
        </p:grpSpPr>
        <p:sp>
          <p:nvSpPr>
            <p:cNvPr id="43" name="Text Box 8"/>
            <p:cNvSpPr/>
            <p:nvPr/>
          </p:nvSpPr>
          <p:spPr>
            <a:xfrm rot="1273200">
              <a:off x="6671880" y="33523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р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атема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1927800" y="1676520"/>
              <a:ext cx="5473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ма урока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«Деление на трехзначное число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0"/>
            <p:cNvSpPr/>
            <p:nvPr/>
          </p:nvSpPr>
          <p:spPr>
            <a:xfrm rot="1291200">
              <a:off x="6780600" y="40384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 кла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3808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Organization Chart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0" name="Organization Chart 2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1" name="Text Box 35"/>
          <p:cNvSpPr/>
          <p:nvPr/>
        </p:nvSpPr>
        <p:spPr>
          <a:xfrm>
            <a:off x="4876920" y="533520"/>
            <a:ext cx="365760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делать прики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первое неполное дели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Определить число цифр в част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цифры в каждом разряде час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остаток (если он е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0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0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 flipV="1">
            <a:off x="3733920" y="1066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733920" y="914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6629400" y="990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2209320" y="2514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Cj03358780000[1]"/>
          <p:cNvPicPr/>
          <p:nvPr/>
        </p:nvPicPr>
        <p:blipFill>
          <a:blip r:embed="rId1"/>
          <a:stretch/>
        </p:blipFill>
        <p:spPr>
          <a:xfrm flipH="1" rot="2020800">
            <a:off x="380160" y="2073240"/>
            <a:ext cx="4800600" cy="478476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685800" y="914400"/>
            <a:ext cx="7920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MCj02907090000[1]"/>
          <p:cNvPicPr/>
          <p:nvPr/>
        </p:nvPicPr>
        <p:blipFill>
          <a:blip r:embed="rId1"/>
          <a:stretch/>
        </p:blipFill>
        <p:spPr>
          <a:xfrm>
            <a:off x="3276720" y="3048120"/>
            <a:ext cx="464796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82880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9144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айте, ребята, учиться счи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ить, умножать, прибавлять, вы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 все, что без точного с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двинется с места люб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: 1 + 0 : 428 + 428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98•0 + 1• (207 + 0 : 4267) + 422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30 – 4 • (25 – 0) – 732 : 7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990720" y="304920"/>
            <a:ext cx="6933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пиши ответ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29, 629, 8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29, 629, 829, 1029, 1229, 14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92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.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 1029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478..&gt; 478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686 &lt; 1.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0,1,2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3,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0,1,2,3,4,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}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6,8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,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,2}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1,3,5,7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280150   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5          71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1219320" y="4572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ы ошиб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91440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716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228600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228600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533520" y="380880"/>
            <a:ext cx="8057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деления на двузначное 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" name="Organization Chart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6" name="AutoShape 26"/>
          <p:cNvSpPr/>
          <p:nvPr/>
        </p:nvSpPr>
        <p:spPr>
          <a:xfrm>
            <a:off x="838080" y="1828800"/>
            <a:ext cx="6858000" cy="53352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прики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rganization Chart 30"/>
          <p:cNvGrpSpPr/>
          <p:nvPr/>
        </p:nvGrpSpPr>
        <p:grpSpPr>
          <a:xfrm>
            <a:off x="837000" y="2817000"/>
            <a:ext cx="6933960" cy="2511000"/>
            <a:chOff x="837000" y="2817000"/>
            <a:chExt cx="6933960" cy="2511000"/>
          </a:xfrm>
        </p:grpSpPr>
        <p:sp>
          <p:nvSpPr>
            <p:cNvPr id="68" name="AutoShape 33"/>
            <p:cNvSpPr/>
            <p:nvPr/>
          </p:nvSpPr>
          <p:spPr>
            <a:xfrm>
              <a:off x="837000" y="281700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первое неполное дели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4"/>
            <p:cNvSpPr/>
            <p:nvPr/>
          </p:nvSpPr>
          <p:spPr>
            <a:xfrm>
              <a:off x="837000" y="3814560"/>
              <a:ext cx="6933960" cy="59040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Определить число цифр в част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35"/>
            <p:cNvSpPr/>
            <p:nvPr/>
          </p:nvSpPr>
          <p:spPr>
            <a:xfrm>
              <a:off x="837000" y="479772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цифры в каждом разряде част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37"/>
          <p:cNvSpPr/>
          <p:nvPr/>
        </p:nvSpPr>
        <p:spPr>
          <a:xfrm>
            <a:off x="396252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>
            <a:off x="3962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0"/>
          <p:cNvSpPr/>
          <p:nvPr/>
        </p:nvSpPr>
        <p:spPr>
          <a:xfrm>
            <a:off x="39625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1"/>
          <p:cNvSpPr/>
          <p:nvPr/>
        </p:nvSpPr>
        <p:spPr>
          <a:xfrm>
            <a:off x="39625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914400" y="5791320"/>
            <a:ext cx="6934320" cy="53028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ти остаток (если он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4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160020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9T04:31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