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254-E44A-4F67-8702-CA0A27B7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E63-2AE6-4A04-AB40-0A51CCD9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0C4-4BD4-46BD-8218-00B8815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043-C272-4369-80A3-EDAFFF1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3F0-66BB-4073-9A02-9C32BFC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F89-98F4-492A-98E5-1090E99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7E7-DA00-44C9-A570-8A97432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649-6B33-4DAA-994A-D4570816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4AA-D7A5-412D-A484-5157D9AE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0BE-DAF0-4430-848F-26D866F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D05-EDD4-46E7-92F3-A05DED4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DF8-1D91-4B38-AB3F-9E1AFC9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2798-0A4B-4610-96E7-FCA9DF99B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927800" y="1676520"/>
            <a:ext cx="6252840" cy="2810520"/>
            <a:chOff x="1927800" y="1676520"/>
            <a:chExt cx="6252840" cy="2810520"/>
          </a:xfrm>
        </p:grpSpPr>
        <p:sp>
          <p:nvSpPr>
            <p:cNvPr id="43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1927800" y="1676520"/>
              <a:ext cx="547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«Деление на трехзначное число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808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Organization Chart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1" name="Text Box 35"/>
          <p:cNvSpPr/>
          <p:nvPr/>
        </p:nvSpPr>
        <p:spPr>
          <a:xfrm>
            <a:off x="4876920" y="533520"/>
            <a:ext cx="365760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делать прики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первое неполное дел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пределить числ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цифры в каждом разряде час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остаток (если он е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0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0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V="1">
            <a:off x="373392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733920" y="914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6294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2209320" y="2514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144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ить, умножать, прибавлять, вы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все, что без точн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двинется с места люб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1 + 0 : 428 + 428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98•0 + 1• (207 + 0 : 4267) + 422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30 – 4 • (25 – 0) – 732 : 7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90720" y="30492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пиши отве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29, 629, 8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29, 629, 829, 1029, 1229, 1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 1029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78..&gt; 478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86 &lt; 1.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0,1,2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3,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0,1,2,3,4,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6,8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,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,2}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1,3,5,7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280150 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5          7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1219320" y="4572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ошиб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71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28600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3520" y="380880"/>
            <a:ext cx="805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деления на дву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Organization Chart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AutoShape 26"/>
          <p:cNvSpPr/>
          <p:nvPr/>
        </p:nvSpPr>
        <p:spPr>
          <a:xfrm>
            <a:off x="838080" y="1828800"/>
            <a:ext cx="6858000" cy="53352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ики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0"/>
          <p:cNvGrpSpPr/>
          <p:nvPr/>
        </p:nvGrpSpPr>
        <p:grpSpPr>
          <a:xfrm>
            <a:off x="837000" y="2817000"/>
            <a:ext cx="6933960" cy="2511000"/>
            <a:chOff x="837000" y="2817000"/>
            <a:chExt cx="6933960" cy="2511000"/>
          </a:xfrm>
        </p:grpSpPr>
        <p:sp>
          <p:nvSpPr>
            <p:cNvPr id="68" name="AutoShape 33"/>
            <p:cNvSpPr/>
            <p:nvPr/>
          </p:nvSpPr>
          <p:spPr>
            <a:xfrm>
              <a:off x="837000" y="281700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первое неполное дели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4"/>
            <p:cNvSpPr/>
            <p:nvPr/>
          </p:nvSpPr>
          <p:spPr>
            <a:xfrm>
              <a:off x="837000" y="3814560"/>
              <a:ext cx="6933960" cy="59040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Определить число цифр в част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5"/>
            <p:cNvSpPr/>
            <p:nvPr/>
          </p:nvSpPr>
          <p:spPr>
            <a:xfrm>
              <a:off x="837000" y="479772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цифры в каждом разряде част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37"/>
          <p:cNvSpPr/>
          <p:nvPr/>
        </p:nvSpPr>
        <p:spPr>
          <a:xfrm>
            <a:off x="39625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39625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3962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914400" y="5791320"/>
            <a:ext cx="6934320" cy="53028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6002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9T04:3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