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BAF-99F7-43EB-8981-01252F05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38C-67C1-4FA9-AC18-956B6CF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680C-268E-4244-AF4B-BD4EFD66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DFA-52FD-4D4D-826C-2820FF81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4C7-7E35-4FC6-81A5-7DC5535A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B624-EFF5-4AF8-AE67-E7D6D63B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482-0CFD-4AFE-B986-291D1DD6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BD3-68B3-4522-85BD-7A950677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E52-7F17-4414-96D9-938E00B8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813-C26F-449E-8A65-E5581304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203-FF78-4827-8809-F44FBB5B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721B-1114-467B-AD9D-39F8DD83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0BA9-AA71-4BB9-9F54-0F2B732B9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all_things.png"/>
          <p:cNvPicPr/>
          <p:nvPr/>
        </p:nvPicPr>
        <p:blipFill>
          <a:blip r:embed="rId1"/>
          <a:stretch/>
        </p:blipFill>
        <p:spPr>
          <a:xfrm>
            <a:off x="3419640" y="2781360"/>
            <a:ext cx="5724360" cy="40766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1"/>
          <p:cNvGrpSpPr/>
          <p:nvPr/>
        </p:nvGrpSpPr>
        <p:grpSpPr>
          <a:xfrm>
            <a:off x="1927800" y="1676520"/>
            <a:ext cx="6252840" cy="2810520"/>
            <a:chOff x="1927800" y="1676520"/>
            <a:chExt cx="6252840" cy="2810520"/>
          </a:xfrm>
        </p:grpSpPr>
        <p:sp>
          <p:nvSpPr>
            <p:cNvPr id="43" name="Text Box 8"/>
            <p:cNvSpPr/>
            <p:nvPr/>
          </p:nvSpPr>
          <p:spPr>
            <a:xfrm rot="1273200">
              <a:off x="6671880" y="3352320"/>
              <a:ext cx="144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ро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матема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1927800" y="1676520"/>
              <a:ext cx="5473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ема урока: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Arial"/>
                </a:rPr>
                <a:t>«Деление на трехзначное число»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0"/>
            <p:cNvSpPr/>
            <p:nvPr/>
          </p:nvSpPr>
          <p:spPr>
            <a:xfrm rot="1291200">
              <a:off x="6780600" y="403848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4 кла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380880"/>
            <a:ext cx="4038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Organization Chart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0" name="Organization Chart 2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1" name="Text Box 35"/>
          <p:cNvSpPr/>
          <p:nvPr/>
        </p:nvSpPr>
        <p:spPr>
          <a:xfrm>
            <a:off x="4876920" y="533520"/>
            <a:ext cx="3657600" cy="58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делать прики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первое неполное делим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Определить число цифр в част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цифры в каждом разряде час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йти остаток (если он е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0 0              0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             0 0             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 flipV="1">
            <a:off x="3733920" y="1066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733920" y="914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6629400" y="990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H="1">
            <a:off x="2209320" y="2514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Cj03358780000[1]"/>
          <p:cNvPicPr/>
          <p:nvPr/>
        </p:nvPicPr>
        <p:blipFill>
          <a:blip r:embed="rId1"/>
          <a:stretch/>
        </p:blipFill>
        <p:spPr>
          <a:xfrm flipH="1" rot="2020800">
            <a:off x="380160" y="2073240"/>
            <a:ext cx="4800600" cy="478476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685800" y="914400"/>
            <a:ext cx="7920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УРО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MCj02907090000[1]"/>
          <p:cNvPicPr/>
          <p:nvPr/>
        </p:nvPicPr>
        <p:blipFill>
          <a:blip r:embed="rId1"/>
          <a:stretch/>
        </p:blipFill>
        <p:spPr>
          <a:xfrm>
            <a:off x="3276720" y="3048120"/>
            <a:ext cx="464796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828800" y="1371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914400" y="6094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айте, ребята, учиться счи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ить, умножать, прибавлять, вы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 все, что без точного с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двинется с места люб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: 1 + 0 : 428 + 428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98•0 + 1• (207 + 0 : 4267) + 422 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30 – 4 • (25 – 0) – 732 : 7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990720" y="304920"/>
            <a:ext cx="6933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пиши ответ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429, 629, 8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29, 629, 829, 1029, 1229, 14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92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.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 1029    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478..&gt; 478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686 &lt; 1..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0,1,2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}   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3,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0,1,2,3,4,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}   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6,8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7,8,9,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1,2}       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{4,5,6,7,8,9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{1,3,5,7,9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280150   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45          71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_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пущен или добавлен нуль в частном при  переходе к более мелким счетным единиц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.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снесены или снесены лишние нули при делении кругл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верно подобрана цифра част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.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Вычислительная ошиб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е выполнена прикидка результ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"/>
          <p:cNvSpPr txBox="1"/>
          <p:nvPr/>
        </p:nvSpPr>
        <p:spPr>
          <a:xfrm>
            <a:off x="1219320" y="4572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чины ошиб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62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91440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13716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228600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2286000" y="1676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533520" y="380880"/>
            <a:ext cx="8057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деления на двузначное 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5" name="Organization Chart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6" name="AutoShape 26"/>
          <p:cNvSpPr/>
          <p:nvPr/>
        </p:nvSpPr>
        <p:spPr>
          <a:xfrm>
            <a:off x="838080" y="1828800"/>
            <a:ext cx="6858000" cy="53352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прикид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Organization Chart 30"/>
          <p:cNvGrpSpPr/>
          <p:nvPr/>
        </p:nvGrpSpPr>
        <p:grpSpPr>
          <a:xfrm>
            <a:off x="837000" y="2817000"/>
            <a:ext cx="6933960" cy="2511000"/>
            <a:chOff x="837000" y="2817000"/>
            <a:chExt cx="6933960" cy="2511000"/>
          </a:xfrm>
        </p:grpSpPr>
        <p:sp>
          <p:nvSpPr>
            <p:cNvPr id="68" name="AutoShape 33"/>
            <p:cNvSpPr/>
            <p:nvPr/>
          </p:nvSpPr>
          <p:spPr>
            <a:xfrm>
              <a:off x="837000" y="281700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первое неполное делим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4"/>
            <p:cNvSpPr/>
            <p:nvPr/>
          </p:nvSpPr>
          <p:spPr>
            <a:xfrm>
              <a:off x="837000" y="3814560"/>
              <a:ext cx="6933960" cy="59040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Определить число цифр в частн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35"/>
            <p:cNvSpPr/>
            <p:nvPr/>
          </p:nvSpPr>
          <p:spPr>
            <a:xfrm>
              <a:off x="837000" y="4797720"/>
              <a:ext cx="6933960" cy="530280"/>
            </a:xfrm>
            <a:prstGeom prst="flowChartProcess">
              <a:avLst/>
            </a:prstGeom>
            <a:solidFill>
              <a:srgbClr val="bbe0e3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айти цифры в каждом разряде частно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Line 37"/>
          <p:cNvSpPr/>
          <p:nvPr/>
        </p:nvSpPr>
        <p:spPr>
          <a:xfrm>
            <a:off x="396252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>
            <a:off x="396252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0"/>
          <p:cNvSpPr/>
          <p:nvPr/>
        </p:nvSpPr>
        <p:spPr>
          <a:xfrm>
            <a:off x="39625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1"/>
          <p:cNvSpPr/>
          <p:nvPr/>
        </p:nvSpPr>
        <p:spPr>
          <a:xfrm>
            <a:off x="39625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914400" y="5791320"/>
            <a:ext cx="6934320" cy="530280"/>
          </a:xfrm>
          <a:prstGeom prst="flowChartProcess">
            <a:avLst/>
          </a:prstGeom>
          <a:solidFill>
            <a:srgbClr val="bbe0e3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ти остаток (если он 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4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4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2120" y="1600200"/>
          <a:ext cx="7924680" cy="3429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астер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9T04:31:0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