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6C87-074F-4181-81A8-CD8AA148D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CB24-FC5B-4342-95FB-5FC8D1FE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2743-0DF2-4BC7-BFF9-D8DAAF088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D423-4961-46A6-8CE3-93C073285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86FD-F1CB-4D44-A485-9310C13D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6B96-9B77-49BA-BB94-5FB499CB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7E5A-68FB-44CA-819A-3D66F412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B714-97D0-4B46-A63A-34B8E390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B963-0488-4765-81DD-C0D02465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9B8D-493E-4ED9-B43D-EA489396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793D-8B43-47A5-9EF7-224AA88D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A2A0-F8FB-4342-9BF3-CC756A03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24C5-B89F-4D7C-A85E-0F229BBBA7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all_things.png"/>
          <p:cNvPicPr/>
          <p:nvPr/>
        </p:nvPicPr>
        <p:blipFill>
          <a:blip r:embed="rId1"/>
          <a:stretch/>
        </p:blipFill>
        <p:spPr>
          <a:xfrm>
            <a:off x="3419640" y="2781360"/>
            <a:ext cx="5724360" cy="407664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11"/>
          <p:cNvGrpSpPr/>
          <p:nvPr/>
        </p:nvGrpSpPr>
        <p:grpSpPr>
          <a:xfrm>
            <a:off x="1927800" y="1676520"/>
            <a:ext cx="6252840" cy="2810520"/>
            <a:chOff x="1927800" y="1676520"/>
            <a:chExt cx="6252840" cy="2810520"/>
          </a:xfrm>
        </p:grpSpPr>
        <p:sp>
          <p:nvSpPr>
            <p:cNvPr id="43" name="Text Box 8"/>
            <p:cNvSpPr/>
            <p:nvPr/>
          </p:nvSpPr>
          <p:spPr>
            <a:xfrm rot="1273200">
              <a:off x="6671880" y="3352320"/>
              <a:ext cx="144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Урок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математи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 Box 9"/>
            <p:cNvSpPr/>
            <p:nvPr/>
          </p:nvSpPr>
          <p:spPr>
            <a:xfrm>
              <a:off x="1927800" y="1676520"/>
              <a:ext cx="5473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Тема урока: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Arial"/>
                </a:rPr>
                <a:t>«Деление на трехзначное число»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10"/>
            <p:cNvSpPr/>
            <p:nvPr/>
          </p:nvSpPr>
          <p:spPr>
            <a:xfrm rot="1291200">
              <a:off x="6780600" y="4038480"/>
              <a:ext cx="82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4 клас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380880"/>
            <a:ext cx="40384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пущен или добавлен нуль в частном при  переходе к более мелким счетным единиц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снесены или снесены лишние нули при делении круглых чис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верно подобрана цифра част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Вычислительная ошиб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выполнена прикидка результ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Organization Chart 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80" name="Organization Chart 2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81" name="Text Box 35"/>
          <p:cNvSpPr/>
          <p:nvPr/>
        </p:nvSpPr>
        <p:spPr>
          <a:xfrm>
            <a:off x="4876920" y="533520"/>
            <a:ext cx="3657600" cy="58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делать прикид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Найти первое неполное делим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Определить число цифр в част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Найти цифры в каждом разряде част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Найти остаток (если он ест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 0             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0              0 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0 0              0 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 0             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0              0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 0             0 0              0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"/>
          <p:cNvSpPr/>
          <p:nvPr/>
        </p:nvSpPr>
        <p:spPr>
          <a:xfrm flipV="1">
            <a:off x="3733920" y="10663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3733920" y="914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"/>
          <p:cNvSpPr/>
          <p:nvPr/>
        </p:nvSpPr>
        <p:spPr>
          <a:xfrm>
            <a:off x="6629400" y="9907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8"/>
          <p:cNvSpPr/>
          <p:nvPr/>
        </p:nvSpPr>
        <p:spPr>
          <a:xfrm flipH="1">
            <a:off x="2209320" y="251460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MCj03358780000[1]"/>
          <p:cNvPicPr/>
          <p:nvPr/>
        </p:nvPicPr>
        <p:blipFill>
          <a:blip r:embed="rId1"/>
          <a:stretch/>
        </p:blipFill>
        <p:spPr>
          <a:xfrm flipH="1" rot="2020800">
            <a:off x="380160" y="2073240"/>
            <a:ext cx="4800600" cy="4784760"/>
          </a:xfrm>
          <a:prstGeom prst="rect">
            <a:avLst/>
          </a:prstGeom>
          <a:ln w="0">
            <a:noFill/>
          </a:ln>
        </p:spPr>
      </p:pic>
      <p:sp>
        <p:nvSpPr>
          <p:cNvPr id="88" name="WordArt 3"/>
          <p:cNvSpPr txBox="1"/>
          <p:nvPr/>
        </p:nvSpPr>
        <p:spPr>
          <a:xfrm>
            <a:off x="685800" y="914400"/>
            <a:ext cx="79200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УРОК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MCj02907090000[1]"/>
          <p:cNvPicPr/>
          <p:nvPr/>
        </p:nvPicPr>
        <p:blipFill>
          <a:blip r:embed="rId1"/>
          <a:stretch/>
        </p:blipFill>
        <p:spPr>
          <a:xfrm>
            <a:off x="3276720" y="3048120"/>
            <a:ext cx="4647960" cy="36576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1828800" y="1371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914400" y="609480"/>
            <a:ext cx="784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вайте, ребята, учиться счит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лить, умножать, прибавлять, вычит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помните все, что без точного сч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сдвинется с места любая раб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: 1 + 0 : 428 + 428 :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098•0 + 1• (207 + 0 : 4267) + 422 :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30 – 4 • (25 – 0) – 732 : 7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990720" y="304920"/>
            <a:ext cx="6933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пиши ответы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429, 629, 8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429, 629, 829, 1029, 1229, 14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30492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..9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&lt; 1029    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478..&gt; 478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686 &lt; 1..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0}                    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{0,1,2}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{7,8,9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1}                    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{3,4,5,6,7,8,9}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{0,1,2,3,4,5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0,1}                 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{4,6,8}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{7,8,9,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0,1,2}              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{4,5,6,7,8,9}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{1,3,5,7,9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_280150    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45          710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_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_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А.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ропущен или добавлен нуль в частном при  переходе к более мелким счетным единиц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Б.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е снесены или снесены лишние нули при делении круглых чис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.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еверно подобрана цифра част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Г.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Вычислительная ошиб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Д.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е выполнена прикидка результ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7"/>
          <p:cNvSpPr txBox="1"/>
          <p:nvPr/>
        </p:nvSpPr>
        <p:spPr>
          <a:xfrm>
            <a:off x="1219320" y="457200"/>
            <a:ext cx="6858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чины ошибо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Line 8"/>
          <p:cNvSpPr/>
          <p:nvPr/>
        </p:nvSpPr>
        <p:spPr>
          <a:xfrm>
            <a:off x="762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914400" y="3581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3"/>
          <p:cNvSpPr/>
          <p:nvPr/>
        </p:nvSpPr>
        <p:spPr>
          <a:xfrm>
            <a:off x="1371600" y="4724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4"/>
          <p:cNvSpPr/>
          <p:nvPr/>
        </p:nvSpPr>
        <p:spPr>
          <a:xfrm>
            <a:off x="2286000" y="2133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5"/>
          <p:cNvSpPr/>
          <p:nvPr/>
        </p:nvSpPr>
        <p:spPr>
          <a:xfrm>
            <a:off x="2286000" y="1676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533520" y="380880"/>
            <a:ext cx="8057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горитм деления на двузначное числ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65" name="Organization Chart 1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66" name="AutoShape 26"/>
          <p:cNvSpPr/>
          <p:nvPr/>
        </p:nvSpPr>
        <p:spPr>
          <a:xfrm>
            <a:off x="838080" y="1828800"/>
            <a:ext cx="6858000" cy="533520"/>
          </a:xfrm>
          <a:prstGeom prst="flowChartProcess">
            <a:avLst/>
          </a:prstGeom>
          <a:solidFill>
            <a:srgbClr val="bbe0e3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делать прикид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Organization Chart 30"/>
          <p:cNvGrpSpPr/>
          <p:nvPr/>
        </p:nvGrpSpPr>
        <p:grpSpPr>
          <a:xfrm>
            <a:off x="837000" y="2817000"/>
            <a:ext cx="6933960" cy="2511000"/>
            <a:chOff x="837000" y="2817000"/>
            <a:chExt cx="6933960" cy="2511000"/>
          </a:xfrm>
        </p:grpSpPr>
        <p:sp>
          <p:nvSpPr>
            <p:cNvPr id="68" name="AutoShape 33"/>
            <p:cNvSpPr/>
            <p:nvPr/>
          </p:nvSpPr>
          <p:spPr>
            <a:xfrm>
              <a:off x="837000" y="2817000"/>
              <a:ext cx="6933960" cy="530280"/>
            </a:xfrm>
            <a:prstGeom prst="flowChartProcess">
              <a:avLst/>
            </a:prstGeom>
            <a:solidFill>
              <a:srgbClr val="bbe0e3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Найти первое неполное делимо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34"/>
            <p:cNvSpPr/>
            <p:nvPr/>
          </p:nvSpPr>
          <p:spPr>
            <a:xfrm>
              <a:off x="837000" y="3814560"/>
              <a:ext cx="6933960" cy="590400"/>
            </a:xfrm>
            <a:prstGeom prst="flowChartProcess">
              <a:avLst/>
            </a:prstGeom>
            <a:solidFill>
              <a:srgbClr val="bbe0e3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Определить число цифр в частно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35"/>
            <p:cNvSpPr/>
            <p:nvPr/>
          </p:nvSpPr>
          <p:spPr>
            <a:xfrm>
              <a:off x="837000" y="4797720"/>
              <a:ext cx="6933960" cy="530280"/>
            </a:xfrm>
            <a:prstGeom prst="flowChartProcess">
              <a:avLst/>
            </a:prstGeom>
            <a:solidFill>
              <a:srgbClr val="bbe0e3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Найти цифры в каждом разряде частног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Line 37"/>
          <p:cNvSpPr/>
          <p:nvPr/>
        </p:nvSpPr>
        <p:spPr>
          <a:xfrm>
            <a:off x="3962520" y="2286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9"/>
          <p:cNvSpPr/>
          <p:nvPr/>
        </p:nvSpPr>
        <p:spPr>
          <a:xfrm>
            <a:off x="396252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0"/>
          <p:cNvSpPr/>
          <p:nvPr/>
        </p:nvSpPr>
        <p:spPr>
          <a:xfrm>
            <a:off x="396252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1"/>
          <p:cNvSpPr/>
          <p:nvPr/>
        </p:nvSpPr>
        <p:spPr>
          <a:xfrm>
            <a:off x="396252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6"/>
          <p:cNvSpPr/>
          <p:nvPr/>
        </p:nvSpPr>
        <p:spPr>
          <a:xfrm>
            <a:off x="914400" y="5791320"/>
            <a:ext cx="6934320" cy="530280"/>
          </a:xfrm>
          <a:prstGeom prst="flowChartProcess">
            <a:avLst/>
          </a:prstGeom>
          <a:solidFill>
            <a:srgbClr val="bbe0e3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йти остаток (если он е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14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640"/>
                            </p:stCondLst>
                            <p:childTnLst>
                              <p:par>
                                <p:cTn id="1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62120" y="1600200"/>
          <a:ext cx="7924680" cy="342900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  <a:gridCol w="1981440"/>
                <a:gridCol w="198108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мастерс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мастерс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19T04:31:0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