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048-2A20-4A50-B251-1F7A7014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E69-F9A0-4E21-9F1A-805D6A8A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114-4804-496D-BB53-4356D751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11B-9E77-45F8-81EE-51295D11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6BE-A74A-4852-B1BF-DE83FA64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2B0-679F-4853-8319-0BDCAEE9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78B-C9F3-483D-8F0E-F7E13091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C4C-7272-4E5C-9E76-1F14B81A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42F-2226-4BC3-B64B-3D87D99B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E70-BF4C-4BE9-9829-E66BA38D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C4B-FC84-4E04-A09F-D20571F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55D-4CF6-4780-BD76-9C43FF30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3B7E-5899-475F-A857-6341196B3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all_things.png"/>
          <p:cNvPicPr/>
          <p:nvPr/>
        </p:nvPicPr>
        <p:blipFill>
          <a:blip r:embed="rId1"/>
          <a:stretch/>
        </p:blipFill>
        <p:spPr>
          <a:xfrm>
            <a:off x="3419640" y="2781360"/>
            <a:ext cx="5724360" cy="4076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1"/>
          <p:cNvGrpSpPr/>
          <p:nvPr/>
        </p:nvGrpSpPr>
        <p:grpSpPr>
          <a:xfrm>
            <a:off x="1927800" y="1676520"/>
            <a:ext cx="6252840" cy="2810520"/>
            <a:chOff x="1927800" y="1676520"/>
            <a:chExt cx="6252840" cy="2810520"/>
          </a:xfrm>
        </p:grpSpPr>
        <p:sp>
          <p:nvSpPr>
            <p:cNvPr id="43" name="Text Box 8"/>
            <p:cNvSpPr/>
            <p:nvPr/>
          </p:nvSpPr>
          <p:spPr>
            <a:xfrm rot="1273200">
              <a:off x="6671880" y="33523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р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атема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1927800" y="1676520"/>
              <a:ext cx="5473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ма урока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«Деление на трехзначное число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0"/>
            <p:cNvSpPr/>
            <p:nvPr/>
          </p:nvSpPr>
          <p:spPr>
            <a:xfrm rot="1291200">
              <a:off x="6780600" y="40384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 кла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3808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Organization Chart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0" name="Organization Chart 2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1" name="Text Box 35"/>
          <p:cNvSpPr/>
          <p:nvPr/>
        </p:nvSpPr>
        <p:spPr>
          <a:xfrm>
            <a:off x="4876920" y="533520"/>
            <a:ext cx="365760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делать прики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первое неполное дели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Определить число цифр в част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цифры в каждом разряде час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остаток (если он е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0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0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 flipV="1">
            <a:off x="3733920" y="1066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733920" y="914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6629400" y="990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2209320" y="2514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Cj03358780000[1]"/>
          <p:cNvPicPr/>
          <p:nvPr/>
        </p:nvPicPr>
        <p:blipFill>
          <a:blip r:embed="rId1"/>
          <a:stretch/>
        </p:blipFill>
        <p:spPr>
          <a:xfrm flipH="1" rot="2020800">
            <a:off x="380160" y="2073240"/>
            <a:ext cx="4800600" cy="478476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685800" y="914400"/>
            <a:ext cx="7920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MCj02907090000[1]"/>
          <p:cNvPicPr/>
          <p:nvPr/>
        </p:nvPicPr>
        <p:blipFill>
          <a:blip r:embed="rId1"/>
          <a:stretch/>
        </p:blipFill>
        <p:spPr>
          <a:xfrm>
            <a:off x="3276720" y="3048120"/>
            <a:ext cx="464796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82880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9144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айте, ребята, учиться счи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ить, умножать, прибавлять, вы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 все, что без точного с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двинется с места люб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: 1 + 0 : 428 + 428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98•0 + 1• (207 + 0 : 4267) + 422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30 – 4 • (25 – 0) – 732 : 7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990720" y="304920"/>
            <a:ext cx="6933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пиши ответ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29, 629, 8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29, 629, 829, 1029, 1229, 14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92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.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 1029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478..&gt; 478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686 &lt; 1.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0,1,2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3,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0,1,2,3,4,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}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6,8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,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,2}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1,3,5,7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280150   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5          71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1219320" y="4572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ы ошиб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91440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716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228600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228600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533520" y="380880"/>
            <a:ext cx="8057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деления на двузначное 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" name="Organization Chart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6" name="AutoShape 26"/>
          <p:cNvSpPr/>
          <p:nvPr/>
        </p:nvSpPr>
        <p:spPr>
          <a:xfrm>
            <a:off x="838080" y="1828800"/>
            <a:ext cx="6858000" cy="53352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прики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rganization Chart 30"/>
          <p:cNvGrpSpPr/>
          <p:nvPr/>
        </p:nvGrpSpPr>
        <p:grpSpPr>
          <a:xfrm>
            <a:off x="837000" y="2817000"/>
            <a:ext cx="6933960" cy="2511000"/>
            <a:chOff x="837000" y="2817000"/>
            <a:chExt cx="6933960" cy="2511000"/>
          </a:xfrm>
        </p:grpSpPr>
        <p:sp>
          <p:nvSpPr>
            <p:cNvPr id="68" name="AutoShape 33"/>
            <p:cNvSpPr/>
            <p:nvPr/>
          </p:nvSpPr>
          <p:spPr>
            <a:xfrm>
              <a:off x="837000" y="281700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первое неполное дели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4"/>
            <p:cNvSpPr/>
            <p:nvPr/>
          </p:nvSpPr>
          <p:spPr>
            <a:xfrm>
              <a:off x="837000" y="3814560"/>
              <a:ext cx="6933960" cy="59040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Определить число цифр в част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35"/>
            <p:cNvSpPr/>
            <p:nvPr/>
          </p:nvSpPr>
          <p:spPr>
            <a:xfrm>
              <a:off x="837000" y="479772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цифры в каждом разряде част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37"/>
          <p:cNvSpPr/>
          <p:nvPr/>
        </p:nvSpPr>
        <p:spPr>
          <a:xfrm>
            <a:off x="396252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>
            <a:off x="3962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0"/>
          <p:cNvSpPr/>
          <p:nvPr/>
        </p:nvSpPr>
        <p:spPr>
          <a:xfrm>
            <a:off x="39625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1"/>
          <p:cNvSpPr/>
          <p:nvPr/>
        </p:nvSpPr>
        <p:spPr>
          <a:xfrm>
            <a:off x="39625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914400" y="5791320"/>
            <a:ext cx="6934320" cy="53028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ти остаток (если он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4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160020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9T04:31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