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19F-A827-40F2-AC93-93805D7E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311-6268-4506-89AC-4C8DDAE6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F79-E231-4316-945D-765D9A57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F45-A19E-4EF6-89CD-837EB112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F1C5-7A8C-403F-A868-CDBFED7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379-7D23-4A1C-8636-F25CE42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E437-AA3E-431D-AC1A-9C331DB4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2D43-589E-4277-828C-A9F8CCC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0E22-8D1F-4B53-831A-026E633A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FE3-2E9B-46F1-8DE9-739B193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5A9-B61F-40AC-814B-4A48030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1EA-75BC-4258-BECD-CC2DBC2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86D-1112-4F5E-9417-02ADDD9C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DE58-D292-4CE9-875A-D04E92FE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830-B301-46B4-814D-2CA40E2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610E-0AAD-4FE6-AC6E-14A8DB4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83F-D2A6-4D88-803A-84AAC9DA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65232-92F7-406D-8C65-49B73999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047BD-193A-4C6C-9B2A-C16B7FF0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1AB1-A16A-4640-B4B6-CACCF41B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FD55-53AD-4BC7-8D38-54A75183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5E18-DB9F-4E87-AC4B-2704247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88E-94FC-4A9A-B2BB-B4EA4EFD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A41D-7896-456E-B8D6-A02A687C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378E-6777-4DF6-AF82-2A2B35D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872C-3FFB-43F2-BFF6-130B015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2DA0-2032-419D-AC3E-80ABBBE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403B-477B-466B-AC38-C212C71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0F67-A01E-490E-9CF2-99142BEC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922E-1C2B-482C-87FA-70EFD03F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9C5-9497-419B-9195-6877F9F8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6C49-11EE-4663-BCEA-FABA547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F88-36E3-48B3-8579-49C8102D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E1B-C828-4CAD-AF56-B8F9E3D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A2F-5E5B-44A5-B6E9-EBC89FD9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012-B3C3-45D3-8C49-EB345977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0F8-EF9C-4710-B34C-9F5D67B03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6D2-5556-424C-A551-8CA645BDA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0A6-05AB-4CC5-9C66-172C8402B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4.radikal.ru/0801/e0/894abc8e9b81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comfort.com.ua/images/korsun/kremlin/000402013000801110177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 rot="600600">
            <a:off x="677520" y="512280"/>
            <a:ext cx="7656480" cy="51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4f81b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сковский Кремл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4f81b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428760" y="428760"/>
            <a:ext cx="316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800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80008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504d"/>
                </a:solidFill>
                <a:latin typeface="Calibri"/>
              </a:rPr>
              <a:t>Запиши в других единицах измер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39640" y="1341360"/>
            <a:ext cx="4286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00м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т500кг =…кг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9м =…д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0см =…м …с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км235м =…м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8" name="i-main-pic" descr="Картинка 9 из 3210"/>
          <p:cNvPicPr/>
          <p:nvPr/>
        </p:nvPicPr>
        <p:blipFill>
          <a:blip r:embed="rId2"/>
          <a:srcRect l="28896" t="22504" r="23079" b="0"/>
          <a:stretch/>
        </p:blipFill>
        <p:spPr>
          <a:xfrm>
            <a:off x="5000760" y="1812960"/>
            <a:ext cx="3795480" cy="4595760"/>
          </a:xfrm>
          <a:prstGeom prst="rect">
            <a:avLst/>
          </a:prstGeom>
          <a:ln w="0">
            <a:noFill/>
          </a:ln>
        </p:spPr>
      </p:pic>
      <p:pic>
        <p:nvPicPr>
          <p:cNvPr id="169" name="i-main-pic" descr="Картинка 48 из 9156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716360" y="2133720"/>
            <a:ext cx="4168800" cy="4006800"/>
          </a:xfrm>
          <a:prstGeom prst="rect">
            <a:avLst/>
          </a:prstGeom>
          <a:ln w="0">
            <a:noFill/>
          </a:ln>
        </p:spPr>
      </p:pic>
      <p:pic>
        <p:nvPicPr>
          <p:cNvPr id="170" name="i-main-pic" descr="Картинка 139 из 46385"/>
          <p:cNvPicPr/>
          <p:nvPr/>
        </p:nvPicPr>
        <p:blipFill>
          <a:blip r:embed="rId4"/>
          <a:stretch/>
        </p:blipFill>
        <p:spPr>
          <a:xfrm>
            <a:off x="4643280" y="1916280"/>
            <a:ext cx="4249800" cy="4587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а Кремля"/>
          <p:cNvPicPr/>
          <p:nvPr/>
        </p:nvPicPr>
        <p:blipFill>
          <a:blip r:embed="rId5"/>
          <a:stretch/>
        </p:blipFill>
        <p:spPr>
          <a:xfrm>
            <a:off x="4859280" y="2421000"/>
            <a:ext cx="3745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-main-pic" descr="Картинка 3 из 46385"/>
          <p:cNvPicPr/>
          <p:nvPr/>
        </p:nvPicPr>
        <p:blipFill>
          <a:blip r:embed="rId2"/>
          <a:stretch/>
        </p:blipFill>
        <p:spPr>
          <a:xfrm>
            <a:off x="857160" y="642960"/>
            <a:ext cx="76392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-main-pic" descr="Картинка 122 из 30840"/>
          <p:cNvPicPr/>
          <p:nvPr/>
        </p:nvPicPr>
        <p:blipFill>
          <a:blip r:embed="rId2"/>
          <a:stretch/>
        </p:blipFill>
        <p:spPr>
          <a:xfrm>
            <a:off x="0" y="11160"/>
            <a:ext cx="9190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Monotype Corsiva"/>
              </a:rPr>
              <a:t>Деревянный Кремль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-main-pic" descr="Картинка 32 из 2628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43000" y="1214280"/>
            <a:ext cx="7072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85840" y="185724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однозначное натуральное  число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5500800" y="178596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большее  трёхзначное число уменьшить на 993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5000760" y="5357880"/>
            <a:ext cx="335736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именьшее четырёхзначное число уменьшить в 200 раз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00080" y="5357880"/>
            <a:ext cx="3357720" cy="1285920"/>
          </a:xfrm>
          <a:prstGeom prst="rect">
            <a:avLst/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тая  часть наименьшего трёхзначного числ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24289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364320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485784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6072120" y="3857760"/>
            <a:ext cx="914400" cy="9144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37" name="Прямая со стрелкой 11"/>
          <p:cNvCxnSpPr/>
          <p:nvPr/>
        </p:nvCxnSpPr>
        <p:spPr>
          <a:xfrm>
            <a:off x="2142000" y="328572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8" name="Прямая со стрелкой 13"/>
          <p:cNvCxnSpPr/>
          <p:nvPr/>
        </p:nvCxnSpPr>
        <p:spPr>
          <a:xfrm flipH="1">
            <a:off x="6500160" y="3143160"/>
            <a:ext cx="500760" cy="68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9" name="Прямая со стрелкой 14"/>
          <p:cNvCxnSpPr/>
          <p:nvPr/>
        </p:nvCxnSpPr>
        <p:spPr>
          <a:xfrm flipH="1" flipV="1">
            <a:off x="5516280" y="4785480"/>
            <a:ext cx="62784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 flipV="1">
            <a:off x="3285000" y="4785480"/>
            <a:ext cx="678600" cy="5007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1" name="Скругленный прямоугольник 17"/>
          <p:cNvSpPr/>
          <p:nvPr/>
        </p:nvSpPr>
        <p:spPr>
          <a:xfrm>
            <a:off x="357120" y="285840"/>
            <a:ext cx="850104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Запишите четырёхзначное число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Овал 18"/>
          <p:cNvSpPr/>
          <p:nvPr/>
        </p:nvSpPr>
        <p:spPr>
          <a:xfrm>
            <a:off x="250020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Овал 19"/>
          <p:cNvSpPr/>
          <p:nvPr/>
        </p:nvSpPr>
        <p:spPr>
          <a:xfrm>
            <a:off x="371484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Овал 20"/>
          <p:cNvSpPr/>
          <p:nvPr/>
        </p:nvSpPr>
        <p:spPr>
          <a:xfrm>
            <a:off x="4929120" y="3929040"/>
            <a:ext cx="78588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Овал 21"/>
          <p:cNvSpPr/>
          <p:nvPr/>
        </p:nvSpPr>
        <p:spPr>
          <a:xfrm>
            <a:off x="6143760" y="3929040"/>
            <a:ext cx="785520" cy="714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Карта Кр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-main-pic" descr="Картинка 9 из 15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214200"/>
            <a:ext cx="4430520" cy="6421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14200" y="1857240"/>
            <a:ext cx="42148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Спасская 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Картинка 30 из 1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14200"/>
            <a:ext cx="47178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5000760" y="1643040"/>
            <a:ext cx="414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504d"/>
                </a:solidFill>
                <a:latin typeface="Calibri"/>
              </a:rPr>
              <a:t>Угловая Арсенальная башня</a:t>
            </a:r>
            <a:r>
              <a:rPr b="0" lang="en-US" sz="56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5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-main-pic" descr="Картинка 1 из 101"/>
          <p:cNvPicPr/>
          <p:nvPr/>
        </p:nvPicPr>
        <p:blipFill>
          <a:blip r:embed="rId2"/>
          <a:stretch/>
        </p:blipFill>
        <p:spPr>
          <a:xfrm>
            <a:off x="4572000" y="214200"/>
            <a:ext cx="4286160" cy="64454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1714680"/>
            <a:ext cx="442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Набатная</a:t>
            </a:r>
            <a:r>
              <a:rPr b="1" lang="en-US" sz="7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c0504d"/>
                </a:solidFill>
                <a:latin typeface="Calibri"/>
              </a:rPr>
              <a:t>башня</a:t>
            </a:r>
            <a:r>
              <a:rPr b="0" lang="en-US" sz="80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-main-pic" descr="Картинка 9 из 1506"/>
          <p:cNvPicPr/>
          <p:nvPr/>
        </p:nvPicPr>
        <p:blipFill>
          <a:blip r:embed="rId2"/>
          <a:stretch/>
        </p:blipFill>
        <p:spPr>
          <a:xfrm>
            <a:off x="428760" y="285840"/>
            <a:ext cx="2136600" cy="266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Картинка 30 из 133"/>
          <p:cNvPicPr/>
          <p:nvPr/>
        </p:nvPicPr>
        <p:blipFill>
          <a:blip r:embed="rId3"/>
          <a:stretch/>
        </p:blipFill>
        <p:spPr>
          <a:xfrm>
            <a:off x="3500280" y="214200"/>
            <a:ext cx="2063880" cy="2900520"/>
          </a:xfrm>
          <a:prstGeom prst="rect">
            <a:avLst/>
          </a:prstGeom>
          <a:ln w="0">
            <a:noFill/>
          </a:ln>
        </p:spPr>
      </p:pic>
      <p:pic>
        <p:nvPicPr>
          <p:cNvPr id="156" name="i-main-pic" descr="Картинка 1 из 101"/>
          <p:cNvPicPr/>
          <p:nvPr/>
        </p:nvPicPr>
        <p:blipFill>
          <a:blip r:embed="rId4"/>
          <a:stretch/>
        </p:blipFill>
        <p:spPr>
          <a:xfrm>
            <a:off x="6572160" y="285840"/>
            <a:ext cx="2071800" cy="27144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214200" y="3071880"/>
            <a:ext cx="2643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450-7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15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17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410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29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3203640" y="3357720"/>
            <a:ext cx="300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5000:1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5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+10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3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6357960" y="3143160"/>
            <a:ext cx="250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700:19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*4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0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10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42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Рамка 8"/>
          <p:cNvSpPr/>
          <p:nvPr/>
        </p:nvSpPr>
        <p:spPr>
          <a:xfrm>
            <a:off x="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Рамка 10"/>
          <p:cNvSpPr/>
          <p:nvPr/>
        </p:nvSpPr>
        <p:spPr>
          <a:xfrm>
            <a:off x="3071880" y="0"/>
            <a:ext cx="292896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Рамка 11"/>
          <p:cNvSpPr/>
          <p:nvPr/>
        </p:nvSpPr>
        <p:spPr>
          <a:xfrm>
            <a:off x="6143760" y="0"/>
            <a:ext cx="3000240" cy="6858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Овал 12"/>
          <p:cNvSpPr/>
          <p:nvPr/>
        </p:nvSpPr>
        <p:spPr>
          <a:xfrm>
            <a:off x="214200" y="3786120"/>
            <a:ext cx="264348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71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Овал 13"/>
          <p:cNvSpPr/>
          <p:nvPr/>
        </p:nvSpPr>
        <p:spPr>
          <a:xfrm>
            <a:off x="314316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60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Овал 14"/>
          <p:cNvSpPr/>
          <p:nvPr/>
        </p:nvSpPr>
        <p:spPr>
          <a:xfrm>
            <a:off x="6286680" y="3786120"/>
            <a:ext cx="2643120" cy="162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504d"/>
                </a:solidFill>
                <a:latin typeface="Calibri"/>
              </a:rPr>
              <a:t>38 м</a:t>
            </a:r>
            <a:endParaRPr b="0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0:52:07Z</dcterms:created>
  <dc:creator>Елена</dc:creator>
  <dc:description/>
  <dc:language>en-US</dc:language>
  <cp:lastModifiedBy>user</cp:lastModifiedBy>
  <dcterms:modified xsi:type="dcterms:W3CDTF">2010-05-06T10:36:22Z</dcterms:modified>
  <cp:revision>64</cp:revision>
  <dc:subject/>
  <dc:title>Краткая Российская Энциклопедия</dc:title>
</cp:coreProperties>
</file>