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B2C-D253-429D-BBED-FEBD2D6A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364-44A1-4C96-A874-D84570BA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1EC-5340-4D83-8EFC-61742762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BF1-5383-4851-9779-2E63EC3B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E675-5865-4E7A-8D62-61700D1B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E2B3-CB70-425F-871E-8947D1C7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02F6-D213-4E96-8F19-DACBFE88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DD2-D3F8-4D79-AD6C-883D210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33C7-70A5-49AB-A40E-64E4CAA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D214-7F8B-423A-8DC7-A778D94B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D644-6F6D-48E5-B8B3-31098A95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FA0-A744-4DC5-A40F-F193417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885-AB01-44A8-8B67-F99B1A8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D08C-2A50-411D-9900-D06C995D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4AD8-9E07-4A8B-A98E-37E8E3F3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5BAB-2ADF-41C3-AE3F-2431FEB2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430C-0493-4A2D-AA10-8F24B1F2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99CA-9B46-4275-BE83-BFFF2CB6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AE9F-4C82-4BCD-8D66-9DB99287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4D37-98BC-4449-8408-FAFA2FF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91A6-F267-4D42-ACE2-33624C0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58C9-9253-47EB-938D-45219700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BCD-0E3F-4570-B2C7-84D1D4FB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678B-9A63-44EF-A222-A159DBD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7C35-096E-46BE-AD56-930ADDE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7E86-7DFB-41E8-800D-BB57083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D2F2-C8B1-42AB-8CBD-00BEAAE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DFC9-1A5F-4286-BEC2-668E364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7C9D-6350-4769-8324-971B5B17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5672-6017-49DE-82B5-AF7BBB22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CE8-5E6D-4463-BB59-47A4044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8A7-51DA-4B57-9995-17512B8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D41-39C5-4C97-869F-36CAD85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21E-D0E4-401F-A316-E3BB9D6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135-FD96-475A-ACEB-90301ABD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B86-75EE-459D-9FD3-FCF9459D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C22A-5DE0-4785-8C5A-8BDF9164F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766B-3887-4CBE-98F6-ADD8D2B593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CD4-0028-4E5A-9B2C-C180FD71E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4.radikal.ru/0801/e0/894abc8e9b8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comfort.com.ua/images/korsun/kremlin/00040201300080111017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 rot="600600">
            <a:off x="677520" y="512280"/>
            <a:ext cx="7656480" cy="51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й Кремл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428760" y="428760"/>
            <a:ext cx="316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504d"/>
                </a:solidFill>
                <a:latin typeface="Calibri"/>
              </a:rPr>
              <a:t>Запиши в других единицах изме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39640" y="1341360"/>
            <a:ext cx="4286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00м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т500кг =…к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м =…д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0см =…м …с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км235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i-main-pic" descr="Картинка 9 из 3210"/>
          <p:cNvPicPr/>
          <p:nvPr/>
        </p:nvPicPr>
        <p:blipFill>
          <a:blip r:embed="rId2"/>
          <a:srcRect l="28896" t="22504" r="23079" b="0"/>
          <a:stretch/>
        </p:blipFill>
        <p:spPr>
          <a:xfrm>
            <a:off x="5000760" y="1812960"/>
            <a:ext cx="3795480" cy="459576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48 из 9156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716360" y="2133720"/>
            <a:ext cx="4168800" cy="40068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9 из 46385"/>
          <p:cNvPicPr/>
          <p:nvPr/>
        </p:nvPicPr>
        <p:blipFill>
          <a:blip r:embed="rId4"/>
          <a:stretch/>
        </p:blipFill>
        <p:spPr>
          <a:xfrm>
            <a:off x="4643280" y="1916280"/>
            <a:ext cx="4249800" cy="458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а Кремля"/>
          <p:cNvPicPr/>
          <p:nvPr/>
        </p:nvPicPr>
        <p:blipFill>
          <a:blip r:embed="rId5"/>
          <a:stretch/>
        </p:blipFill>
        <p:spPr>
          <a:xfrm>
            <a:off x="4859280" y="2421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-main-pic" descr="Картинка 3 из 46385"/>
          <p:cNvPicPr/>
          <p:nvPr/>
        </p:nvPicPr>
        <p:blipFill>
          <a:blip r:embed="rId2"/>
          <a:stretch/>
        </p:blipFill>
        <p:spPr>
          <a:xfrm>
            <a:off x="857160" y="642960"/>
            <a:ext cx="7639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22 из 30840"/>
          <p:cNvPicPr/>
          <p:nvPr/>
        </p:nvPicPr>
        <p:blipFill>
          <a:blip r:embed="rId2"/>
          <a:stretch/>
        </p:blipFill>
        <p:spPr>
          <a:xfrm>
            <a:off x="0" y="11160"/>
            <a:ext cx="9190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Monotype Corsiva"/>
              </a:rPr>
              <a:t>Деревянный Кремль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-main-pic" descr="Картинка 32 из 262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43000" y="1214280"/>
            <a:ext cx="707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85840" y="185724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однозначное натуральное  число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500800" y="178596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большее  трёхзначное число уменьшить на 99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760" y="535788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четырёхзначное число уменьшить в 200 раз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00080" y="5357880"/>
            <a:ext cx="335772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тая  часть наименьшего трёхзначного числ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4289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64320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485784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0721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2142000" y="328572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8" name="Прямая со стрелкой 13"/>
          <p:cNvCxnSpPr/>
          <p:nvPr/>
        </p:nvCxnSpPr>
        <p:spPr>
          <a:xfrm flipH="1">
            <a:off x="6500160" y="3143160"/>
            <a:ext cx="500760" cy="68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Прямая со стрелкой 14"/>
          <p:cNvCxnSpPr/>
          <p:nvPr/>
        </p:nvCxnSpPr>
        <p:spPr>
          <a:xfrm flipH="1" flipV="1">
            <a:off x="5516280" y="4785480"/>
            <a:ext cx="62784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V="1">
            <a:off x="3285000" y="478548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7"/>
          <p:cNvSpPr/>
          <p:nvPr/>
        </p:nvSpPr>
        <p:spPr>
          <a:xfrm>
            <a:off x="357120" y="285840"/>
            <a:ext cx="850104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пишите четырёхзначное число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18"/>
          <p:cNvSpPr/>
          <p:nvPr/>
        </p:nvSpPr>
        <p:spPr>
          <a:xfrm>
            <a:off x="250020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Овал 19"/>
          <p:cNvSpPr/>
          <p:nvPr/>
        </p:nvSpPr>
        <p:spPr>
          <a:xfrm>
            <a:off x="371484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Овал 20"/>
          <p:cNvSpPr/>
          <p:nvPr/>
        </p:nvSpPr>
        <p:spPr>
          <a:xfrm>
            <a:off x="492912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Овал 21"/>
          <p:cNvSpPr/>
          <p:nvPr/>
        </p:nvSpPr>
        <p:spPr>
          <a:xfrm>
            <a:off x="6143760" y="3929040"/>
            <a:ext cx="78552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Карта Кр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9 из 1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14200"/>
            <a:ext cx="4430520" cy="6421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14200" y="1857240"/>
            <a:ext cx="4214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Спасская 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артинка 30 из 1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14200"/>
            <a:ext cx="47178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5000760" y="1643040"/>
            <a:ext cx="414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Угловая Арсенальная башня</a:t>
            </a:r>
            <a:r>
              <a:rPr b="0" lang="en-US" sz="5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 из 101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454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1714680"/>
            <a:ext cx="442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Набатная</a:t>
            </a:r>
            <a:r>
              <a:rPr b="1" lang="en-US" sz="7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-main-pic" descr="Картинка 9 из 1506"/>
          <p:cNvPicPr/>
          <p:nvPr/>
        </p:nvPicPr>
        <p:blipFill>
          <a:blip r:embed="rId2"/>
          <a:stretch/>
        </p:blipFill>
        <p:spPr>
          <a:xfrm>
            <a:off x="428760" y="285840"/>
            <a:ext cx="2136600" cy="266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Картинка 30 из 133"/>
          <p:cNvPicPr/>
          <p:nvPr/>
        </p:nvPicPr>
        <p:blipFill>
          <a:blip r:embed="rId3"/>
          <a:stretch/>
        </p:blipFill>
        <p:spPr>
          <a:xfrm>
            <a:off x="3500280" y="214200"/>
            <a:ext cx="2063880" cy="290052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 из 101"/>
          <p:cNvPicPr/>
          <p:nvPr/>
        </p:nvPicPr>
        <p:blipFill>
          <a:blip r:embed="rId4"/>
          <a:stretch/>
        </p:blipFill>
        <p:spPr>
          <a:xfrm>
            <a:off x="6572160" y="28584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214200" y="3071880"/>
            <a:ext cx="2643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450-7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15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17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41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29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3203640" y="335772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5000:1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+1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6357960" y="3143160"/>
            <a:ext cx="250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700:19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*4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2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Рамка 8"/>
          <p:cNvSpPr/>
          <p:nvPr/>
        </p:nvSpPr>
        <p:spPr>
          <a:xfrm>
            <a:off x="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Рамка 10"/>
          <p:cNvSpPr/>
          <p:nvPr/>
        </p:nvSpPr>
        <p:spPr>
          <a:xfrm>
            <a:off x="307188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Рамка 11"/>
          <p:cNvSpPr/>
          <p:nvPr/>
        </p:nvSpPr>
        <p:spPr>
          <a:xfrm>
            <a:off x="6143760" y="0"/>
            <a:ext cx="300024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12"/>
          <p:cNvSpPr/>
          <p:nvPr/>
        </p:nvSpPr>
        <p:spPr>
          <a:xfrm>
            <a:off x="214200" y="3786120"/>
            <a:ext cx="264348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71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13"/>
          <p:cNvSpPr/>
          <p:nvPr/>
        </p:nvSpPr>
        <p:spPr>
          <a:xfrm>
            <a:off x="314316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60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14"/>
          <p:cNvSpPr/>
          <p:nvPr/>
        </p:nvSpPr>
        <p:spPr>
          <a:xfrm>
            <a:off x="628668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38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52:07Z</dcterms:created>
  <dc:creator>Елена</dc:creator>
  <dc:description/>
  <dc:language>en-US</dc:language>
  <cp:lastModifiedBy>user</cp:lastModifiedBy>
  <dcterms:modified xsi:type="dcterms:W3CDTF">2010-05-06T10:36:22Z</dcterms:modified>
  <cp:revision>64</cp:revision>
  <dc:subject/>
  <dc:title>Краткая Российская Энциклопедия</dc:title>
</cp:coreProperties>
</file>