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EF62-A708-414B-8FEC-8E77FF70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898-80B5-412D-AE21-F6F02078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4FE-785D-4719-A6DC-D048C8DD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8C4-E84D-442B-BE7C-8AE90352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AC02-6BC3-4DCC-BDC1-977D7055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F53A-B0D5-4BFE-A5F9-37FFF215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3F8A-B71E-435E-A1D2-06212A5E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9323-1B80-4323-8DCD-1F323C1E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8302-6053-4B9B-BD54-AE74DBD5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D3E8-79AC-4D4D-AB71-ED232E00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F66F-CC37-4B50-A54E-7949B647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325C-08F1-4276-84B8-384D055C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09F4-0943-4A00-AB1E-4110A403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7C0F-7F9C-492E-9D2E-F5A45358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5F19-172C-40D2-B5A1-BA529322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C1F0-F7FF-486F-9F07-18D4E879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A8B6-9171-4809-ACB7-3DBB2279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401C1-081C-4CB6-83CB-B070AC0D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FD06E-A929-45D3-B401-D535ACCB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69D52-D832-45DB-811A-16115980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2BB6C-C4CC-469E-9198-211EC89D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B43B0-37DD-4234-A821-748027CF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EDA2-0DBB-4DA1-B746-328525D1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A68E9-DC49-4DA7-A90E-25215054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FB3CB-9C01-430B-BBB9-4A54DA1D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63861-722E-4E1C-AA20-61BF839F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D3948-DD9E-42FA-8C27-E8328CF5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18761-AE5C-452C-9751-0E42A0D2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46BA0-6A7F-4935-9D8B-A8889F94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1DC29-66EF-4588-96FF-32E7A2F9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5D9-945D-4130-BC41-A26D8BAC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6A9-7D8B-4E09-A782-E52F8982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467-81BB-4989-AB7A-A0A7B455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4778-87C8-4DA3-9EFA-B67A8E01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1959-4495-46AE-8502-54FC07F5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A47-B6D8-4743-8098-A7D0D518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0AF1-C1AF-4CB4-AF29-A00B6FAD24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1602-B6A0-4FD5-AF59-F4C24C9BAE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C55F-773E-46E9-90D6-057D48B2DD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034.radikal.ru/0801/e0/894abc8e9b81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bcomfort.com.ua/images/korsun/kremlin/000402013000801110177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 rot="600600">
            <a:off x="677520" y="512280"/>
            <a:ext cx="7656480" cy="51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8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4f81b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сковский Кремль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4f81b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428760" y="428760"/>
            <a:ext cx="3168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80008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80008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504d"/>
                </a:solidFill>
                <a:latin typeface="Calibri"/>
              </a:rPr>
              <a:t>Запиши в других единицах измер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39640" y="1341360"/>
            <a:ext cx="42865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000мм =…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т500кг =…кг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9м =…д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50см =…м …с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км235м =…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8" name="i-main-pic" descr="Картинка 9 из 3210"/>
          <p:cNvPicPr/>
          <p:nvPr/>
        </p:nvPicPr>
        <p:blipFill>
          <a:blip r:embed="rId2"/>
          <a:srcRect l="28896" t="22504" r="23079" b="0"/>
          <a:stretch/>
        </p:blipFill>
        <p:spPr>
          <a:xfrm>
            <a:off x="5000760" y="1812960"/>
            <a:ext cx="3795480" cy="4595760"/>
          </a:xfrm>
          <a:prstGeom prst="rect">
            <a:avLst/>
          </a:prstGeom>
          <a:ln w="0">
            <a:noFill/>
          </a:ln>
        </p:spPr>
      </p:pic>
      <p:pic>
        <p:nvPicPr>
          <p:cNvPr id="169" name="i-main-pic" descr="Картинка 48 из 9156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4716360" y="2133720"/>
            <a:ext cx="4168800" cy="4006800"/>
          </a:xfrm>
          <a:prstGeom prst="rect">
            <a:avLst/>
          </a:prstGeom>
          <a:ln w="0">
            <a:noFill/>
          </a:ln>
        </p:spPr>
      </p:pic>
      <p:pic>
        <p:nvPicPr>
          <p:cNvPr id="170" name="i-main-pic" descr="Картинка 139 из 46385"/>
          <p:cNvPicPr/>
          <p:nvPr/>
        </p:nvPicPr>
        <p:blipFill>
          <a:blip r:embed="rId4"/>
          <a:stretch/>
        </p:blipFill>
        <p:spPr>
          <a:xfrm>
            <a:off x="4643280" y="1916280"/>
            <a:ext cx="4249800" cy="4587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Карта Кремля"/>
          <p:cNvPicPr/>
          <p:nvPr/>
        </p:nvPicPr>
        <p:blipFill>
          <a:blip r:embed="rId5"/>
          <a:stretch/>
        </p:blipFill>
        <p:spPr>
          <a:xfrm>
            <a:off x="4859280" y="2421000"/>
            <a:ext cx="3745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i-main-pic" descr="Картинка 3 из 46385"/>
          <p:cNvPicPr/>
          <p:nvPr/>
        </p:nvPicPr>
        <p:blipFill>
          <a:blip r:embed="rId2"/>
          <a:stretch/>
        </p:blipFill>
        <p:spPr>
          <a:xfrm>
            <a:off x="857160" y="642960"/>
            <a:ext cx="76392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-main-pic" descr="Картинка 122 из 30840"/>
          <p:cNvPicPr/>
          <p:nvPr/>
        </p:nvPicPr>
        <p:blipFill>
          <a:blip r:embed="rId2"/>
          <a:stretch/>
        </p:blipFill>
        <p:spPr>
          <a:xfrm>
            <a:off x="0" y="11160"/>
            <a:ext cx="919008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Monotype Corsiva"/>
              </a:rPr>
              <a:t>Деревянный Кремль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i-main-pic" descr="Картинка 32 из 2628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143000" y="1214280"/>
            <a:ext cx="7072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285840" y="1857240"/>
            <a:ext cx="335736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именьшее однозначное натуральное  число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5500800" y="1785960"/>
            <a:ext cx="335736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ибольшее  трёхзначное число уменьшить на 993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5000760" y="5357880"/>
            <a:ext cx="335736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именьшее четырёхзначное число уменьшить в 200 раз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1000080" y="5357880"/>
            <a:ext cx="335772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отая  часть наименьшего трёхзначного числа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242892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364320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485784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607212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37" name="Прямая со стрелкой 11"/>
          <p:cNvCxnSpPr/>
          <p:nvPr/>
        </p:nvCxnSpPr>
        <p:spPr>
          <a:xfrm>
            <a:off x="2142000" y="3285720"/>
            <a:ext cx="67860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8" name="Прямая со стрелкой 13"/>
          <p:cNvCxnSpPr/>
          <p:nvPr/>
        </p:nvCxnSpPr>
        <p:spPr>
          <a:xfrm flipH="1">
            <a:off x="6500160" y="3143160"/>
            <a:ext cx="500760" cy="680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9" name="Прямая со стрелкой 14"/>
          <p:cNvCxnSpPr/>
          <p:nvPr/>
        </p:nvCxnSpPr>
        <p:spPr>
          <a:xfrm flipH="1" flipV="1">
            <a:off x="5516280" y="4785480"/>
            <a:ext cx="62784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0" name="Прямая со стрелкой 15"/>
          <p:cNvCxnSpPr/>
          <p:nvPr/>
        </p:nvCxnSpPr>
        <p:spPr>
          <a:xfrm flipV="1">
            <a:off x="3285000" y="4785480"/>
            <a:ext cx="67860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1" name="Скругленный прямоугольник 17"/>
          <p:cNvSpPr/>
          <p:nvPr/>
        </p:nvSpPr>
        <p:spPr>
          <a:xfrm>
            <a:off x="357120" y="285840"/>
            <a:ext cx="850104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Запишите четырёхзначное число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Овал 18"/>
          <p:cNvSpPr/>
          <p:nvPr/>
        </p:nvSpPr>
        <p:spPr>
          <a:xfrm>
            <a:off x="2500200" y="3929040"/>
            <a:ext cx="78588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Овал 19"/>
          <p:cNvSpPr/>
          <p:nvPr/>
        </p:nvSpPr>
        <p:spPr>
          <a:xfrm>
            <a:off x="3714840" y="3929040"/>
            <a:ext cx="78588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Овал 20"/>
          <p:cNvSpPr/>
          <p:nvPr/>
        </p:nvSpPr>
        <p:spPr>
          <a:xfrm>
            <a:off x="4929120" y="3929040"/>
            <a:ext cx="78588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Овал 21"/>
          <p:cNvSpPr/>
          <p:nvPr/>
        </p:nvSpPr>
        <p:spPr>
          <a:xfrm>
            <a:off x="6143760" y="3929040"/>
            <a:ext cx="78552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Карта Кр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-main-pic" descr="Картинка 9 из 15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214200"/>
            <a:ext cx="4430520" cy="642168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2"/>
          <p:cNvSpPr/>
          <p:nvPr/>
        </p:nvSpPr>
        <p:spPr>
          <a:xfrm>
            <a:off x="214200" y="1857240"/>
            <a:ext cx="42148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504d"/>
                </a:solidFill>
                <a:latin typeface="Calibri"/>
              </a:rPr>
              <a:t>Спасская башня</a:t>
            </a:r>
            <a:r>
              <a:rPr b="0" lang="en-US" sz="80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Картинка 30 из 13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214200"/>
            <a:ext cx="4717800" cy="62150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2"/>
          <p:cNvSpPr/>
          <p:nvPr/>
        </p:nvSpPr>
        <p:spPr>
          <a:xfrm>
            <a:off x="5000760" y="1643040"/>
            <a:ext cx="414324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504d"/>
                </a:solidFill>
                <a:latin typeface="Calibri"/>
              </a:rPr>
              <a:t>Угловая Арсенальная башня</a:t>
            </a:r>
            <a:r>
              <a:rPr b="0" lang="en-US" sz="56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-main-pic" descr="Картинка 1 из 101"/>
          <p:cNvPicPr/>
          <p:nvPr/>
        </p:nvPicPr>
        <p:blipFill>
          <a:blip r:embed="rId2"/>
          <a:stretch/>
        </p:blipFill>
        <p:spPr>
          <a:xfrm>
            <a:off x="4572000" y="214200"/>
            <a:ext cx="4286160" cy="644544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0" y="1714680"/>
            <a:ext cx="44290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504d"/>
                </a:solidFill>
                <a:latin typeface="Calibri"/>
              </a:rPr>
              <a:t>Набатная</a:t>
            </a:r>
            <a:r>
              <a:rPr b="1" lang="en-US" sz="7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7200" spc="-1" strike="noStrike">
                <a:solidFill>
                  <a:srgbClr val="c0504d"/>
                </a:solidFill>
                <a:latin typeface="Calibri"/>
              </a:rPr>
              <a:t>башня</a:t>
            </a:r>
            <a:r>
              <a:rPr b="0" lang="en-US" sz="80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-main-pic" descr="Картинка 9 из 1506"/>
          <p:cNvPicPr/>
          <p:nvPr/>
        </p:nvPicPr>
        <p:blipFill>
          <a:blip r:embed="rId2"/>
          <a:stretch/>
        </p:blipFill>
        <p:spPr>
          <a:xfrm>
            <a:off x="428760" y="285840"/>
            <a:ext cx="2136600" cy="266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Картинка 30 из 133"/>
          <p:cNvPicPr/>
          <p:nvPr/>
        </p:nvPicPr>
        <p:blipFill>
          <a:blip r:embed="rId3"/>
          <a:stretch/>
        </p:blipFill>
        <p:spPr>
          <a:xfrm>
            <a:off x="3500280" y="214200"/>
            <a:ext cx="2063880" cy="2900520"/>
          </a:xfrm>
          <a:prstGeom prst="rect">
            <a:avLst/>
          </a:prstGeom>
          <a:ln w="0">
            <a:noFill/>
          </a:ln>
        </p:spPr>
      </p:pic>
      <p:pic>
        <p:nvPicPr>
          <p:cNvPr id="156" name="i-main-pic" descr="Картинка 1 из 101"/>
          <p:cNvPicPr/>
          <p:nvPr/>
        </p:nvPicPr>
        <p:blipFill>
          <a:blip r:embed="rId4"/>
          <a:stretch/>
        </p:blipFill>
        <p:spPr>
          <a:xfrm>
            <a:off x="6572160" y="285840"/>
            <a:ext cx="2071800" cy="27144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214200" y="3071880"/>
            <a:ext cx="26434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7450-70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15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17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41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29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3203640" y="3357720"/>
            <a:ext cx="3000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85000:1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5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+10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3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6357960" y="3143160"/>
            <a:ext cx="2500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700:19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*4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4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1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42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Рамка 8"/>
          <p:cNvSpPr/>
          <p:nvPr/>
        </p:nvSpPr>
        <p:spPr>
          <a:xfrm>
            <a:off x="0" y="0"/>
            <a:ext cx="2928960" cy="6858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Рамка 10"/>
          <p:cNvSpPr/>
          <p:nvPr/>
        </p:nvSpPr>
        <p:spPr>
          <a:xfrm>
            <a:off x="3071880" y="0"/>
            <a:ext cx="2928960" cy="6858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Рамка 11"/>
          <p:cNvSpPr/>
          <p:nvPr/>
        </p:nvSpPr>
        <p:spPr>
          <a:xfrm>
            <a:off x="6143760" y="0"/>
            <a:ext cx="3000240" cy="6858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Овал 12"/>
          <p:cNvSpPr/>
          <p:nvPr/>
        </p:nvSpPr>
        <p:spPr>
          <a:xfrm>
            <a:off x="214200" y="3786120"/>
            <a:ext cx="2643480" cy="16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Calibri"/>
              </a:rPr>
              <a:t>71 м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Овал 13"/>
          <p:cNvSpPr/>
          <p:nvPr/>
        </p:nvSpPr>
        <p:spPr>
          <a:xfrm>
            <a:off x="3143160" y="3786120"/>
            <a:ext cx="2643120" cy="16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Calibri"/>
              </a:rPr>
              <a:t>60 м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Овал 14"/>
          <p:cNvSpPr/>
          <p:nvPr/>
        </p:nvSpPr>
        <p:spPr>
          <a:xfrm>
            <a:off x="6286680" y="3786120"/>
            <a:ext cx="2643120" cy="16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Calibri"/>
              </a:rPr>
              <a:t>38 м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0:52:07Z</dcterms:created>
  <dc:creator>Елена</dc:creator>
  <dc:description/>
  <dc:language>en-US</dc:language>
  <cp:lastModifiedBy>user</cp:lastModifiedBy>
  <dcterms:modified xsi:type="dcterms:W3CDTF">2010-05-06T10:36:22Z</dcterms:modified>
  <cp:revision>64</cp:revision>
  <dc:subject/>
  <dc:title>Краткая Российская Энциклопедия</dc:title>
</cp:coreProperties>
</file>