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814-FE70-4BC4-8A69-211AB619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ECA-5913-4757-98A0-3BFCDB0D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642-7C47-4AB1-80E8-824A6696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D23-CF2B-444F-B5F3-E324566A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0D15-A044-4F15-B644-0AAAD564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2E6D-033F-4197-9D5C-E961C507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DE5-65D7-463E-AC2E-4B42C5EF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C7AF-EE19-4034-8508-787CFD92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F7D-5438-42EC-AB36-B2991B28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F0F5-9119-4CC7-8489-C9AA145A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295-7795-4C81-82A4-BA83D121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3A0-35C7-49EE-9493-0FBD6C6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2862-2F20-44E4-BED0-0F289D1331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ff00"/>
                </a:solidFill>
                <a:latin typeface="Arial"/>
              </a:rPr>
              <a:t>По  северным городам России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8" descr="Описание: Вид на Вологду с колокольни "/>
          <p:cNvPicPr/>
          <p:nvPr/>
        </p:nvPicPr>
        <p:blipFill>
          <a:blip r:embed="rId1"/>
          <a:stretch/>
        </p:blipFill>
        <p:spPr>
          <a:xfrm>
            <a:off x="324000" y="333360"/>
            <a:ext cx="8540640" cy="301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Описание: Зимняя панорама Соборной горки "/>
          <p:cNvPicPr/>
          <p:nvPr/>
        </p:nvPicPr>
        <p:blipFill>
          <a:blip r:embed="rId2"/>
          <a:stretch/>
        </p:blipFill>
        <p:spPr>
          <a:xfrm>
            <a:off x="179280" y="3645000"/>
            <a:ext cx="882036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одские кружев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Рисунок 12" descr="Описание: http://podelki-shop.ru/wp-content/uploads/2010/04/Vologda-Lace-1.jpg"/>
          <p:cNvPicPr/>
          <p:nvPr/>
        </p:nvPicPr>
        <p:blipFill>
          <a:blip r:embed="rId1"/>
          <a:stretch/>
        </p:blipFill>
        <p:spPr>
          <a:xfrm>
            <a:off x="539640" y="1235160"/>
            <a:ext cx="3173400" cy="25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ANd9GcT7nWQtsB9qgFGQEVLBcGW4D68-cNAJOAdwa5Gjf3tsNrT_WhrwOj-PrNCO"/>
          <p:cNvPicPr/>
          <p:nvPr/>
        </p:nvPicPr>
        <p:blipFill>
          <a:blip r:embed="rId2"/>
          <a:stretch/>
        </p:blipFill>
        <p:spPr>
          <a:xfrm>
            <a:off x="900000" y="3933720"/>
            <a:ext cx="2440080" cy="27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Описание: http://www.mirgeografii.ru/wp-content/uploads/2011/01/vologod1.jpg"/>
          <p:cNvPicPr/>
          <p:nvPr/>
        </p:nvPicPr>
        <p:blipFill>
          <a:blip r:embed="rId3"/>
          <a:stretch/>
        </p:blipFill>
        <p:spPr>
          <a:xfrm>
            <a:off x="3851280" y="1700280"/>
            <a:ext cx="51339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еликий Устю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6" name="Рисунок 14" descr="Описание: http://images.vector-images.com/35/velustyug_city_coa_n3243.gif"/>
          <p:cNvPicPr/>
          <p:nvPr/>
        </p:nvPicPr>
        <p:blipFill>
          <a:blip r:embed="rId1"/>
          <a:stretch/>
        </p:blipFill>
        <p:spPr>
          <a:xfrm>
            <a:off x="2411280" y="1413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6" descr="Описание: http://dedmorozz.ru/img1/zimnab.jpg"/>
          <p:cNvPicPr/>
          <p:nvPr/>
        </p:nvPicPr>
        <p:blipFill>
          <a:blip r:embed="rId1"/>
          <a:stretch/>
        </p:blipFill>
        <p:spPr>
          <a:xfrm>
            <a:off x="179280" y="981000"/>
            <a:ext cx="87487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7" descr="Описание: http://ote4estvo.ru/uploads/posts/2011-01/1305218288_0a02c76bac130fc9ac26af0b41cbbd3c.jpg"/>
          <p:cNvPicPr/>
          <p:nvPr/>
        </p:nvPicPr>
        <p:blipFill>
          <a:blip r:embed="rId1"/>
          <a:stretch/>
        </p:blipFill>
        <p:spPr>
          <a:xfrm>
            <a:off x="108000" y="260280"/>
            <a:ext cx="8820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Чернение серебр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0" name="Рисунок 19" descr="Описание: http://dic.academic.ru/pictures/enc_pictures/1936.jpg"/>
          <p:cNvPicPr/>
          <p:nvPr/>
        </p:nvPicPr>
        <p:blipFill>
          <a:blip r:embed="rId1"/>
          <a:stretch/>
        </p:blipFill>
        <p:spPr>
          <a:xfrm>
            <a:off x="179280" y="1341360"/>
            <a:ext cx="366876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1" descr="Описание: http://velikiy-ustug-skazanie.ru/wp-content/uploads/2010/11/981600266.jpg"/>
          <p:cNvPicPr/>
          <p:nvPr/>
        </p:nvPicPr>
        <p:blipFill>
          <a:blip r:embed="rId2"/>
          <a:stretch/>
        </p:blipFill>
        <p:spPr>
          <a:xfrm>
            <a:off x="3995640" y="1844640"/>
            <a:ext cx="5148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4" descr="kargopol_city_coa_1781"/>
          <p:cNvPicPr/>
          <p:nvPr/>
        </p:nvPicPr>
        <p:blipFill>
          <a:blip r:embed="rId1"/>
          <a:stretch/>
        </p:blipFill>
        <p:spPr>
          <a:xfrm>
            <a:off x="2556000" y="1484280"/>
            <a:ext cx="39621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3" descr="Описание: Каргополь. Церковь Рождества богородицы. 1653."/>
          <p:cNvPicPr/>
          <p:nvPr/>
        </p:nvPicPr>
        <p:blipFill>
          <a:blip r:embed="rId1"/>
          <a:stretch/>
        </p:blipFill>
        <p:spPr>
          <a:xfrm>
            <a:off x="0" y="189000"/>
            <a:ext cx="4572000" cy="3547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sc_0264a"/>
          <p:cNvPicPr/>
          <p:nvPr/>
        </p:nvPicPr>
        <p:blipFill>
          <a:blip r:embed="rId2"/>
          <a:stretch/>
        </p:blipFill>
        <p:spPr>
          <a:xfrm>
            <a:off x="3851280" y="3068640"/>
            <a:ext cx="5148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опольская игруш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7" descr="300px-Kostenko-Elena-Folk-toys-from-Kargopol-buk127bw"/>
          <p:cNvPicPr/>
          <p:nvPr/>
        </p:nvPicPr>
        <p:blipFill>
          <a:blip r:embed="rId1"/>
          <a:stretch/>
        </p:blipFill>
        <p:spPr>
          <a:xfrm>
            <a:off x="179280" y="1268280"/>
            <a:ext cx="4680000" cy="3600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MG_170s"/>
          <p:cNvPicPr/>
          <p:nvPr/>
        </p:nvPicPr>
        <p:blipFill>
          <a:blip r:embed="rId2"/>
          <a:stretch/>
        </p:blipFill>
        <p:spPr>
          <a:xfrm>
            <a:off x="3851280" y="2349360"/>
            <a:ext cx="51865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58477932_duym26"/>
          <p:cNvPicPr/>
          <p:nvPr/>
        </p:nvPicPr>
        <p:blipFill>
          <a:blip r:embed="rId1"/>
          <a:stretch/>
        </p:blipFill>
        <p:spPr>
          <a:xfrm>
            <a:off x="324000" y="1413000"/>
            <a:ext cx="8675640" cy="5124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Каргапольские игрушк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900000" y="88920"/>
            <a:ext cx="7272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4" descr="1273"/>
          <p:cNvPicPr/>
          <p:nvPr/>
        </p:nvPicPr>
        <p:blipFill>
          <a:blip r:embed="rId1"/>
          <a:stretch/>
        </p:blipFill>
        <p:spPr>
          <a:xfrm>
            <a:off x="2411280" y="1628640"/>
            <a:ext cx="43308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Главный собор Архангельс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6" name="Picture 4" descr="578269742"/>
          <p:cNvPicPr/>
          <p:nvPr/>
        </p:nvPicPr>
        <p:blipFill>
          <a:blip r:embed="rId1"/>
          <a:stretch/>
        </p:blipFill>
        <p:spPr>
          <a:xfrm>
            <a:off x="971640" y="1268280"/>
            <a:ext cx="69120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Успенский храм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8" name="Picture 4" descr="hrams1_b"/>
          <p:cNvPicPr/>
          <p:nvPr/>
        </p:nvPicPr>
        <p:blipFill>
          <a:blip r:embed="rId1"/>
          <a:stretch/>
        </p:blipFill>
        <p:spPr>
          <a:xfrm>
            <a:off x="2843280" y="1197000"/>
            <a:ext cx="36399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Архангельск. Вид сверху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0" name="Picture 4" descr="1295185462_x_7759f06f"/>
          <p:cNvPicPr/>
          <p:nvPr/>
        </p:nvPicPr>
        <p:blipFill>
          <a:blip r:embed="rId1"/>
          <a:stretch/>
        </p:blipFill>
        <p:spPr>
          <a:xfrm>
            <a:off x="1187280" y="1484280"/>
            <a:ext cx="672480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Село Холмогор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Рисунок 7" descr="Описание: http://t3.gstatic.com/images?q=tbn:ANd9GcTJDFdDqDS3ieafKLgk_mcEhgPaUMHU53IHEYfStnMnOkAZnBHBmA"/>
          <p:cNvPicPr/>
          <p:nvPr/>
        </p:nvPicPr>
        <p:blipFill>
          <a:blip r:embed="rId1"/>
          <a:stretch/>
        </p:blipFill>
        <p:spPr>
          <a:xfrm>
            <a:off x="179280" y="2421000"/>
            <a:ext cx="4346640" cy="28922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Описание: http://t0.gstatic.com/images?q=tbn:ANd9GcStPXkqwNJY9O9gu1qfHhX3XDuDmbfDNktuAk2WoYIRLR270Mpi"/>
          <p:cNvPicPr/>
          <p:nvPr/>
        </p:nvPicPr>
        <p:blipFill>
          <a:blip r:embed="rId2"/>
          <a:stretch/>
        </p:blipFill>
        <p:spPr>
          <a:xfrm>
            <a:off x="5219640" y="2492280"/>
            <a:ext cx="28638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Резьба по к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Рисунок 4" descr="Описание: http://content.foto.mail.ru/mail/pashkova.1/_blogs/i-3897.jpg"/>
          <p:cNvPicPr/>
          <p:nvPr/>
        </p:nvPicPr>
        <p:blipFill>
          <a:blip r:embed="rId1"/>
          <a:stretch/>
        </p:blipFill>
        <p:spPr>
          <a:xfrm>
            <a:off x="316080" y="1676520"/>
            <a:ext cx="4163760" cy="4422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Описание: http://www.bibliotekar.ru/rusKost/32.files/image001.jpg"/>
          <p:cNvPicPr/>
          <p:nvPr/>
        </p:nvPicPr>
        <p:blipFill>
          <a:blip r:embed="rId2"/>
          <a:stretch/>
        </p:blipFill>
        <p:spPr>
          <a:xfrm>
            <a:off x="4986360" y="1676520"/>
            <a:ext cx="351612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Arial"/>
              </a:rPr>
              <a:t>Вологд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8" name="Рисунок 13" descr="Описание: http://upload.wikimedia.org/wikipedia/commons/thumb/f/f0/Coat_of_Arms_of_Vologda_(Vologda_oblast)_(1780).png/210px-Coat_of_Arms_of_Vologda_(Vologda_oblast)_(1780).png"/>
          <p:cNvPicPr/>
          <p:nvPr/>
        </p:nvPicPr>
        <p:blipFill>
          <a:blip r:embed="rId1"/>
          <a:stretch/>
        </p:blipFill>
        <p:spPr>
          <a:xfrm>
            <a:off x="2556000" y="1484280"/>
            <a:ext cx="3946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1:56:24Z</dcterms:created>
  <dc:creator>Admin</dc:creator>
  <dc:description/>
  <dc:language>en-US</dc:language>
  <cp:lastModifiedBy>Admin</cp:lastModifiedBy>
  <dcterms:modified xsi:type="dcterms:W3CDTF">2001-12-31T18:15:35Z</dcterms:modified>
  <cp:revision>3</cp:revision>
  <dc:subject/>
  <dc:title>По  северным городам России</dc:title>
</cp:coreProperties>
</file>