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742-B69E-4C68-B60D-5BCA1B79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AA0-214E-45FC-A867-6F2B1B4E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18F-51AC-419F-86F3-1E4E0AA9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34D-70B7-44C3-B5F8-3EA0AB19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2432-A103-4F78-89A7-10A2769B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3AC1-0C47-45E6-AB58-33AA144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1C0C-7C76-4C56-9AB2-0653556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66E-13C6-4D14-8FC6-A36C4EF1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01DC-060F-4467-96CC-F2C5F65D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FFE0-5E7C-49FA-8A10-EB35F128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7DC6-6C20-4542-8E86-DA66CB9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CFF-F8FE-484C-A166-86E7D26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8972-C3ED-4D97-A75C-9987588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1C78-4907-4672-9460-8EB3A89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E614-07B7-4CD8-9182-201AE62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151-4658-4AF3-A6E7-9AA72C14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1772-4F90-4251-A8A4-B9E66BD4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46C-9A01-44E9-9C58-9843E6E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063-86E6-4766-8E58-9A8A3F82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A12-0B8C-42D7-8E10-C1ADD4F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0EE-87A0-4375-B0FD-310FE56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365-F091-466D-B114-F0FA62B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8CF-B860-44EB-A1E6-40C0F67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9D0-2F70-4259-8892-4C7AD63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3FB-E1EC-40FB-AED0-32A6DDE8D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C889-169B-4356-9AB7-15957A4AEE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ин..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н..р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трен..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в..лик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х..рош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ф..олетовый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св..рк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р..сов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ж..л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367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иней       великий       сверк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народ     хороший      рисов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тренер   фиолетовый  жел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Narrow"/>
              </a:rPr>
              <a:t>Орфографическая 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мить 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ёнку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я м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ко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в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ъ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бный гри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б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ё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ый гру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ут руч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44:13Z</dcterms:created>
  <dc:creator>Admin</dc:creator>
  <dc:description/>
  <dc:language>en-US</dc:language>
  <cp:lastModifiedBy>Светлана</cp:lastModifiedBy>
  <dcterms:modified xsi:type="dcterms:W3CDTF">2012-03-19T05:35:34Z</dcterms:modified>
  <cp:revision>3</cp:revision>
  <dc:subject/>
  <dc:title>Словарная работа</dc:title>
</cp:coreProperties>
</file>