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E6B-7FEB-42EE-B5DB-C5DCF033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134-7DAE-4E5A-BD59-8A54C65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C07-8F41-4C97-B204-C214A8C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CA3-8384-4F55-B5B7-3D6BE577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FD81-0246-41D8-8681-E435832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67F-F7A7-4797-990B-6E339BA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ADBC-8C99-4F96-9749-DB3F83B9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72ED-5543-40EE-9E94-9A701B07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C68-B219-4230-983F-ED85977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5146-9DDC-419A-B4DF-9B6072D4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EA1-F3F5-4C06-9D8F-2AC684B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2B1-2258-4932-A5B7-112B372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7A93-9A6B-4FCD-8C30-8DED759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9A74-3733-4446-9B5E-72A1073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C820-7A1B-4FDB-8265-44577CBA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F898-8435-436E-A92C-4279486C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DBC-C69D-4B2E-ADED-CC4F5FBB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A0F-A54F-41B5-A35E-BB20364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641-1325-4A1C-99A4-07DCDC4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6D2-9745-4EC1-BFC4-B5542DC0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A37-50B7-4DFE-BB57-20E0932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FD4-52A3-43A7-91B8-7EFF029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E44-8522-4B3B-BCCD-D721544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213-03A7-4C68-B89C-F7E2441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720-CC8C-44AA-812A-B495B1D55C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15B2-6F8F-429E-ACA9-2E374F26F8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ин..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н..р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трен..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в..лик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х..рош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ф..олетовый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св..рк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р..сов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ж..л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367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иней       великий       сверк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народ     хороший      рисов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тренер   фиолетовый  жел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Narrow"/>
              </a:rPr>
              <a:t>Орфографическая 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мить 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ёнку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я м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ко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в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ъ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бный гри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б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ё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ый гру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ут руч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44:13Z</dcterms:created>
  <dc:creator>Admin</dc:creator>
  <dc:description/>
  <dc:language>en-US</dc:language>
  <cp:lastModifiedBy>Светлана</cp:lastModifiedBy>
  <dcterms:modified xsi:type="dcterms:W3CDTF">2012-03-19T05:35:34Z</dcterms:modified>
  <cp:revision>3</cp:revision>
  <dc:subject/>
  <dc:title>Словарная работа</dc:title>
</cp:coreProperties>
</file>