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8888-98F7-4F8F-9E62-354D67B11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48AE-C0BA-46EE-A072-14EF877B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4ED4-4ACB-4185-97C7-C65C97DC2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9DAD-180D-4198-8434-D1AE3C024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1CB7-F90E-440B-BDFC-1A47FE35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74AC-7DBD-4EC0-AF7F-E90E0656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107C-AF38-41C7-BAA4-661DFB94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4436-4F39-4D61-8CA7-CC40C54C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7CEC-EB3A-40E0-8C91-696DBE80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8F15-3D9D-458E-BC49-58720752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9985-7CD8-4A69-B9A7-6949A2E2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B49C-A14C-45BA-9D6B-995B768E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Calibri"/>
              </a:rPr>
              <a:t>Click to edit the title text format</a:t>
            </a: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B55A-32AB-4DDE-B8A3-DCFF875065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706320" y="4237200"/>
            <a:ext cx="7785360" cy="26938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364320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2. Перечислите корни с  чередованием а//о.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Объясните, в чём особенность правописания корней –гар-// -гор-,  -зар-//-зор- и других корней с чередованием а//о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809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–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гар-// -гор-,  -зар-//-зор-</a:t>
            </a: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Особенность правописания: </a:t>
            </a: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в безударном положении пишется ГОР  (угореть, погорелец, подгореть, загорелый,загорать, горение, но загАр, угАрный, пригАр)</a:t>
            </a: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в безударном положении пишется ЗАР  (заря, зарница, заревой, озарять, озарение, но зОрька, зОри)</a:t>
            </a: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10253f"/>
                </a:solidFill>
                <a:uFillTx/>
                <a:latin typeface="Times New Roman"/>
              </a:rPr>
              <a:t>Исключения: 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зарево, выгарки, пригарь</a:t>
            </a: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Заголовок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809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–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клан-// -клон-,  -твар-//-твор-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Особенность правописания: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в безударном положении пишется О  (наклонять, склонение, поклониться, творец, творение, сотворить)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–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плав-// -плов-,  -равн-//-ровн-, -мак-//-мок-, -скак-//-скоч-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Заголовок 1" descr=""/>
          <p:cNvPicPr/>
          <p:nvPr/>
        </p:nvPicPr>
        <p:blipFill>
          <a:blip r:embed="rId1"/>
          <a:stretch/>
        </p:blipFill>
        <p:spPr>
          <a:xfrm>
            <a:off x="493560" y="493560"/>
            <a:ext cx="8242560" cy="1805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1.Рассмотрите репродукцию картины  А. К. Денисова-Уральского «Лесной пожар». Какие  чувства, по-вашему, хотел передать живописец? Какие художественные средства он для этого использовал?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Заголовок 1" descr=""/>
          <p:cNvPicPr/>
          <p:nvPr/>
        </p:nvPicPr>
        <p:blipFill>
          <a:blip r:embed="rId1"/>
          <a:stretch/>
        </p:blipFill>
        <p:spPr>
          <a:xfrm>
            <a:off x="420840" y="493560"/>
            <a:ext cx="8242200" cy="1292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50004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На своём полотне художник _____________________________________________________________________________________________</a:t>
            </a:r>
            <a:endParaRPr b="1" lang="en-US" sz="2200" spc="-1" strike="noStrike">
              <a:solidFill>
                <a:srgbClr val="10253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 </a:t>
            </a:r>
            <a:endParaRPr b="1" lang="en-US" sz="2200" spc="-1" strike="noStrike">
              <a:solidFill>
                <a:srgbClr val="10253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Большую часть картины занимают _____________________________________________________________________________________________</a:t>
            </a:r>
            <a:endParaRPr b="1" lang="en-US" sz="2200" spc="-1" strike="noStrike">
              <a:solidFill>
                <a:srgbClr val="10253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 </a:t>
            </a:r>
            <a:endParaRPr b="1" lang="en-US" sz="2200" spc="-1" strike="noStrike">
              <a:solidFill>
                <a:srgbClr val="10253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          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Мы смотрим на это произведение, и нам хочется ____________________________________________________________________________________________</a:t>
            </a:r>
            <a:endParaRPr b="1" lang="en-US" sz="2200" spc="-1" strike="noStrike">
              <a:solidFill>
                <a:srgbClr val="10253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 </a:t>
            </a:r>
            <a:endParaRPr b="1" lang="en-US" sz="2200" spc="-1" strike="noStrike">
              <a:solidFill>
                <a:srgbClr val="10253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             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Художник своей картиной словно ______________________________________________________________________________________________</a:t>
            </a:r>
            <a:endParaRPr b="1" lang="en-US" sz="2200" spc="-1" strike="noStrike">
              <a:solidFill>
                <a:srgbClr val="10253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71680" y="3071520"/>
            <a:ext cx="82296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Times New Roman"/>
              </a:rPr>
              <a:t>Попробуйте записать эпитеты к слову </a:t>
            </a:r>
            <a:r>
              <a:rPr b="1" i="1" lang="ru-RU" sz="4400" spc="-1" strike="noStrike">
                <a:solidFill>
                  <a:srgbClr val="10253f"/>
                </a:solidFill>
                <a:latin typeface="Times New Roman"/>
              </a:rPr>
              <a:t>огонь. </a:t>
            </a:r>
            <a:r>
              <a:rPr b="1" lang="ru-RU" sz="4400" spc="-1" strike="noStrike">
                <a:solidFill>
                  <a:srgbClr val="10253f"/>
                </a:solidFill>
                <a:latin typeface="Times New Roman"/>
              </a:rPr>
              <a:t>При выполнении задания обратитесь к словарику эпитетов.</a:t>
            </a: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1" descr=""/>
          <p:cNvPicPr/>
          <p:nvPr/>
        </p:nvPicPr>
        <p:blipFill>
          <a:blip r:embed="rId1"/>
          <a:stretch/>
        </p:blipFill>
        <p:spPr>
          <a:xfrm>
            <a:off x="420840" y="706320"/>
            <a:ext cx="8242200" cy="1293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0004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Г_реть ___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Возг_рание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Угарный__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Выг_реть__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Разг_раться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Сг_реть___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Гарь____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Обг_релый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Г_рение___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Г_рнило__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Возг_реться_______________________________.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Заголовок 1" descr=""/>
          <p:cNvPicPr/>
          <p:nvPr/>
        </p:nvPicPr>
        <p:blipFill>
          <a:blip r:embed="rId1"/>
          <a:stretch/>
        </p:blipFill>
        <p:spPr>
          <a:xfrm>
            <a:off x="420840" y="706320"/>
            <a:ext cx="8242200" cy="12938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50004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Оз_рённый________________________________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Оз_риться_________________________________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З_ревой ___________________________________.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Подж_гать__________________________________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Выж_гать__________________________________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Сж_гающий________________________________ 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Сжечь___________________________________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Кто-то поджёг______________________________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Совершить поджог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Заголовок 1" descr=""/>
          <p:cNvPicPr/>
          <p:nvPr/>
        </p:nvPicPr>
        <p:blipFill>
          <a:blip r:embed="rId1"/>
          <a:stretch/>
        </p:blipFill>
        <p:spPr>
          <a:xfrm>
            <a:off x="208080" y="566640"/>
            <a:ext cx="4297320" cy="1805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500040" y="20001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Гореть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Возгорание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Угарный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Выгореть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Разгораться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Сгореть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Гарь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Обгорелый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Горение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Горнило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Возгореться.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857480" y="2356920"/>
            <a:ext cx="385740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Озарённый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Озариться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Заревой.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Поджигать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Выжигать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Сжигающий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Сжечь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Кто-то поджёг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Совершить поджог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13840" y="3071880"/>
            <a:ext cx="8572680" cy="35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Times New Roman"/>
              </a:rPr>
              <a:t>        </a:t>
            </a:r>
            <a:endParaRPr b="1" lang="en-US" sz="1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1) повторить и обобщить сведения о русской орфографии как системе правил; </a:t>
            </a:r>
            <a:endParaRPr b="1" lang="en-US" sz="33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2) отрабатывать умение различать орфограммы «Безударная гласная в корне слова» и «Гласная в корне с чередованием а/о» и выбирать правильное написание.</a:t>
            </a:r>
            <a:endParaRPr b="1" lang="en-US" sz="33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1571760" y="507204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633240" y="2206800"/>
            <a:ext cx="8242560" cy="1626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13840" y="3071880"/>
            <a:ext cx="8572680" cy="35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Times New Roman"/>
              </a:rPr>
              <a:t>        </a:t>
            </a:r>
            <a:endParaRPr b="1" lang="en-US" sz="1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1) повторить и обобщить сведения о русской орфографии как системе правил; </a:t>
            </a:r>
            <a:endParaRPr b="1" lang="en-US" sz="33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2) отрабатывать умение различать орфограммы «Безударная гласная в корне слова» и «Гласная в корне с чередованием а/о» и выбирать правильное написание.</a:t>
            </a:r>
            <a:endParaRPr b="1" lang="en-US" sz="33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571760" y="507204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633240" y="2139840"/>
            <a:ext cx="8242560" cy="1803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Заголовок 1" descr=""/>
          <p:cNvPicPr/>
          <p:nvPr/>
        </p:nvPicPr>
        <p:blipFill>
          <a:blip r:embed="rId1"/>
          <a:stretch/>
        </p:blipFill>
        <p:spPr>
          <a:xfrm>
            <a:off x="324000" y="2494080"/>
            <a:ext cx="8575560" cy="1620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571680" y="385776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На «3» №21 стр.13;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На «4» №21 стр.13  + №22 стр.14;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На «5» №21 стр.13  + №22 стр.14 + №26 стр.15;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1"/>
          <a:stretch/>
        </p:blipFill>
        <p:spPr>
          <a:xfrm>
            <a:off x="73080" y="1573200"/>
            <a:ext cx="8589960" cy="1792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85840" y="2571840"/>
            <a:ext cx="85010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1. Поработайте в парах – вспомните правило правописание  корней с чередованием. Объясните, от чего зависит правописание слов с корнем </a:t>
            </a: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раст-//-ращ-//-рос-.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Запишите соответствующие примеры.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2"/>
          <a:srcRect l="18315" t="48829" r="75728" b="45315"/>
          <a:stretch/>
        </p:blipFill>
        <p:spPr>
          <a:xfrm>
            <a:off x="4929120" y="1857240"/>
            <a:ext cx="13575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493560" y="1279440"/>
            <a:ext cx="8242560" cy="1805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2643120"/>
            <a:ext cx="82296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Правописание слов с корнем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раст-//-ращ-//-рос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зависит от буквенных сочетаний в корне: перед </a:t>
            </a: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ст-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 и </a:t>
            </a: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щ- 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пишется </a:t>
            </a: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а-, 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перед </a:t>
            </a: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с-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 пишется </a:t>
            </a: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о</a:t>
            </a: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. 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Исключения: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Ростовщик Ростислав из Ростова 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посадил росток и создал отрасль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00040" y="3071880"/>
            <a:ext cx="82296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2. По фотографиям на с.14 составьте и запишите предложения, используя слова, которые имеют корень </a:t>
            </a: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раст-//-ращ-//-рос-. 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Употребите собственные имена существительные.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1"/>
          <a:stretch/>
        </p:blipFill>
        <p:spPr>
          <a:xfrm>
            <a:off x="73080" y="1573200"/>
            <a:ext cx="8589960" cy="1792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285840" y="2571840"/>
            <a:ext cx="85010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1. Перечислите корни, правописание которых можно схематически объяснить так: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       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а       +  а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       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и       +  а        Запишите примеры, иллюстрирующие эти схемы.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55" name="Арка 4"/>
          <p:cNvSpPr/>
          <p:nvPr/>
        </p:nvSpPr>
        <p:spPr>
          <a:xfrm>
            <a:off x="928800" y="4714920"/>
            <a:ext cx="500040" cy="3571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Арка 5"/>
          <p:cNvSpPr/>
          <p:nvPr/>
        </p:nvSpPr>
        <p:spPr>
          <a:xfrm>
            <a:off x="928800" y="5286240"/>
            <a:ext cx="500040" cy="3574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Фигура, имеющая форму буквы L 6"/>
          <p:cNvSpPr/>
          <p:nvPr/>
        </p:nvSpPr>
        <p:spPr>
          <a:xfrm rot="8292600">
            <a:off x="2287080" y="4665240"/>
            <a:ext cx="425520" cy="3812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Фигура, имеющая форму буквы L 7"/>
          <p:cNvSpPr/>
          <p:nvPr/>
        </p:nvSpPr>
        <p:spPr>
          <a:xfrm rot="8292600">
            <a:off x="2358720" y="5308560"/>
            <a:ext cx="425520" cy="3808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Заголовок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809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213840" y="1428480"/>
            <a:ext cx="87296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изл..гать, расст..лить, забл..стеть, отп..рать, соч..тать, выт..рать, отб..ру, отч..тать, зам..рать,  к..саться, пол..гать, прил..гательное, к..сательная, сл..гать, сл..жение, к..снуться, выр..сший, р..стительный, переб..рёшься, отп..рать, д..рёшься, нач..нать, ум..реть, заб..ру, бл..стеть, разб..ритесь, зап..рать, выт..р, выж..чь, соч..тать, уп..реться, пож..мать, заб..рает, отд..рать, отт..реть, зам..реть,  переж..гать, бл..стательный, отч..тать, ст..лить, зан..мательный, заст..лать, сд..рать, соч..тать, заж..гание, рассч..тать, соб..рательный</a:t>
            </a: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809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213840" y="1428480"/>
            <a:ext cx="87296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изл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г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расст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лить, забл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стеть, отп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выт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отб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у, отч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зам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 к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с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ся, пол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г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прил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г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ельное, к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сательная, сл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г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сл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о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жение, к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о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снуться, переб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ёшься, отп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д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ёшься, нач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н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ум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еть, заб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у, бл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стеть, разб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итесь, зап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выт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, выж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чь, уп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еться, пож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м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заб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ет, отд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отт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еть, зам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еть,  переж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г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бл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ст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ельный, отч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ст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лить, зан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м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ельный, заст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л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сд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заж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г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ние, рассч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соб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ельный</a:t>
            </a: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14:06:07Z</dcterms:created>
  <dc:creator>Admin</dc:creator>
  <dc:description/>
  <cp:keywords/>
  <dc:language>en-US</dc:language>
  <cp:lastModifiedBy>gor</cp:lastModifiedBy>
  <dcterms:modified xsi:type="dcterms:W3CDTF">2012-07-21T08:19:35Z</dcterms:modified>
  <cp:revision>23</cp:revision>
  <dc:subject/>
  <dc:title>Правописание не с деепричастия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4688399991</vt:lpwstr>
  </property>
</Properties>
</file>