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1BB-61AE-4C96-8871-CF6B43ED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52A-111A-4064-8A8F-A21C9ED4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2EA-AAD2-495A-A82A-BD7AF7C6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DB71-E678-493B-8B44-90C6645B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FB1-B487-4E2F-ABA0-227EDE12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C5F-600D-4E0F-87B8-ECF3F0B5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C9D-7650-4854-A852-BBFFF4C0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C0C-B0C7-45B8-824F-C8825E81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C4C-59CF-4C65-90FE-A6CC5312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E7F-C8A6-406A-BB2C-DA9D7059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F84-BD81-4882-B9A4-F5F1D6B9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BF5-57A5-4152-90B3-C86FF37B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06CB-2561-4240-B35A-C8736F7461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06320" y="4237200"/>
            <a:ext cx="7785360" cy="2693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643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2. Перечислите корни с  чередованием а//о.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бъясните, в чём особенность правописания корней –гар-// -гор-,  -зар-//-зор- и других корней с чередованием а//о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ар-// -гор-,  -зар-//-зор-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Особенность правописания: 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ГОР  (угореть, погорелец, подгореть, загорелый,загорать, горение, но загАр, угАрный, пригАр)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ЗАР  (заря, зарница, заревой, озарять, озарение, но зОрька, зОри)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0253f"/>
                </a:solidFill>
                <a:uFillTx/>
                <a:latin typeface="Times New Roman"/>
              </a:rPr>
              <a:t>Исключения: 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зарево, выгарки, пригарь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клан-// -клон-,  -твар-//-твор-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собенность правописания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О  (наклонять, склонение, поклониться, творец, творение, сотворить)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лав-// -плов-,  -равн-//-ровн-, -мак-//-мок-, -скак-//-скоч-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8242560" cy="1805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Рассмотрите репродукцию картины  А. К. Денисова-Уральского «Лесной пожар». Какие  чувства, по-вашему, хотел передать живописец? Какие художественные средства он для этого использовал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242200" cy="1292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На своём полотне художник 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Большую часть картины занимают 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         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Мы смотрим на это произведение, и нам хочется 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            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Художник своей картиной словно _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71680" y="307152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Попробуйте записать эпитеты к слову </a:t>
            </a:r>
            <a:r>
              <a:rPr b="1" i="1" lang="ru-RU" sz="4400" spc="-1" strike="noStrike">
                <a:solidFill>
                  <a:srgbClr val="10253f"/>
                </a:solidFill>
                <a:latin typeface="Times New Roman"/>
              </a:rPr>
              <a:t>огонь.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При выполнении задания обратитесь к словарику эпитетов.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242200" cy="1293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еть 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озг_рание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Угарный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ыг_реть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Разг_раться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Сг_реть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арь_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Обг_релый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ение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нило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озг_реться_______________________________.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242200" cy="1293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Оз_рённый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Оз_риться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З_ревой ___________________________________.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Подж_гать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Выж_гать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ж_гающий________________________________ 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жечь_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Кто-то поджёг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овершить поджог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208080" y="566640"/>
            <a:ext cx="4297320" cy="1805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00040" y="2000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озгорание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Угарн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ы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Разгораться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ар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бгорел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ение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нило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озгореться.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857480" y="2356920"/>
            <a:ext cx="38574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зарённ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зариться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Заревой.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Поджига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ыжига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жигающи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жеч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Кто-то поджёг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овершить поджог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633240" y="2206800"/>
            <a:ext cx="8242560" cy="162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633240" y="2139840"/>
            <a:ext cx="82425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324000" y="2494080"/>
            <a:ext cx="8575560" cy="162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3» №21 стр.13;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4» №21 стр.13  + №22 стр.14;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5» №21 стр.13  + №22 стр.14 + №26 стр.15;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73080" y="1573200"/>
            <a:ext cx="8589960" cy="1792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85840" y="2571840"/>
            <a:ext cx="8501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 Поработайте в парах – вспомните правило правописание  корней с чередованием. Объясните, от чего зависит правописание слов с корнем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-.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Запишите соответствующие примеры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2"/>
          <a:srcRect l="18315" t="48829" r="75728" b="45315"/>
          <a:stretch/>
        </p:blipFill>
        <p:spPr>
          <a:xfrm>
            <a:off x="4929120" y="1857240"/>
            <a:ext cx="13575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93560" y="1279440"/>
            <a:ext cx="8242560" cy="1805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264312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равописание слов с корнем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зависит от буквенных сочетаний в корне: перед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ст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щ-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ишется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а-,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еред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с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пишется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.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Исключения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Ростовщик Ростислав из Ростова 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посадил росток и создал отрасль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30718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2. По фотографиям на с.14 составьте и запишите предложения, используя слова, которые имеют корень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-.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Употребите собственные имена существительные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73080" y="1573200"/>
            <a:ext cx="8589960" cy="1792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85840" y="2571840"/>
            <a:ext cx="8501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 Перечислите корни, правописание которых можно схематически объяснить так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а       +  а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и       +  а        Запишите примеры, иллюстрирующие эти схемы.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5" name="Арка 4"/>
          <p:cNvSpPr/>
          <p:nvPr/>
        </p:nvSpPr>
        <p:spPr>
          <a:xfrm>
            <a:off x="928800" y="4714920"/>
            <a:ext cx="50004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Арка 5"/>
          <p:cNvSpPr/>
          <p:nvPr/>
        </p:nvSpPr>
        <p:spPr>
          <a:xfrm>
            <a:off x="928800" y="5286240"/>
            <a:ext cx="500040" cy="357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Фигура, имеющая форму буквы L 6"/>
          <p:cNvSpPr/>
          <p:nvPr/>
        </p:nvSpPr>
        <p:spPr>
          <a:xfrm rot="8292600">
            <a:off x="2287080" y="4665240"/>
            <a:ext cx="42552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Фигура, имеющая форму буквы L 7"/>
          <p:cNvSpPr/>
          <p:nvPr/>
        </p:nvSpPr>
        <p:spPr>
          <a:xfrm rot="8292600">
            <a:off x="2358720" y="5308560"/>
            <a:ext cx="425520" cy="380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13840" y="1428480"/>
            <a:ext cx="8729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изл..гать, расст..лить, забл..стеть, отп..рать, соч..тать, выт..рать, отб..ру, отч..тать, зам..рать,  к..саться, пол..гать, прил..гательное, к..сательная, сл..гать, сл..жение, к..снуться, выр..сший, р..стительный, переб..рёшься, отп..рать, д..рёшься, нач..нать, ум..реть, заб..ру, бл..стеть, разб..ритесь, зап..рать, выт..р, выж..чь, соч..тать, уп..реться, пож..мать, заб..рает, отд..рать, отт..реть, зам..реть,  переж..гать, бл..стательный, отч..тать, ст..лить, зан..мательный, заст..лать, сд..рать, соч..тать, заж..гание, рассч..тать, соб..рательный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13840" y="1428480"/>
            <a:ext cx="8729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из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расс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ить, заб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еть, от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вы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от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у, от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 к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ся, по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при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ое, к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ательная, с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о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жение, к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о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нуться, пере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ёшься, от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д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ёшься, на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н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ум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за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у, б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еть, раз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итесь, за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вы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, выж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чь, уп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ся, по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б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ет, отд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от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зам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 пере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б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, от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ить, зан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, зас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д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ние, расс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об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cp:keywords/>
  <dc:language>en-US</dc:language>
  <cp:lastModifiedBy>gor</cp:lastModifiedBy>
  <dcterms:modified xsi:type="dcterms:W3CDTF">2012-07-21T08:19:35Z</dcterms:modified>
  <cp:revision>23</cp:revision>
  <dc:subject/>
  <dc:title>Правописание не с деепричасти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4688399991</vt:lpwstr>
  </property>
</Properties>
</file>