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C854-56C3-47D2-9CA4-45F99169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77F3-73D8-4142-856F-4F8C8ECA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617-0A03-40F2-A295-A4E6B8B4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FD1-F19A-4D17-BB6A-83CE6129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D57B-1232-481B-BA92-32C39BD7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694-E076-45DE-B50F-CC06676B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27D5-F0B1-44BD-964B-5E429C81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2DA5-67D4-4A08-A8E7-02B2CFB3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31F0-64AF-4E1E-B4B7-C4E4C28F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34CC-E48F-488A-B901-7DB78052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56DB-3A38-46BF-9CA0-3193EA21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C70F-E7E4-4E3B-A72E-719C7C00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C32E-E105-414D-85FF-3CD603895F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706320" y="4237200"/>
            <a:ext cx="7785360" cy="2693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36432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2. Перечислите корни с  чередованием а//о.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Объясните, в чём особенность правописания корней –гар-// -гор-,  -зар-//-зор- и других корней с чередованием а//о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–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ар-// -гор-,  -зар-//-зор-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Особенность правописания: 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в безударном положении пишется ГОР  (угореть, погорелец, подгореть, загорелый,загорать, горение, но загАр, угАрный, пригАр)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в безударном положении пишется ЗАР  (заря, зарница, заревой, озарять, озарение, но зОрька, зОри)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0253f"/>
                </a:solidFill>
                <a:uFillTx/>
                <a:latin typeface="Times New Roman"/>
              </a:rPr>
              <a:t>Исключения: 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зарево, выгарки, пригарь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клан-// -клон-,  -твар-//-твор-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Особенность правописания: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в безударном положении пишется О  (наклонять, склонение, поклониться, творец, творение, сотворить)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лав-// -плов-,  -равн-//-ровн-, -мак-//-мок-, -скак-//-скоч-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8242560" cy="1805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.Рассмотрите репродукцию картины  А. К. Денисова-Уральского «Лесной пожар». Какие  чувства, по-вашему, хотел передать живописец? Какие художественные средства он для этого использовал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242200" cy="1292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На своём полотне художник _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 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Большую часть картины занимают _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 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          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Мы смотрим на это произведение, и нам хочется 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 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             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Художник своей картиной словно __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71680" y="307152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Попробуйте записать эпитеты к слову </a:t>
            </a:r>
            <a:r>
              <a:rPr b="1" i="1" lang="ru-RU" sz="4400" spc="-1" strike="noStrike">
                <a:solidFill>
                  <a:srgbClr val="10253f"/>
                </a:solidFill>
                <a:latin typeface="Times New Roman"/>
              </a:rPr>
              <a:t>огонь.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При выполнении задания обратитесь к словарику эпитетов.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420840" y="706320"/>
            <a:ext cx="8242200" cy="1293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_реть 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Возг_рание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Угарный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Выг_реть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Разг_раться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Сг_реть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арь_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Обг_релый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_рение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_рнило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Возг_реться_______________________________.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420840" y="706320"/>
            <a:ext cx="8242200" cy="1293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Оз_рённый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Оз_риться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З_ревой ___________________________________.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Подж_гать_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Выж_гать_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Сж_гающий________________________________ 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Сжечь__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Кто-то поджёг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Совершить поджог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208080" y="566640"/>
            <a:ext cx="4297320" cy="1805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00040" y="2000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оре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озгорание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Угарны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ыгоре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Разгораться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горе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ар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Обгорелы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орение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орнило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озгореться.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857480" y="2356920"/>
            <a:ext cx="38574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Озарённы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Озариться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Заревой.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Поджига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ыжига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жигающи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жеч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Кто-то поджёг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овершить поджог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3840" y="307188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1) повторить и обобщить сведения о русской орфографии как системе правил; 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2) отрабатывать умение различать орфограммы «Безударная гласная в корне слова» и «Гласная в корне с чередованием а/о» и выбирать правильное написание.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633240" y="2206800"/>
            <a:ext cx="8242560" cy="162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13840" y="307188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1) повторить и обобщить сведения о русской орфографии как системе правил; 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2) отрабатывать умение различать орфограммы «Безударная гласная в корне слова» и «Гласная в корне с чередованием а/о» и выбирать правильное написание.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633240" y="2139840"/>
            <a:ext cx="8242560" cy="18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324000" y="2494080"/>
            <a:ext cx="8575560" cy="1620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71680" y="3857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На «3» №21 стр.13;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На «4» №21 стр.13  + №22 стр.14;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На «5» №21 стр.13  + №22 стр.14 + №26 стр.15;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73080" y="1573200"/>
            <a:ext cx="8589960" cy="1792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85840" y="2571840"/>
            <a:ext cx="8501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. Поработайте в парах – вспомните правило правописание  корней с чередованием. Объясните, от чего зависит правописание слов с корнем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раст-//-ращ-//-рос-.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Запишите соответствующие примеры.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2"/>
          <a:srcRect l="18315" t="48829" r="75728" b="45315"/>
          <a:stretch/>
        </p:blipFill>
        <p:spPr>
          <a:xfrm>
            <a:off x="4929120" y="1857240"/>
            <a:ext cx="13575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93560" y="1279440"/>
            <a:ext cx="8242560" cy="1805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264312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равописание слов с корнем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раст-//-ращ-//-рос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зависит от буквенных сочетаний в корне: перед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ст-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щ-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ишется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а-,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еред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с-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пишется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о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.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Исключения: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Ростовщик Ростислав из Ростова 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посадил росток и создал отрасль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00040" y="307188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2. По фотографиям на с.14 составьте и запишите предложения, используя слова, которые имеют корень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раст-//-ращ-//-рос-.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Употребите собственные имена существительные.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73080" y="1573200"/>
            <a:ext cx="8589960" cy="1792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85840" y="2571840"/>
            <a:ext cx="8501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. Перечислите корни, правописание которых можно схематически объяснить так: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а       +  а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и       +  а        Запишите примеры, иллюстрирующие эти схемы.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5" name="Арка 4"/>
          <p:cNvSpPr/>
          <p:nvPr/>
        </p:nvSpPr>
        <p:spPr>
          <a:xfrm>
            <a:off x="928800" y="4714920"/>
            <a:ext cx="50004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Арка 5"/>
          <p:cNvSpPr/>
          <p:nvPr/>
        </p:nvSpPr>
        <p:spPr>
          <a:xfrm>
            <a:off x="928800" y="5286240"/>
            <a:ext cx="500040" cy="3574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Фигура, имеющая форму буквы L 6"/>
          <p:cNvSpPr/>
          <p:nvPr/>
        </p:nvSpPr>
        <p:spPr>
          <a:xfrm rot="8292600">
            <a:off x="2287080" y="4665240"/>
            <a:ext cx="425520" cy="381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Фигура, имеющая форму буквы L 7"/>
          <p:cNvSpPr/>
          <p:nvPr/>
        </p:nvSpPr>
        <p:spPr>
          <a:xfrm rot="8292600">
            <a:off x="2358720" y="5308560"/>
            <a:ext cx="425520" cy="380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13840" y="1428480"/>
            <a:ext cx="8729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изл..гать, расст..лить, забл..стеть, отп..рать, соч..тать, выт..рать, отб..ру, отч..тать, зам..рать,  к..саться, пол..гать, прил..гательное, к..сательная, сл..гать, сл..жение, к..снуться, выр..сший, р..стительный, переб..рёшься, отп..рать, д..рёшься, нач..нать, ум..реть, заб..ру, бл..стеть, разб..ритесь, зап..рать, выт..р, выж..чь, соч..тать, уп..реться, пож..мать, заб..рает, отд..рать, отт..реть, зам..реть,  переж..гать, бл..стательный, отч..тать, ст..лить, зан..мательный, заст..лать, сд..рать, соч..тать, заж..гание, рассч..тать, соб..рательный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13840" y="1428480"/>
            <a:ext cx="8729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из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расс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лить, забл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теть, отп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вы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от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у, от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зам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 к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ся, по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при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ое, к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ательная, с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л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о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жение, к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о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нуться, пере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ёшься, отп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д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ёшься, на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н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ум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, за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у, бл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теть, раз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итесь, зап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вы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, выж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чь, уп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ся, пож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м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заб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ет, отд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от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, зам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,  переж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б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ый, от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лить, зан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м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ый, зас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д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заж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ние, расс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об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ый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4:06:07Z</dcterms:created>
  <dc:creator>Admin</dc:creator>
  <dc:description/>
  <cp:keywords/>
  <dc:language>en-US</dc:language>
  <cp:lastModifiedBy>gor</cp:lastModifiedBy>
  <dcterms:modified xsi:type="dcterms:W3CDTF">2012-07-21T08:19:35Z</dcterms:modified>
  <cp:revision>23</cp:revision>
  <dc:subject/>
  <dc:title>Правописание не с деепричасти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4688399991</vt:lpwstr>
  </property>
</Properties>
</file>