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5CF-EECE-464E-8840-5C37DE4D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6E1A-DEA8-479F-98EC-DFD54080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3BC-BE04-45A3-AA3D-0C5A55D8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F95D-6428-4957-9C9E-05B04050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F13-A26B-4674-A010-3C10AA09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9B8-FD8B-4E29-9378-6FB3E1A9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253-0AB0-4379-8989-9E3501BF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E19D-81A3-4053-A4EC-178920AC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6B4-B9A0-44B2-BDE6-0018FC26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AFA-E1B6-4BD5-B67A-479B044D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091-B461-4ADB-B14F-1773B6DF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819-C33D-4709-97EC-AD8D8C74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5A69-F539-4E86-870A-3873DBF1D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1916280"/>
            <a:ext cx="5618160" cy="2398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771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абигат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11280" y="3171960"/>
            <a:ext cx="313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3 сыйныф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18864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ерек табигатне өйрән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зоология,                             -биология,                         - бота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.Тереклек ияләрен икенче төрле организмнар, дилә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. Тереклек ияләре терек булмаган табигатьтән түбәндәгеләр белән аеры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сулый,                                                           - тукл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ә,                                                               - үсеш ала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асып тора, егылмый,                                - үрч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л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Бөтен тереклек түбәндәге патшалыкларга бүлен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емлекләр патшалыгы,                                         - хайваннар патшалыг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гөмбәләр патшалыгы,                                             - бактерияләр патшалыг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өҗәкләр патшалыг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1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5. Иң беренче тапкырбактерияләрне нәрсә белән күргәннә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микроскоп,                                                            - телескоп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0" lang="tt-RU" sz="2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лупа,                                                                       - кинеск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6"/>
          <p:cNvSpPr txBox="1"/>
          <p:nvPr/>
        </p:nvSpPr>
        <p:spPr>
          <a:xfrm>
            <a:off x="971640" y="1052640"/>
            <a:ext cx="74880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рек  табигатьне   өйрәнә: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биологи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зоология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 ботани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6443640" y="23493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179280" y="549360"/>
            <a:ext cx="896472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ереклек   ияләрен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кенче  төрле  организмнар,  диләр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3492360" y="4724280"/>
            <a:ext cx="20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0117080" y="5229360"/>
            <a:ext cx="1864224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еклек ияләре терек булмаган табигатьтән түндәгеләр белән аерыл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сулый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туклана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ә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еш ала 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–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басып тора, егылмый, (-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рчи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лә.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69480"/>
            <a:ext cx="9144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</a:t>
            </a:r>
            <a:r>
              <a:rPr b="1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Бөтен тереклек түбәндәге патшалыкларга бүленә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үсемлек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хайванна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гөмбә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актерияләр патшалыг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</a:t>
            </a:r>
            <a:r>
              <a:rPr b="0" lang="tt-RU" sz="40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- бөҗәкләр патшалыгы</a:t>
            </a:r>
            <a:r>
              <a:rPr b="0" lang="tt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5580000" y="378936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0117080" y="5229360"/>
            <a:ext cx="1864224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еклек ияләре терек булмаган табигатьтән түндәгеләр белән аерыл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сулый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туклана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ә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сеш ала 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–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басып тора, егылмый, (-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рчи,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tt-RU" sz="5400" spc="-1" strike="noStrike">
                <a:solidFill>
                  <a:srgbClr val="000000"/>
                </a:solidFill>
                <a:latin typeface="Arial"/>
              </a:rPr>
              <a:t>- үлә. (+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0" y="-215640"/>
            <a:ext cx="9144000" cy="618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Тереклек ияләре терек булмаган табигатьтән түбәндәгеләр белән аерыла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сулы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тукла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сә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сеш ала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басып тора, егылмый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рч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үлә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5580000" y="3645000"/>
            <a:ext cx="15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50920" y="854280"/>
            <a:ext cx="8893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5. Иң беренче тапкыр бактерияләрне нәрсә белән күргәннәр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микроскоп,</a:t>
            </a: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</a:t>
            </a:r>
            <a:r>
              <a:rPr b="0" lang="tt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телескоп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луп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         </a:t>
            </a:r>
            <a:r>
              <a:rPr b="0" lang="tt-RU" sz="4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- кинеско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4356000" y="2060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9:55:22Z</dcterms:created>
  <dc:creator>Admin</dc:creator>
  <dc:description/>
  <dc:language>en-US</dc:language>
  <cp:lastModifiedBy>Admin</cp:lastModifiedBy>
  <dcterms:modified xsi:type="dcterms:W3CDTF">2012-09-11T17:31:40Z</dcterms:modified>
  <cp:revision>18</cp:revision>
  <dc:subject/>
  <dc:title>Слайд 1</dc:title>
</cp:coreProperties>
</file>