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D29F-7029-4ED6-A1FD-D4196BB7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3E7-C64C-4F56-990E-C563BA1C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28DC-2624-48D4-B2CF-7503FAF8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0A9-B42E-4B7B-AA6D-E63816C9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FD57-4E1B-4677-ABE6-F95672BD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5CC-A215-42C1-BB5F-CC210FC8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03F7-2D2F-47B7-9DBD-C39EC9A3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CD70-FA89-40EE-BE9B-9AFCEF85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CAC-091E-4DFA-9836-C6AB5429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6BF9-B9D1-4AB6-B300-7184D838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62D-1A0B-408A-901C-576D7233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0CFF-EDFF-4C2B-8959-75D41F94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EFD2-50D6-4295-A43C-9E0310EDA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1916280"/>
            <a:ext cx="5618160" cy="2398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771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абигать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11280" y="3171960"/>
            <a:ext cx="313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3 сыйныф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18864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ерек табигатне өйрән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зоология,                             -биология,                         - бота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.Тереклек ияләрен икенче төрле организмнар, дилә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. Тереклек ияләре терек булмаган табигатьтән түбәндәгеләр белән аеры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сулый,                                                           - тукл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ә,                                                               - үсеш ала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асып тора, егылмый,                                - үр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л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. Бөтен тереклек түбәндәге патшалыкларга бүлен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емлекләр патшалыгы,                                         - хайваннар патшалыг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гөмбәләр патшалыгы,                                             - бактерияләр патшалыг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өҗәкләр патшалыг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. Иң беренче тапкырбактерияләрне нәрсә белән күргәннә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микроскоп,                                                            - телеско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лупа,                                                                       - кинеск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6"/>
          <p:cNvSpPr txBox="1"/>
          <p:nvPr/>
        </p:nvSpPr>
        <p:spPr>
          <a:xfrm>
            <a:off x="971640" y="1052640"/>
            <a:ext cx="74880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рек  табигатьне   өйрәнә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биология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зоология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ботани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6443640" y="2349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179280" y="549360"/>
            <a:ext cx="896472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реклек   ияләрен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кенче  төрле  организмнар,  диләр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3492360" y="4724280"/>
            <a:ext cx="20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0117080" y="5229360"/>
            <a:ext cx="1864224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еклек ияләре терек булмаган табигатьтән түндәгеләр белән аерыл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сулый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туклана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ә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еш ала 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–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басып тора, егылмый, (-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рчи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лә.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69480"/>
            <a:ext cx="91440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1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. Бөтен тереклек түбәндәге патшалыкларга бүленә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емлек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хайванна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гөмбә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актерия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өҗәкләр патшалыгы</a:t>
            </a:r>
            <a:r>
              <a:rPr b="0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5580000" y="3789360"/>
            <a:ext cx="18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0117080" y="5229360"/>
            <a:ext cx="1864224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еклек ияләре терек булмаган табигатьтән түндәгеләр белән аерыл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сулый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туклана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ә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еш ала 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–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басып тора, егылмый, (-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рчи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лә.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0" y="-215640"/>
            <a:ext cx="9144000" cy="61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Тереклек ияләре терек булмаган табигатьтән түбәндәгеләр белән аерыла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сулы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туклан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сә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сеш ала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басып тора, егылмы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рч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лә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5580000" y="3645000"/>
            <a:ext cx="15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50920" y="854280"/>
            <a:ext cx="88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5. Иң беренче тапкыр бактерияләрне нәрсә белән күргәннәр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микроскоп,</a:t>
            </a: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</a:t>
            </a: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телескоп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луп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кинеско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4356000" y="2060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9:55:22Z</dcterms:created>
  <dc:creator>Admin</dc:creator>
  <dc:description/>
  <dc:language>en-US</dc:language>
  <cp:lastModifiedBy>Admin</cp:lastModifiedBy>
  <dcterms:modified xsi:type="dcterms:W3CDTF">2012-09-11T17:31:40Z</dcterms:modified>
  <cp:revision>18</cp:revision>
  <dc:subject/>
  <dc:title>Слайд 1</dc:title>
</cp:coreProperties>
</file>