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453-89B7-47E7-985D-E7E08134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C08-AAB5-4D6B-BCF2-5D6190A7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E51-FB12-4FEF-88B2-1D69CAE9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07B-9587-4628-9390-FF2F9BBA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73C-E218-4F30-AE93-82B92C6E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FA4-2C90-4516-B713-31A21E6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672-E69E-4D68-843C-CF94C428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E02-3955-4AF5-98D4-CF2A7E41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6F2-A5A6-446C-B62D-E0F14507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40B-764F-43A4-9EC4-91D430FF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83B-FD29-456F-8131-12CFC3E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402-FA1C-4751-A22A-076A101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3A14-41CC-4ACA-9E9C-84D677442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5618160" cy="239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бига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3171960"/>
            <a:ext cx="31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 сыйныф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8864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рек табигатне өйрә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оология,                             -биология,                         - бот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Тереклек ияләрен икенче төрле организмнар, ди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Тереклек ияләре терек булмаган табигатьтән түбәндәгеләр белән аер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сулый,                                                           - тукл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ә,                                                               - үсеш ал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сып тора, егылмый,                                - үр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л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                                        - хайванна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                                            - бактериялә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Иң беренче тапкырбактерияләрне нәрсә белән күргәннә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кроскоп,                                                            - телеско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лупа,                                                                       - кине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>
            <a:off x="971640" y="1052640"/>
            <a:ext cx="7488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ек  табигатьне   өйрәнә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и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зо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ота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43640" y="234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79280" y="549360"/>
            <a:ext cx="896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клек   ияләрен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кенче  төрле  организмнар,  диләр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92360" y="4724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694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1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хайванна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ктерия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</a:t>
            </a: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580000" y="3789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215640"/>
            <a:ext cx="914400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реклек ияләре терек булмаган табигатьтән түбәндәгеләр белән аерыла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сул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тукла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ә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еш ала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басып тора, егылм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р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л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80000" y="364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50920" y="854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5. Иң беренче тапкыр бактерияләрне нәрсә белән күргәннә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микроскоп,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лескоп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луп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кине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35600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55:22Z</dcterms:created>
  <dc:creator>Admin</dc:creator>
  <dc:description/>
  <dc:language>en-US</dc:language>
  <cp:lastModifiedBy>Admin</cp:lastModifiedBy>
  <dcterms:modified xsi:type="dcterms:W3CDTF">2012-09-11T17:31:40Z</dcterms:modified>
  <cp:revision>18</cp:revision>
  <dc:subject/>
  <dc:title>Слайд 1</dc:title>
</cp:coreProperties>
</file>