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A61-CC1D-4A61-A83E-FA52FE93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3DA-6E54-4EB2-B294-7C2AC169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321-612F-4A0A-AEC9-72A0B395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779-42FB-4C52-9D17-AEADCD31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73D-A929-4EC6-8D86-E7063B74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B53-A6E3-48BF-9DD6-7FEB699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FAB-E93E-4234-9EA1-FECE3532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950-33DE-415F-A804-CE94B6A1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944-4458-493E-8739-288745E7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CFD-6E40-4AA6-942D-E995FDD5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2BA-7E1F-4436-89BB-21A3CA3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21A-00A5-48E6-AF87-01355D8F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1197-930A-4950-88E5-9E03F8B4F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645000"/>
            <a:ext cx="80265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дование гласных в корне слов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А) Напиши, о каком ещё из семи чудес света ты знаешь. В рассказе употреби слова, где есть корни с чередованием гласных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Б)  Написать мини-сочинение «Готовлюсь к приходу гостей»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. Что изучает фонетика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2. Что вы можете сказать об     орфоэпии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3. Что такое тезис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4. Какое письмо мы называем поморфемным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5. Что мы называем морфемой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Что мы называем чередованием?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Если после корня – А,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 корне будет И всегда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от пример, запоминай: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Ноги вытер? Вытирай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3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4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836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Times New Roman"/>
              </a:rPr>
              <a:t>1.Помочь усвоить новую тему нам поможет интересная девочка. А как её зовут, вы скажете, если будете внимательно слушать стихотворение.</a:t>
            </a:r>
            <a:endParaRPr b="1" lang="en-US" sz="2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Девочка очень аккуратная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Хорошо вс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Всю грязь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отд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Пыль везд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ст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зап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Так устает, что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мирает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от усталости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о когда сердится, то говорит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"Когда все уберу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Грязь отдеру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адо пыль ст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зап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е хочу! Я так устала, что могу умереть!"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Как зовут девочку?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004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214200" y="1285920"/>
            <a:ext cx="100872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Девочку зовут И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5. Итоги урока. Рефлексия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Пользователь</cp:lastModifiedBy>
  <dcterms:modified xsi:type="dcterms:W3CDTF">2001-12-31T22:11:25Z</dcterms:modified>
  <cp:revision>35</cp:revision>
  <dc:subject/>
  <dc:title>Правописание не с деепричастиями</dc:title>
</cp:coreProperties>
</file>