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FC7A-ED36-4259-A1F0-386301E9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3080-CE2D-4153-A89F-3BEBBE3E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013-1171-4306-8722-ED94C742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1D20-2E09-4BB9-B395-DE030A42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D699-B402-42F3-A72B-229B3BFD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880-8800-4284-A13B-DEEABFA9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47A7-74D7-4F93-9256-CF053ABF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06FF-F4AA-4276-B4DE-17C93410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278E-ED38-4F2D-BC38-67F46F2F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5A16-259F-461C-A215-AFA0FA83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6F90-0A2A-4176-AA0E-93644A9B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2413-C1F3-4AA0-9123-B27258D8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9725-4013-4553-8B8E-0B92A9512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3645000"/>
            <a:ext cx="8026560" cy="17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редование гласных в корне слов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0253f"/>
                </a:solidFill>
                <a:latin typeface="Times New Roman"/>
              </a:rPr>
              <a:t>оценки за урок</a:t>
            </a:r>
            <a:endParaRPr b="1" lang="en-US" sz="8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22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10253f"/>
                </a:solidFill>
                <a:latin typeface="Times New Roman"/>
              </a:rPr>
              <a:t>карточки успеха</a:t>
            </a:r>
            <a:endParaRPr b="1" lang="en-US" sz="8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Домашнее задание (на выбор)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253f"/>
                </a:solidFill>
                <a:latin typeface="Times New Roman"/>
              </a:rPr>
              <a:t>А) Напиши, о каком ещё из семи чудес света ты знаешь. В рассказе употреби слова, где есть корни с чередованием гласных.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253f"/>
                </a:solidFill>
                <a:latin typeface="Times New Roman"/>
              </a:rPr>
              <a:t>Б)  Написать мини-сочинение «Готовлюсь к приходу гостей».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      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10253f"/>
                </a:solidFill>
                <a:latin typeface="Times New Roman"/>
              </a:rPr>
              <a:t>СПАСИБО 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253f"/>
                </a:solidFill>
                <a:latin typeface="Times New Roman"/>
              </a:rPr>
              <a:t>                              </a:t>
            </a:r>
            <a:r>
              <a:rPr b="1" lang="en-US" sz="4400" spc="-1" strike="noStrike">
                <a:solidFill>
                  <a:srgbClr val="10253f"/>
                </a:solidFill>
                <a:latin typeface="Times New Roman"/>
              </a:rPr>
              <a:t>ЗА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253f"/>
                </a:solidFill>
                <a:latin typeface="Times New Roman"/>
              </a:rPr>
              <a:t>                                      </a:t>
            </a:r>
            <a:r>
              <a:rPr b="1" lang="en-US" sz="4400" spc="-1" strike="noStrike">
                <a:solidFill>
                  <a:srgbClr val="10253f"/>
                </a:solidFill>
                <a:latin typeface="Times New Roman"/>
              </a:rPr>
              <a:t>УРОК!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253f"/>
                </a:solidFill>
                <a:latin typeface="Times New Roman"/>
              </a:rPr>
              <a:t>                   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13840" y="3071880"/>
            <a:ext cx="857268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Times New Roman"/>
              </a:rPr>
              <a:t>        </a:t>
            </a:r>
            <a:endParaRPr b="1" lang="en-US" sz="1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en-US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en-US" sz="3300" spc="-1" strike="noStrike">
                <a:solidFill>
                  <a:srgbClr val="10253f"/>
                </a:solidFill>
                <a:latin typeface="Times New Roman"/>
              </a:rPr>
              <a:t>1) повторить и обобщить сведения о русской орфографии как системе правил; 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en-US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en-US" sz="3300" spc="-1" strike="noStrike">
                <a:solidFill>
                  <a:srgbClr val="10253f"/>
                </a:solidFill>
                <a:latin typeface="Times New Roman"/>
              </a:rPr>
              <a:t>2) отрабатывать умение различать орфограммы «Безударная гласная в корне слова» и «Гласная в корне с чередованием а/о» и выбирать правильное написание.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571760" y="5072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633240" y="2139840"/>
            <a:ext cx="8242560" cy="180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1</a:t>
            </a: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. Что изучает фонетика?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2. Что вы можете сказать об     орфоэпии?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3. Что такое тезис?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4. Какое письмо мы называем поморфемным?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5. Что мы называем морфемой?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2"/>
          <a:stretch/>
        </p:blipFill>
        <p:spPr>
          <a:xfrm>
            <a:off x="324000" y="1920960"/>
            <a:ext cx="8740800" cy="3370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71680" y="385776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0253f"/>
                </a:solidFill>
                <a:latin typeface="Times New Roman"/>
              </a:rPr>
              <a:t>Что мы называем чередованием?</a:t>
            </a:r>
            <a:endParaRPr b="1" lang="en-US" sz="8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2"/>
          <a:stretch/>
        </p:blipFill>
        <p:spPr>
          <a:xfrm>
            <a:off x="42840" y="-1341360"/>
            <a:ext cx="8547120" cy="1609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24000" y="981000"/>
            <a:ext cx="850104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13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Если после корня – А, </a:t>
            </a:r>
            <a:endParaRPr b="1" lang="en-US" sz="54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13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В корне будет И всегда! </a:t>
            </a:r>
            <a:endParaRPr b="1" lang="en-US" sz="54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13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Вот пример, запоминай: </a:t>
            </a:r>
            <a:endParaRPr b="1" lang="en-US" sz="54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13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Ноги вытер? Вытирай! </a:t>
            </a:r>
            <a:endParaRPr b="1" lang="en-US" sz="54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10253f"/>
              </a:solidFill>
              <a:latin typeface="Times New Roman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3"/>
          <a:srcRect l="18315" t="48829" r="75728" b="45315"/>
          <a:stretch/>
        </p:blipFill>
        <p:spPr>
          <a:xfrm>
            <a:off x="8604360" y="404640"/>
            <a:ext cx="360360" cy="576360"/>
          </a:xfrm>
          <a:prstGeom prst="rect">
            <a:avLst/>
          </a:prstGeom>
          <a:ln w="0">
            <a:noFill/>
          </a:ln>
        </p:spPr>
      </p:pic>
      <p:pic>
        <p:nvPicPr>
          <p:cNvPr id="54" name="Заголовок 1" descr=""/>
          <p:cNvPicPr/>
          <p:nvPr/>
        </p:nvPicPr>
        <p:blipFill>
          <a:blip r:embed="rId4"/>
          <a:stretch/>
        </p:blipFill>
        <p:spPr>
          <a:xfrm>
            <a:off x="-252360" y="-603360"/>
            <a:ext cx="858996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2"/>
          <a:stretch/>
        </p:blipFill>
        <p:spPr>
          <a:xfrm>
            <a:off x="469800" y="-334800"/>
            <a:ext cx="8240760" cy="1620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68360" y="40464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Times New Roman"/>
              </a:rPr>
              <a:t>1.Помочь усвоить новую тему нам поможет интересная девочка. А как её зовут, вы скажете, если будете внимательно слушать стихотворение.</a:t>
            </a:r>
            <a:endParaRPr b="1" lang="en-US" sz="2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Девочка очень аккуратная: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Хорошо все </a:t>
            </a:r>
            <a:r>
              <a:rPr b="1" lang="en-US" sz="2400" spc="-1" strike="noStrike" u="sng">
                <a:solidFill>
                  <a:srgbClr val="10253f"/>
                </a:solidFill>
                <a:uFillTx/>
                <a:latin typeface="Times New Roman"/>
              </a:rPr>
              <a:t>убирает,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Всю грязь </a:t>
            </a:r>
            <a:r>
              <a:rPr b="1" lang="en-US" sz="2400" spc="-1" strike="noStrike" u="sng">
                <a:solidFill>
                  <a:srgbClr val="10253f"/>
                </a:solidFill>
                <a:uFillTx/>
                <a:latin typeface="Times New Roman"/>
              </a:rPr>
              <a:t>отдирает,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Пыль везде </a:t>
            </a:r>
            <a:r>
              <a:rPr b="1" lang="en-US" sz="2400" spc="-1" strike="noStrike" u="sng">
                <a:solidFill>
                  <a:srgbClr val="10253f"/>
                </a:solidFill>
                <a:uFillTx/>
                <a:latin typeface="Times New Roman"/>
              </a:rPr>
              <a:t>стирает,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Шкафы </a:t>
            </a:r>
            <a:r>
              <a:rPr b="1" lang="en-US" sz="2400" spc="-1" strike="noStrike" u="sng">
                <a:solidFill>
                  <a:srgbClr val="10253f"/>
                </a:solidFill>
                <a:uFillTx/>
                <a:latin typeface="Times New Roman"/>
              </a:rPr>
              <a:t>запирает,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Так устает, что </a:t>
            </a:r>
            <a:r>
              <a:rPr b="1" lang="en-US" sz="2400" spc="-1" strike="noStrike" u="sng">
                <a:solidFill>
                  <a:srgbClr val="10253f"/>
                </a:solidFill>
                <a:uFillTx/>
                <a:latin typeface="Times New Roman"/>
              </a:rPr>
              <a:t>умирает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от усталости.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Но когда сердится, то говорит: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"Когда все уберу,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Грязь отдеру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Надо пыль стереть,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Шкафы запереть,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Не хочу! Я так устала, что могу умереть!"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Как зовут девочку?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00040" y="150012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10253f"/>
                </a:solidFill>
                <a:uFillTx/>
                <a:latin typeface="Times New Roman"/>
              </a:rPr>
              <a:t>убирает,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8" name="Содержимое 2"/>
          <p:cNvSpPr/>
          <p:nvPr/>
        </p:nvSpPr>
        <p:spPr>
          <a:xfrm>
            <a:off x="214200" y="1285920"/>
            <a:ext cx="100872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д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м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Девочку зовут ИР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5. Итоги урока. Рефлексия.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- С какой темой мы сегодня познакомили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- Чему мы с вами научили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- Что понравилось, запомнилось на уроке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- Какие трудности возникли? Что получилось? Что не получило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4:06:07Z</dcterms:created>
  <dc:creator>Admin</dc:creator>
  <dc:description/>
  <cp:keywords/>
  <dc:language>en-US</dc:language>
  <cp:lastModifiedBy>Пользователь</cp:lastModifiedBy>
  <dcterms:modified xsi:type="dcterms:W3CDTF">2001-12-31T22:11:25Z</dcterms:modified>
  <cp:revision>35</cp:revision>
  <dc:subject/>
  <dc:title>Правописание не с деепричастиями</dc:title>
</cp:coreProperties>
</file>