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D70-7B45-4FF0-99FA-B0D2E5E4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26D-854F-4E49-94CC-DC40BA17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901-C1F2-4EB3-B331-D767B52D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160-A6FA-4D91-AD34-2C31FE9E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832-A422-436C-93A7-7555F879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5A4-FBE2-4535-85A1-D075F99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6F8-ACFA-4DCD-A773-1BC336B4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10F-8939-4D27-A586-E3797570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982-F3B2-470C-BAE9-79D45B8C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CAB-72E2-4127-B3EF-D397EDDA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FBC-980A-4D58-95A0-49DF397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F09-E847-41B8-B501-E226F0E4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65AE-B56E-421D-B860-3211952DFD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37BE-0D24-4A4E-8BA1-FC74E53D3A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4DF1-13BF-4B65-8C71-92BE0FE192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E172-E8A0-479B-BE7B-5F1DF5848B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973800" y="981000"/>
            <a:ext cx="689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 – 3 =             11) 21 *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– 7 =             12) 14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 – 23 =           13) 18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– 37 =           14) 17 *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– 14 =           15) 19 *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 + 7 =           16) 80 : 8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7 + 3 =           17) 6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1+ 11 =          18) 130 :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4 + 9 =           19) 130 *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8 +17 =        20) 350 : 5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763640" y="2930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842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7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2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4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6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 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3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&lt;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решений –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9-24T04:30:30Z</dcterms:modified>
  <cp:revision>6</cp:revision>
  <dc:subject/>
  <dc:title>Слайд 1</dc:title>
</cp:coreProperties>
</file>