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E99-690C-4CF0-85D4-99D06379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CFF-699A-4A92-A99C-49B10B2C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9D3-C94B-4140-B8C1-8674DF1E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186-35B5-412B-AE13-EFE52D09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A926-528C-4DF2-A4FB-F1A0F4FD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CD3-91C9-4632-98ED-64D0F2C5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EF4-2074-4726-8EF5-8D5E5ECA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8B1A-9D35-48DB-B357-FF32BA19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0FDD-2C12-4AB9-9FA5-972C8CD2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A367-B929-402C-83B1-58FAA703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7801-EFDC-492E-8A3E-484EDDBE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976-3430-444E-A9B9-67458F47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D81D-6711-4430-828F-22CCEAB1B40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656E-3018-48C9-BBCB-9146150738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0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73F8-AE8B-40DC-B6C2-2D942965B9B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9696-DB0F-44CB-B54D-F0F89D20AB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973800" y="981000"/>
            <a:ext cx="6897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 – 3 =             11) 21 *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 – 7 =             12) 14 *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 – 23 =           13) 18 *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 – 37 =           14) 17 *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 – 14 =           15) 19 *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3 + 7 =           16) 80 : 8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7 + 3 =           17) 60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91+ 11 =          18) 130 :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4 + 9 =           19) 130 *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8 +17 =        20) 350 : 5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763640" y="29304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веряем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1484280"/>
            <a:ext cx="856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7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20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ответов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5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4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6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ответов –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4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0 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3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ответов –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3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&lt;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0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решений –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Макаров</cp:lastModifiedBy>
  <dcterms:modified xsi:type="dcterms:W3CDTF">2012-09-24T04:30:30Z</dcterms:modified>
  <cp:revision>6</cp:revision>
  <dc:subject/>
  <dc:title>Слайд 1</dc:title>
</cp:coreProperties>
</file>