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AFD-8D62-4904-B4B3-8EF23EF9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346-CED4-4079-B0B1-E43202CF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99F-6487-46C7-B670-52C14F0B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A07-61E9-40B7-84C8-45B24BBF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18C-FFAB-42C6-A248-E0535250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C48-453B-413E-98C4-6ED07165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4FF-4EEC-4EA9-8086-C53E5E40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CAE-3C3F-4B77-B4CE-3C4CEEF6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15F-91BA-4C2F-B7D8-9FD277CA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E61-4DCF-4288-A3A3-8391187B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133-7FFE-449B-91A8-74B908A7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3DB-C95F-4614-B236-4C141CE6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E5DA-F16B-4979-9B6F-6181C6FCA3E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97E6-DAA3-437E-AAD8-AC526264A8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2C75-D421-4BBE-85EE-8E3E3541CE7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F3C9-2974-4813-8C52-4FE86CB9D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973800" y="981000"/>
            <a:ext cx="6897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 – 3 =             11) 21 *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 – 7 =             12) 14 *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 – 23 =           13) 18 *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 – 37 =           14) 17 *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– 14 =           15) 19 *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3 + 7 =           16) 80 : 8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7 + 3 =           17) 60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91+ 11 =          18) 130 :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4 + 9 =           19) 130 *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8 +17 =        20) 350 : 5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763640" y="2930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14842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7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20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4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6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4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 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3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ответов –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За &lt; 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10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 правильных решений –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9-24T04:30:30Z</dcterms:modified>
  <cp:revision>6</cp:revision>
  <dc:subject/>
  <dc:title>Слайд 1</dc:title>
</cp:coreProperties>
</file>