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257-00DB-461B-8AC9-E6FE68CF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A40-16F8-4E0E-BEF0-236D04D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B26-D4A3-47FF-B072-A02C0CCC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830-9EE6-49A8-BFEA-96EE86B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D3E-B134-443D-97B7-BFFC105A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E43-5934-4D71-B6EA-19644A4F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B46-36DB-40B4-9B2D-A300757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B42-FC37-46E6-8084-606787EF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EE0-6BEE-46C7-855A-D2C7258A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791-E79E-40BF-B232-3FEDD34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E8F-1669-4621-9990-064FA522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B8D-6A28-4255-BD6F-23E2253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9949-D546-432A-A813-EE3928C879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19E4-E597-47A8-8372-97270B81E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615-3E2D-47E3-8AD7-CD1F91D5E4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C74-41F6-4955-A72C-D31DAD06E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973800" y="981000"/>
            <a:ext cx="689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– 3 =             11) 21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– 7 =             12) 14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– 23 =           13) 18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– 37 =           14) 17 *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– 14 =           15) 19 *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 + 7 =           16) 80 : 8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7 + 3 =           17) 6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1+ 11 =          18) 130 :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4 + 9 =           19) 130 *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 +17 =        20) 350 : 5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63640" y="2930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84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7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 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&lt;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решений –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9-24T04:30:30Z</dcterms:modified>
  <cp:revision>6</cp:revision>
  <dc:subject/>
  <dc:title>Слайд 1</dc:title>
</cp:coreProperties>
</file>