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EB0-60A1-4D09-ABC5-85D92C4F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1BF-F606-45CB-B915-F06FE75A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4B0-628D-40AB-9393-3E641D7C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8DA-FDC1-4375-93F3-AAD78B98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D07-C6C2-42F4-A519-AD0DCFE7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369-1C3E-446F-90CB-9E2A6CAD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DC2-FA0E-4D9F-BE9A-A5A9FE85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81B-EF94-4D6A-8E6F-622C340B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699-DEEB-4052-94D9-4B585E64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B7A-4C69-4B36-9F84-4A485FE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8F7-E3B0-48A1-B1CA-E8F262FF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6AD-D8DB-40C8-A74A-6BB439E8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8144-D020-4D97-A681-940FD4EA48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3B04-2C67-41D9-8097-A195B7D41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A11D-1356-4080-96A6-2E2A02C298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6168-C185-4C61-89A0-5E26C453EF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973800" y="981000"/>
            <a:ext cx="689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 – 3 =             11) 21 *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– 7 =             12) 14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 – 23 =           13) 18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– 37 =           14) 17 *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– 14 =           15) 19 *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 + 7 =           16) 80 : 8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7 + 3 =           17) 6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1+ 11 =          18) 130 :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4 + 9 =           19) 130 *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8 +17 =        20) 350 : 5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763640" y="2930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842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7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2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4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6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 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3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&lt;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решений –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9-24T04:30:30Z</dcterms:modified>
  <cp:revision>6</cp:revision>
  <dc:subject/>
  <dc:title>Слайд 1</dc:title>
</cp:coreProperties>
</file>