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A74-673C-4C81-8F8E-9EA37090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A25-E4E9-442A-BE8F-BA1A27D4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DB8-49D4-4FD0-8BD6-838A3203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DB8-5722-4938-8A42-00D72DDC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18B-C18B-4123-B19E-A8D5F05B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3F8-77A1-43F5-A6D5-1A84BD68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419-1797-40A9-859A-DA93C617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F96-5688-4737-9BDC-C4966F25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02C-3D2A-4907-85F9-178AE4AA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F13-D958-48EE-91BC-0AA826F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19D-E0D4-4086-9FE4-D7533ED4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C8F-6C55-4D29-AD98-3042B2F1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7A00-9E33-4F81-8765-625D4C0723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9F61-EFD4-43E3-A7C1-3F1F1EA7CF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6029-54C8-4914-B776-BB531BFC90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2157-0D33-4F48-BC01-7267F1CEB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973800" y="981000"/>
            <a:ext cx="689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 – 3 =             11) 21 *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– 7 =             12) 14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 – 23 =           13) 18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– 37 =           14) 17 *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– 14 =           15) 19 *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 + 7 =           16) 80 : 8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7 + 3 =           17) 6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1+ 11 =          18) 130 :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4 + 9 =           19) 130 *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8 +17 =        20) 350 : 5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763640" y="2930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842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7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2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4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6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 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3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&lt;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решений –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9-24T04:30:30Z</dcterms:modified>
  <cp:revision>6</cp:revision>
  <dc:subject/>
  <dc:title>Слайд 1</dc:title>
</cp:coreProperties>
</file>