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png" ContentType="image/png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03C9-1604-44DC-A3BF-40A73587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030C-64F4-4EDB-AA5C-6EF938DB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5BC-7343-49E5-A001-84631A08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03D-0024-4D5C-BC91-F3DE1AFD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2BCE-F876-4933-B853-125F7FE3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07C3-CB53-4DC5-B5AF-35F52C93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4853-2D71-4645-830F-3DA21F7A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AAF9-FF72-4D6C-B900-60C17119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952E-A08D-4F07-A10D-46921F9E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AF11-5435-4D45-BF4A-09F596BC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92BA-34D2-4E36-8785-AB8DBC4D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0A5-A4B0-4E1A-838F-9AAC3AA4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A6CB-6381-49B9-AD87-2FC96963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68F6-2E85-4812-9D8E-FFE9BE14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756D-48A9-4794-93AF-071CEB92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BA9E-2759-4695-9044-D689FAB7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E5B4-101A-40FC-AFB0-BC7E870D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BEC85-2338-43E5-898C-6656DAEE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4510D-74B1-440C-8D71-022C7AB4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82F6C-155B-4672-AED3-923F338B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533BB-7B85-4469-9AA7-A0927166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58C97-FE0B-4F44-AE28-EE42E2BD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965-F95D-4384-96E4-A18CB8BD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52B9E-5A97-4CC4-83F8-5A026710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2C8DF-C887-43B7-8D50-4594F87B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60B36-DF6E-476E-8692-9E39C856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DC51E-1DC5-4889-9143-DDD14AE6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F3937-A013-49DB-B628-2EA7DF0C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C2565-A02B-4DE4-B1CE-D3D53ADE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6C6ED-9379-4447-ADF5-C5A97780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29AA5-6206-4D0B-A788-6310EE06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AAB59-2A04-4371-8B7D-21082951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54FA8-B06C-44E8-8FA4-B8953274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3CC-6B89-4109-9DE3-EF0D4475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BC784-E6A5-4027-8BDE-31C1B814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FB197-8BE4-47EE-8B4E-68602ABA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A58AF-5430-4AD1-9719-F8DFDC6B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F3F52-20DB-4C7D-8978-C89C78F7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15B9E-910E-4732-9221-788C3F40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D4441-C20D-41E9-AC6A-790E7EB4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5CA10-6115-4EA6-8DF9-4805E9C2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703AF-C2F0-47D1-A160-12AF7F92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67F10-49F2-430B-B10A-C648A040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733BB-9DD1-4769-9135-A29AF025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AC2-3A83-4C95-979B-09D6E8F6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C8D0F-E7F1-42BD-A754-C2F01EA9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67A4D-A937-40B1-9CF3-C3D4A299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B7A4A-A701-40D0-A297-47F139C8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4391C-F4CC-4F79-9D95-9ADD19B9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A19F1-3FB0-4F70-8F5F-25F7C82B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A2250-252F-4F93-9353-77C3BBFC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4F10C-E38B-47D2-B18B-7B1564C4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0ADC1-344E-4541-AAA4-0BD9412C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B0439-FA8C-4779-9E37-79BBAAB0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2B6E0-AF42-442B-A537-0308B9A7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C9F-0312-446E-A95A-BBB9C843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E4592-DCDA-416C-9A34-9DF7526B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823-ED17-4C23-87DC-3B2F4150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D1CA-07D5-4CCD-AF81-B4BAAC16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73B-C649-4BB4-A05F-DDE7DCED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235A-3933-40E8-8FE7-FE9DB69792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A63B-7A88-49A1-9DB4-87B4D0A8B7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4088-3C3C-4257-AD6C-062575429F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2BA6-F501-4B86-9496-431DB2E377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609E-2AAD-403E-A1BC-0C26B17ED6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Китайская мудрость учит нас: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Скажи мне и я забуду. Покажи мне и я запомню.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Дай мне действовать самому и я научусь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438280" y="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Трап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304920" y="838080"/>
            <a:ext cx="2971800" cy="1447920"/>
          </a:xfrm>
          <a:prstGeom prst="pie">
            <a:avLst/>
          </a:prstGeom>
          <a:solidFill>
            <a:srgbClr val="c48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886200" y="914400"/>
            <a:ext cx="5029200" cy="1523880"/>
          </a:xfrm>
          <a:prstGeom prst="rect">
            <a:avLst/>
          </a:prstGeom>
          <a:solidFill>
            <a:srgbClr val="faf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114800" y="990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пеци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зывается  четырехугольник, у  которого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тольк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две  противолежащие  стороны  паралл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250920" y="449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0" y="38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124080" y="457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3049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3623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11"/>
          <p:cNvGrpSpPr/>
          <p:nvPr/>
        </p:nvGrpSpPr>
        <p:grpSpPr>
          <a:xfrm>
            <a:off x="304920" y="838080"/>
            <a:ext cx="2971800" cy="1447920"/>
            <a:chOff x="304920" y="838080"/>
            <a:chExt cx="2971800" cy="1447920"/>
          </a:xfrm>
        </p:grpSpPr>
        <p:sp>
          <p:nvSpPr>
            <p:cNvPr id="317" name="Line 12"/>
            <p:cNvSpPr/>
            <p:nvPr/>
          </p:nvSpPr>
          <p:spPr>
            <a:xfrm>
              <a:off x="304920" y="838080"/>
              <a:ext cx="2971800" cy="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3"/>
            <p:cNvSpPr/>
            <p:nvPr/>
          </p:nvSpPr>
          <p:spPr>
            <a:xfrm>
              <a:off x="1066680" y="2286000"/>
              <a:ext cx="1524240" cy="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4"/>
          <p:cNvGrpSpPr/>
          <p:nvPr/>
        </p:nvGrpSpPr>
        <p:grpSpPr>
          <a:xfrm>
            <a:off x="304920" y="838080"/>
            <a:ext cx="2971440" cy="1447920"/>
            <a:chOff x="304920" y="838080"/>
            <a:chExt cx="2971440" cy="1447920"/>
          </a:xfrm>
        </p:grpSpPr>
        <p:sp>
          <p:nvSpPr>
            <p:cNvPr id="320" name="Line 15"/>
            <p:cNvSpPr/>
            <p:nvPr/>
          </p:nvSpPr>
          <p:spPr>
            <a:xfrm>
              <a:off x="304920" y="838080"/>
              <a:ext cx="761760" cy="1447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 flipH="1">
              <a:off x="2514240" y="838080"/>
              <a:ext cx="762120" cy="1447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17"/>
          <p:cNvSpPr/>
          <p:nvPr/>
        </p:nvSpPr>
        <p:spPr>
          <a:xfrm>
            <a:off x="990720" y="28954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B||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B, CD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а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п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4343400" y="30481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не  параллель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,  B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—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оковые 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9"/>
          <p:cNvGrpSpPr/>
          <p:nvPr/>
        </p:nvGrpSpPr>
        <p:grpSpPr>
          <a:xfrm>
            <a:off x="609480" y="4267080"/>
            <a:ext cx="8229600" cy="2057400"/>
            <a:chOff x="609480" y="4267080"/>
            <a:chExt cx="8229600" cy="2057400"/>
          </a:xfrm>
        </p:grpSpPr>
        <p:sp>
          <p:nvSpPr>
            <p:cNvPr id="325" name="Rectangle 20"/>
            <p:cNvSpPr/>
            <p:nvPr/>
          </p:nvSpPr>
          <p:spPr>
            <a:xfrm>
              <a:off x="609480" y="4267080"/>
              <a:ext cx="8229600" cy="2057400"/>
            </a:xfrm>
            <a:prstGeom prst="rect">
              <a:avLst/>
            </a:prstGeom>
            <a:solidFill>
              <a:srgbClr val="fafd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1"/>
            <p:cNvSpPr/>
            <p:nvPr/>
          </p:nvSpPr>
          <p:spPr>
            <a:xfrm>
              <a:off x="838080" y="4648320"/>
              <a:ext cx="7772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рапеция  называется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равнобедренной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или 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равнобокой,  если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ее  боковые  стороны  рав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рапеция, один  из  углов  которой  прямой,  называется 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прямоугольной</a:t>
              </a: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AutoShape 3"/>
          <p:cNvSpPr/>
          <p:nvPr/>
        </p:nvSpPr>
        <p:spPr>
          <a:xfrm>
            <a:off x="357120" y="857160"/>
            <a:ext cx="2971800" cy="1447920"/>
          </a:xfrm>
          <a:prstGeom prst="pie">
            <a:avLst/>
          </a:prstGeom>
          <a:solidFill>
            <a:srgbClr val="c48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2666880" y="3049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imes New Roman"/>
                <a:ea typeface="Arial"/>
              </a:rPr>
              <a:t>Виды трапе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5334120" y="3276720"/>
            <a:ext cx="2742840" cy="1599840"/>
            <a:chOff x="5334120" y="3276720"/>
            <a:chExt cx="2742840" cy="1599840"/>
          </a:xfrm>
        </p:grpSpPr>
        <p:sp>
          <p:nvSpPr>
            <p:cNvPr id="330" name="Line 4"/>
            <p:cNvSpPr/>
            <p:nvPr/>
          </p:nvSpPr>
          <p:spPr>
            <a:xfrm>
              <a:off x="5933880" y="3276720"/>
              <a:ext cx="15429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5"/>
            <p:cNvSpPr/>
            <p:nvPr/>
          </p:nvSpPr>
          <p:spPr>
            <a:xfrm flipH="1">
              <a:off x="5334120" y="3276720"/>
              <a:ext cx="599760" cy="15998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6"/>
            <p:cNvSpPr/>
            <p:nvPr/>
          </p:nvSpPr>
          <p:spPr>
            <a:xfrm>
              <a:off x="7476840" y="3276720"/>
              <a:ext cx="600120" cy="15998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7"/>
            <p:cNvSpPr/>
            <p:nvPr/>
          </p:nvSpPr>
          <p:spPr>
            <a:xfrm>
              <a:off x="5334120" y="4876560"/>
              <a:ext cx="2742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8"/>
          <p:cNvSpPr/>
          <p:nvPr/>
        </p:nvSpPr>
        <p:spPr>
          <a:xfrm>
            <a:off x="5257800" y="1981080"/>
            <a:ext cx="2666880" cy="5205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равнобедр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9"/>
          <p:cNvGrpSpPr/>
          <p:nvPr/>
        </p:nvGrpSpPr>
        <p:grpSpPr>
          <a:xfrm>
            <a:off x="1042920" y="3284640"/>
            <a:ext cx="2895840" cy="1600200"/>
            <a:chOff x="1042920" y="3284640"/>
            <a:chExt cx="2895840" cy="1600200"/>
          </a:xfrm>
        </p:grpSpPr>
        <p:sp>
          <p:nvSpPr>
            <p:cNvPr id="336" name="Line 10"/>
            <p:cNvSpPr/>
            <p:nvPr/>
          </p:nvSpPr>
          <p:spPr>
            <a:xfrm>
              <a:off x="1042920" y="3284640"/>
              <a:ext cx="0" cy="160020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1"/>
            <p:cNvSpPr/>
            <p:nvPr/>
          </p:nvSpPr>
          <p:spPr>
            <a:xfrm>
              <a:off x="1042920" y="3284640"/>
              <a:ext cx="200448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2"/>
            <p:cNvSpPr/>
            <p:nvPr/>
          </p:nvSpPr>
          <p:spPr>
            <a:xfrm>
              <a:off x="3047400" y="3284640"/>
              <a:ext cx="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3"/>
            <p:cNvSpPr/>
            <p:nvPr/>
          </p:nvSpPr>
          <p:spPr>
            <a:xfrm>
              <a:off x="1042920" y="4884840"/>
              <a:ext cx="289584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4"/>
            <p:cNvSpPr/>
            <p:nvPr/>
          </p:nvSpPr>
          <p:spPr>
            <a:xfrm>
              <a:off x="3047400" y="3284640"/>
              <a:ext cx="891000" cy="160020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15"/>
          <p:cNvSpPr/>
          <p:nvPr/>
        </p:nvSpPr>
        <p:spPr>
          <a:xfrm>
            <a:off x="685800" y="1905120"/>
            <a:ext cx="2895480" cy="58140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Times New Roman"/>
                <a:ea typeface="Arial"/>
              </a:rPr>
              <a:t>прямоуго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6"/>
          <p:cNvSpPr/>
          <p:nvPr/>
        </p:nvSpPr>
        <p:spPr>
          <a:xfrm flipH="1">
            <a:off x="2133360" y="990720"/>
            <a:ext cx="144756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7"/>
          <p:cNvSpPr/>
          <p:nvPr/>
        </p:nvSpPr>
        <p:spPr>
          <a:xfrm>
            <a:off x="5105520" y="990720"/>
            <a:ext cx="121896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8" descr="book1"/>
          <p:cNvPicPr/>
          <p:nvPr/>
        </p:nvPicPr>
        <p:blipFill>
          <a:blip r:embed="rId1"/>
          <a:stretch/>
        </p:blipFill>
        <p:spPr>
          <a:xfrm>
            <a:off x="8298000" y="0"/>
            <a:ext cx="846000" cy="736560"/>
          </a:xfrm>
          <a:prstGeom prst="rect">
            <a:avLst/>
          </a:prstGeom>
          <a:ln w="0">
            <a:noFill/>
          </a:ln>
        </p:spPr>
      </p:pic>
      <p:sp>
        <p:nvSpPr>
          <p:cNvPr id="345" name="Line 19"/>
          <p:cNvSpPr/>
          <p:nvPr/>
        </p:nvSpPr>
        <p:spPr>
          <a:xfrm>
            <a:off x="10666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1371600" y="46483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9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4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8075520" cy="1180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В равнобедренной трапеции углы при каждом основании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34"/>
              <p:cNvSpPr txBox="1"/>
              <p:nvPr/>
            </p:nvSpPr>
            <p:spPr>
              <a:xfrm>
                <a:off x="2627280" y="5157720"/>
                <a:ext cx="1522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349" name="Text Box 14"/>
          <p:cNvSpPr/>
          <p:nvPr/>
        </p:nvSpPr>
        <p:spPr>
          <a:xfrm>
            <a:off x="5109120" y="2924280"/>
            <a:ext cx="34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Verdana"/>
              </a:rPr>
              <a:t>Дано</a:t>
            </a: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ВС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-р/б трапеция,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В=С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571920" y="400068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Verdana"/>
              </a:rPr>
              <a:t>Доказать</a:t>
            </a: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: 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=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В=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8"/>
          <p:cNvSpPr/>
          <p:nvPr/>
        </p:nvSpPr>
        <p:spPr>
          <a:xfrm rot="10800000">
            <a:off x="684360" y="3068640"/>
            <a:ext cx="2365200" cy="1419120"/>
          </a:xfrm>
          <a:prstGeom prst="pi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621080" y="450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1"/>
          <p:cNvSpPr/>
          <p:nvPr/>
        </p:nvSpPr>
        <p:spPr>
          <a:xfrm>
            <a:off x="306144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248652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90216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4"/>
          <p:cNvSpPr/>
          <p:nvPr/>
        </p:nvSpPr>
        <p:spPr>
          <a:xfrm>
            <a:off x="25308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1258920" y="3068640"/>
            <a:ext cx="504720" cy="14400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>
            <a:off x="826920" y="3573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7"/>
          <p:cNvSpPr/>
          <p:nvPr/>
        </p:nvSpPr>
        <p:spPr>
          <a:xfrm>
            <a:off x="2484360" y="3573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8"/>
          <p:cNvSpPr/>
          <p:nvPr/>
        </p:nvSpPr>
        <p:spPr>
          <a:xfrm>
            <a:off x="1332000" y="364500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0"/>
          <p:cNvSpPr/>
          <p:nvPr/>
        </p:nvSpPr>
        <p:spPr>
          <a:xfrm>
            <a:off x="684360" y="4149720"/>
            <a:ext cx="28728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1"/>
          <p:cNvSpPr/>
          <p:nvPr/>
        </p:nvSpPr>
        <p:spPr>
          <a:xfrm>
            <a:off x="2771640" y="4149720"/>
            <a:ext cx="28764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2"/>
          <p:cNvSpPr/>
          <p:nvPr/>
        </p:nvSpPr>
        <p:spPr>
          <a:xfrm>
            <a:off x="1476360" y="4149720"/>
            <a:ext cx="28728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3"/>
          <p:cNvSpPr/>
          <p:nvPr/>
        </p:nvSpPr>
        <p:spPr>
          <a:xfrm>
            <a:off x="808200" y="5105520"/>
            <a:ext cx="808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роведем ВЕ     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  Е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раллелограмм                  ВЕ=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 АВ=ВЕ.                АВЕ-равнобедре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37"/>
              <p:cNvSpPr txBox="1"/>
              <p:nvPr/>
            </p:nvSpPr>
            <p:spPr>
              <a:xfrm>
                <a:off x="6372360" y="5084640"/>
                <a:ext cx="65556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40"/>
              <p:cNvSpPr txBox="1"/>
              <p:nvPr/>
            </p:nvSpPr>
            <p:spPr>
              <a:xfrm>
                <a:off x="2627280" y="5373720"/>
                <a:ext cx="655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41"/>
              <p:cNvSpPr txBox="1"/>
              <p:nvPr/>
            </p:nvSpPr>
            <p:spPr>
              <a:xfrm>
                <a:off x="6012000" y="5373720"/>
                <a:ext cx="655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42"/>
              <p:cNvSpPr txBox="1"/>
              <p:nvPr/>
            </p:nvSpPr>
            <p:spPr>
              <a:xfrm>
                <a:off x="6659640" y="5445000"/>
                <a:ext cx="1152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3"/>
              <p:cNvSpPr txBox="1"/>
              <p:nvPr/>
            </p:nvSpPr>
            <p:spPr>
              <a:xfrm>
                <a:off x="900000" y="5734080"/>
                <a:ext cx="2681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Е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D</m:t>
                    </m:r>
                    <m:r>
                      <m:t xml:space="preserve">⇒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4"/>
              <p:cNvSpPr txBox="1"/>
              <p:nvPr/>
            </p:nvSpPr>
            <p:spPr>
              <a:xfrm>
                <a:off x="3203640" y="5445000"/>
                <a:ext cx="309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Text Box 45"/>
          <p:cNvSpPr/>
          <p:nvPr/>
        </p:nvSpPr>
        <p:spPr>
          <a:xfrm>
            <a:off x="4067280" y="465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6"/>
          <p:cNvSpPr/>
          <p:nvPr/>
        </p:nvSpPr>
        <p:spPr>
          <a:xfrm>
            <a:off x="3507840" y="458136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5003640" y="1773360"/>
            <a:ext cx="3313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ано</a:t>
            </a: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CD-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р/б трапец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=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С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C=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395280" y="3933720"/>
            <a:ext cx="8353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Рассмотрим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D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и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CA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=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D–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общая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     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=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&gt;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ABD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=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DCA (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по двум сторонам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=</a:t>
            </a:r>
            <a:r>
              <a:rPr b="1" lang="en-US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               углу между ними)=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&gt;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Verdana"/>
                <a:ea typeface="Arial"/>
              </a:rPr>
              <a:t>AC=DB</a:t>
            </a:r>
            <a:r>
              <a:rPr b="1" lang="ru-RU" sz="2000" spc="-1" strike="noStrike">
                <a:solidFill>
                  <a:srgbClr val="333399"/>
                </a:solidFill>
                <a:latin typeface="Verdana"/>
                <a:ea typeface="Arial"/>
              </a:rPr>
              <a:t>.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8"/>
          <p:cNvSpPr/>
          <p:nvPr/>
        </p:nvSpPr>
        <p:spPr>
          <a:xfrm>
            <a:off x="2340000" y="4941720"/>
            <a:ext cx="287280" cy="1151280"/>
          </a:xfrm>
          <a:custGeom>
            <a:avLst/>
            <a:gdLst>
              <a:gd name="textAreaLeft" fmla="*/ 0 w 287280"/>
              <a:gd name="textAreaRight" fmla="*/ 103680 w 28728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6516720" y="6381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ч. т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7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619440" cy="20952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000" y="428400"/>
            <a:ext cx="8280360" cy="92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В равнобедренной трапеции диагонал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5"/>
          <p:cNvSpPr/>
          <p:nvPr/>
        </p:nvSpPr>
        <p:spPr>
          <a:xfrm>
            <a:off x="860400" y="404640"/>
            <a:ext cx="7619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Являются ли четырёхугольники трапец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5807160" y="1604880"/>
            <a:ext cx="1512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7319880" y="1604880"/>
            <a:ext cx="100800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"/>
          <p:cNvSpPr/>
          <p:nvPr/>
        </p:nvSpPr>
        <p:spPr>
          <a:xfrm flipH="1">
            <a:off x="5446440" y="1604880"/>
            <a:ext cx="36036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0"/>
          <p:cNvSpPr/>
          <p:nvPr/>
        </p:nvSpPr>
        <p:spPr>
          <a:xfrm>
            <a:off x="5446800" y="2828880"/>
            <a:ext cx="288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2"/>
          <p:cNvSpPr/>
          <p:nvPr/>
        </p:nvSpPr>
        <p:spPr>
          <a:xfrm>
            <a:off x="5735520" y="16048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10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3"/>
          <p:cNvSpPr/>
          <p:nvPr/>
        </p:nvSpPr>
        <p:spPr>
          <a:xfrm>
            <a:off x="5519880" y="24685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8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9"/>
          <p:cNvSpPr/>
          <p:nvPr/>
        </p:nvSpPr>
        <p:spPr>
          <a:xfrm>
            <a:off x="5074920" y="2612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0"/>
          <p:cNvSpPr/>
          <p:nvPr/>
        </p:nvSpPr>
        <p:spPr>
          <a:xfrm>
            <a:off x="8273520" y="2684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1"/>
          <p:cNvSpPr/>
          <p:nvPr/>
        </p:nvSpPr>
        <p:spPr>
          <a:xfrm>
            <a:off x="7221960" y="135720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2"/>
          <p:cNvSpPr/>
          <p:nvPr/>
        </p:nvSpPr>
        <p:spPr>
          <a:xfrm>
            <a:off x="5409360" y="1219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8"/>
          <p:cNvSpPr/>
          <p:nvPr/>
        </p:nvSpPr>
        <p:spPr>
          <a:xfrm flipV="1">
            <a:off x="1328760" y="1341000"/>
            <a:ext cx="795240" cy="817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2124000" y="1341360"/>
            <a:ext cx="979560" cy="817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3103560" y="2158920"/>
            <a:ext cx="517680" cy="1657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2"/>
          <p:cNvSpPr/>
          <p:nvPr/>
        </p:nvSpPr>
        <p:spPr>
          <a:xfrm>
            <a:off x="1328760" y="2158920"/>
            <a:ext cx="2292480" cy="165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1851120" y="15573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1406520" y="195264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5"/>
          <p:cNvSpPr/>
          <p:nvPr/>
        </p:nvSpPr>
        <p:spPr>
          <a:xfrm>
            <a:off x="3118680" y="19414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6"/>
          <p:cNvSpPr/>
          <p:nvPr/>
        </p:nvSpPr>
        <p:spPr>
          <a:xfrm>
            <a:off x="1995120" y="105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7"/>
          <p:cNvSpPr/>
          <p:nvPr/>
        </p:nvSpPr>
        <p:spPr>
          <a:xfrm>
            <a:off x="986400" y="19414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3"/>
          <p:cNvSpPr/>
          <p:nvPr/>
        </p:nvSpPr>
        <p:spPr>
          <a:xfrm>
            <a:off x="3562920" y="3645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9"/>
          <p:cNvSpPr/>
          <p:nvPr/>
        </p:nvSpPr>
        <p:spPr>
          <a:xfrm>
            <a:off x="1187280" y="4535640"/>
            <a:ext cx="216000" cy="1152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0"/>
          <p:cNvSpPr/>
          <p:nvPr/>
        </p:nvSpPr>
        <p:spPr>
          <a:xfrm>
            <a:off x="1403280" y="5688000"/>
            <a:ext cx="2592360" cy="21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1"/>
          <p:cNvSpPr/>
          <p:nvPr/>
        </p:nvSpPr>
        <p:spPr>
          <a:xfrm>
            <a:off x="1187280" y="4535640"/>
            <a:ext cx="1800360" cy="215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2"/>
          <p:cNvSpPr/>
          <p:nvPr/>
        </p:nvSpPr>
        <p:spPr>
          <a:xfrm>
            <a:off x="2987640" y="4751280"/>
            <a:ext cx="1008000" cy="1152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3"/>
          <p:cNvSpPr/>
          <p:nvPr/>
        </p:nvSpPr>
        <p:spPr>
          <a:xfrm flipV="1">
            <a:off x="1403280" y="4751280"/>
            <a:ext cx="1584360" cy="936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2124000" y="4680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6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1692360" y="5398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6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4"/>
          <p:cNvSpPr/>
          <p:nvPr/>
        </p:nvSpPr>
        <p:spPr>
          <a:xfrm>
            <a:off x="894600" y="4149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8"/>
          <p:cNvSpPr/>
          <p:nvPr/>
        </p:nvSpPr>
        <p:spPr>
          <a:xfrm>
            <a:off x="2947680" y="43671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4"/>
          <p:cNvSpPr/>
          <p:nvPr/>
        </p:nvSpPr>
        <p:spPr>
          <a:xfrm>
            <a:off x="1072440" y="5472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5"/>
          <p:cNvSpPr/>
          <p:nvPr/>
        </p:nvSpPr>
        <p:spPr>
          <a:xfrm>
            <a:off x="3950280" y="57592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7"/>
          <p:cNvSpPr/>
          <p:nvPr/>
        </p:nvSpPr>
        <p:spPr>
          <a:xfrm>
            <a:off x="6227640" y="4292640"/>
            <a:ext cx="2017800" cy="360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8"/>
          <p:cNvSpPr/>
          <p:nvPr/>
        </p:nvSpPr>
        <p:spPr>
          <a:xfrm flipH="1">
            <a:off x="5148000" y="4292640"/>
            <a:ext cx="108108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9"/>
          <p:cNvSpPr/>
          <p:nvPr/>
        </p:nvSpPr>
        <p:spPr>
          <a:xfrm>
            <a:off x="5148360" y="5516640"/>
            <a:ext cx="2592360" cy="576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0"/>
          <p:cNvSpPr/>
          <p:nvPr/>
        </p:nvSpPr>
        <p:spPr>
          <a:xfrm flipH="1">
            <a:off x="7740720" y="4653000"/>
            <a:ext cx="504720" cy="1440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1"/>
          <p:cNvSpPr/>
          <p:nvPr/>
        </p:nvSpPr>
        <p:spPr>
          <a:xfrm>
            <a:off x="6012000" y="432756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13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2"/>
          <p:cNvSpPr/>
          <p:nvPr/>
        </p:nvSpPr>
        <p:spPr>
          <a:xfrm>
            <a:off x="7596360" y="4581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82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3"/>
          <p:cNvSpPr/>
          <p:nvPr/>
        </p:nvSpPr>
        <p:spPr>
          <a:xfrm>
            <a:off x="7236000" y="5373720"/>
            <a:ext cx="71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8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6"/>
          <p:cNvSpPr/>
          <p:nvPr/>
        </p:nvSpPr>
        <p:spPr>
          <a:xfrm>
            <a:off x="4829400" y="537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7"/>
          <p:cNvSpPr/>
          <p:nvPr/>
        </p:nvSpPr>
        <p:spPr>
          <a:xfrm>
            <a:off x="7824960" y="602136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8"/>
          <p:cNvSpPr/>
          <p:nvPr/>
        </p:nvSpPr>
        <p:spPr>
          <a:xfrm>
            <a:off x="8202960" y="436572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9"/>
          <p:cNvSpPr/>
          <p:nvPr/>
        </p:nvSpPr>
        <p:spPr>
          <a:xfrm>
            <a:off x="5970240" y="383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32"/>
          <p:cNvGrpSpPr/>
          <p:nvPr/>
        </p:nvGrpSpPr>
        <p:grpSpPr>
          <a:xfrm>
            <a:off x="611280" y="4292640"/>
            <a:ext cx="3673440" cy="1584360"/>
            <a:chOff x="611280" y="4292640"/>
            <a:chExt cx="3673440" cy="1584360"/>
          </a:xfrm>
        </p:grpSpPr>
        <p:sp>
          <p:nvSpPr>
            <p:cNvPr id="223" name="Line 3"/>
            <p:cNvSpPr/>
            <p:nvPr/>
          </p:nvSpPr>
          <p:spPr>
            <a:xfrm>
              <a:off x="611280" y="4292640"/>
              <a:ext cx="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611280" y="4292640"/>
              <a:ext cx="2395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>
              <a:off x="611280" y="5877000"/>
              <a:ext cx="3673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6"/>
            <p:cNvSpPr/>
            <p:nvPr/>
          </p:nvSpPr>
          <p:spPr>
            <a:xfrm>
              <a:off x="3006720" y="4292640"/>
              <a:ext cx="127800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1837800" y="46814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36"/>
          <p:cNvGrpSpPr/>
          <p:nvPr/>
        </p:nvGrpSpPr>
        <p:grpSpPr>
          <a:xfrm>
            <a:off x="32040" y="195120"/>
            <a:ext cx="3037320" cy="3515040"/>
            <a:chOff x="32040" y="195120"/>
            <a:chExt cx="3037320" cy="3515040"/>
          </a:xfrm>
        </p:grpSpPr>
        <p:sp>
          <p:nvSpPr>
            <p:cNvPr id="229" name="AutoShape 9"/>
            <p:cNvSpPr/>
            <p:nvPr/>
          </p:nvSpPr>
          <p:spPr>
            <a:xfrm rot="20158800">
              <a:off x="545760" y="475920"/>
              <a:ext cx="2009520" cy="295272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0"/>
            <p:cNvSpPr/>
            <p:nvPr/>
          </p:nvSpPr>
          <p:spPr>
            <a:xfrm>
              <a:off x="1302480" y="1509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35"/>
          <p:cNvGrpSpPr/>
          <p:nvPr/>
        </p:nvGrpSpPr>
        <p:grpSpPr>
          <a:xfrm>
            <a:off x="2916360" y="692280"/>
            <a:ext cx="2807640" cy="1871640"/>
            <a:chOff x="2916360" y="692280"/>
            <a:chExt cx="2807640" cy="1871640"/>
          </a:xfrm>
        </p:grpSpPr>
        <p:sp>
          <p:nvSpPr>
            <p:cNvPr id="232" name="Line 12"/>
            <p:cNvSpPr/>
            <p:nvPr/>
          </p:nvSpPr>
          <p:spPr>
            <a:xfrm>
              <a:off x="2916360" y="1381320"/>
              <a:ext cx="82080" cy="1182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2916360" y="692280"/>
              <a:ext cx="907560" cy="689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4"/>
            <p:cNvSpPr/>
            <p:nvPr/>
          </p:nvSpPr>
          <p:spPr>
            <a:xfrm>
              <a:off x="3823920" y="692280"/>
              <a:ext cx="1900080" cy="590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5"/>
            <p:cNvSpPr/>
            <p:nvPr/>
          </p:nvSpPr>
          <p:spPr>
            <a:xfrm flipV="1">
              <a:off x="2998440" y="1283040"/>
              <a:ext cx="2725560" cy="12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6"/>
            <p:cNvSpPr/>
            <p:nvPr/>
          </p:nvSpPr>
          <p:spPr>
            <a:xfrm>
              <a:off x="3696120" y="1192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4"/>
          <p:cNvGrpSpPr/>
          <p:nvPr/>
        </p:nvGrpSpPr>
        <p:grpSpPr>
          <a:xfrm>
            <a:off x="6588000" y="692280"/>
            <a:ext cx="1584360" cy="2232000"/>
            <a:chOff x="6588000" y="692280"/>
            <a:chExt cx="1584360" cy="2232000"/>
          </a:xfrm>
        </p:grpSpPr>
        <p:sp>
          <p:nvSpPr>
            <p:cNvPr id="238" name="Rectangle 18"/>
            <p:cNvSpPr/>
            <p:nvPr/>
          </p:nvSpPr>
          <p:spPr>
            <a:xfrm>
              <a:off x="6588000" y="692280"/>
              <a:ext cx="1584360" cy="2232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9"/>
            <p:cNvSpPr/>
            <p:nvPr/>
          </p:nvSpPr>
          <p:spPr>
            <a:xfrm>
              <a:off x="7176240" y="1428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3"/>
          <p:cNvGrpSpPr/>
          <p:nvPr/>
        </p:nvGrpSpPr>
        <p:grpSpPr>
          <a:xfrm>
            <a:off x="3708360" y="2565360"/>
            <a:ext cx="2295720" cy="2232000"/>
            <a:chOff x="3708360" y="2565360"/>
            <a:chExt cx="2295720" cy="2232000"/>
          </a:xfrm>
        </p:grpSpPr>
        <p:sp>
          <p:nvSpPr>
            <p:cNvPr id="241" name="AutoShape 21"/>
            <p:cNvSpPr/>
            <p:nvPr/>
          </p:nvSpPr>
          <p:spPr>
            <a:xfrm>
              <a:off x="3708360" y="2565360"/>
              <a:ext cx="2295720" cy="223200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4568040" y="3271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AutoShape 37"/>
          <p:cNvSpPr/>
          <p:nvPr/>
        </p:nvSpPr>
        <p:spPr>
          <a:xfrm>
            <a:off x="5508720" y="4653000"/>
            <a:ext cx="2950920" cy="1440000"/>
          </a:xfrm>
          <a:prstGeom prst="parallelogram">
            <a:avLst>
              <a:gd name="adj" fmla="val 51231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6661080" y="51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вто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можно назвать одним словом данные фигур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ажите произвольный четырехугольни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среди четырехугольников параллелограм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6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четырехугольник, у которого только две стороны параллель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тырехуголь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или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ллелограм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66320" y="2071800"/>
            <a:ext cx="76201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авильно – «5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«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и – «3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тальных случаях – «2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91440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0" y="0"/>
            <a:ext cx="3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79280" y="333360"/>
            <a:ext cx="511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2273400" y="836640"/>
            <a:ext cx="431460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1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Трапеция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755640" y="3141720"/>
            <a:ext cx="2303640" cy="1655640"/>
          </a:xfrm>
          <a:prstGeom prst="pie">
            <a:avLst/>
          </a:prstGeom>
          <a:solidFill>
            <a:srgbClr val="cc00ff"/>
          </a:solidFill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 rot="17339400">
            <a:off x="5939280" y="3501000"/>
            <a:ext cx="3170160" cy="1730160"/>
          </a:xfrm>
          <a:prstGeom prst="pie">
            <a:avLst/>
          </a:prstGeom>
          <a:solidFill>
            <a:srgbClr val="cc00ff"/>
          </a:solidFill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22"/>
          <p:cNvPicPr/>
          <p:nvPr/>
        </p:nvPicPr>
        <p:blipFill>
          <a:blip r:embed="rId1"/>
          <a:stretch/>
        </p:blipFill>
        <p:spPr>
          <a:xfrm>
            <a:off x="3419640" y="2637000"/>
            <a:ext cx="2366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00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142640" y="642960"/>
            <a:ext cx="688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пе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т греческого слов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– ст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спор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трапеция- это гимнастический снаряд, состоящий из перекладины, подвешенной на двух верёвках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услышать: «Акробатические упражнения на трапеци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2000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tr"/>
          <p:cNvPicPr/>
          <p:nvPr/>
        </p:nvPicPr>
        <p:blipFill>
          <a:blip r:embed="rId1"/>
          <a:stretch/>
        </p:blipFill>
        <p:spPr>
          <a:xfrm>
            <a:off x="250920" y="1989000"/>
            <a:ext cx="4190760" cy="33321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2209680" y="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6600"/>
                </a:solidFill>
                <a:latin typeface="Times New Roman"/>
                <a:ea typeface="Arial"/>
              </a:rPr>
              <a:t>трапец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45561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211640" y="1773360"/>
            <a:ext cx="468144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Трапеция</a:t>
            </a:r>
            <a:r>
              <a:rPr b="0" lang="ru-RU" sz="40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0" lang="ru-RU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четырехугольни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торого только две противолежащие стороны параллель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book1"/>
          <p:cNvPicPr/>
          <p:nvPr/>
        </p:nvPicPr>
        <p:blipFill>
          <a:blip r:embed="rId3"/>
          <a:stretch/>
        </p:blipFill>
        <p:spPr>
          <a:xfrm>
            <a:off x="8305920" y="0"/>
            <a:ext cx="838080" cy="72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"/>
                            </p:stCondLst>
                            <p:childTnLst>
                              <p:par>
                                <p:cTn id="2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3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754200" y="2639880"/>
            <a:ext cx="6697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и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C 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и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боковые сто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=CD – AB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равнобедренная 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A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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D – ABCD –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прямоуго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 +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=180°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; </a:t>
            </a:r>
            <a:r>
              <a:rPr b="1" lang="ru-RU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C +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D=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45"/>
          <p:cNvGrpSpPr/>
          <p:nvPr/>
        </p:nvGrpSpPr>
        <p:grpSpPr>
          <a:xfrm>
            <a:off x="338760" y="44280"/>
            <a:ext cx="8625960" cy="1826640"/>
            <a:chOff x="338760" y="44280"/>
            <a:chExt cx="8625960" cy="1826640"/>
          </a:xfrm>
        </p:grpSpPr>
        <p:grpSp>
          <p:nvGrpSpPr>
            <p:cNvPr id="268" name="Group 5"/>
            <p:cNvGrpSpPr/>
            <p:nvPr/>
          </p:nvGrpSpPr>
          <p:grpSpPr>
            <a:xfrm>
              <a:off x="611280" y="475560"/>
              <a:ext cx="1656720" cy="1008720"/>
              <a:chOff x="611280" y="475560"/>
              <a:chExt cx="1656720" cy="1008720"/>
            </a:xfrm>
          </p:grpSpPr>
          <p:sp>
            <p:nvSpPr>
              <p:cNvPr id="269" name="Line 6"/>
              <p:cNvSpPr/>
              <p:nvPr/>
            </p:nvSpPr>
            <p:spPr>
              <a:xfrm flipH="1">
                <a:off x="611280" y="475920"/>
                <a:ext cx="57600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"/>
              <p:cNvSpPr/>
              <p:nvPr/>
            </p:nvSpPr>
            <p:spPr>
              <a:xfrm>
                <a:off x="611280" y="1484280"/>
                <a:ext cx="15127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8"/>
              <p:cNvSpPr/>
              <p:nvPr/>
            </p:nvSpPr>
            <p:spPr>
              <a:xfrm flipV="1">
                <a:off x="2124000" y="475560"/>
                <a:ext cx="14400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9"/>
              <p:cNvSpPr/>
              <p:nvPr/>
            </p:nvSpPr>
            <p:spPr>
              <a:xfrm>
                <a:off x="1187280" y="475920"/>
                <a:ext cx="10807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10"/>
            <p:cNvSpPr/>
            <p:nvPr/>
          </p:nvSpPr>
          <p:spPr>
            <a:xfrm>
              <a:off x="33876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1"/>
            <p:cNvSpPr/>
            <p:nvPr/>
          </p:nvSpPr>
          <p:spPr>
            <a:xfrm>
              <a:off x="97164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2"/>
            <p:cNvSpPr/>
            <p:nvPr/>
          </p:nvSpPr>
          <p:spPr>
            <a:xfrm>
              <a:off x="205092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3"/>
            <p:cNvSpPr/>
            <p:nvPr/>
          </p:nvSpPr>
          <p:spPr>
            <a:xfrm>
              <a:off x="1908000" y="14112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5"/>
            <p:cNvGrpSpPr/>
            <p:nvPr/>
          </p:nvGrpSpPr>
          <p:grpSpPr>
            <a:xfrm>
              <a:off x="2771640" y="475920"/>
              <a:ext cx="1583640" cy="1008000"/>
              <a:chOff x="2771640" y="475920"/>
              <a:chExt cx="1583640" cy="1008000"/>
            </a:xfrm>
          </p:grpSpPr>
          <p:sp>
            <p:nvSpPr>
              <p:cNvPr id="278" name="Line 16"/>
              <p:cNvSpPr/>
              <p:nvPr/>
            </p:nvSpPr>
            <p:spPr>
              <a:xfrm>
                <a:off x="2771640" y="475920"/>
                <a:ext cx="78480" cy="100800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17"/>
              <p:cNvSpPr/>
              <p:nvPr/>
            </p:nvSpPr>
            <p:spPr>
              <a:xfrm>
                <a:off x="2771640" y="475920"/>
                <a:ext cx="95004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8"/>
              <p:cNvSpPr/>
              <p:nvPr/>
            </p:nvSpPr>
            <p:spPr>
              <a:xfrm>
                <a:off x="2850120" y="1483920"/>
                <a:ext cx="150516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9"/>
              <p:cNvSpPr/>
              <p:nvPr/>
            </p:nvSpPr>
            <p:spPr>
              <a:xfrm flipH="1" flipV="1">
                <a:off x="3721320" y="475920"/>
                <a:ext cx="633960" cy="100800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20"/>
            <p:cNvSpPr/>
            <p:nvPr/>
          </p:nvSpPr>
          <p:spPr>
            <a:xfrm>
              <a:off x="264204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1"/>
            <p:cNvSpPr/>
            <p:nvPr/>
          </p:nvSpPr>
          <p:spPr>
            <a:xfrm>
              <a:off x="255600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2"/>
            <p:cNvSpPr/>
            <p:nvPr/>
          </p:nvSpPr>
          <p:spPr>
            <a:xfrm>
              <a:off x="349236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3"/>
            <p:cNvSpPr/>
            <p:nvPr/>
          </p:nvSpPr>
          <p:spPr>
            <a:xfrm>
              <a:off x="4211640" y="1411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0800000">
              <a:off x="4932360" y="475200"/>
              <a:ext cx="1944720" cy="1008360"/>
            </a:xfrm>
            <a:prstGeom prst="pie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6"/>
            <p:cNvSpPr/>
            <p:nvPr/>
          </p:nvSpPr>
          <p:spPr>
            <a:xfrm>
              <a:off x="5076720" y="836280"/>
              <a:ext cx="287280" cy="142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7"/>
            <p:cNvSpPr/>
            <p:nvPr/>
          </p:nvSpPr>
          <p:spPr>
            <a:xfrm flipH="1">
              <a:off x="6443280" y="836280"/>
              <a:ext cx="289080" cy="21456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8"/>
            <p:cNvSpPr/>
            <p:nvPr/>
          </p:nvSpPr>
          <p:spPr>
            <a:xfrm>
              <a:off x="480276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9"/>
            <p:cNvSpPr/>
            <p:nvPr/>
          </p:nvSpPr>
          <p:spPr>
            <a:xfrm>
              <a:off x="5219640" y="442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0"/>
            <p:cNvSpPr/>
            <p:nvPr/>
          </p:nvSpPr>
          <p:spPr>
            <a:xfrm>
              <a:off x="615636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1"/>
            <p:cNvSpPr/>
            <p:nvPr/>
          </p:nvSpPr>
          <p:spPr>
            <a:xfrm>
              <a:off x="6659640" y="1411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33"/>
            <p:cNvGrpSpPr/>
            <p:nvPr/>
          </p:nvGrpSpPr>
          <p:grpSpPr>
            <a:xfrm>
              <a:off x="7308720" y="475560"/>
              <a:ext cx="1366920" cy="1008720"/>
              <a:chOff x="7308720" y="475560"/>
              <a:chExt cx="1366920" cy="1008720"/>
            </a:xfrm>
          </p:grpSpPr>
          <p:sp>
            <p:nvSpPr>
              <p:cNvPr id="294" name="Line 34"/>
              <p:cNvSpPr/>
              <p:nvPr/>
            </p:nvSpPr>
            <p:spPr>
              <a:xfrm>
                <a:off x="7308720" y="475920"/>
                <a:ext cx="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308720" y="475920"/>
                <a:ext cx="79236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36"/>
              <p:cNvSpPr/>
              <p:nvPr/>
            </p:nvSpPr>
            <p:spPr>
              <a:xfrm>
                <a:off x="7308720" y="1484280"/>
                <a:ext cx="13669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37"/>
              <p:cNvSpPr/>
              <p:nvPr/>
            </p:nvSpPr>
            <p:spPr>
              <a:xfrm flipH="1" flipV="1">
                <a:off x="8101080" y="475560"/>
                <a:ext cx="57456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38"/>
            <p:cNvSpPr/>
            <p:nvPr/>
          </p:nvSpPr>
          <p:spPr>
            <a:xfrm>
              <a:off x="7308720" y="475920"/>
              <a:ext cx="142920" cy="142920"/>
            </a:xfrm>
            <a:prstGeom prst="rect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9"/>
            <p:cNvSpPr/>
            <p:nvPr/>
          </p:nvSpPr>
          <p:spPr>
            <a:xfrm>
              <a:off x="7308720" y="1339560"/>
              <a:ext cx="142920" cy="144720"/>
            </a:xfrm>
            <a:prstGeom prst="rect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717912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1"/>
            <p:cNvSpPr/>
            <p:nvPr/>
          </p:nvSpPr>
          <p:spPr>
            <a:xfrm>
              <a:off x="709308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2"/>
            <p:cNvSpPr/>
            <p:nvPr/>
          </p:nvSpPr>
          <p:spPr>
            <a:xfrm>
              <a:off x="788508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8459640" y="14112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Picture 44" descr="03"/>
          <p:cNvPicPr/>
          <p:nvPr/>
        </p:nvPicPr>
        <p:blipFill>
          <a:blip r:embed="rId1"/>
          <a:stretch/>
        </p:blipFill>
        <p:spPr>
          <a:xfrm>
            <a:off x="7559640" y="3500280"/>
            <a:ext cx="1584360" cy="293544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88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5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30:41Z</dcterms:created>
  <dc:creator>user</dc:creator>
  <dc:description/>
  <dc:language>en-US</dc:language>
  <cp:lastModifiedBy>iLvit</cp:lastModifiedBy>
  <dcterms:modified xsi:type="dcterms:W3CDTF">2012-09-27T14:40:13Z</dcterms:modified>
  <cp:revision>61</cp:revision>
  <dc:subject/>
  <dc:title>Тест: по теме «Параллелограмм»</dc:title>
</cp:coreProperties>
</file>