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0AF-5810-44E0-9FC5-DD080488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A48-3145-483B-A3C0-6A1F282A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FE2-C08E-4D93-8DCA-E174B97A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A9E-45F0-4148-A307-38517E37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FEB-8C11-4CE7-ACE1-9DE5519F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9625-E44D-44D4-8A94-0F106361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D562-6189-4D01-8FD0-5A91FD5E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B421-5BAB-40A7-8BA7-1C0964D4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D2B9-E6B8-41DE-9B5E-F215DBE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F7CA-E064-426F-A511-3A36A16E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8E20-B67C-4BB9-8878-2538D405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1A1-6998-417D-9866-8949E414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5F54-913A-4F5C-8C22-0D5F630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E3F6-2433-4FFD-B2A5-AE36354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2F3A-70CA-46EB-9235-CF7CEAD6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E16E-46E8-4D2D-A87B-3730BAAA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2FE6-0D6F-4481-8AD2-B81DC8F4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81A2-B1CC-4D70-A35D-78B3E9D1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C8F0-C4CC-41C9-85E3-5B294EE5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CE83-5018-4F83-9327-5BE1D2B9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77CE-BF0A-4791-8108-0985AB81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6546-E91F-4F77-BD51-8962E09C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514-7BFB-44B5-BC1C-8D88FE4E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F5AF-7580-44A6-BFD1-0EDDCB5A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2C35-C6BA-427E-BE40-A2DE46F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028C-BF7A-4B4C-B2B8-DD4FFAFF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55DE-4561-43A3-A567-19E49C59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546F-64F3-4642-B294-DB7B2CCC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12907-10F2-4EBD-ACA0-736AF216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F7E5-B3C2-43C3-84F8-27E177CC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BD115-2083-453C-A6F9-A1AAD238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B272-2637-431C-B9C1-899D066C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8076-FE81-43B9-86A2-409B0BA0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E54-B370-45D2-912A-AF05F4BC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A37E1-6C59-42CF-BC68-56F6232E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40413-90E9-4135-870F-7D05C409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51BD-7A37-4818-B0EB-5FDE0466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D347-69DB-4C85-859C-26FBD078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97A63-978C-480D-9C26-0D355A8F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34AD-817E-4774-8BA2-59E98AF5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A093D-64E4-4FCA-9841-149557D4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E138-F4CC-4BE8-98F9-9AF41174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060D9-649C-4C97-BF2A-E99B0F11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706C7-24B1-4638-B578-2200AB41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2C5-23C2-4AAD-9710-A545406D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B11E-7126-4FF8-8DE8-ABBF9547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918D-CC84-4B06-9DCC-BE66A2DD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9B350-2D6A-4FFA-BF06-E7421FBD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BE501-F95D-46FB-B8C6-819208F6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F8E0-41CD-4FBD-A59F-C800D1E4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10DD-3BBD-4824-8350-25B94576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82235-BD15-460E-8BB8-9089782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1220-BFCC-4E09-9CDF-3F125A1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6694-5372-4858-AB3D-B4FB57B4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684B1-A14D-4FE3-9CCD-BD98B4D8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AE1-3EAB-45F7-8957-99E8EA50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9E769-A6A5-4FCC-938E-E893F0A6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1A7-DB9E-4165-BD95-E1312DCA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B10-09BC-4B09-9A18-0DC0EBAD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683-4EDE-4B4F-81C5-DE08A074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3C36-92DF-4B98-B743-D4BA19F01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D08B-69DD-4B9C-986F-F0FA259E39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45AA-B7AE-4D47-9B0C-2D63F8D390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2E79-8CDB-4713-8FA6-1A62C0963D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B7F9-2999-4C96-B13A-DE53BC19D2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Китайская мудрость учит нас: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кажи мне и я забуду. Покажи мне и я запомню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Дай мне действовать самому и я научус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438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04920" y="83808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886200" y="914400"/>
            <a:ext cx="5029200" cy="1523880"/>
          </a:xfrm>
          <a:prstGeom prst="rect">
            <a:avLst/>
          </a:prstGeom>
          <a:solidFill>
            <a:srgbClr val="faf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11480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четырехугольник, у  которого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две  противолежащие  стороны 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50920" y="449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12408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3049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3623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1"/>
          <p:cNvGrpSpPr/>
          <p:nvPr/>
        </p:nvGrpSpPr>
        <p:grpSpPr>
          <a:xfrm>
            <a:off x="304920" y="838080"/>
            <a:ext cx="2971800" cy="1447920"/>
            <a:chOff x="304920" y="838080"/>
            <a:chExt cx="2971800" cy="1447920"/>
          </a:xfrm>
        </p:grpSpPr>
        <p:sp>
          <p:nvSpPr>
            <p:cNvPr id="317" name="Line 12"/>
            <p:cNvSpPr/>
            <p:nvPr/>
          </p:nvSpPr>
          <p:spPr>
            <a:xfrm>
              <a:off x="304920" y="838080"/>
              <a:ext cx="297180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1066680" y="2286000"/>
              <a:ext cx="152424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4"/>
          <p:cNvGrpSpPr/>
          <p:nvPr/>
        </p:nvGrpSpPr>
        <p:grpSpPr>
          <a:xfrm>
            <a:off x="304920" y="838080"/>
            <a:ext cx="2971440" cy="1447920"/>
            <a:chOff x="304920" y="838080"/>
            <a:chExt cx="2971440" cy="1447920"/>
          </a:xfrm>
        </p:grpSpPr>
        <p:sp>
          <p:nvSpPr>
            <p:cNvPr id="320" name="Line 15"/>
            <p:cNvSpPr/>
            <p:nvPr/>
          </p:nvSpPr>
          <p:spPr>
            <a:xfrm>
              <a:off x="304920" y="838080"/>
              <a:ext cx="76176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 flipH="1">
              <a:off x="2514240" y="838080"/>
              <a:ext cx="76212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7"/>
          <p:cNvSpPr/>
          <p:nvPr/>
        </p:nvSpPr>
        <p:spPr>
          <a:xfrm>
            <a:off x="990720" y="2895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||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, CD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343400" y="3048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не  параллель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,  B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оковые 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9"/>
          <p:cNvGrpSpPr/>
          <p:nvPr/>
        </p:nvGrpSpPr>
        <p:grpSpPr>
          <a:xfrm>
            <a:off x="609480" y="4267080"/>
            <a:ext cx="8229600" cy="2057400"/>
            <a:chOff x="609480" y="4267080"/>
            <a:chExt cx="8229600" cy="2057400"/>
          </a:xfrm>
        </p:grpSpPr>
        <p:sp>
          <p:nvSpPr>
            <p:cNvPr id="325" name="Rectangle 20"/>
            <p:cNvSpPr/>
            <p:nvPr/>
          </p:nvSpPr>
          <p:spPr>
            <a:xfrm>
              <a:off x="609480" y="4267080"/>
              <a:ext cx="8229600" cy="2057400"/>
            </a:xfrm>
            <a:prstGeom prst="rect">
              <a:avLst/>
            </a:prstGeom>
            <a:solidFill>
              <a:srgbClr val="fafd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838080" y="4648320"/>
              <a:ext cx="7772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  называется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равнобедренно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или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равнобокой,  ес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ее  боковые  стороны  рав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, один  из  углов  которой  прямой,  называется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прямоугольной</a:t>
              </a: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3"/>
          <p:cNvSpPr/>
          <p:nvPr/>
        </p:nvSpPr>
        <p:spPr>
          <a:xfrm>
            <a:off x="357120" y="85716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66688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Arial"/>
              </a:rPr>
              <a:t>Виды трапе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5334120" y="3276720"/>
            <a:ext cx="2742840" cy="1599840"/>
            <a:chOff x="5334120" y="3276720"/>
            <a:chExt cx="2742840" cy="1599840"/>
          </a:xfrm>
        </p:grpSpPr>
        <p:sp>
          <p:nvSpPr>
            <p:cNvPr id="330" name="Line 4"/>
            <p:cNvSpPr/>
            <p:nvPr/>
          </p:nvSpPr>
          <p:spPr>
            <a:xfrm>
              <a:off x="5933880" y="327672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 flipH="1">
              <a:off x="5334120" y="3276720"/>
              <a:ext cx="59976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7476840" y="3276720"/>
              <a:ext cx="60012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5334120" y="487656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8"/>
          <p:cNvSpPr/>
          <p:nvPr/>
        </p:nvSpPr>
        <p:spPr>
          <a:xfrm>
            <a:off x="5257800" y="1981080"/>
            <a:ext cx="266688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равнобедр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9"/>
          <p:cNvGrpSpPr/>
          <p:nvPr/>
        </p:nvGrpSpPr>
        <p:grpSpPr>
          <a:xfrm>
            <a:off x="1042920" y="3284640"/>
            <a:ext cx="2895840" cy="1600200"/>
            <a:chOff x="1042920" y="3284640"/>
            <a:chExt cx="2895840" cy="1600200"/>
          </a:xfrm>
        </p:grpSpPr>
        <p:sp>
          <p:nvSpPr>
            <p:cNvPr id="336" name="Line 10"/>
            <p:cNvSpPr/>
            <p:nvPr/>
          </p:nvSpPr>
          <p:spPr>
            <a:xfrm>
              <a:off x="1042920" y="3284640"/>
              <a:ext cx="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1"/>
            <p:cNvSpPr/>
            <p:nvPr/>
          </p:nvSpPr>
          <p:spPr>
            <a:xfrm>
              <a:off x="1042920" y="3284640"/>
              <a:ext cx="200448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>
              <a:off x="3047400" y="3284640"/>
              <a:ext cx="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3"/>
            <p:cNvSpPr/>
            <p:nvPr/>
          </p:nvSpPr>
          <p:spPr>
            <a:xfrm>
              <a:off x="1042920" y="4884840"/>
              <a:ext cx="289584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3047400" y="3284640"/>
              <a:ext cx="89100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685800" y="1905120"/>
            <a:ext cx="2895480" cy="5814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  <a:ea typeface="Arial"/>
              </a:rPr>
              <a:t>прямоуг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6"/>
          <p:cNvSpPr/>
          <p:nvPr/>
        </p:nvSpPr>
        <p:spPr>
          <a:xfrm flipH="1">
            <a:off x="2133360" y="990720"/>
            <a:ext cx="14475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5105520" y="990720"/>
            <a:ext cx="12189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8" descr="book1"/>
          <p:cNvPicPr/>
          <p:nvPr/>
        </p:nvPicPr>
        <p:blipFill>
          <a:blip r:embed="rId1"/>
          <a:stretch/>
        </p:blipFill>
        <p:spPr>
          <a:xfrm>
            <a:off x="8298000" y="0"/>
            <a:ext cx="846000" cy="736560"/>
          </a:xfrm>
          <a:prstGeom prst="rect">
            <a:avLst/>
          </a:prstGeom>
          <a:ln w="0">
            <a:noFill/>
          </a:ln>
        </p:spPr>
      </p:pic>
      <p:sp>
        <p:nvSpPr>
          <p:cNvPr id="345" name="Line 19"/>
          <p:cNvSpPr/>
          <p:nvPr/>
        </p:nvSpPr>
        <p:spPr>
          <a:xfrm>
            <a:off x="10666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1371600" y="4648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075520" cy="118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 равнобедренной трапеции углы при каждом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4"/>
              <p:cNvSpPr txBox="1"/>
              <p:nvPr/>
            </p:nvSpPr>
            <p:spPr>
              <a:xfrm>
                <a:off x="2627280" y="515772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Text Box 14"/>
          <p:cNvSpPr/>
          <p:nvPr/>
        </p:nvSpPr>
        <p:spPr>
          <a:xfrm>
            <a:off x="5109120" y="2924280"/>
            <a:ext cx="34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-р/б трапеция,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=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571920" y="40006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оказать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8"/>
          <p:cNvSpPr/>
          <p:nvPr/>
        </p:nvSpPr>
        <p:spPr>
          <a:xfrm rot="10800000">
            <a:off x="684360" y="3068640"/>
            <a:ext cx="2365200" cy="141912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62108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3061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48652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90216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25308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1258920" y="3068640"/>
            <a:ext cx="504720" cy="14400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82692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7"/>
          <p:cNvSpPr/>
          <p:nvPr/>
        </p:nvSpPr>
        <p:spPr>
          <a:xfrm>
            <a:off x="248436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>
            <a:off x="1332000" y="364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684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1"/>
          <p:cNvSpPr/>
          <p:nvPr/>
        </p:nvSpPr>
        <p:spPr>
          <a:xfrm>
            <a:off x="2771640" y="414972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2"/>
          <p:cNvSpPr/>
          <p:nvPr/>
        </p:nvSpPr>
        <p:spPr>
          <a:xfrm>
            <a:off x="1476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808200" y="5105520"/>
            <a:ext cx="80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ведем ВЕ    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Е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аллелограмм                  ВЕ=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АВ=ВЕ.                АВЕ-равнобедр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7"/>
              <p:cNvSpPr txBox="1"/>
              <p:nvPr/>
            </p:nvSpPr>
            <p:spPr>
              <a:xfrm>
                <a:off x="6372360" y="5084640"/>
                <a:ext cx="6555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40"/>
              <p:cNvSpPr txBox="1"/>
              <p:nvPr/>
            </p:nvSpPr>
            <p:spPr>
              <a:xfrm>
                <a:off x="262728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1"/>
              <p:cNvSpPr txBox="1"/>
              <p:nvPr/>
            </p:nvSpPr>
            <p:spPr>
              <a:xfrm>
                <a:off x="601200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2"/>
              <p:cNvSpPr txBox="1"/>
              <p:nvPr/>
            </p:nvSpPr>
            <p:spPr>
              <a:xfrm>
                <a:off x="6659640" y="5445000"/>
                <a:ext cx="1152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3"/>
              <p:cNvSpPr txBox="1"/>
              <p:nvPr/>
            </p:nvSpPr>
            <p:spPr>
              <a:xfrm>
                <a:off x="900000" y="5734080"/>
                <a:ext cx="268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4"/>
              <p:cNvSpPr txBox="1"/>
              <p:nvPr/>
            </p:nvSpPr>
            <p:spPr>
              <a:xfrm>
                <a:off x="3203640" y="5445000"/>
                <a:ext cx="30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 Box 45"/>
          <p:cNvSpPr/>
          <p:nvPr/>
        </p:nvSpPr>
        <p:spPr>
          <a:xfrm>
            <a:off x="40672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6"/>
          <p:cNvSpPr/>
          <p:nvPr/>
        </p:nvSpPr>
        <p:spPr>
          <a:xfrm>
            <a:off x="3507840" y="45813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5003640" y="1773360"/>
            <a:ext cx="331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CD-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р/б трапе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C=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395280" y="3933720"/>
            <a:ext cx="83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Рассмотрим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D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и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CA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D–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общая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ABD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DCA (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о двум сторона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=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               углу между ними)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AC=DB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  <a:ea typeface="Arial"/>
              </a:rPr>
              <a:t>.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8"/>
          <p:cNvSpPr/>
          <p:nvPr/>
        </p:nvSpPr>
        <p:spPr>
          <a:xfrm>
            <a:off x="2340000" y="4941720"/>
            <a:ext cx="287280" cy="115128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6516720" y="638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ч.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7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19440" cy="20952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000" y="428400"/>
            <a:ext cx="8280360" cy="92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В равнобедренной трапеции диагонал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860400" y="404640"/>
            <a:ext cx="7619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Являются ли четырёхугольники трапец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5807160" y="1604880"/>
            <a:ext cx="151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319880" y="1604880"/>
            <a:ext cx="100800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5446440" y="1604880"/>
            <a:ext cx="36036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5446800" y="2828880"/>
            <a:ext cx="28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5735520" y="1604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0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5519880" y="2468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5074920" y="2612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8273520" y="2684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221960" y="135720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5409360" y="121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1328760" y="1341000"/>
            <a:ext cx="79524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1341360"/>
            <a:ext cx="97956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3103560" y="2158920"/>
            <a:ext cx="517680" cy="1657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1328760" y="2158920"/>
            <a:ext cx="2292480" cy="165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851120" y="15573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4065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3118680" y="1941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1995120" y="105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986400" y="1941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3562920" y="364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9"/>
          <p:cNvSpPr/>
          <p:nvPr/>
        </p:nvSpPr>
        <p:spPr>
          <a:xfrm>
            <a:off x="1187280" y="4535640"/>
            <a:ext cx="216000" cy="115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0"/>
          <p:cNvSpPr/>
          <p:nvPr/>
        </p:nvSpPr>
        <p:spPr>
          <a:xfrm>
            <a:off x="1403280" y="5688000"/>
            <a:ext cx="259236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1"/>
          <p:cNvSpPr/>
          <p:nvPr/>
        </p:nvSpPr>
        <p:spPr>
          <a:xfrm>
            <a:off x="1187280" y="4535640"/>
            <a:ext cx="1800360" cy="215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2"/>
          <p:cNvSpPr/>
          <p:nvPr/>
        </p:nvSpPr>
        <p:spPr>
          <a:xfrm>
            <a:off x="2987640" y="4751280"/>
            <a:ext cx="1008000" cy="115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3"/>
          <p:cNvSpPr/>
          <p:nvPr/>
        </p:nvSpPr>
        <p:spPr>
          <a:xfrm flipV="1">
            <a:off x="1403280" y="4751280"/>
            <a:ext cx="158436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2124000" y="4680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1692360" y="5398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894600" y="4149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"/>
          <p:cNvSpPr/>
          <p:nvPr/>
        </p:nvSpPr>
        <p:spPr>
          <a:xfrm>
            <a:off x="2947680" y="4367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4"/>
          <p:cNvSpPr/>
          <p:nvPr/>
        </p:nvSpPr>
        <p:spPr>
          <a:xfrm>
            <a:off x="1072440" y="5472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3950280" y="5759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7"/>
          <p:cNvSpPr/>
          <p:nvPr/>
        </p:nvSpPr>
        <p:spPr>
          <a:xfrm>
            <a:off x="6227640" y="4292640"/>
            <a:ext cx="201780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 flipH="1">
            <a:off x="5148000" y="429264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5148360" y="5516640"/>
            <a:ext cx="259236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0"/>
          <p:cNvSpPr/>
          <p:nvPr/>
        </p:nvSpPr>
        <p:spPr>
          <a:xfrm flipH="1">
            <a:off x="7740720" y="4653000"/>
            <a:ext cx="504720" cy="14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6012000" y="432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3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9636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2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236000" y="537372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8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6"/>
          <p:cNvSpPr/>
          <p:nvPr/>
        </p:nvSpPr>
        <p:spPr>
          <a:xfrm>
            <a:off x="482940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7"/>
          <p:cNvSpPr/>
          <p:nvPr/>
        </p:nvSpPr>
        <p:spPr>
          <a:xfrm>
            <a:off x="7824960" y="6021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8202960" y="43657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5970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22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22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23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23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24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144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333360"/>
            <a:ext cx="51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2273400" y="836640"/>
            <a:ext cx="43146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Трапеция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5640" y="3141720"/>
            <a:ext cx="2303640" cy="165564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 rot="17339400">
            <a:off x="5939280" y="3501000"/>
            <a:ext cx="3170160" cy="173016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22"/>
          <p:cNvPicPr/>
          <p:nvPr/>
        </p:nvPicPr>
        <p:blipFill>
          <a:blip r:embed="rId1"/>
          <a:stretch/>
        </p:blipFill>
        <p:spPr>
          <a:xfrm>
            <a:off x="3419640" y="2637000"/>
            <a:ext cx="2366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00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42640" y="642960"/>
            <a:ext cx="688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 греческого сло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–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пор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пеция- это гимнастический снаряд, состоящий из перекладины, подвешенной на двух верёвка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услышать: «Акробатические упражнения на трапец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r"/>
          <p:cNvPicPr/>
          <p:nvPr/>
        </p:nvPicPr>
        <p:blipFill>
          <a:blip r:embed="rId1"/>
          <a:stretch/>
        </p:blipFill>
        <p:spPr>
          <a:xfrm>
            <a:off x="250920" y="1989000"/>
            <a:ext cx="4190760" cy="3332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20968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6600"/>
                </a:solidFill>
                <a:latin typeface="Times New Roman"/>
                <a:ea typeface="Arial"/>
              </a:rPr>
              <a:t>трапец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561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211640" y="1773360"/>
            <a:ext cx="4681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Трапеция</a:t>
            </a:r>
            <a:r>
              <a:rPr b="0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четырехугольни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ого только две противолежащие стороны параллель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book1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7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3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54200" y="2639880"/>
            <a:ext cx="669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C 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боковые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=CD – 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равнобедренная 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A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– ABCD –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рямо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=180°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; </a:t>
            </a: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D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5"/>
          <p:cNvGrpSpPr/>
          <p:nvPr/>
        </p:nvGrpSpPr>
        <p:grpSpPr>
          <a:xfrm>
            <a:off x="338760" y="44280"/>
            <a:ext cx="8625960" cy="1826640"/>
            <a:chOff x="338760" y="44280"/>
            <a:chExt cx="8625960" cy="1826640"/>
          </a:xfrm>
        </p:grpSpPr>
        <p:grpSp>
          <p:nvGrpSpPr>
            <p:cNvPr id="268" name="Group 5"/>
            <p:cNvGrpSpPr/>
            <p:nvPr/>
          </p:nvGrpSpPr>
          <p:grpSpPr>
            <a:xfrm>
              <a:off x="611280" y="475560"/>
              <a:ext cx="1656720" cy="1008720"/>
              <a:chOff x="611280" y="475560"/>
              <a:chExt cx="1656720" cy="1008720"/>
            </a:xfrm>
          </p:grpSpPr>
          <p:sp>
            <p:nvSpPr>
              <p:cNvPr id="269" name="Line 6"/>
              <p:cNvSpPr/>
              <p:nvPr/>
            </p:nvSpPr>
            <p:spPr>
              <a:xfrm flipH="1">
                <a:off x="611280" y="475920"/>
                <a:ext cx="576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611280" y="1484280"/>
                <a:ext cx="1512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V="1">
                <a:off x="2124000" y="475560"/>
                <a:ext cx="144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>
                <a:off x="1187280" y="475920"/>
                <a:ext cx="1080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10"/>
            <p:cNvSpPr/>
            <p:nvPr/>
          </p:nvSpPr>
          <p:spPr>
            <a:xfrm>
              <a:off x="338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97164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"/>
            <p:cNvSpPr/>
            <p:nvPr/>
          </p:nvSpPr>
          <p:spPr>
            <a:xfrm>
              <a:off x="205092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190800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"/>
            <p:cNvGrpSpPr/>
            <p:nvPr/>
          </p:nvGrpSpPr>
          <p:grpSpPr>
            <a:xfrm>
              <a:off x="2771640" y="475920"/>
              <a:ext cx="1583640" cy="1008000"/>
              <a:chOff x="2771640" y="475920"/>
              <a:chExt cx="1583640" cy="1008000"/>
            </a:xfrm>
          </p:grpSpPr>
          <p:sp>
            <p:nvSpPr>
              <p:cNvPr id="278" name="Line 16"/>
              <p:cNvSpPr/>
              <p:nvPr/>
            </p:nvSpPr>
            <p:spPr>
              <a:xfrm>
                <a:off x="2771640" y="475920"/>
                <a:ext cx="7848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7"/>
              <p:cNvSpPr/>
              <p:nvPr/>
            </p:nvSpPr>
            <p:spPr>
              <a:xfrm>
                <a:off x="2771640" y="475920"/>
                <a:ext cx="95004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8"/>
              <p:cNvSpPr/>
              <p:nvPr/>
            </p:nvSpPr>
            <p:spPr>
              <a:xfrm>
                <a:off x="2850120" y="1483920"/>
                <a:ext cx="15051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 flipH="1" flipV="1">
                <a:off x="3721320" y="475920"/>
                <a:ext cx="63396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0"/>
            <p:cNvSpPr/>
            <p:nvPr/>
          </p:nvSpPr>
          <p:spPr>
            <a:xfrm>
              <a:off x="264204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255600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3492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4211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0800000">
              <a:off x="4932360" y="475200"/>
              <a:ext cx="1944720" cy="1008360"/>
            </a:xfrm>
            <a:prstGeom prst="pie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6"/>
            <p:cNvSpPr/>
            <p:nvPr/>
          </p:nvSpPr>
          <p:spPr>
            <a:xfrm>
              <a:off x="5076720" y="836280"/>
              <a:ext cx="287280" cy="142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7"/>
            <p:cNvSpPr/>
            <p:nvPr/>
          </p:nvSpPr>
          <p:spPr>
            <a:xfrm flipH="1">
              <a:off x="6443280" y="836280"/>
              <a:ext cx="289080" cy="21456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8"/>
            <p:cNvSpPr/>
            <p:nvPr/>
          </p:nvSpPr>
          <p:spPr>
            <a:xfrm>
              <a:off x="4802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9"/>
            <p:cNvSpPr/>
            <p:nvPr/>
          </p:nvSpPr>
          <p:spPr>
            <a:xfrm>
              <a:off x="5219640" y="44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0"/>
            <p:cNvSpPr/>
            <p:nvPr/>
          </p:nvSpPr>
          <p:spPr>
            <a:xfrm>
              <a:off x="6156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1"/>
            <p:cNvSpPr/>
            <p:nvPr/>
          </p:nvSpPr>
          <p:spPr>
            <a:xfrm>
              <a:off x="6659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3"/>
            <p:cNvGrpSpPr/>
            <p:nvPr/>
          </p:nvGrpSpPr>
          <p:grpSpPr>
            <a:xfrm>
              <a:off x="7308720" y="475560"/>
              <a:ext cx="1366920" cy="1008720"/>
              <a:chOff x="7308720" y="475560"/>
              <a:chExt cx="1366920" cy="1008720"/>
            </a:xfrm>
          </p:grpSpPr>
          <p:sp>
            <p:nvSpPr>
              <p:cNvPr id="294" name="Line 34"/>
              <p:cNvSpPr/>
              <p:nvPr/>
            </p:nvSpPr>
            <p:spPr>
              <a:xfrm>
                <a:off x="7308720" y="475920"/>
                <a:ext cx="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308720" y="475920"/>
                <a:ext cx="7923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6"/>
              <p:cNvSpPr/>
              <p:nvPr/>
            </p:nvSpPr>
            <p:spPr>
              <a:xfrm>
                <a:off x="7308720" y="1484280"/>
                <a:ext cx="13669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7"/>
              <p:cNvSpPr/>
              <p:nvPr/>
            </p:nvSpPr>
            <p:spPr>
              <a:xfrm flipH="1" flipV="1">
                <a:off x="8101080" y="475560"/>
                <a:ext cx="57456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38"/>
            <p:cNvSpPr/>
            <p:nvPr/>
          </p:nvSpPr>
          <p:spPr>
            <a:xfrm>
              <a:off x="7308720" y="475920"/>
              <a:ext cx="142920" cy="1429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9"/>
            <p:cNvSpPr/>
            <p:nvPr/>
          </p:nvSpPr>
          <p:spPr>
            <a:xfrm>
              <a:off x="7308720" y="1339560"/>
              <a:ext cx="142920" cy="1447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717912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1"/>
            <p:cNvSpPr/>
            <p:nvPr/>
          </p:nvSpPr>
          <p:spPr>
            <a:xfrm>
              <a:off x="709308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2"/>
            <p:cNvSpPr/>
            <p:nvPr/>
          </p:nvSpPr>
          <p:spPr>
            <a:xfrm>
              <a:off x="788508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845964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44" descr="03"/>
          <p:cNvPicPr/>
          <p:nvPr/>
        </p:nvPicPr>
        <p:blipFill>
          <a:blip r:embed="rId1"/>
          <a:stretch/>
        </p:blipFill>
        <p:spPr>
          <a:xfrm>
            <a:off x="7559640" y="3500280"/>
            <a:ext cx="1584360" cy="29354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88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5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09-27T14:40:13Z</dcterms:modified>
  <cp:revision>61</cp:revision>
  <dc:subject/>
  <dc:title>Тест: по теме «Параллелограмм»</dc:title>
</cp:coreProperties>
</file>