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gif" ContentType="image/gif"/>
  <Override PartName="/ppt/media/image15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9.jpeg" ContentType="image/jpeg"/>
  <Override PartName="/ppt/media/image1.gif" ContentType="image/gif"/>
  <Override PartName="/ppt/media/image6.png" ContentType="image/png"/>
  <Override PartName="/ppt/media/image7.png" ContentType="image/png"/>
  <Override PartName="/ppt/media/image11.wmf" ContentType="image/x-wmf"/>
  <Override PartName="/ppt/media/image3.png" ContentType="image/png"/>
  <Override PartName="/ppt/media/image10.jpeg" ContentType="image/jpeg"/>
  <Override PartName="/ppt/media/image5.png" ContentType="image/png"/>
  <Override PartName="/ppt/media/image2.gif" ContentType="image/gif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35D7F-546D-4A47-A56C-6041D71B6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7C942-92E4-45EB-8220-00D99F84A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9ACDA-A6FC-42A0-A215-8C2281B78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27E88-10F4-432C-A1E6-0ED7F637B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B631F-6C43-43EC-972F-98CE643AE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6CDE0-90DC-4AC2-B65E-059DC9256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67826-A20E-4B50-93C5-9DE8CAFB5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6020C-5887-4790-A154-5ED0067E0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EFA4D-E531-4FEB-B4D8-F2164A907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42537-51E3-4B5B-AAC5-148A3E5FE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4126C-AA81-40E8-A1C5-A40F0BCAC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0CDE5-50CB-42D0-B7B6-E7B4AB4CF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367E9-B007-40F1-962B-0D881E67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0265A-FB44-4992-9A70-469EB18EF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CB344-8B6D-4F7C-92D6-E1E225E5F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A54BE-7EF6-4645-BEBA-C514DF043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CECAE-6E23-4E12-901D-28CDC307F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81501-A356-46BE-B8A0-EAC5340E0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4BAFE-871E-4B3A-B981-72B0A2380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C75AE-80BC-4E00-89CF-EBF0B7D79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E6FA7-B630-4CD1-8E2D-65B573FEE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7FBA6-0C13-4290-AD94-949543865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C9E39-43F7-45E7-AC28-620A6B072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F94A5-EED2-4EBB-85B6-922948F8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EB2EB-7447-425D-9055-C73D02D96B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BAC55-E02B-419C-9E68-14A661DE52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2.xml"/><Relationship Id="rId3" Type="http://schemas.openxmlformats.org/officeDocument/2006/relationships/hyperlink" Target="http://images.yandex.ru/yandsearch?p=0&amp;text=&#1082;&#1072;&#1088;&#1090;&#1080;&#1085;&#1082;&#1080;%20&#1076;&#1083;&#1103;%20&#1088;&#1077;&#1092;&#1077;&#1088;&#1072;&#1090;&#1072;%2C%20&#1086;&#1092;&#1080;&#1089;%2C%20&#1084;&#1072;&#1090;&#1077;&#1084;&#1072;&#1090;&#1080;&#1082;%25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2.xml"/><Relationship Id="rId3" Type="http://schemas.openxmlformats.org/officeDocument/2006/relationships/hyperlink" Target="http://oberon.seversk.ru/images/stories/ppr.png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2.xml"/><Relationship Id="rId3" Type="http://schemas.openxmlformats.org/officeDocument/2006/relationships/hyperlink" Target="http://images.yandex.ru/yandsearch?p=0&amp;text=&#1082;&#1072;&#1088;&#1090;&#1080;&#1085;&#1082;&#1080;%20&#1076;&#1083;&#1103;%20&#1088;&#1077;&#1092;&#1077;&#1088;&#1072;&#1090;&#1072;%2C%20&#1086;&#1092;&#1080;&#1089;%2C%20&#1084;&#1072;&#1090;&#1077;&#1084;&#1072;&#1090;&#1080;&#1082;%25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oberon.seversk.ru/images/stories/ppr.png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7.xml"/><Relationship Id="rId3" Type="http://schemas.openxmlformats.org/officeDocument/2006/relationships/slide" Target="slide2.xml"/><Relationship Id="rId4" Type="http://schemas.openxmlformats.org/officeDocument/2006/relationships/hyperlink" Target="http://oberon.seversk.ru/images/stories/ppr.png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2.xml"/><Relationship Id="rId3" Type="http://schemas.openxmlformats.org/officeDocument/2006/relationships/hyperlink" Target="http://images.yandex.ru/yandsearch?p=0&amp;text=&#1082;&#1072;&#1088;&#1090;&#1080;&#1085;&#1082;&#1080;%20&#1076;&#1083;&#1103;%20&#1088;&#1077;&#1092;&#1077;&#1088;&#1072;&#1090;&#1072;%2C%20&#1086;&#1092;&#1080;&#1089;%2C%20&#1084;&#1072;&#1090;&#1077;&#1084;&#1072;&#1090;&#1080;&#1082;%25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slovari.yandex.ru/dict/bse/article/00064/79600.htm" TargetMode="External"/><Relationship Id="rId2" Type="http://schemas.openxmlformats.org/officeDocument/2006/relationships/slide" Target="slide19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slide" Target="slide22.xml"/><Relationship Id="rId6" Type="http://schemas.openxmlformats.org/officeDocument/2006/relationships/slide" Target="slide2.xml"/><Relationship Id="rId7" Type="http://schemas.openxmlformats.org/officeDocument/2006/relationships/hyperlink" Target="http://klopp.ru/" TargetMode="External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88;&#1077;&#1076;&#1085;&#1077;&#1077;" TargetMode="External"/><Relationship Id="rId2" Type="http://schemas.openxmlformats.org/officeDocument/2006/relationships/hyperlink" Target="http://ru.wikipedia.org/wiki/&#1057;&#1088;&#1077;&#1076;&#1085;&#1077;&#1077;" TargetMode="External"/><Relationship Id="rId3" Type="http://schemas.openxmlformats.org/officeDocument/2006/relationships/hyperlink" Target="http://ru.wikipedia.org/wiki/&#1057;&#1088;&#1077;&#1076;&#1085;&#1077;&#1077;" TargetMode="External"/><Relationship Id="rId4" Type="http://schemas.openxmlformats.org/officeDocument/2006/relationships/hyperlink" Target="http://ru.wikipedia.org/wiki/&#1057;&#1088;&#1077;&#1076;&#1085;&#1077;&#1077;" TargetMode="External"/><Relationship Id="rId5" Type="http://schemas.openxmlformats.org/officeDocument/2006/relationships/hyperlink" Target="http://ru.wikipedia.org/wiki/&#1057;&#1088;&#1077;&#1076;&#1085;&#1077;&#1077;" TargetMode="External"/><Relationship Id="rId6" Type="http://schemas.openxmlformats.org/officeDocument/2006/relationships/hyperlink" Target="http://www.cyberguru.ru/programming/pascal/turbopascal-encyclopaedia2-page5.html" TargetMode="External"/><Relationship Id="rId7" Type="http://schemas.openxmlformats.org/officeDocument/2006/relationships/hyperlink" Target="http://www.cyberguru.ru/programming/pascal/turbopascal-encyclopaedia2-page5.html" TargetMode="External"/><Relationship Id="rId8" Type="http://schemas.openxmlformats.org/officeDocument/2006/relationships/hyperlink" Target="http://www.cyberguru.ru/programming/pascal/turbopascal-encyclopaedia2-page5.html" TargetMode="External"/><Relationship Id="rId9" Type="http://schemas.openxmlformats.org/officeDocument/2006/relationships/hyperlink" Target="http://www.cyberguru.ru/programming/pascal/turbopascal-encyclopaedia2-page5.html" TargetMode="External"/><Relationship Id="rId10" Type="http://schemas.openxmlformats.org/officeDocument/2006/relationships/hyperlink" Target="http://www.cyberguru.ru/programming/pascal/turbopascal-encyclopaedia2-page5.html" TargetMode="External"/><Relationship Id="rId11" Type="http://schemas.openxmlformats.org/officeDocument/2006/relationships/hyperlink" Target="http://www.cyberguru.ru/programming/pascal/turbopascal-encyclopaedia2-page5.html" TargetMode="External"/><Relationship Id="rId12" Type="http://schemas.openxmlformats.org/officeDocument/2006/relationships/hyperlink" Target="http://www.cyberguru.ru/programming/pascal/turbopascal-encyclopaedia2-page5.html" TargetMode="External"/><Relationship Id="rId13" Type="http://schemas.openxmlformats.org/officeDocument/2006/relationships/hyperlink" Target="http://www.wikiznanie.ru/ru-wz/index.php/&#1057;&#1088;&#1077;&#1076;&#1085;&#1077;&#1077;_&#1079;&#1085;&#1072;&#1095;&#1077;&#1085;&#1080;&#1077;" TargetMode="External"/><Relationship Id="rId14" Type="http://schemas.openxmlformats.org/officeDocument/2006/relationships/hyperlink" Target="http://www.wikiznanie.ru/ru-wz/index.php/&#1057;&#1088;&#1077;&#1076;&#1085;&#1077;&#1077;_&#1079;&#1085;&#1072;&#1095;&#1077;&#1085;&#1080;&#1077;" TargetMode="External"/><Relationship Id="rId15" Type="http://schemas.openxmlformats.org/officeDocument/2006/relationships/hyperlink" Target="http://www.wikiznanie.ru/ru-wz/index.php/&#1057;&#1088;&#1077;&#1076;&#1085;&#1077;&#1077;_&#1079;&#1085;&#1072;&#1095;&#1077;&#1085;&#1080;&#1077;" TargetMode="External"/><Relationship Id="rId16" Type="http://schemas.openxmlformats.org/officeDocument/2006/relationships/hyperlink" Target="http://www.wikiznanie.ru/ru-wz/index.php/&#1057;&#1088;&#1077;&#1076;&#1085;&#1077;&#1077;_&#1079;&#1085;&#1072;&#1095;&#1077;&#1085;&#1080;&#1077;" TargetMode="External"/><Relationship Id="rId17" Type="http://schemas.openxmlformats.org/officeDocument/2006/relationships/hyperlink" Target="http://www.wikiznanie.ru/ru-wz/index.php/&#1057;&#1088;&#1077;&#1076;&#1085;&#1077;&#1077;_&#1079;&#1085;&#1072;&#1095;&#1077;&#1085;&#1080;&#1077;" TargetMode="External"/><Relationship Id="rId18" Type="http://schemas.openxmlformats.org/officeDocument/2006/relationships/hyperlink" Target="http://www.wikiznanie.ru/ru-wz/index.php/&#1057;&#1088;&#1077;&#1076;&#1085;&#1077;&#1077;_&#1079;&#1085;&#1072;&#1095;&#1077;&#1085;&#1080;&#1077;" TargetMode="External"/><Relationship Id="rId19" Type="http://schemas.openxmlformats.org/officeDocument/2006/relationships/hyperlink" Target="http://www.wikiznanie.ru/ru-wz/index.php/&#1057;&#1088;&#1077;&#1076;&#1085;&#1077;&#1077;_&#1079;&#1085;&#1072;&#1095;&#1077;&#1085;&#1080;&#1077;" TargetMode="External"/><Relationship Id="rId20" Type="http://schemas.openxmlformats.org/officeDocument/2006/relationships/hyperlink" Target="http://www.wikiznanie.ru/ru-wz/index.php/&#1057;&#1088;&#1077;&#1076;&#1085;&#1077;&#1077;_&#1079;&#1085;&#1072;&#1095;&#1077;&#1085;&#1080;&#1077;" TargetMode="External"/><Relationship Id="rId21" Type="http://schemas.openxmlformats.org/officeDocument/2006/relationships/slide" Target="slide18.xml"/><Relationship Id="rId22" Type="http://schemas.openxmlformats.org/officeDocument/2006/relationships/slide" Target="slide20.xml"/><Relationship Id="rId23" Type="http://schemas.openxmlformats.org/officeDocument/2006/relationships/slide" Target="slide21.xml"/><Relationship Id="rId24" Type="http://schemas.openxmlformats.org/officeDocument/2006/relationships/slide" Target="slide22.xml"/><Relationship Id="rId25" Type="http://schemas.openxmlformats.org/officeDocument/2006/relationships/slide" Target="slide2.xml"/><Relationship Id="rId26" Type="http://schemas.openxmlformats.org/officeDocument/2006/relationships/hyperlink" Target="http://klopp.ru/" TargetMode="External"/><Relationship Id="rId27" Type="http://schemas.openxmlformats.org/officeDocument/2006/relationships/image" Target="../media/image5.png"/><Relationship Id="rId2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6.xml"/><Relationship Id="rId3" Type="http://schemas.openxmlformats.org/officeDocument/2006/relationships/slide" Target="slide9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14.xml"/><Relationship Id="rId7" Type="http://schemas.openxmlformats.org/officeDocument/2006/relationships/slide" Target="slide18.xml"/><Relationship Id="rId8" Type="http://schemas.openxmlformats.org/officeDocument/2006/relationships/slide" Target="slide18.xml"/><Relationship Id="rId9" Type="http://schemas.openxmlformats.org/officeDocument/2006/relationships/slide" Target="slide23.xml"/><Relationship Id="rId10" Type="http://schemas.openxmlformats.org/officeDocument/2006/relationships/slide" Target="slide29.xml"/><Relationship Id="rId11" Type="http://schemas.openxmlformats.org/officeDocument/2006/relationships/slide" Target="slide28.xml"/><Relationship Id="rId12" Type="http://schemas.openxmlformats.org/officeDocument/2006/relationships/image" Target="../media/image2.gif"/><Relationship Id="rId1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9.xml"/><Relationship Id="rId3" Type="http://schemas.openxmlformats.org/officeDocument/2006/relationships/slide" Target="slide21.xml"/><Relationship Id="rId4" Type="http://schemas.openxmlformats.org/officeDocument/2006/relationships/slide" Target="slide22.xml"/><Relationship Id="rId5" Type="http://schemas.openxmlformats.org/officeDocument/2006/relationships/slide" Target="slide2.xml"/><Relationship Id="rId6" Type="http://schemas.openxmlformats.org/officeDocument/2006/relationships/hyperlink" Target="http://klopp.ru/" TargetMode="External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77;&#1076;&#1080;&#1072;&#1085;&#1072;_(&#1089;&#1090;&#1072;&#1090;&#1080;&#1089;&#1090;&#1080;&#1082;&#1072;)_" TargetMode="External"/><Relationship Id="rId2" Type="http://schemas.openxmlformats.org/officeDocument/2006/relationships/hyperlink" Target="http://ru.wikipedia.org/wiki/&#1052;&#1077;&#1076;&#1080;&#1072;&#1085;&#1072;_(&#1089;&#1090;&#1072;&#1090;&#1080;&#1089;&#1090;&#1080;&#1082;&#1072;)_" TargetMode="External"/><Relationship Id="rId3" Type="http://schemas.openxmlformats.org/officeDocument/2006/relationships/hyperlink" Target="http://ru.wikipedia.org/wiki/&#1052;&#1077;&#1076;&#1080;&#1072;&#1085;&#1072;_(&#1089;&#1090;&#1072;&#1090;&#1080;&#1089;&#1090;&#1080;&#1082;&#1072;)_" TargetMode="External"/><Relationship Id="rId4" Type="http://schemas.openxmlformats.org/officeDocument/2006/relationships/hyperlink" Target="http://ru.wikipedia.org/wiki/&#1052;&#1077;&#1076;&#1080;&#1072;&#1085;&#1072;_(&#1089;&#1090;&#1072;&#1090;&#1080;&#1089;&#1090;&#1080;&#1082;&#1072;)_" TargetMode="External"/><Relationship Id="rId5" Type="http://schemas.openxmlformats.org/officeDocument/2006/relationships/hyperlink" Target="http://ru.wikipedia.org/wiki/&#1052;&#1077;&#1076;&#1080;&#1072;&#1085;&#1072;_(&#1089;&#1090;&#1072;&#1090;&#1080;&#1089;&#1090;&#1080;&#1082;&#1072;)_" TargetMode="External"/><Relationship Id="rId6" Type="http://schemas.openxmlformats.org/officeDocument/2006/relationships/hyperlink" Target="http://ru.wikipedia.org/wiki/&#1052;&#1077;&#1076;&#1080;&#1072;&#1085;&#1072;_(&#1089;&#1090;&#1072;&#1090;&#1080;&#1089;&#1090;&#1080;&#1082;&#1072;)_" TargetMode="External"/><Relationship Id="rId7" Type="http://schemas.openxmlformats.org/officeDocument/2006/relationships/hyperlink" Target="http://ru.wikipedia.org/wiki/&#1052;&#1077;&#1076;&#1080;&#1072;&#1085;&#1072;_(&#1089;&#1090;&#1072;&#1090;&#1080;&#1089;&#1090;&#1080;&#1082;&#1072;)_" TargetMode="External"/><Relationship Id="rId8" Type="http://schemas.openxmlformats.org/officeDocument/2006/relationships/hyperlink" Target="http://www.statsoft.ru/home/portal/glossary/glossarytwo/M%5CMedian.htm" TargetMode="External"/><Relationship Id="rId9" Type="http://schemas.openxmlformats.org/officeDocument/2006/relationships/hyperlink" Target="http://www.statsoft.ru/home/portal/glossary/glossarytwo/M%5CMedian.htm" TargetMode="External"/><Relationship Id="rId10" Type="http://schemas.openxmlformats.org/officeDocument/2006/relationships/hyperlink" Target="http://www.statsoft.ru/home/portal/glossary/glossarytwo/M%5CMedian.htm" TargetMode="External"/><Relationship Id="rId11" Type="http://schemas.openxmlformats.org/officeDocument/2006/relationships/hyperlink" Target="http://www.statsoft.ru/home/portal/glossary/glossarytwo/M%5CMedian.htm" TargetMode="External"/><Relationship Id="rId12" Type="http://schemas.openxmlformats.org/officeDocument/2006/relationships/hyperlink" Target="http://www.statsoft.ru/home/portal/glossary/glossarytwo/M%5CMedian.htm" TargetMode="External"/><Relationship Id="rId13" Type="http://schemas.openxmlformats.org/officeDocument/2006/relationships/hyperlink" Target="http://www.statsoft.ru/home/portal/glossary/glossarytwo/M%5CMedian.htm" TargetMode="External"/><Relationship Id="rId14" Type="http://schemas.openxmlformats.org/officeDocument/2006/relationships/hyperlink" Target="http://www.statsoft.ru/home/portal/glossary/glossarytwo/M%5CMedian.htm" TargetMode="External"/><Relationship Id="rId15" Type="http://schemas.openxmlformats.org/officeDocument/2006/relationships/hyperlink" Target="http://www.statsoft.ru/home/portal/glossary/glossarytwo/M%5CMedian.htm" TargetMode="External"/><Relationship Id="rId16" Type="http://schemas.openxmlformats.org/officeDocument/2006/relationships/hyperlink" Target="http://www.statsoft.ru/home/portal/glossary/glossarytwo/M%5CMedian.htm" TargetMode="External"/><Relationship Id="rId17" Type="http://schemas.openxmlformats.org/officeDocument/2006/relationships/hyperlink" Target="http://www.statsoft.ru/home/portal/glossary/glossarytwo/M%5CMedian.htm" TargetMode="External"/><Relationship Id="rId18" Type="http://schemas.openxmlformats.org/officeDocument/2006/relationships/hyperlink" Target="http://www.statsoft.ru/home/portal/glossary/glossarytwo/M%5CMedian.htm" TargetMode="External"/><Relationship Id="rId19" Type="http://schemas.openxmlformats.org/officeDocument/2006/relationships/hyperlink" Target="http://nirvana.tomsk.ru/dictionary?id=9&amp;word=%EC%E5%E4%E8%E0%ED%E0/" TargetMode="External"/><Relationship Id="rId20" Type="http://schemas.openxmlformats.org/officeDocument/2006/relationships/hyperlink" Target="http://dic.academic.ru/dic.nsf/bse/166012/&#1052;&#1077;&#1076;&#1080;&#1072;&#1085;&#1072;" TargetMode="External"/><Relationship Id="rId21" Type="http://schemas.openxmlformats.org/officeDocument/2006/relationships/hyperlink" Target="http://dic.academic.ru/dic.nsf/bse/166012/&#1052;&#1077;&#1076;&#1080;&#1072;&#1085;&#1072;" TargetMode="External"/><Relationship Id="rId22" Type="http://schemas.openxmlformats.org/officeDocument/2006/relationships/hyperlink" Target="http://dic.academic.ru/dic.nsf/bse/166012/&#1052;&#1077;&#1076;&#1080;&#1072;&#1085;&#1072;" TargetMode="External"/><Relationship Id="rId23" Type="http://schemas.openxmlformats.org/officeDocument/2006/relationships/hyperlink" Target="http://dic.academic.ru/dic.nsf/bse/166012/&#1052;&#1077;&#1076;&#1080;&#1072;&#1085;&#1072;" TargetMode="External"/><Relationship Id="rId24" Type="http://schemas.openxmlformats.org/officeDocument/2006/relationships/hyperlink" Target="http://dic.academic.ru/dic.nsf/bse/166012/&#1052;&#1077;&#1076;&#1080;&#1072;&#1085;&#1072;" TargetMode="External"/><Relationship Id="rId25" Type="http://schemas.openxmlformats.org/officeDocument/2006/relationships/hyperlink" Target="http://dic.academic.ru/dic.nsf/bse/166012/&#1052;&#1077;&#1076;&#1080;&#1072;&#1085;&#1072;" TargetMode="External"/><Relationship Id="rId26" Type="http://schemas.openxmlformats.org/officeDocument/2006/relationships/hyperlink" Target="http://dic.academic.ru/dic.nsf/bse/166012/&#1052;&#1077;&#1076;&#1080;&#1072;&#1085;&#1072;" TargetMode="External"/><Relationship Id="rId27" Type="http://schemas.openxmlformats.org/officeDocument/2006/relationships/slide" Target="slide18.xml"/><Relationship Id="rId28" Type="http://schemas.openxmlformats.org/officeDocument/2006/relationships/slide" Target="slide19.xml"/><Relationship Id="rId29" Type="http://schemas.openxmlformats.org/officeDocument/2006/relationships/slide" Target="slide20.xml"/><Relationship Id="rId30" Type="http://schemas.openxmlformats.org/officeDocument/2006/relationships/slide" Target="slide22.xml"/><Relationship Id="rId31" Type="http://schemas.openxmlformats.org/officeDocument/2006/relationships/slide" Target="slide2.xml"/><Relationship Id="rId32" Type="http://schemas.openxmlformats.org/officeDocument/2006/relationships/hyperlink" Target="http://klopp.ru/" TargetMode="External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dic.academic.ru/dic.nsf/enc3p/207574" TargetMode="External"/><Relationship Id="rId2" Type="http://schemas.openxmlformats.org/officeDocument/2006/relationships/hyperlink" Target="http://dic.academic.ru/dic.nsf/enc3p/207574" TargetMode="External"/><Relationship Id="rId3" Type="http://schemas.openxmlformats.org/officeDocument/2006/relationships/hyperlink" Target="http://dic.academic.ru/dic.nsf/enc3p/207574" TargetMode="External"/><Relationship Id="rId4" Type="http://schemas.openxmlformats.org/officeDocument/2006/relationships/hyperlink" Target="http://dic.academic.ru/dic.nsf/enc3p/207574" TargetMode="External"/><Relationship Id="rId5" Type="http://schemas.openxmlformats.org/officeDocument/2006/relationships/hyperlink" Target="http://dic.academic.ru/dic.nsf/enc3p/207574" TargetMode="External"/><Relationship Id="rId6" Type="http://schemas.openxmlformats.org/officeDocument/2006/relationships/hyperlink" Target="http://www.cultinfo.ru/fulltext/1/001/008/079/808.htm" TargetMode="External"/><Relationship Id="rId7" Type="http://schemas.openxmlformats.org/officeDocument/2006/relationships/hyperlink" Target="http://www.cultinfo.ru/fulltext/1/001/008/079/808.htm" TargetMode="External"/><Relationship Id="rId8" Type="http://schemas.openxmlformats.org/officeDocument/2006/relationships/hyperlink" Target="http://www.cultinfo.ru/fulltext/1/001/008/079/808.htm" TargetMode="External"/><Relationship Id="rId9" Type="http://schemas.openxmlformats.org/officeDocument/2006/relationships/hyperlink" Target="http://www.cultinfo.ru/fulltext/1/001/008/079/808.htm" TargetMode="External"/><Relationship Id="rId10" Type="http://schemas.openxmlformats.org/officeDocument/2006/relationships/hyperlink" Target="http://www.cultinfo.ru/fulltext/1/001/008/079/808.htm" TargetMode="External"/><Relationship Id="rId11" Type="http://schemas.openxmlformats.org/officeDocument/2006/relationships/slide" Target="slide18.xml"/><Relationship Id="rId12" Type="http://schemas.openxmlformats.org/officeDocument/2006/relationships/slide" Target="slide19.xml"/><Relationship Id="rId13" Type="http://schemas.openxmlformats.org/officeDocument/2006/relationships/slide" Target="slide20.xml"/><Relationship Id="rId14" Type="http://schemas.openxmlformats.org/officeDocument/2006/relationships/slide" Target="slide21.xml"/><Relationship Id="rId15" Type="http://schemas.openxmlformats.org/officeDocument/2006/relationships/slide" Target="slide2.xml"/><Relationship Id="rId16" Type="http://schemas.openxmlformats.org/officeDocument/2006/relationships/hyperlink" Target="http://klopp.ru/" TargetMode="External"/><Relationship Id="rId17" Type="http://schemas.openxmlformats.org/officeDocument/2006/relationships/image" Target="../media/image5.png"/><Relationship Id="rId18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neurosoft.ru/rus/product/book/hrv-2/chapter5.aspx" TargetMode="External"/><Relationship Id="rId2" Type="http://schemas.openxmlformats.org/officeDocument/2006/relationships/hyperlink" Target="http://www.neurosoft.ru/rus/product/book/hrv-2/chapter5.aspx" TargetMode="External"/><Relationship Id="rId3" Type="http://schemas.openxmlformats.org/officeDocument/2006/relationships/hyperlink" Target="http://www.neurosoft.ru/rus/product/book/hrv-2/chapter5.aspx" TargetMode="External"/><Relationship Id="rId4" Type="http://schemas.openxmlformats.org/officeDocument/2006/relationships/hyperlink" Target="http://www.neurosoft.ru/rus/product/book/hrv-2/chapter5.aspx" TargetMode="External"/><Relationship Id="rId5" Type="http://schemas.openxmlformats.org/officeDocument/2006/relationships/hyperlink" Target="http://www.neurosoft.ru/rus/product/book/hrv-2/chapter5.aspx" TargetMode="External"/><Relationship Id="rId6" Type="http://schemas.openxmlformats.org/officeDocument/2006/relationships/hyperlink" Target="http://www.neurosoft.ru/rus/product/book/hrv-2/chapter5.aspx" TargetMode="External"/><Relationship Id="rId7" Type="http://schemas.openxmlformats.org/officeDocument/2006/relationships/hyperlink" Target="http://www.neurosoft.ru/rus/product/book/hrv-2/chapter5.aspx" TargetMode="External"/><Relationship Id="rId8" Type="http://schemas.openxmlformats.org/officeDocument/2006/relationships/hyperlink" Target="http://www.neurosoft.ru/rus/product/book/hrv-2/chapter5.aspx" TargetMode="External"/><Relationship Id="rId9" Type="http://schemas.openxmlformats.org/officeDocument/2006/relationships/hyperlink" Target="http://www.neurosoft.ru/rus/product/book/hrv-2/chapter5.aspx" TargetMode="External"/><Relationship Id="rId10" Type="http://schemas.openxmlformats.org/officeDocument/2006/relationships/slide" Target="slide24.xml"/><Relationship Id="rId11" Type="http://schemas.openxmlformats.org/officeDocument/2006/relationships/slide" Target="slide25.xml"/><Relationship Id="rId12" Type="http://schemas.openxmlformats.org/officeDocument/2006/relationships/slide" Target="slide26.xml"/><Relationship Id="rId13" Type="http://schemas.openxmlformats.org/officeDocument/2006/relationships/slide" Target="slide27.xml"/><Relationship Id="rId14" Type="http://schemas.openxmlformats.org/officeDocument/2006/relationships/slide" Target="slide2.xml"/><Relationship Id="rId15" Type="http://schemas.openxmlformats.org/officeDocument/2006/relationships/hyperlink" Target="http://klopp.ru/" TargetMode="External"/><Relationship Id="rId16" Type="http://schemas.openxmlformats.org/officeDocument/2006/relationships/image" Target="../media/image6.png"/><Relationship Id="rId1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sexualdysfunction.ru/148.html" TargetMode="External"/><Relationship Id="rId2" Type="http://schemas.openxmlformats.org/officeDocument/2006/relationships/hyperlink" Target="http://www.sexualdysfunction.ru/148.html" TargetMode="External"/><Relationship Id="rId3" Type="http://schemas.openxmlformats.org/officeDocument/2006/relationships/hyperlink" Target="http://www.sexualdysfunction.ru/148.html" TargetMode="External"/><Relationship Id="rId4" Type="http://schemas.openxmlformats.org/officeDocument/2006/relationships/hyperlink" Target="http://www.sexualdysfunction.ru/148.html" TargetMode="External"/><Relationship Id="rId5" Type="http://schemas.openxmlformats.org/officeDocument/2006/relationships/slide" Target="slide23.xml"/><Relationship Id="rId6" Type="http://schemas.openxmlformats.org/officeDocument/2006/relationships/slide" Target="slide25.xml"/><Relationship Id="rId7" Type="http://schemas.openxmlformats.org/officeDocument/2006/relationships/slide" Target="slide26.xml"/><Relationship Id="rId8" Type="http://schemas.openxmlformats.org/officeDocument/2006/relationships/slide" Target="slide27.xml"/><Relationship Id="rId9" Type="http://schemas.openxmlformats.org/officeDocument/2006/relationships/slide" Target="slide2.xml"/><Relationship Id="rId10" Type="http://schemas.openxmlformats.org/officeDocument/2006/relationships/hyperlink" Target="http://klopp.ru/" TargetMode="External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iteam.ru/publications/finances/section_11/article_3389/" TargetMode="External"/><Relationship Id="rId2" Type="http://schemas.openxmlformats.org/officeDocument/2006/relationships/hyperlink" Target="http://www.iteam.ru/publications/finances/section_11/article_3389/" TargetMode="External"/><Relationship Id="rId3" Type="http://schemas.openxmlformats.org/officeDocument/2006/relationships/hyperlink" Target="http://www.iteam.ru/publications/finances/section_11/article_3389/" TargetMode="External"/><Relationship Id="rId4" Type="http://schemas.openxmlformats.org/officeDocument/2006/relationships/hyperlink" Target="http://www.iteam.ru/publications/finances/section_11/article_3389/" TargetMode="External"/><Relationship Id="rId5" Type="http://schemas.openxmlformats.org/officeDocument/2006/relationships/hyperlink" Target="http://www.iteam.ru/publications/finances/section_11/article_3389/" TargetMode="External"/><Relationship Id="rId6" Type="http://schemas.openxmlformats.org/officeDocument/2006/relationships/hyperlink" Target="http://www.iteam.ru/publications/finances/section_11/article_3389/" TargetMode="External"/><Relationship Id="rId7" Type="http://schemas.openxmlformats.org/officeDocument/2006/relationships/hyperlink" Target="http://www.iteam.ru/publications/finances/section_11/article_3389/" TargetMode="External"/><Relationship Id="rId8" Type="http://schemas.openxmlformats.org/officeDocument/2006/relationships/slide" Target="slide23.xml"/><Relationship Id="rId9" Type="http://schemas.openxmlformats.org/officeDocument/2006/relationships/slide" Target="slide24.xml"/><Relationship Id="rId10" Type="http://schemas.openxmlformats.org/officeDocument/2006/relationships/slide" Target="slide26.xml"/><Relationship Id="rId11" Type="http://schemas.openxmlformats.org/officeDocument/2006/relationships/slide" Target="slide27.xml"/><Relationship Id="rId12" Type="http://schemas.openxmlformats.org/officeDocument/2006/relationships/slide" Target="slide2.xml"/><Relationship Id="rId13" Type="http://schemas.openxmlformats.org/officeDocument/2006/relationships/hyperlink" Target="http://klopp.ru/" TargetMode="External"/><Relationship Id="rId14" Type="http://schemas.openxmlformats.org/officeDocument/2006/relationships/image" Target="../media/image6.png"/><Relationship Id="rId1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climate.mecom.ru/bulletins/2002/index.html" TargetMode="External"/><Relationship Id="rId2" Type="http://schemas.openxmlformats.org/officeDocument/2006/relationships/hyperlink" Target="http://climate.mecom.ru/bulletins/2002/index.html" TargetMode="External"/><Relationship Id="rId3" Type="http://schemas.openxmlformats.org/officeDocument/2006/relationships/hyperlink" Target="http://climate.mecom.ru/bulletins/2002/index.html" TargetMode="External"/><Relationship Id="rId4" Type="http://schemas.openxmlformats.org/officeDocument/2006/relationships/hyperlink" Target="http://climate.mecom.ru/bulletins/2002/index.html" TargetMode="External"/><Relationship Id="rId5" Type="http://schemas.openxmlformats.org/officeDocument/2006/relationships/hyperlink" Target="http://climate.mecom.ru/bulletins/2002/index.html" TargetMode="External"/><Relationship Id="rId6" Type="http://schemas.openxmlformats.org/officeDocument/2006/relationships/hyperlink" Target="http://climate.mecom.ru/bulletins/2002/index.html" TargetMode="External"/><Relationship Id="rId7" Type="http://schemas.openxmlformats.org/officeDocument/2006/relationships/slide" Target="slide23.xml"/><Relationship Id="rId8" Type="http://schemas.openxmlformats.org/officeDocument/2006/relationships/slide" Target="slide24.xml"/><Relationship Id="rId9" Type="http://schemas.openxmlformats.org/officeDocument/2006/relationships/slide" Target="slide25.xml"/><Relationship Id="rId10" Type="http://schemas.openxmlformats.org/officeDocument/2006/relationships/slide" Target="slide27.xml"/><Relationship Id="rId11" Type="http://schemas.openxmlformats.org/officeDocument/2006/relationships/slide" Target="slide2.xml"/><Relationship Id="rId12" Type="http://schemas.openxmlformats.org/officeDocument/2006/relationships/image" Target="../media/image7.png"/><Relationship Id="rId13" Type="http://schemas.openxmlformats.org/officeDocument/2006/relationships/hyperlink" Target="http://klopp.ru/" TargetMode="External"/><Relationship Id="rId14" Type="http://schemas.openxmlformats.org/officeDocument/2006/relationships/image" Target="../media/image6.png"/><Relationship Id="rId1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4.xml"/><Relationship Id="rId3" Type="http://schemas.openxmlformats.org/officeDocument/2006/relationships/slide" Target="slide25.xml"/><Relationship Id="rId4" Type="http://schemas.openxmlformats.org/officeDocument/2006/relationships/slide" Target="slide26.xml"/><Relationship Id="rId5" Type="http://schemas.openxmlformats.org/officeDocument/2006/relationships/slide" Target="slide2.xml"/><Relationship Id="rId6" Type="http://schemas.openxmlformats.org/officeDocument/2006/relationships/hyperlink" Target="http://klopp.ru/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4.xml"/><Relationship Id="rId3" Type="http://schemas.openxmlformats.org/officeDocument/2006/relationships/slide" Target="slide2.xml"/><Relationship Id="rId4" Type="http://schemas.openxmlformats.org/officeDocument/2006/relationships/hyperlink" Target="http://oberon.seversk.ru/images/stories/ppr.png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33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" Target="slide34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36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37.xml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" Target="slide2.xml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.xml"/><Relationship Id="rId3" Type="http://schemas.openxmlformats.org/officeDocument/2006/relationships/hyperlink" Target="http://images.yandex.ru/yandsearch?p=0&amp;text=&#1082;&#1072;&#1088;&#1090;&#1080;&#1085;&#1082;&#1080;%20&#1076;&#1083;&#1103;%20&#1088;&#1077;&#1092;&#1077;&#1088;&#1072;&#1090;&#1072;%2C%20&#1086;&#1092;&#1080;&#1089;%2C%20&#1084;&#1072;&#1090;&#1077;&#1084;&#1072;&#1090;&#1080;&#1082;%25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7.xml"/><Relationship Id="rId3" Type="http://schemas.openxmlformats.org/officeDocument/2006/relationships/slide" Target="slide2.xml"/><Relationship Id="rId4" Type="http://schemas.openxmlformats.org/officeDocument/2006/relationships/hyperlink" Target="http://oberon.seversk.ru/images/stories/ppr.png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hyperlink" Target="http://images.yandex.ru/yandsearch?p=0&amp;text=&#1082;&#1072;&#1088;&#1090;&#1080;&#1085;&#1082;&#1080;%20&#1076;&#1083;&#1103;%20&#1088;&#1077;&#1092;&#1077;&#1088;&#1072;&#1090;&#1072;%2C%20&#1086;&#1092;&#1080;&#1089;%2C%20&#1084;&#1072;&#1090;&#1077;&#1084;&#1072;&#1090;&#1080;&#1082;%25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0.xml"/><Relationship Id="rId3" Type="http://schemas.openxmlformats.org/officeDocument/2006/relationships/slide" Target="slide35.xml"/><Relationship Id="rId4" Type="http://schemas.openxmlformats.org/officeDocument/2006/relationships/slide" Target="slide2.xml"/><Relationship Id="rId5" Type="http://schemas.openxmlformats.org/officeDocument/2006/relationships/hyperlink" Target="http://oberon.seversk.ru/images/stories/ppr.png" TargetMode="Externa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Статистические характеристики на уроке алгебр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Стар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700360" y="45086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356000" y="4508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мер по теме «Мод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362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Пример 1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яд чисел может иметь более одной моды, а может не иметь моды совсем. Например, в ряду чисе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7, 46, 50, 52, 47, 52, 49, 45, 43, 53, 53, 47, 5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ве моды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— это числа 47 и 52, так как каждое из них встречается в ряду по три раза, а остальные числа  — менее трех ра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В ряду чисе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69, 68, 66, 70, 67, 62, 71, 74, 63, 73, 7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Моды н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Назад к теме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</a:t>
            </a:r>
            <a:r>
              <a:rPr b="0" i="1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500"/>
                            </p:stCondLst>
                            <p:childTnLst>
                              <p:par>
                                <p:cTn id="43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4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500"/>
                            </p:stCondLst>
                            <p:childTnLst>
                              <p:par>
                                <p:cTn id="44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3000"/>
                            </p:stCondLst>
                            <p:childTnLst>
                              <p:par>
                                <p:cTn id="45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3500"/>
                            </p:stCondLst>
                            <p:childTnLst>
                              <p:par>
                                <p:cTn id="45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4000"/>
                            </p:stCondLst>
                            <p:childTnLst>
                              <p:par>
                                <p:cTn id="46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4500"/>
                            </p:stCondLst>
                            <p:childTnLst>
                              <p:par>
                                <p:cTn id="47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пражнение по теме «Мод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5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-45864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йдите моду ряда чисел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)11, 32, 11, 75, 96, 13, 55        б)35, 41, 35, 67, 14,  7,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)10, 31, 54, 95, 11                     г)12, 35, 5, 7, 9, 12, 6, 35, 234, 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Назад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 rot="186000">
            <a:off x="5433840" y="3544920"/>
            <a:ext cx="1008360" cy="701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0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000"/>
                            </p:stCondLst>
                            <p:childTnLst>
                              <p:par>
                                <p:cTn id="48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500"/>
                            </p:stCondLst>
                            <p:childTnLst>
                              <p:par>
                                <p:cTn id="49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2000"/>
                            </p:stCondLst>
                            <p:childTnLst>
                              <p:par>
                                <p:cTn id="49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2500"/>
                            </p:stCondLst>
                            <p:childTnLst>
                              <p:par>
                                <p:cTn id="50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ибольшее и наименьшее значение. Разм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ногда интересны не только средние значение или медиана, но и другие величины, связанные с наборами различных чисе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Наибольшие и наименьшие значения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часто интересуют нас в самых разных областя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Если мы хотим узнать кто победил в прыжках в длину в соревнованиях класса, то выберем того, кто прыгнул дальше всех, т.е. выберем наибольший результат. В соревнованиях по бегу победителем считается тот, кто пробежал быстрее всех, т.е. показал наименьшее врем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Определение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Разность между наибольшим и наименьшим числом называется </a:t>
            </a: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размахо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набора чис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Мы узнали, что размах показывает, насколько велико рассеивание значений в числовом наборе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Задания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  исследование                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3789360"/>
            <a:ext cx="826920" cy="826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0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1000"/>
                            </p:stCondLst>
                            <p:childTnLst>
                              <p:par>
                                <p:cTn id="51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500"/>
                            </p:stCondLst>
                            <p:childTnLst>
                              <p:par>
                                <p:cTn id="52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2000"/>
                            </p:stCondLst>
                            <p:childTnLst>
                              <p:par>
                                <p:cTn id="53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2500"/>
                            </p:stCondLst>
                            <p:childTnLst>
                              <p:par>
                                <p:cTn id="53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5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3000"/>
                            </p:stCondLst>
                            <p:childTnLst>
                              <p:par>
                                <p:cTn id="54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3500"/>
                            </p:stCondLst>
                            <p:childTnLst>
                              <p:par>
                                <p:cTn id="54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1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4000"/>
                            </p:stCondLst>
                            <p:childTnLst>
                              <p:par>
                                <p:cTn id="55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500"/>
                                        <p:tgtEl>
                                          <p:spTgt spid="1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4500"/>
                            </p:stCondLst>
                            <p:childTnLst>
                              <p:par>
                                <p:cTn id="56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14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4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4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пражнение по теме «Размах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8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йдите наибольшее и наименьшее значение и размах данного набора чисел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) 12, 7, 25, 3, 19, 15         б) 17, 19, 5, 41, 47, 13, 1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Назад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 rot="357600">
            <a:off x="6659640" y="3499920"/>
            <a:ext cx="1079280" cy="808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0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000"/>
                            </p:stCondLst>
                            <p:childTnLst>
                              <p:par>
                                <p:cTn id="57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500"/>
                            </p:stCondLst>
                            <p:childTnLst>
                              <p:par>
                                <p:cTn id="58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2000"/>
                            </p:stCondLst>
                            <p:childTnLst>
                              <p:par>
                                <p:cTn id="58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кло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сновное свойство отклонени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умма отклонений чисел от среднего арифметического этих чисел равна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ля примера возьмем набор 1, 6, 7, 9, 1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ычислим среднее арифметическое: (1+6+7+9+12) : 5 =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йдем отклонение каждого числа от среднег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7=-6    6-7=-1   7-7=0   9-7=2   12-7=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лучился новый набор, который состоит из отклон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Если число меньше среднего, то его отклонение отрицательно, если число больше среднего, то его отклонение положитель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сследование           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1773360"/>
            <a:ext cx="790560" cy="790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1000"/>
                            </p:stCondLst>
                            <p:childTnLst>
                              <p:par>
                                <p:cTn id="60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2000"/>
                            </p:stCondLst>
                            <p:childTnLst>
                              <p:par>
                                <p:cTn id="61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2500"/>
                            </p:stCondLst>
                            <p:childTnLst>
                              <p:par>
                                <p:cTn id="62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3000"/>
                            </p:stCondLst>
                            <p:childTnLst>
                              <p:par>
                                <p:cTn id="62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5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3500"/>
                            </p:stCondLst>
                            <p:childTnLst>
                              <p:par>
                                <p:cTn id="63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4000"/>
                            </p:stCondLst>
                            <p:childTnLst>
                              <p:par>
                                <p:cTn id="63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4500"/>
                            </p:stCondLst>
                            <p:childTnLst>
                              <p:par>
                                <p:cTn id="64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500"/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0"/>
                            </p:stCondLst>
                            <p:childTnLst>
                              <p:par>
                                <p:cTn id="65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5500"/>
                            </p:stCondLst>
                            <p:childTnLst>
                              <p:par>
                                <p:cTn id="65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500"/>
                                        <p:tgtEl>
                                          <p:spTgt spid="1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6000"/>
                            </p:stCondLst>
                            <p:childTnLst>
                              <p:par>
                                <p:cTn id="66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500"/>
                                        <p:tgtEl>
                                          <p:spTgt spid="1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Диспер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Чтобы судить о разбросе, принято складывать не сами отклонения, а их квадра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вадраты отклонений неотрицательны, поэтому сумма квадратов отклонений зависит только от абсолютных величин отклонений, а не от их знак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Чем больше отклонения чисел от среднего арифметического, тем больше будет сумма квадратов отклонен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ля того чтобы мера разброса чисел не зависела от их количества в наборе, в качестве такой меры берут среднее арифметическое квадратов отклонений. Эту величину называют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дисперси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Определение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реднее арифметическое квадратов отклонений от среднего значения называется в статистике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дисперсие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набора чисе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Задания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пример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исследование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3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4221000"/>
            <a:ext cx="826920" cy="82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0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1500"/>
                            </p:stCondLst>
                            <p:childTnLst>
                              <p:par>
                                <p:cTn id="68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2000"/>
                            </p:stCondLst>
                            <p:childTnLst>
                              <p:par>
                                <p:cTn id="68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2500"/>
                            </p:stCondLst>
                            <p:childTnLst>
                              <p:par>
                                <p:cTn id="69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3000"/>
                            </p:stCondLst>
                            <p:childTnLst>
                              <p:par>
                                <p:cTn id="70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5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3500"/>
                            </p:stCondLst>
                            <p:childTnLst>
                              <p:par>
                                <p:cTn id="70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500"/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4000"/>
                            </p:stCondLst>
                            <p:childTnLst>
                              <p:par>
                                <p:cTn id="71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500"/>
                                        <p:tgtEl>
                                          <p:spTgt spid="1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пражнения по теме «Дисперс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аны два набора чисел. Отметьте их на числовой прямой. Вычислите дисперсию каждого из наборов. Дисперсия, какого набора больш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) 2, 3, 7 и 1, 2, 3;       б)2, 3, 4, 7 и 1, 5, 6, 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аны два набора чисел. Отметьте их на числовой прямой. Вычислите дисперсию каждого из этих наборов. Сравните дисперси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) 2, 3, 4 и 6, 7, 8;     б) 3, 5, 7, 9 и 12, 14, 16, 1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Назад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 rot="403800">
            <a:off x="6948360" y="4149360"/>
            <a:ext cx="1079640" cy="808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0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1000"/>
                            </p:stCondLst>
                            <p:childTnLst>
                              <p:par>
                                <p:cTn id="72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1500"/>
                            </p:stCondLst>
                            <p:childTnLst>
                              <p:par>
                                <p:cTn id="73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2000"/>
                            </p:stCondLst>
                            <p:childTnLst>
                              <p:par>
                                <p:cTn id="74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5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2500"/>
                            </p:stCondLst>
                            <p:childTnLst>
                              <p:par>
                                <p:cTn id="74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5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3000"/>
                            </p:stCondLst>
                            <p:childTnLst>
                              <p:par>
                                <p:cTn id="75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500"/>
                                        <p:tgtEl>
                                          <p:spTgt spid="1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мер по теме «Дисперс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окажем на простом примере, как дисперсия характеризует разброс наблюдений. Возьмём два набора чисел 1, 2, 3 и 0, 2, 4. Среднее арифметическое значение обоих наборов равно 2. Для обоих наборов вычислим отклонения и квадраты отклонений, и все данные занесём в таблиц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Числа в первом наборе расположены более кучно – ближе  друг к  другу и к своему среднему значению,- чем числа во втором наборе. Поэтому дисперсия первого набора получилась меньше, чем второг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i="1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Назад к теме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908000" y="2924280"/>
          <a:ext cx="6120000" cy="1641240"/>
        </p:xfrm>
        <a:graphic>
          <a:graphicData uri="http://schemas.openxmlformats.org/drawingml/2006/table">
            <a:tbl>
              <a:tblPr/>
              <a:tblGrid>
                <a:gridCol w="863640"/>
                <a:gridCol w="1177920"/>
                <a:gridCol w="1020960"/>
                <a:gridCol w="896760"/>
                <a:gridCol w="1143000"/>
                <a:gridCol w="101772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-й набо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тклонение от среднего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вадрат отклонения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-й набо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тклонение от среднего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вадрат отклонения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1000"/>
                            </p:stCondLst>
                            <p:childTnLst>
                              <p:par>
                                <p:cTn id="76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1500"/>
                            </p:stCondLst>
                            <p:childTnLst>
                              <p:par>
                                <p:cTn id="77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500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7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500"/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ловарь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Для тех, кто хочет знать больше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Взгляд в будуще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м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мах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разность между наибольшим и наименьшим значениями результатов наблюдений. Пусть X1, ..., Xn — взаимно независимые случайные величины с функцией распределения F (x)и плотностью вероятности f (x). В этом случае размах Wn определяется как разность между наибольшим и наименьшим значениями среди X1, ..., Xn; размах Wn представляет собой случайную величину, которой соответствует функция распределе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w³ 0; если w &lt; 0, то P {W £ w} = 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 математической статистике Р., надлежащим образом нормированный, применяется как оценка неизвестного квадратичного отклонения. Например, если Xk имеют нормальное распределение с параметрами (а, s), то при n =5 и 10, соответственно, величины 0,4299W5 и 0,3249W10 будут несмещенными оценками s. Такие оценки часто используют при статистическом контроле качества, поскольку определение Р. нескольких результатов измерений не требует сложных вычисл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Лит. : Хальд А. , Математическая статистика с техническими приложениями, пер. с англ., М., 1956.(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1"/>
              </a:rPr>
              <a:t>http://slovari.yandex.ru/dict/bse/article/00064/79600.htm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3" action="ppaction://hlinksldjump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4" action="ppaction://hlinksldjump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5" action="ppaction://hlinksldjump"/>
              </a:rPr>
              <a:t>5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6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 rot="358200">
            <a:off x="7308720" y="981000"/>
            <a:ext cx="447840" cy="486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0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1000"/>
                            </p:stCondLst>
                            <p:childTnLst>
                              <p:par>
                                <p:cTn id="79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2000"/>
                            </p:stCondLst>
                            <p:childTnLst>
                              <p:par>
                                <p:cTn id="80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2500"/>
                            </p:stCondLst>
                            <p:childTnLst>
                              <p:par>
                                <p:cTn id="81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3000"/>
                            </p:stCondLst>
                            <p:childTnLst>
                              <p:par>
                                <p:cTn id="81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3500"/>
                            </p:stCondLst>
                            <p:childTnLst>
                              <p:par>
                                <p:cTn id="82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4000"/>
                            </p:stCondLst>
                            <p:childTnLst>
                              <p:par>
                                <p:cTn id="83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ловарь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Для тех, кто хочет знать больше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(Взгляд в будуще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3628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Среднее значени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— числовая характеристика множества чисел или функций; — некоторое число, заключённое между наименьшим и наибольшим из их значений.  (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ru.wikipedia.org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wiki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/Средне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реднее значение или арифметическое среднее наиболее широко используется в статистике. Это одно значение может использоваться для представления некоторого набора данных. В этом случае среднее значение можно назвать "центром тяжести" этого набора. Среднее значение вычисляется следующим образом: складываются все значения выборки и результат делится на общее число значений. Например, сумма набора значений.     (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http:/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www.cyberguru.ru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8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9"/>
              </a:rPr>
              <a:t>programming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0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1"/>
              </a:rPr>
              <a:t>pascal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2"/>
              </a:rPr>
              <a:t>/turbopascal-encyclopaedia2-page5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реднее значение — числовая характеристика множества чисел или числовых функций; — некоторое число, заключенное между наименьшим и наибольшим из их значений; а также множественно-значная характеристика совокупности множеств или сет-функций; — некоторое множество, содержащее пересечение и содержащееся в объединении этих множест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3"/>
              </a:rPr>
              <a:t>http:/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4"/>
              </a:rPr>
              <a:t>www.wikiznanie.ru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5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6"/>
              </a:rPr>
              <a:t>ru-wz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7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8"/>
              </a:rPr>
              <a:t>index.php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9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20"/>
              </a:rPr>
              <a:t>Среднее_значени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21" action="ppaction://hlinksldjump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2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22" action="ppaction://hlinksldjump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23" action="ppaction://hlinksldjump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24" action="ppaction://hlinksldjump"/>
              </a:rPr>
              <a:t>5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25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>
            <a:hlinkClick r:id="rId26"/>
          </p:cNvPr>
          <p:cNvPicPr/>
          <p:nvPr/>
        </p:nvPicPr>
        <p:blipFill>
          <a:blip r:embed="rId27"/>
          <a:stretch/>
        </p:blipFill>
        <p:spPr>
          <a:xfrm rot="358200">
            <a:off x="7308720" y="981000"/>
            <a:ext cx="447840" cy="486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0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1000"/>
                            </p:stCondLst>
                            <p:childTnLst>
                              <p:par>
                                <p:cTn id="84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1500"/>
                            </p:stCondLst>
                            <p:childTnLst>
                              <p:par>
                                <p:cTn id="85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2000"/>
                            </p:stCondLst>
                            <p:childTnLst>
                              <p:par>
                                <p:cTn id="85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2500"/>
                            </p:stCondLst>
                            <p:childTnLst>
                              <p:par>
                                <p:cTn id="86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3000"/>
                            </p:stCondLst>
                            <p:childTnLst>
                              <p:par>
                                <p:cTn id="86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3500"/>
                            </p:stCondLst>
                            <p:childTnLst>
                              <p:par>
                                <p:cTn id="87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50752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Среднее арифметическ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Меди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3" action="ppaction://hlinksldjump"/>
              </a:rPr>
              <a:t>М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4" action="ppaction://hlinksldjump"/>
              </a:rPr>
              <a:t>Наибольшее и наименьшее значение. Разм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5" action="ppaction://hlinksldjump"/>
              </a:rPr>
              <a:t>Дисперс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6" action="ppaction://hlinksldjump"/>
              </a:rPr>
              <a:t>Откло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7" action="ppaction://hlinksldjump"/>
              </a:rPr>
              <a:t>Словарь.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8" action="ppaction://hlinksldjump"/>
              </a:rPr>
              <a:t>Для тех, кто хочет знать больш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9" action="ppaction://hlinksldjump"/>
              </a:rPr>
              <a:t>Статистика вокруг на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10" action="ppaction://hlinksldjump"/>
              </a:rPr>
              <a:t>Исследование по те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11" action="ppaction://hlinksldjump"/>
              </a:rPr>
              <a:t>Приглашаем вас к сотрудничеств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164360" y="6021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вершить   презентац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2"/>
          <a:stretch/>
        </p:blipFill>
        <p:spPr>
          <a:xfrm rot="688800">
            <a:off x="3563640" y="1483920"/>
            <a:ext cx="571320" cy="619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500"/>
                            </p:stCondLst>
                            <p:childTnLst>
                              <p:par>
                                <p:cTn id="4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000"/>
                            </p:stCondLst>
                            <p:childTnLst>
                              <p:par>
                                <p:cTn id="5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500"/>
                            </p:stCondLst>
                            <p:childTnLst>
                              <p:par>
                                <p:cTn id="5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500"/>
                            </p:stCondLst>
                            <p:childTnLst>
                              <p:par>
                                <p:cTn id="6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0"/>
                            </p:stCondLst>
                            <p:childTnLst>
                              <p:par>
                                <p:cTn id="7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500"/>
                            </p:stCondLst>
                            <p:childTnLst>
                              <p:par>
                                <p:cTn id="8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6000"/>
                            </p:stCondLst>
                            <p:childTnLst>
                              <p:par>
                                <p:cTn id="8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6500"/>
                            </p:stCondLst>
                            <p:childTnLst>
                              <p:par>
                                <p:cTn id="9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ловарь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Для тех, кто хочет знать больше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(Взгляд в будуще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спер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от лат. dispersio — рассеяние), в математической статистике и теории вероятностей, наиболее употребительная мера рассеивания, т. е. отклонения от среднего. В статистическом понимании 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ть среднее арифметическое из квадратов отклонений величин xi от их среднего арифметиче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3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3" action="ppaction://hlinksldjump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4" action="ppaction://hlinksldjump"/>
              </a:rPr>
              <a:t>5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5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 rot="358200">
            <a:off x="7308720" y="981000"/>
            <a:ext cx="447840" cy="486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0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1000"/>
                            </p:stCondLst>
                            <p:childTnLst>
                              <p:par>
                                <p:cTn id="89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2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1500"/>
                            </p:stCondLst>
                            <p:childTnLst>
                              <p:par>
                                <p:cTn id="89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8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2000"/>
                            </p:stCondLst>
                            <p:childTnLst>
                              <p:par>
                                <p:cTn id="90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2500"/>
                            </p:stCondLst>
                            <p:childTnLst>
                              <p:par>
                                <p:cTn id="90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0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3000"/>
                            </p:stCondLst>
                            <p:childTnLst>
                              <p:par>
                                <p:cTn id="91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ловарь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Для тех, кто хочет знать больше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(Взгляд в будуще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5690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Медиан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(50-й процентиль, квантиль 0,5) — возможное значение признака, которое делит ранжированную совокупность (вариационный ряд выборки) на две равные части: 50 % «нижних» единиц ряда данных будут иметь значение признака не больше, чем медиана, а «верхние» 50 % — значения признака не меньше, чем медиана.(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1"/>
              </a:rPr>
              <a:t>http:/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2"/>
              </a:rPr>
              <a:t>ru.wikipedia.org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3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4"/>
              </a:rPr>
              <a:t>wiki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5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6"/>
              </a:rPr>
              <a:t>Медиана_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7"/>
              </a:rPr>
              <a:t>(статистика)_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Медиана (термин был впервые введен Гальтоном, 1882) выборки - это значение, которое разбивает выборку на две равные части (при ранжировании). Половина наблюдений лежит ниже медианы, и половина наблюдений лежит выше медианы. Если число наблюдений в выборке нечетно, то медиана вычисляется как среднее двух средних значен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8"/>
              </a:rPr>
              <a:t>http:/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9"/>
              </a:rPr>
              <a:t>www.statsoft.ru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10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11"/>
              </a:rPr>
              <a:t>home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12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13"/>
              </a:rPr>
              <a:t>portal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14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15"/>
              </a:rPr>
              <a:t>glossary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16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17"/>
              </a:rPr>
              <a:t>glossarytwo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18"/>
              </a:rPr>
              <a:t>/M%5CMedian.htm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МЕДИАНА - в статистике - значение варьирующего признака, которое дели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яд распределения на две равные части по объему частот или частностей. Сум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абсолютных величин линейных отклонений от медианы минималь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19"/>
              </a:rPr>
              <a:t>http://nirvana.tomsk.ru/dictionary?id=9&amp;word=%EC%E5%E4%E8%E0%ED%E0/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Медиана (от латинского mediana — средняя)  в геометрии, отрезок, соединяющий одну из вершин треугольника с серединой противоположной стороны. Три М. треугольника пересекаются в одной точке, которую иногда называют «центром тяжести» треугольника, так как именно в этой точке находится центр тяжести однородной треугольной пластинки (а также центр тяжести системы трёх равных масс, помещенных в вершинах треугольника). Точка пересечения М. делит каждую из них в отношении 2 : 1 (считая от вершины к основанию). (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20"/>
              </a:rPr>
              <a:t>http:/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21"/>
              </a:rPr>
              <a:t>dic.academic.ru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22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23"/>
              </a:rPr>
              <a:t>dic.nsf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24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25"/>
              </a:rPr>
              <a:t>bse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26"/>
              </a:rPr>
              <a:t>/166012/Медиан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27" action="ppaction://hlinksldjump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28" action="ppaction://hlinksldjump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29" action="ppaction://hlinksldjump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4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30" action="ppaction://hlinksldjump"/>
              </a:rPr>
              <a:t>5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31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>
            <a:hlinkClick r:id="rId32"/>
          </p:cNvPr>
          <p:cNvPicPr/>
          <p:nvPr/>
        </p:nvPicPr>
        <p:blipFill>
          <a:blip r:embed="rId33"/>
          <a:stretch/>
        </p:blipFill>
        <p:spPr>
          <a:xfrm rot="358200">
            <a:off x="7308720" y="620640"/>
            <a:ext cx="447840" cy="486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fill="hold">
                      <p:stCondLst>
                        <p:cond delay="0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1000"/>
                            </p:stCondLst>
                            <p:childTnLst>
                              <p:par>
                                <p:cTn id="92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1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1500"/>
                            </p:stCondLst>
                            <p:childTnLst>
                              <p:par>
                                <p:cTn id="93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7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2000"/>
                            </p:stCondLst>
                            <p:childTnLst>
                              <p:par>
                                <p:cTn id="94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3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2500"/>
                            </p:stCondLst>
                            <p:childTnLst>
                              <p:par>
                                <p:cTn id="94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9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3000"/>
                            </p:stCondLst>
                            <p:childTnLst>
                              <p:par>
                                <p:cTn id="95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5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3500"/>
                            </p:stCondLst>
                            <p:childTnLst>
                              <p:par>
                                <p:cTn id="95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1" dur="50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4000"/>
                            </p:stCondLst>
                            <p:childTnLst>
                              <p:par>
                                <p:cTn id="96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7" dur="50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4500"/>
                            </p:stCondLst>
                            <p:childTnLst>
                              <p:par>
                                <p:cTn id="97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3" dur="50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5000"/>
                            </p:stCondLst>
                            <p:childTnLst>
                              <p:par>
                                <p:cTn id="97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5500"/>
                            </p:stCondLst>
                            <p:childTnLst>
                              <p:par>
                                <p:cTn id="98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ловарь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Для тех, кто хочет знать больше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(Взгляд в будуще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ИБОЛЬШЕЕ И НАИМЕНЬШЕЕ ЗНАЧЕНИЯ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УНКЦИИ - понятия математического анализа. Значение, принимаемое функцией в некоторой точке множества, на котором эта функция задана, называется наибольшим (наименьшим) на этом множестве, если ни в какой другой точке функция не имеет большего (меньшего) значения. (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dic.academic.ru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dic.nsf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/enc3p/20757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ибольшее и наименьшее значения функции, понятия математического анализа. Значение, принимаемое функцией в некоторой точке множества, на котором эта функция задана, называется наибольшим (наименьшим) на этом множестве, если ни в какой другой точке множества функция не имеет большего (меньшего) значения. Н. и н. з. ф. по сравнению с её значениями во всех достаточно близких точках называются экстремумами (соответственно максимумами и минимумами) функции. Н. и н. з. ф., заданной на отрезке, могут достигаться либо в точках, где производная равна нулю, либо в точках, где она не существует, либо на концах отрезка. Непрерывная функция, заданная на отрезке, обязательно достигает на нём наибольшего и наименьшего значений; если же непрерывную функцию рассматривать на интервале (т. е. отрезке с исключенными концами), то среди её значений на этом интервале может не оказаться наибольшего или наименьшего. (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http:/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www.cultinfo.ru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8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9"/>
              </a:rPr>
              <a:t>fulltext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0"/>
              </a:rPr>
              <a:t>/1/001/008/079/808.htm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1800" spc="-1" strike="noStrike" u="sng">
                <a:solidFill>
                  <a:srgbClr val="666699"/>
                </a:solidFill>
                <a:uFillTx/>
                <a:latin typeface="Arial"/>
                <a:hlinkClick r:id="rId11" action="ppaction://hlinksldjump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666699"/>
                </a:solidFill>
                <a:uFillTx/>
                <a:latin typeface="Arial"/>
                <a:hlinkClick r:id="rId12" action="ppaction://hlinksldjump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666699"/>
                </a:solidFill>
                <a:uFillTx/>
                <a:latin typeface="Arial"/>
                <a:hlinkClick r:id="rId13" action="ppaction://hlinksldjump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666699"/>
                </a:solidFill>
                <a:uFillTx/>
                <a:latin typeface="Arial"/>
                <a:hlinkClick r:id="rId14" action="ppaction://hlinksldjump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5                                                                              </a:t>
            </a:r>
            <a:r>
              <a:rPr b="0" lang="ru-RU" sz="1800" spc="-1" strike="noStrike" u="sng">
                <a:solidFill>
                  <a:srgbClr val="666699"/>
                </a:solidFill>
                <a:uFillTx/>
                <a:latin typeface="Arial"/>
                <a:hlinkClick r:id="rId15" action="ppaction://hlinksldjump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>
            <a:hlinkClick r:id="rId16"/>
          </p:cNvPr>
          <p:cNvPicPr/>
          <p:nvPr/>
        </p:nvPicPr>
        <p:blipFill>
          <a:blip r:embed="rId17"/>
          <a:stretch/>
        </p:blipFill>
        <p:spPr>
          <a:xfrm rot="358200">
            <a:off x="7308720" y="981000"/>
            <a:ext cx="447840" cy="486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fill="hold">
                      <p:stCondLst>
                        <p:cond delay="0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9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0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атистика вокруг н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зюме к главе 5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Показатели ВРС у здоровых людей. Оценка «здоровья здорового человек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главе суммируются собственные наблюдения и результаты ряда работ, которые позволяют следующим образом сформулировать основные параметры ВРС, характерные для здорового человека. В таблицах 5-2 - 5-4 приведены показатели математического анализа ВРС, полученные при обследовании практически здоровых лиц молодого возраста. Учитывая, что распределение показателей ВРС отличается от нормального, все данные представлены в виде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медиан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интерквантильного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размах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Интерквантильный размах указывается в виде 25% и 75% перцентил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www.neurosoft.ru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rus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product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8"/>
              </a:rPr>
              <a:t>book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9"/>
              </a:rPr>
              <a:t>/hrv-2/chapter5.asp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0" action="ppaction://hlinksldjump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1" action="ppaction://hlinksldjump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2" action="ppaction://hlinksldjump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3" action="ppaction://hlinksldjump"/>
              </a:rPr>
              <a:t>5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4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6443640" y="981000"/>
            <a:ext cx="649440" cy="600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fill="hold">
                      <p:stCondLst>
                        <p:cond delay="0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3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9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5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6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атистика вокруг н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3628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енетика поведен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behavioralgenetic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сегодняшний день мы можем определить наследуемость как отношение генетической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дисперс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к общей, или фенотипической, дисперсии: h2 = VG/V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www.sexualdysfunction.ru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/148.html</a:t>
            </a:r>
            <a:r>
              <a:rPr b="0" lang="ru-RU" sz="24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5" action="ppaction://hlinksldjump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2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6" action="ppaction://hlinksldjump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7" action="ppaction://hlinksldjump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8" action="ppaction://hlinksldjump"/>
              </a:rPr>
              <a:t>5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9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443640" y="981000"/>
            <a:ext cx="649440" cy="600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0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8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0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2500"/>
                            </p:stCondLst>
                            <p:childTnLst>
                              <p:par>
                                <p:cTn id="109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500"/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500"/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3500"/>
                            </p:stCondLst>
                            <p:childTnLst>
                              <p:par>
                                <p:cTn id="110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8" dur="500"/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500"/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атистика вокруг н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нализ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отклонен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рибы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анализе валовой прибыли изучаются причины, вызывающие ее изменение, соответствующие факторы отражаются в отчете и позволяют принять корректирующие ме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чины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отклонен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рибы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менения в цене продажи и в затратах на единицу продукц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менения в объеме продаж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менения в ассортименте продаж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нные для согласования фактических операций с бюджетными значениями получаются на основе анализа изменений между фактическими и бюджетными операциями за текущий год, между фактическими операциями предыдущего года и соответствующими операциями текущего года. Могут рассматриваться изменения в валовой прибыли всей компании или выбранной продуктовой лин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www.iteam.ru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publications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finances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/section_11/article_3389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8" action="ppaction://hlinksldjump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9" action="ppaction://hlinksldjump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3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0" action="ppaction://hlinksldjump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1" action="ppaction://hlinksldjump"/>
              </a:rPr>
              <a:t>5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2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443640" y="981000"/>
            <a:ext cx="649440" cy="600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17" dur="indefinite" restart="never" nodeType="tmRoot">
          <p:childTnLst>
            <p:seq>
              <p:cTn id="1118" dur="indefinite" nodeType="mainSeq">
                <p:childTnLst>
                  <p:par>
                    <p:cTn id="1119" fill="hold">
                      <p:stCondLst>
                        <p:cond delay="0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5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7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3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3500"/>
                            </p:stCondLst>
                            <p:childTnLst>
                              <p:par>
                                <p:cTn id="115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5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5" dur="5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fill="hold">
                            <p:stCondLst>
                              <p:cond delay="4500"/>
                            </p:stCondLst>
                            <p:childTnLst>
                              <p:par>
                                <p:cTn id="116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1" dur="500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атистика вокруг н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95280" y="1980720"/>
            <a:ext cx="8424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Средня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о регионам РФ аномал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среднегодово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мпературы воздух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отклонение от средней температур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азового пери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Жирная кривая показывает 11-летне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кользящее средне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казан линейный тренд температу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climate.mecom.ru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/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bulletins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/2002/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index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7" action="ppaction://hlinksldjump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8" action="ppaction://hlinksldjump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9" action="ppaction://hlinksldjump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4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0" action="ppaction://hlinksldjump"/>
              </a:rPr>
              <a:t>5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1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2"/>
          <a:stretch/>
        </p:blipFill>
        <p:spPr>
          <a:xfrm>
            <a:off x="4500720" y="1413000"/>
            <a:ext cx="4555800" cy="48243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85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012000" y="620640"/>
            <a:ext cx="649080" cy="600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80" dur="indefinite" restart="never" nodeType="tmRoot">
          <p:childTnLst>
            <p:seq>
              <p:cTn id="1181" dur="indefinite" nodeType="mainSeq">
                <p:childTnLst>
                  <p:par>
                    <p:cTn id="1182" fill="hold">
                      <p:stCondLst>
                        <p:cond delay="0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2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8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0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6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fill="hold">
                            <p:stCondLst>
                              <p:cond delay="3500"/>
                            </p:stCondLst>
                            <p:childTnLst>
                              <p:par>
                                <p:cTn id="122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2" dur="5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3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5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" fill="hold">
                            <p:stCondLst>
                              <p:cond delay="4500"/>
                            </p:stCondLst>
                            <p:childTnLst>
                              <p:par>
                                <p:cTn id="123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4" dur="500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500" fill="hold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3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атистика вокруг н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4572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Расчет средней заработной платы работников предприятия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Фонд оплаты труда составляет 40000 единиц, работников всего 100, следовательно, средняя заработная плата составляет 40000/100 = 400 единиц. Однако эта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средняя арифметическая величин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явно не соответствует интуитивному представлению о "средней зарплате". Из 100 работников лишь 5 имеют заработную плату, ее превышающую, а зарплата остальных 95 существенно меньше средней арифметической. Причина очевидна - заработная плата одного человека - генерального директора - превышает заработную плату 95 работников -  низкоквалифицированных и высококвалифицированных рабочих, инженеров и служащ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данных табл.1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медиан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- среднее арифметическое 50-го и 51-го работника, если их заработные платы расположены в порядке неубывания. Сначала идут зарплаты 40 низкоквалифицированных рабочих, а затем - с 41-го до 70-го работника - заработные платы высококвалифицированных рабочих. Следовательно, медиана попадает именно  на них и равна 200. У 50-ти работников заработная плата не превосходит 200, и у 50-ти - не менее 200, поэтому медиана показывает "центр", около которого группируется основная масса исследуемых величи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Еще одна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средняя величина - мод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наиболее часто встречающееся значение. В рассматриваемом случае это заработная плата низкоквалифицируемых рабочих, т.е. 100. Таким образом, для описания зарплаты имеем три средние величины - моду (100 единиц), медиану (200 единиц) и среднее арифметическое (400 единиц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наблюдающихся в реальной жизни распределений доходов и заработной платы справедлива та же закономерность: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мода меньше медианы, а медиана меньше среднего арифметического.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4572000" y="1981080"/>
          <a:ext cx="4392720" cy="3132360"/>
        </p:xfrm>
        <a:graphic>
          <a:graphicData uri="http://schemas.openxmlformats.org/drawingml/2006/table">
            <a:tbl>
              <a:tblPr/>
              <a:tblGrid>
                <a:gridCol w="431640"/>
                <a:gridCol w="1224000"/>
                <a:gridCol w="936720"/>
                <a:gridCol w="863640"/>
                <a:gridCol w="936720"/>
              </a:tblGrid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/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тегория работников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работник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работная плата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уммарные доходы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изкоквалифицированные рабочие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сококвалифицированные рабочие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женеры и служащие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енеджеры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енеральный директо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Владелец)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сего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"/>
          <p:cNvSpPr/>
          <p:nvPr/>
        </p:nvSpPr>
        <p:spPr>
          <a:xfrm>
            <a:off x="4643280" y="6165720"/>
            <a:ext cx="43927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1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2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3" action="ppaction://hlinksldjump"/>
              </a:rPr>
              <a:t>3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4" action="ppaction://hlinksldjump"/>
              </a:rPr>
              <a:t>4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5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5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443640" y="981000"/>
            <a:ext cx="649440" cy="600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43" dur="indefinite" restart="never" nodeType="tmRoot">
          <p:childTnLst>
            <p:seq>
              <p:cTn id="1244" dur="indefinite" nodeType="mainSeq">
                <p:childTnLst>
                  <p:par>
                    <p:cTn id="1245" fill="hold">
                      <p:stCondLst>
                        <p:cond delay="0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5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1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7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3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9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глашаем к сотрудничест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Желаем успехов и удач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аботу выполня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Лебедев Александр Станиславович 7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оварж Галина Юрьевна 7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уководител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Ласточкина Ольга Геннадьевна – учитель математи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 rot="21462600">
            <a:off x="0" y="2133360"/>
            <a:ext cx="3132000" cy="22939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059280" y="2060640"/>
            <a:ext cx="3097080" cy="23223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 rot="183000">
            <a:off x="6086160" y="2133360"/>
            <a:ext cx="2916360" cy="23097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539640" y="6308640"/>
            <a:ext cx="83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3851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тематическое исслед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8208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Наша цель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аскрыть особенности статистических характеристик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Задач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 Изучить и обобщить собранный материал по тем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 Создать творческую разработку в виде реферата, медиапродукта и приложений к ни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 Научиться решать и составлять задачи по статистик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 Выявить удивительно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Гипотеза: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Если начать  исследование с рассмотрения  основных положений описательной статистики с разных точек зрения, то отыщутся различные объяснения и ключи понимания её значим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Объект исследования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писательная статист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Предмет исследования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реднее арифметическое, медиана, размах и  мода, наибольшее и наименьшее значения, отклонения и дисперс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39640" y="6093000"/>
            <a:ext cx="83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Далее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     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реднее арифметическое</a:t>
            </a:r>
            <a:r>
              <a:rPr b="0" lang="en-US" sz="4400" spc="-1" strike="noStrike">
                <a:solidFill>
                  <a:srgbClr val="000000"/>
                </a:solidFill>
                <a:latin typeface="Webdings"/>
                <a:ea typeface="Webdings"/>
              </a:rPr>
              <a:t>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Определение.  Средним арифметическим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скольких чисел называется число, равное отношению суммы этих чисел к их количеств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ругими словами, среднее арифметическое - это дробь, в числителе которой стоит сумма чисел, а в знаменателе - их количе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 вычислениям средних значений прибегают во многих задач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Задания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пример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3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08000" y="1700280"/>
            <a:ext cx="755640" cy="755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07640" y="765000"/>
            <a:ext cx="4969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Начала» исслед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920" y="2276280"/>
            <a:ext cx="8018640" cy="38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ты профессиональный статист, то чем бы тебе пришлось  заниматьс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ие бы ты решал статистические задачи и как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ой области знаний человечества они принадлежат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ль данных характеристик в описательной статисти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????? ??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9640" y="6093000"/>
            <a:ext cx="83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Далее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назад                                            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692360" y="836280"/>
            <a:ext cx="662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ы выдвигаем пробл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16000" y="1980720"/>
            <a:ext cx="7570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то нужно понимать под терминами «статистика», «числовой   ряд», «среднее арифметическое», «медиана», «размах» и «мода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Зачем нужны эти статистические характеристик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Можно ли их сравнивать? Чем объясняются отлич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Какая из характеристик наиболее полно отражает явление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Какие задачи можно решат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Поиски подхода к решению зада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Как выяснить, существуют ли различные способы и методы решения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Какой области научных знаний принадлежат  задачи описательной статистики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9640" y="6093000"/>
            <a:ext cx="83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Далее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 назад                                          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ини -  задачи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 серии «Школьная статистика»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187280" y="1773000"/>
            <a:ext cx="7345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оставьте упорядоченный набор чисел, вычислите среднее арифметическое,  медиану, </a:t>
            </a:r>
            <a:r>
              <a:rPr b="0" lang="en-US" sz="1800" spc="-1" strike="noStrike" u="sng">
                <a:solidFill>
                  <a:srgbClr val="666699"/>
                </a:solidFill>
                <a:uFillTx/>
                <a:latin typeface="Times New Roman"/>
                <a:hlinkClick r:id="rId1" action="ppaction://hlinksldjump"/>
              </a:rPr>
              <a:t>размах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и моду, если учащиеся считают, что в учебе предпрофильная подготовка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омогает значительно-3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омогла, но не значительно-6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рактически не помогла-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508720" y="3573360"/>
            <a:ext cx="914400" cy="1079640"/>
          </a:xfrm>
          <a:prstGeom prst="can">
            <a:avLst>
              <a:gd name="adj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6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427640" y="4797360"/>
            <a:ext cx="792000" cy="432000"/>
          </a:xfrm>
          <a:prstGeom prst="can">
            <a:avLst>
              <a:gd name="adj" fmla="val 50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0" y="2781360"/>
            <a:ext cx="720720" cy="865080"/>
          </a:xfrm>
          <a:prstGeom prst="can">
            <a:avLst>
              <a:gd name="adj" fmla="val 16513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3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4860360" y="4869000"/>
            <a:ext cx="35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9640" y="6093000"/>
            <a:ext cx="83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Далее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назад                                            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3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8208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ини -  задачи 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з сери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«Школьная статистика»</a:t>
            </a:r>
            <a:br>
              <a:rPr sz="3200"/>
            </a:b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 школе открыты классы по некоторым образовательным направлениям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Составьте упорядоченный набор чисел, вычислите среднее арифметическое,  медиану, размах и мод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1547640" y="2870280"/>
          <a:ext cx="590400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870280"/>
                    <a:ext cx="590400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1042920" y="5064120"/>
            <a:ext cx="756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Замечание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Данные для нахождения статистических характеристик могут быть оформлены в виде диаграмм, а могут -  в виде таблиц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39640" y="6093000"/>
            <a:ext cx="83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3" action="ppaction://hlinksldjump"/>
              </a:rPr>
              <a:t>Далее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 назад                                          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4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95280" y="244080"/>
            <a:ext cx="844704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циологический монитори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250560" y="1197000"/>
            <a:ext cx="4033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Исследования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PISA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мение выделить главную мысль тес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мение находить заданную информацию в тест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нимание связности и последовательности событ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917960" y="1268280"/>
            <a:ext cx="3927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Школьные исслед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 сниж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том же уров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ш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132000" y="2924280"/>
            <a:ext cx="1656000" cy="576000"/>
          </a:xfrm>
          <a:prstGeom prst="can">
            <a:avLst>
              <a:gd name="adj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268360" y="1916280"/>
            <a:ext cx="1368720" cy="576000"/>
          </a:xfrm>
          <a:prstGeom prst="can">
            <a:avLst>
              <a:gd name="adj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732720" y="1916280"/>
            <a:ext cx="1511280" cy="576000"/>
          </a:xfrm>
          <a:prstGeom prst="can">
            <a:avLst>
              <a:gd name="adj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443640" y="3933720"/>
            <a:ext cx="2232000" cy="647640"/>
          </a:xfrm>
          <a:prstGeom prst="can">
            <a:avLst>
              <a:gd name="adj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635280" y="3716280"/>
            <a:ext cx="1152720" cy="574560"/>
          </a:xfrm>
          <a:prstGeom prst="flowChartMagneticDisk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6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219640" y="2852640"/>
            <a:ext cx="1871640" cy="574920"/>
          </a:xfrm>
          <a:prstGeom prst="flowChartMagneticDisk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95280" y="4582080"/>
            <a:ext cx="709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Задача №1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оставьте два набора чисел. Вычислите отклонения от среднего и их квадра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39640" y="6093000"/>
            <a:ext cx="83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Далее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назад                                             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99640" y="476280"/>
            <a:ext cx="7417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нализ техники чтения в 5-9 классах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 последние 5 ле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684360" y="2276640"/>
          <a:ext cx="8064360" cy="2329920"/>
        </p:xfrm>
        <a:graphic>
          <a:graphicData uri="http://schemas.openxmlformats.org/drawingml/2006/table">
            <a:tbl>
              <a:tblPr/>
              <a:tblGrid>
                <a:gridCol w="666720"/>
                <a:gridCol w="933480"/>
                <a:gridCol w="933480"/>
                <a:gridCol w="666720"/>
                <a:gridCol w="733320"/>
                <a:gridCol w="733320"/>
                <a:gridCol w="733320"/>
                <a:gridCol w="696960"/>
                <a:gridCol w="820800"/>
                <a:gridCol w="1146240"/>
              </a:tblGrid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ма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ш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учш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та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уж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та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таю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шиб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нимаю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танн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уровн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юж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3-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-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-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-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-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1" name=""/>
          <p:cNvSpPr/>
          <p:nvPr/>
        </p:nvSpPr>
        <p:spPr>
          <a:xfrm>
            <a:off x="4767120" y="928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042920" y="4579560"/>
            <a:ext cx="6840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Задание №1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оставьте упорядоченные ряды. Найдите медиану, </a:t>
            </a:r>
            <a:r>
              <a:rPr b="0" lang="en-US" sz="14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моду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Задание №2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Вычислите наибольшее и наименьшее значения, отклонения. Вычислите дисперсию (это можно будет выполнить, если будете читать дальше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39640" y="6093000"/>
            <a:ext cx="83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Далее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 назад                                         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3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55640" y="1412280"/>
            <a:ext cx="799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орму вычитывают  около 62% процентов учащихся, выше нормы 16%, ниже нормы 21%. При скоростном чтении допускают ошибки примерно 37% учащихся.Мы заметили, что  техника чтения  в 6 и резко в ..7 классах падает и ниже нормы соответственно  на 24% и 40%, увеличивается процент читающих хуже до 31%  в 7 класс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копилку мето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Советы решающему статистическую задачу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спользуй теоретические сведения и данные зад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бери путь, по которому может пойти решение зад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гда решил задачу , подумай над результа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дивление полученным результатом рождает мысль  и ведет к новым исследовани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…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ы  решающему статистическую задачу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порядочи числовой набор, т.е. запиши числа в порядке возраст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Чтобы найти медиану,  в числовом наборе нужно выбрать одно  число посередине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ибо  два  числа и найти их  полусум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…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 rot="864000">
            <a:off x="1763640" y="5157720"/>
            <a:ext cx="417600" cy="4334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539640" y="6093000"/>
            <a:ext cx="83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Далее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назад                                        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3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ле смысложизненных ориентиров статис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 rot="21000000">
            <a:off x="865080" y="1909440"/>
            <a:ext cx="1677960" cy="125892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 rot="20955600">
            <a:off x="6516720" y="1773000"/>
            <a:ext cx="1655640" cy="11728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 rot="767400">
            <a:off x="6156000" y="3645000"/>
            <a:ext cx="1563480" cy="1173240"/>
          </a:xfrm>
          <a:prstGeom prst="rect">
            <a:avLst/>
          </a:prstGeom>
          <a:ln w="63360">
            <a:solidFill>
              <a:srgbClr val="99ccff"/>
            </a:solidFill>
            <a:miter/>
          </a:ln>
        </p:spPr>
      </p:pic>
      <p:sp>
        <p:nvSpPr>
          <p:cNvPr id="243" name=""/>
          <p:cNvSpPr/>
          <p:nvPr/>
        </p:nvSpPr>
        <p:spPr>
          <a:xfrm rot="20598600">
            <a:off x="1115640" y="3068280"/>
            <a:ext cx="14302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из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20598600">
            <a:off x="1185840" y="3570120"/>
            <a:ext cx="12970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116000" y="486900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по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516720" y="292428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диц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867280" y="479736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им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564000" y="3068640"/>
            <a:ext cx="1871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оном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ема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огра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о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форма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3851280" y="1916280"/>
            <a:ext cx="1584360" cy="102996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539640" y="6093000"/>
            <a:ext cx="83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5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6"/>
          <a:stretch/>
        </p:blipFill>
        <p:spPr>
          <a:xfrm>
            <a:off x="971640" y="3645000"/>
            <a:ext cx="1727280" cy="127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мер по теме «Среднее арифметическо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3640" y="1628280"/>
            <a:ext cx="843588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Рассмотрим данные о производстве пшеницы в России в 1995-2001гг.(в миллионах тонн).Они приведены в таблице 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Таблица 1.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Производство пшеницы в России в 1995-2001г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Как видно из таблицы 1,производство пшеницы в разные годы различается. Оно зависит от погодных условий, площади посева и других обстоятельств. Поэтому производство пшеницы за один год не даёт полного представления об уровне производства пшеницы в стране. Для этой цели лучше использовать среднее значение за ряд лет. По данным таблицы мы можем вычислить среднее производство пшеницы за 7 лет. Для этого надо сложить годовые сборы пшеницы и затем сумму разделить на число слагаемых. В данном случае получа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30,1+34,9+44,3+27,0+31,0+34,5+47,0)/7=35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лучаем, что среднее производство пшеницы в России за рассматриваемый период 1995-2001гг. составляло приблизительно 35,5 млн. тонн в год. Вычисленное нами значение называется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средним арифметически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или просто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средни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назад к теме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68360" y="2276640"/>
          <a:ext cx="7093080" cy="655560"/>
        </p:xfrm>
        <a:graphic>
          <a:graphicData uri="http://schemas.openxmlformats.org/drawingml/2006/table">
            <a:tbl>
              <a:tblPr/>
              <a:tblGrid>
                <a:gridCol w="1500480"/>
                <a:gridCol w="731520"/>
                <a:gridCol w="648000"/>
                <a:gridCol w="720720"/>
                <a:gridCol w="831600"/>
                <a:gridCol w="889200"/>
                <a:gridCol w="885600"/>
                <a:gridCol w="885960"/>
              </a:tblGrid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000"/>
                            </p:stCondLst>
                            <p:childTnLst>
                              <p:par>
                                <p:cTn id="17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500"/>
                            </p:stCondLst>
                            <p:childTnLst>
                              <p:par>
                                <p:cTn id="17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000"/>
                            </p:stCondLst>
                            <p:childTnLst>
                              <p:par>
                                <p:cTn id="18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1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4500"/>
                            </p:stCondLst>
                            <p:childTnLst>
                              <p:par>
                                <p:cTn id="18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920" y="457200"/>
            <a:ext cx="8642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пражнение по теме «Среднее арифметическо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85988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блица 6. Производство пшеницы в России в 1995-2001 гг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йдите по таблице среднее арифметическое производства пшениц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им было производство пшеницы в 1996 г., в 2000 г.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впадает ли производство пшеницы в среднем за 7 лет со значением в каком-нибудь го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каком году производство пшеницы был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 Наибольшем                 б) Наименьшем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Наза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79280" y="2205000"/>
          <a:ext cx="8496360" cy="919080"/>
        </p:xfrm>
        <a:graphic>
          <a:graphicData uri="http://schemas.openxmlformats.org/drawingml/2006/table">
            <a:tbl>
              <a:tblPr/>
              <a:tblGrid>
                <a:gridCol w="2124000"/>
                <a:gridCol w="684360"/>
                <a:gridCol w="803160"/>
                <a:gridCol w="955800"/>
                <a:gridCol w="955440"/>
                <a:gridCol w="954360"/>
                <a:gridCol w="1063440"/>
                <a:gridCol w="95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ство, млн. тон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 rot="249000">
            <a:off x="6080040" y="4610160"/>
            <a:ext cx="935280" cy="700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2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500"/>
                            </p:stCondLst>
                            <p:childTnLst>
                              <p:par>
                                <p:cTn id="23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4000"/>
                            </p:stCondLst>
                            <p:childTnLst>
                              <p:par>
                                <p:cTn id="23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ди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Не только среднее арифметическое показывает, где на числовой прям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полагаются числа какого-либо набо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Другим показателем является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медиа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число, которое разделяет набор чисел на две части, одинаковые по численнос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оясним на примерах, как найти медианы разных наборов чисе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Задачи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примеры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исследование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3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2637000"/>
            <a:ext cx="720720" cy="720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500"/>
                            </p:stCondLst>
                            <p:childTnLst>
                              <p:par>
                                <p:cTn id="26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500"/>
                            </p:stCondLst>
                            <p:childTnLst>
                              <p:par>
                                <p:cTn id="27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3000"/>
                            </p:stCondLst>
                            <p:childTnLst>
                              <p:par>
                                <p:cTn id="27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3500"/>
                            </p:stCondLst>
                            <p:childTnLst>
                              <p:par>
                                <p:cTn id="28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меры по теме «Медиан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362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ример 1.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озьмём какой-нибудь набор различных чисел, например 1, 4, 7, 9, 11. Подберём число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так, чтобы в наборе оказалось поровну чисел, которые меньше и которые больше чем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а пробу возьмём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=5. Два числа в наборе меньше чем 5, но три числа больше чем 5. Значит, число 5 не годит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Теперь возьмём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=7. Меньше числа 7 два числа, больше числа 7 тоже два числа. Следовательно, число 7 делит этот набор  на две равные части. Число 7-медиана набора чисел 1, 4, 7, 9, 1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 этом примере набор состоял из 5 чисел, записанных в порядке возрастания. Медианой в этом случае оказывается число, стоящее в точности посередин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ример 2.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Рассмотрим набор 1, 3, 6, 11. Числа тоже записаны по возрастанию, но их четыре, поэтому среди них нет числа, стоящего точно посередине. В таком случае нужно взять два числа, расположенных посередине, и вычислить их полу-сумму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(3+6):2=4,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Медианой этого набора считают число 4,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ru-RU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Назад к теме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</a:t>
            </a:r>
            <a:r>
              <a:rPr b="0" i="1" lang="ru-RU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500"/>
                            </p:stCondLst>
                            <p:childTnLst>
                              <p:par>
                                <p:cTn id="30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500"/>
                            </p:stCondLst>
                            <p:childTnLst>
                              <p:par>
                                <p:cTn id="31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3000"/>
                            </p:stCondLst>
                            <p:childTnLst>
                              <p:par>
                                <p:cTn id="32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3500"/>
                            </p:stCondLst>
                            <p:childTnLst>
                              <p:par>
                                <p:cTn id="32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3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4500"/>
                            </p:stCondLst>
                            <p:childTnLst>
                              <p:par>
                                <p:cTn id="34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0"/>
                            </p:stCondLst>
                            <p:childTnLst>
                              <p:par>
                                <p:cTn id="34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пражнение по теме «Медиан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5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-45864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ычислите медиану чисел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)1, 3, 5, 7, 9         б)1, 3, 5, 7, 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)1, 3, 5, 9, 11        г)1, 3, 5, 7, 9, 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Назад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 rot="186000">
            <a:off x="5433840" y="3544920"/>
            <a:ext cx="1008360" cy="701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500"/>
                            </p:stCondLst>
                            <p:childTnLst>
                              <p:par>
                                <p:cTn id="36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2500"/>
                            </p:stCondLst>
                            <p:childTnLst>
                              <p:par>
                                <p:cTn id="38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нтересно, например, знать, какой расхож времени является типичным для выделенной группы учащихся, т.е. какое число встречается в ряду данных чаще всег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етрудно заметить, что таким числом является число 25. Говорят, что число 25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—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мод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рассматриваемого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я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пределение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Модой ряда чисел называется число, которое встречается в данном ряду чаще друг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Задачи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примеры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3" action="ppaction://hlinksldjump"/>
              </a:rPr>
              <a:t>исследование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4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2637000"/>
            <a:ext cx="720720" cy="720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500"/>
                            </p:stCondLst>
                            <p:childTnLst>
                              <p:par>
                                <p:cTn id="40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2000"/>
                            </p:stCondLst>
                            <p:childTnLst>
                              <p:par>
                                <p:cTn id="40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2500"/>
                            </p:stCondLst>
                            <p:childTnLst>
                              <p:par>
                                <p:cTn id="41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1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6T09:14:58Z</dcterms:created>
  <dc:creator>XP GAME 2008</dc:creator>
  <dc:description/>
  <dc:language>en-US</dc:language>
  <cp:lastModifiedBy>User</cp:lastModifiedBy>
  <dcterms:modified xsi:type="dcterms:W3CDTF">2009-03-02T08:57:02Z</dcterms:modified>
  <cp:revision>32</cp:revision>
  <dc:subject/>
  <dc:title>Название презентации</dc:title>
</cp:coreProperties>
</file>