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gif" ContentType="image/gif"/>
  <Override PartName="/ppt/media/image15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gif" ContentType="image/gif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10.jpeg" ContentType="image/jpeg"/>
  <Override PartName="/ppt/media/image5.png" ContentType="image/png"/>
  <Override PartName="/ppt/media/image2.gif" ContentType="image/gi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4CCB0-C7B3-430C-96E8-40DB2236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CD942-7196-48F2-87A0-FFCB51A7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217FB-2EBB-4AA6-B8B6-E5480293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0AED3-4F01-428D-BE2A-64C01608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A830-803A-47D2-A081-F4AE42601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2362-DF5A-4A37-B7BA-FB0DD883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A314-A6FF-4D4C-AA4C-0A8BA72F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2A33-89A5-47EB-9A86-942EB721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D380-73B2-4411-A791-44B0CAE7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2695-A735-46DA-BAB7-FDC13C5A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9E41-48C8-42D4-86D6-747AD154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76A54-F8F6-4932-A3DF-AC244B1F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26A9-7FD8-46FE-8FE8-DCA5A1DE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6FAD-118F-4ED7-80C7-0693775E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BF04-B1B0-4E18-A61E-04DFA408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04F8-AECA-4E95-8666-5ECB7CE8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FB36-6BC1-460D-B2F7-3F9497F4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B7D22-9206-470C-9A54-78515064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31CA2-92F9-4C82-8FBF-D75F7E0D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5787C-7A43-4E0E-B9DA-BBF0391C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28F4C-2749-4C82-AE7C-B9DD5172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C68B6-FADF-4CE6-B454-FC8D9FAD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241BF-B8B4-4FCF-8014-369D48D5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F545E-7B58-4B90-A1D9-8CC76F20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0CFB-F43E-4D66-BCE4-0A863E8392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5576-4AB7-47BE-B1E5-183DE8C40F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2.xml"/><Relationship Id="rId3" Type="http://schemas.openxmlformats.org/officeDocument/2006/relationships/hyperlink" Target="http://oberon.seversk.ru/images/stories/ppr.png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oberon.seversk.ru/images/stories/ppr.pn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2.xml"/><Relationship Id="rId4" Type="http://schemas.openxmlformats.org/officeDocument/2006/relationships/hyperlink" Target="http://oberon.seversk.ru/images/stories/ppr.png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lovari.yandex.ru/dict/bse/article/00064/79600.htm" TargetMode="Externa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.xml"/><Relationship Id="rId7" Type="http://schemas.openxmlformats.org/officeDocument/2006/relationships/hyperlink" Target="http://klopp.ru/" TargetMode="Externa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8;&#1077;&#1076;&#1085;&#1077;&#1077;" TargetMode="External"/><Relationship Id="rId2" Type="http://schemas.openxmlformats.org/officeDocument/2006/relationships/hyperlink" Target="http://ru.wikipedia.org/wiki/&#1057;&#1088;&#1077;&#1076;&#1085;&#1077;&#1077;" TargetMode="External"/><Relationship Id="rId3" Type="http://schemas.openxmlformats.org/officeDocument/2006/relationships/hyperlink" Target="http://ru.wikipedia.org/wiki/&#1057;&#1088;&#1077;&#1076;&#1085;&#1077;&#1077;" TargetMode="External"/><Relationship Id="rId4" Type="http://schemas.openxmlformats.org/officeDocument/2006/relationships/hyperlink" Target="http://ru.wikipedia.org/wiki/&#1057;&#1088;&#1077;&#1076;&#1085;&#1077;&#1077;" TargetMode="External"/><Relationship Id="rId5" Type="http://schemas.openxmlformats.org/officeDocument/2006/relationships/hyperlink" Target="http://ru.wikipedia.org/wiki/&#1057;&#1088;&#1077;&#1076;&#1085;&#1077;&#1077;" TargetMode="External"/><Relationship Id="rId6" Type="http://schemas.openxmlformats.org/officeDocument/2006/relationships/hyperlink" Target="http://www.cyberguru.ru/programming/pascal/turbopascal-encyclopaedia2-page5.html" TargetMode="External"/><Relationship Id="rId7" Type="http://schemas.openxmlformats.org/officeDocument/2006/relationships/hyperlink" Target="http://www.cyberguru.ru/programming/pascal/turbopascal-encyclopaedia2-page5.html" TargetMode="External"/><Relationship Id="rId8" Type="http://schemas.openxmlformats.org/officeDocument/2006/relationships/hyperlink" Target="http://www.cyberguru.ru/programming/pascal/turbopascal-encyclopaedia2-page5.html" TargetMode="External"/><Relationship Id="rId9" Type="http://schemas.openxmlformats.org/officeDocument/2006/relationships/hyperlink" Target="http://www.cyberguru.ru/programming/pascal/turbopascal-encyclopaedia2-page5.html" TargetMode="External"/><Relationship Id="rId10" Type="http://schemas.openxmlformats.org/officeDocument/2006/relationships/hyperlink" Target="http://www.cyberguru.ru/programming/pascal/turbopascal-encyclopaedia2-page5.html" TargetMode="External"/><Relationship Id="rId11" Type="http://schemas.openxmlformats.org/officeDocument/2006/relationships/hyperlink" Target="http://www.cyberguru.ru/programming/pascal/turbopascal-encyclopaedia2-page5.html" TargetMode="External"/><Relationship Id="rId12" Type="http://schemas.openxmlformats.org/officeDocument/2006/relationships/hyperlink" Target="http://www.cyberguru.ru/programming/pascal/turbopascal-encyclopaedia2-page5.html" TargetMode="External"/><Relationship Id="rId13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4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5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6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7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8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9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20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21" Type="http://schemas.openxmlformats.org/officeDocument/2006/relationships/slide" Target="slide18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.xml"/><Relationship Id="rId26" Type="http://schemas.openxmlformats.org/officeDocument/2006/relationships/hyperlink" Target="http://klopp.ru/" TargetMode="External"/><Relationship Id="rId27" Type="http://schemas.openxmlformats.org/officeDocument/2006/relationships/image" Target="../media/image5.png"/><Relationship Id="rId2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14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23.xml"/><Relationship Id="rId10" Type="http://schemas.openxmlformats.org/officeDocument/2006/relationships/slide" Target="slide29.xml"/><Relationship Id="rId11" Type="http://schemas.openxmlformats.org/officeDocument/2006/relationships/slide" Target="slide28.xml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" Target="slide2.xml"/><Relationship Id="rId6" Type="http://schemas.openxmlformats.org/officeDocument/2006/relationships/hyperlink" Target="http://klopp.ru/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2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3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4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5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6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7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8" Type="http://schemas.openxmlformats.org/officeDocument/2006/relationships/hyperlink" Target="http://www.statsoft.ru/home/portal/glossary/glossarytwo/M%5CMedian.htm" TargetMode="External"/><Relationship Id="rId9" Type="http://schemas.openxmlformats.org/officeDocument/2006/relationships/hyperlink" Target="http://www.statsoft.ru/home/portal/glossary/glossarytwo/M%5CMedian.htm" TargetMode="External"/><Relationship Id="rId10" Type="http://schemas.openxmlformats.org/officeDocument/2006/relationships/hyperlink" Target="http://www.statsoft.ru/home/portal/glossary/glossarytwo/M%5CMedian.htm" TargetMode="External"/><Relationship Id="rId11" Type="http://schemas.openxmlformats.org/officeDocument/2006/relationships/hyperlink" Target="http://www.statsoft.ru/home/portal/glossary/glossarytwo/M%5CMedian.htm" TargetMode="External"/><Relationship Id="rId12" Type="http://schemas.openxmlformats.org/officeDocument/2006/relationships/hyperlink" Target="http://www.statsoft.ru/home/portal/glossary/glossarytwo/M%5CMedian.htm" TargetMode="External"/><Relationship Id="rId13" Type="http://schemas.openxmlformats.org/officeDocument/2006/relationships/hyperlink" Target="http://www.statsoft.ru/home/portal/glossary/glossarytwo/M%5CMedian.htm" TargetMode="External"/><Relationship Id="rId14" Type="http://schemas.openxmlformats.org/officeDocument/2006/relationships/hyperlink" Target="http://www.statsoft.ru/home/portal/glossary/glossarytwo/M%5CMedian.htm" TargetMode="External"/><Relationship Id="rId15" Type="http://schemas.openxmlformats.org/officeDocument/2006/relationships/hyperlink" Target="http://www.statsoft.ru/home/portal/glossary/glossarytwo/M%5CMedian.htm" TargetMode="External"/><Relationship Id="rId16" Type="http://schemas.openxmlformats.org/officeDocument/2006/relationships/hyperlink" Target="http://www.statsoft.ru/home/portal/glossary/glossarytwo/M%5CMedian.htm" TargetMode="External"/><Relationship Id="rId17" Type="http://schemas.openxmlformats.org/officeDocument/2006/relationships/hyperlink" Target="http://www.statsoft.ru/home/portal/glossary/glossarytwo/M%5CMedian.htm" TargetMode="External"/><Relationship Id="rId18" Type="http://schemas.openxmlformats.org/officeDocument/2006/relationships/hyperlink" Target="http://www.statsoft.ru/home/portal/glossary/glossarytwo/M%5CMedian.htm" TargetMode="External"/><Relationship Id="rId19" Type="http://schemas.openxmlformats.org/officeDocument/2006/relationships/hyperlink" Target="http://nirvana.tomsk.ru/dictionary?id=9&amp;word=%EC%E5%E4%E8%E0%ED%E0/" TargetMode="External"/><Relationship Id="rId20" Type="http://schemas.openxmlformats.org/officeDocument/2006/relationships/hyperlink" Target="http://dic.academic.ru/dic.nsf/bse/166012/&#1052;&#1077;&#1076;&#1080;&#1072;&#1085;&#1072;" TargetMode="External"/><Relationship Id="rId21" Type="http://schemas.openxmlformats.org/officeDocument/2006/relationships/hyperlink" Target="http://dic.academic.ru/dic.nsf/bse/166012/&#1052;&#1077;&#1076;&#1080;&#1072;&#1085;&#1072;" TargetMode="External"/><Relationship Id="rId22" Type="http://schemas.openxmlformats.org/officeDocument/2006/relationships/hyperlink" Target="http://dic.academic.ru/dic.nsf/bse/166012/&#1052;&#1077;&#1076;&#1080;&#1072;&#1085;&#1072;" TargetMode="External"/><Relationship Id="rId23" Type="http://schemas.openxmlformats.org/officeDocument/2006/relationships/hyperlink" Target="http://dic.academic.ru/dic.nsf/bse/166012/&#1052;&#1077;&#1076;&#1080;&#1072;&#1085;&#1072;" TargetMode="External"/><Relationship Id="rId24" Type="http://schemas.openxmlformats.org/officeDocument/2006/relationships/hyperlink" Target="http://dic.academic.ru/dic.nsf/bse/166012/&#1052;&#1077;&#1076;&#1080;&#1072;&#1085;&#1072;" TargetMode="External"/><Relationship Id="rId25" Type="http://schemas.openxmlformats.org/officeDocument/2006/relationships/hyperlink" Target="http://dic.academic.ru/dic.nsf/bse/166012/&#1052;&#1077;&#1076;&#1080;&#1072;&#1085;&#1072;" TargetMode="External"/><Relationship Id="rId26" Type="http://schemas.openxmlformats.org/officeDocument/2006/relationships/hyperlink" Target="http://dic.academic.ru/dic.nsf/bse/166012/&#1052;&#1077;&#1076;&#1080;&#1072;&#1085;&#1072;" TargetMode="External"/><Relationship Id="rId27" Type="http://schemas.openxmlformats.org/officeDocument/2006/relationships/slide" Target="slide18.xml"/><Relationship Id="rId28" Type="http://schemas.openxmlformats.org/officeDocument/2006/relationships/slide" Target="slide19.xml"/><Relationship Id="rId29" Type="http://schemas.openxmlformats.org/officeDocument/2006/relationships/slide" Target="slide20.xml"/><Relationship Id="rId30" Type="http://schemas.openxmlformats.org/officeDocument/2006/relationships/slide" Target="slide22.xml"/><Relationship Id="rId31" Type="http://schemas.openxmlformats.org/officeDocument/2006/relationships/slide" Target="slide2.xml"/><Relationship Id="rId32" Type="http://schemas.openxmlformats.org/officeDocument/2006/relationships/hyperlink" Target="http://klopp.ru/" TargetMode="External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enc3p/207574" TargetMode="External"/><Relationship Id="rId2" Type="http://schemas.openxmlformats.org/officeDocument/2006/relationships/hyperlink" Target="http://dic.academic.ru/dic.nsf/enc3p/207574" TargetMode="External"/><Relationship Id="rId3" Type="http://schemas.openxmlformats.org/officeDocument/2006/relationships/hyperlink" Target="http://dic.academic.ru/dic.nsf/enc3p/207574" TargetMode="External"/><Relationship Id="rId4" Type="http://schemas.openxmlformats.org/officeDocument/2006/relationships/hyperlink" Target="http://dic.academic.ru/dic.nsf/enc3p/207574" TargetMode="External"/><Relationship Id="rId5" Type="http://schemas.openxmlformats.org/officeDocument/2006/relationships/hyperlink" Target="http://dic.academic.ru/dic.nsf/enc3p/207574" TargetMode="External"/><Relationship Id="rId6" Type="http://schemas.openxmlformats.org/officeDocument/2006/relationships/hyperlink" Target="http://www.cultinfo.ru/fulltext/1/001/008/079/808.htm" TargetMode="External"/><Relationship Id="rId7" Type="http://schemas.openxmlformats.org/officeDocument/2006/relationships/hyperlink" Target="http://www.cultinfo.ru/fulltext/1/001/008/079/808.htm" TargetMode="External"/><Relationship Id="rId8" Type="http://schemas.openxmlformats.org/officeDocument/2006/relationships/hyperlink" Target="http://www.cultinfo.ru/fulltext/1/001/008/079/808.htm" TargetMode="External"/><Relationship Id="rId9" Type="http://schemas.openxmlformats.org/officeDocument/2006/relationships/hyperlink" Target="http://www.cultinfo.ru/fulltext/1/001/008/079/808.htm" TargetMode="External"/><Relationship Id="rId10" Type="http://schemas.openxmlformats.org/officeDocument/2006/relationships/hyperlink" Target="http://www.cultinfo.ru/fulltext/1/001/008/079/808.htm" TargetMode="Externa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.xml"/><Relationship Id="rId16" Type="http://schemas.openxmlformats.org/officeDocument/2006/relationships/hyperlink" Target="http://klopp.ru/" TargetMode="External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neurosoft.ru/rus/product/book/hrv-2/chapter5.aspx" TargetMode="External"/><Relationship Id="rId2" Type="http://schemas.openxmlformats.org/officeDocument/2006/relationships/hyperlink" Target="http://www.neurosoft.ru/rus/product/book/hrv-2/chapter5.aspx" TargetMode="External"/><Relationship Id="rId3" Type="http://schemas.openxmlformats.org/officeDocument/2006/relationships/hyperlink" Target="http://www.neurosoft.ru/rus/product/book/hrv-2/chapter5.aspx" TargetMode="External"/><Relationship Id="rId4" Type="http://schemas.openxmlformats.org/officeDocument/2006/relationships/hyperlink" Target="http://www.neurosoft.ru/rus/product/book/hrv-2/chapter5.aspx" TargetMode="External"/><Relationship Id="rId5" Type="http://schemas.openxmlformats.org/officeDocument/2006/relationships/hyperlink" Target="http://www.neurosoft.ru/rus/product/book/hrv-2/chapter5.aspx" TargetMode="External"/><Relationship Id="rId6" Type="http://schemas.openxmlformats.org/officeDocument/2006/relationships/hyperlink" Target="http://www.neurosoft.ru/rus/product/book/hrv-2/chapter5.aspx" TargetMode="External"/><Relationship Id="rId7" Type="http://schemas.openxmlformats.org/officeDocument/2006/relationships/hyperlink" Target="http://www.neurosoft.ru/rus/product/book/hrv-2/chapter5.aspx" TargetMode="External"/><Relationship Id="rId8" Type="http://schemas.openxmlformats.org/officeDocument/2006/relationships/hyperlink" Target="http://www.neurosoft.ru/rus/product/book/hrv-2/chapter5.aspx" TargetMode="External"/><Relationship Id="rId9" Type="http://schemas.openxmlformats.org/officeDocument/2006/relationships/hyperlink" Target="http://www.neurosoft.ru/rus/product/book/hrv-2/chapter5.aspx" TargetMode="External"/><Relationship Id="rId10" Type="http://schemas.openxmlformats.org/officeDocument/2006/relationships/slide" Target="slide24.xml"/><Relationship Id="rId11" Type="http://schemas.openxmlformats.org/officeDocument/2006/relationships/slide" Target="slide25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" Target="slide2.xml"/><Relationship Id="rId15" Type="http://schemas.openxmlformats.org/officeDocument/2006/relationships/hyperlink" Target="http://klopp.ru/" TargetMode="External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sexualdysfunction.ru/148.html" TargetMode="External"/><Relationship Id="rId2" Type="http://schemas.openxmlformats.org/officeDocument/2006/relationships/hyperlink" Target="http://www.sexualdysfunction.ru/148.html" TargetMode="External"/><Relationship Id="rId3" Type="http://schemas.openxmlformats.org/officeDocument/2006/relationships/hyperlink" Target="http://www.sexualdysfunction.ru/148.html" TargetMode="External"/><Relationship Id="rId4" Type="http://schemas.openxmlformats.org/officeDocument/2006/relationships/hyperlink" Target="http://www.sexualdysfunction.ru/148.html" TargetMode="External"/><Relationship Id="rId5" Type="http://schemas.openxmlformats.org/officeDocument/2006/relationships/slide" Target="slide23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7.xml"/><Relationship Id="rId9" Type="http://schemas.openxmlformats.org/officeDocument/2006/relationships/slide" Target="slide2.xml"/><Relationship Id="rId10" Type="http://schemas.openxmlformats.org/officeDocument/2006/relationships/hyperlink" Target="http://klopp.ru/" TargetMode="External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iteam.ru/publications/finances/section_11/article_3389/" TargetMode="External"/><Relationship Id="rId2" Type="http://schemas.openxmlformats.org/officeDocument/2006/relationships/hyperlink" Target="http://www.iteam.ru/publications/finances/section_11/article_3389/" TargetMode="External"/><Relationship Id="rId3" Type="http://schemas.openxmlformats.org/officeDocument/2006/relationships/hyperlink" Target="http://www.iteam.ru/publications/finances/section_11/article_3389/" TargetMode="External"/><Relationship Id="rId4" Type="http://schemas.openxmlformats.org/officeDocument/2006/relationships/hyperlink" Target="http://www.iteam.ru/publications/finances/section_11/article_3389/" TargetMode="External"/><Relationship Id="rId5" Type="http://schemas.openxmlformats.org/officeDocument/2006/relationships/hyperlink" Target="http://www.iteam.ru/publications/finances/section_11/article_3389/" TargetMode="External"/><Relationship Id="rId6" Type="http://schemas.openxmlformats.org/officeDocument/2006/relationships/hyperlink" Target="http://www.iteam.ru/publications/finances/section_11/article_3389/" TargetMode="External"/><Relationship Id="rId7" Type="http://schemas.openxmlformats.org/officeDocument/2006/relationships/hyperlink" Target="http://www.iteam.ru/publications/finances/section_11/article_3389/" TargetMode="External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27.xml"/><Relationship Id="rId12" Type="http://schemas.openxmlformats.org/officeDocument/2006/relationships/slide" Target="slide2.xml"/><Relationship Id="rId13" Type="http://schemas.openxmlformats.org/officeDocument/2006/relationships/hyperlink" Target="http://klopp.ru/" TargetMode="External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climate.mecom.ru/bulletins/2002/index.html" TargetMode="External"/><Relationship Id="rId2" Type="http://schemas.openxmlformats.org/officeDocument/2006/relationships/hyperlink" Target="http://climate.mecom.ru/bulletins/2002/index.html" TargetMode="External"/><Relationship Id="rId3" Type="http://schemas.openxmlformats.org/officeDocument/2006/relationships/hyperlink" Target="http://climate.mecom.ru/bulletins/2002/index.html" TargetMode="External"/><Relationship Id="rId4" Type="http://schemas.openxmlformats.org/officeDocument/2006/relationships/hyperlink" Target="http://climate.mecom.ru/bulletins/2002/index.html" TargetMode="External"/><Relationship Id="rId5" Type="http://schemas.openxmlformats.org/officeDocument/2006/relationships/hyperlink" Target="http://climate.mecom.ru/bulletins/2002/index.html" TargetMode="External"/><Relationship Id="rId6" Type="http://schemas.openxmlformats.org/officeDocument/2006/relationships/hyperlink" Target="http://climate.mecom.ru/bulletins/2002/index.html" TargetMode="External"/><Relationship Id="rId7" Type="http://schemas.openxmlformats.org/officeDocument/2006/relationships/slide" Target="slide23.xml"/><Relationship Id="rId8" Type="http://schemas.openxmlformats.org/officeDocument/2006/relationships/slide" Target="slide24.xml"/><Relationship Id="rId9" Type="http://schemas.openxmlformats.org/officeDocument/2006/relationships/slide" Target="slide25.xml"/><Relationship Id="rId10" Type="http://schemas.openxmlformats.org/officeDocument/2006/relationships/slide" Target="slide27.xml"/><Relationship Id="rId11" Type="http://schemas.openxmlformats.org/officeDocument/2006/relationships/slide" Target="slide2.xml"/><Relationship Id="rId12" Type="http://schemas.openxmlformats.org/officeDocument/2006/relationships/image" Target="../media/image7.png"/><Relationship Id="rId13" Type="http://schemas.openxmlformats.org/officeDocument/2006/relationships/hyperlink" Target="http://klopp.ru/" TargetMode="External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.xml"/><Relationship Id="rId6" Type="http://schemas.openxmlformats.org/officeDocument/2006/relationships/hyperlink" Target="http://klopp.ru/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hyperlink" Target="http://oberon.seversk.ru/images/stories/ppr.png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3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" Target="slide3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6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7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" Target="slide2.xml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slide" Target="slide2.xml"/><Relationship Id="rId4" Type="http://schemas.openxmlformats.org/officeDocument/2006/relationships/hyperlink" Target="http://oberon.seversk.ru/images/stories/ppr.png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slide" Target="slide35.xml"/><Relationship Id="rId4" Type="http://schemas.openxmlformats.org/officeDocument/2006/relationships/slide" Target="slide2.xml"/><Relationship Id="rId5" Type="http://schemas.openxmlformats.org/officeDocument/2006/relationships/hyperlink" Target="http://oberon.seversk.ru/images/stories/ppr.png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татистические характеристики на уроке алгеб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Стар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700360" y="450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356000" y="450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 по теме «М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362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имер 1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яд чисел может иметь более одной моды, а может не иметь моды совсем. Например, в ряду чисе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7, 46, 50, 52, 47, 52, 49, 45, 43, 53, 53, 47, 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ве моды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— это числа 47 и 52, так как каждое из них встречается в ряду по три раза, а остальные числа  — менее трех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 ряду чисе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69, 68, 66, 70, 67, 62, 71, 74, 63, 73, 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Моды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 к тем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0" i="1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4500"/>
                            </p:stCondLst>
                            <p:childTnLst>
                              <p:par>
                                <p:cTn id="47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е по теме «М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дите моду ряда чисе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11, 32, 11, 75, 96, 13, 55        б)35, 41, 35, 67, 14,  7,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)10, 31, 54, 95, 11                     г)12, 35, 5, 7, 9, 12, 6, 35, 234,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186000">
            <a:off x="5433840" y="3544920"/>
            <a:ext cx="1008360" cy="70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ибольшее и наименьшее значение. Раз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огда интересны не только средние значение или медиана, но и другие величины, связанные с наборами различных чис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Наибольшие и наименьшие значен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то интересуют нас в самых разных облас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сли мы хотим узнать кто победил в прыжках в длину в соревнованиях класса, то выберем того, кто прыгнул дальше всех, т.е. выберем наибольший результат. В соревнованиях по бегу победителем считается тот, кто пробежал быстрее всех, т.е. показал наименьшее врем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пределение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Разность между наибольшим и наименьшим числом называется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размах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абора чис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Мы узнали, что размах показывает, насколько велико рассеивание значений в числовом наборе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ния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исследование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789360"/>
            <a:ext cx="826920" cy="82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3500"/>
                            </p:stCondLst>
                            <p:childTnLst>
                              <p:par>
                                <p:cTn id="54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5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500"/>
                            </p:stCondLst>
                            <p:childTnLst>
                              <p:par>
                                <p:cTn id="56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е по теме «Разма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дите наибольшее и наименьшее значение и размах данного набора чисе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12, 7, 25, 3, 19, 15         б) 17, 19, 5, 41, 47, 13, 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357600">
            <a:off x="6659640" y="3499920"/>
            <a:ext cx="1079280" cy="80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ло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ное свойство отклонени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умма отклонений чисел от среднего арифметического этих чисел равна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имера возьмем набор 1, 6, 7, 9, 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числим среднее арифметическое: (1+6+7+9+12) : 5 =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дем отклонение каждого числа от среднег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7=-6    6-7=-1   7-7=0   9-7=2   12-7=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учился новый набор, который состоит из откло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ли число меньше среднего, то его отклонение отрицательно, если число больше среднего, то его отклонение положите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следование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773360"/>
            <a:ext cx="790560" cy="790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500"/>
                            </p:stCondLst>
                            <p:childTnLst>
                              <p:par>
                                <p:cTn id="62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3000"/>
                            </p:stCondLst>
                            <p:childTnLst>
                              <p:par>
                                <p:cTn id="62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3500"/>
                            </p:stCondLst>
                            <p:childTnLst>
                              <p:par>
                                <p:cTn id="63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000"/>
                            </p:stCondLst>
                            <p:childTnLst>
                              <p:par>
                                <p:cTn id="63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0"/>
                            </p:stCondLst>
                            <p:childTnLst>
                              <p:par>
                                <p:cTn id="65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500"/>
                            </p:stCondLst>
                            <p:childTnLst>
                              <p:par>
                                <p:cTn id="65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Диспе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тобы судить о разбросе, принято складывать не сами отклонения, а их квадра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вадраты отклонений неотрицательны, поэтому сумма квадратов отклонений зависит только от абсолютных величин отклонений, а не от их зна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м больше отклонения чисел от среднего арифметического, тем больше будет сумма квадратов отклон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того чтобы мера разброса чисел не зависела от их количества в наборе, в качестве такой меры берут среднее арифметическое квадратов отклонений. Эту величину называют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исперси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пределение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еднее арифметическое квадратов отклонений от среднего значения называется в статистике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исперсие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набора чис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ния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пример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исследование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4221000"/>
            <a:ext cx="826920" cy="82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000"/>
                            </p:stCondLst>
                            <p:childTnLst>
                              <p:par>
                                <p:cTn id="70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3500"/>
                            </p:stCondLst>
                            <p:childTnLst>
                              <p:par>
                                <p:cTn id="7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4000"/>
                            </p:stCondLst>
                            <p:childTnLst>
                              <p:par>
                                <p:cTn id="71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я по теме «Дисперс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аны два набора чисел. Отметьте их на числовой прямой. Вычислите дисперсию каждого из наборов. Дисперсия, какого набора больш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2, 3, 7 и 1, 2, 3;       б)2, 3, 4, 7 и 1, 5, 6, 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аны два набора чисел. Отметьте их на числовой прямой. Вычислите дисперсию каждого из этих наборов. Сравните дисперс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2, 3, 4 и 6, 7, 8;     б) 3, 5, 7, 9 и 12, 14, 16, 1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403800">
            <a:off x="6948360" y="4149360"/>
            <a:ext cx="1079640" cy="80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500"/>
                            </p:stCondLst>
                            <p:childTnLst>
                              <p:par>
                                <p:cTn id="7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3000"/>
                            </p:stCondLst>
                            <p:childTnLst>
                              <p:par>
                                <p:cTn id="7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 по теме «Дисперс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ажем на простом примере, как дисперсия характеризует разброс наблюдений. Возьмём два набора чисел 1, 2, 3 и 0, 2, 4. Среднее арифметическое значение обоих наборов равно 2. Для обоих наборов вычислим отклонения и квадраты отклонений, и все данные занесём в таблиц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а в первом наборе расположены более кучно – ближе  друг к  другу и к своему среднему значению,- чем числа во втором наборе. Поэтому дисперсия первого набора получилась меньше, чем втор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 к тем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08000" y="2924280"/>
          <a:ext cx="6120000" cy="1641240"/>
        </p:xfrm>
        <a:graphic>
          <a:graphicData uri="http://schemas.openxmlformats.org/drawingml/2006/table">
            <a:tbl>
              <a:tblPr/>
              <a:tblGrid>
                <a:gridCol w="863640"/>
                <a:gridCol w="1177920"/>
                <a:gridCol w="1020960"/>
                <a:gridCol w="896760"/>
                <a:gridCol w="1143000"/>
                <a:gridCol w="10177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й набо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клонение от среднег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вадрат отклонения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й набо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клонение от среднег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вадрат отклонения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7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а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разность между наибольшим и наименьшим значениями результатов наблюдений. Пусть X1, ..., Xn — взаимно независимые случайные величины с функцией распределения F (x)и плотностью вероятности f (x). В этом случае размах Wn определяется как разность между наибольшим и наименьшим значениями среди X1, ..., Xn; размах Wn представляет собой случайную величину, которой соответствует функция распредел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w³ 0; если w &lt; 0, то P {W £ w} 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математической статистике Р., надлежащим образом нормированный, применяется как оценка неизвестного квадратичного отклонения. Например, если Xk имеют нормальное распределение с параметрами (а, s), то при n =5 и 10, соответственно, величины 0,4299W5 и 0,3249W10 будут несмещенными оценками s. Такие оценки часто используют при статистическом контроле качества, поскольку определение Р. нескольких результатов измерений не требует сложных вычисл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ит. : Хальд А. , Математическая статистика с техническими приложениями, пер. с англ., М., 1956.(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"/>
              </a:rPr>
              <a:t>http://slovari.yandex.ru/dict/bse/article/00064/79600.ht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358200">
            <a:off x="7308720" y="98100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500"/>
                            </p:stCondLst>
                            <p:childTnLst>
                              <p:par>
                                <p:cTn id="81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3000"/>
                            </p:stCondLst>
                            <p:childTnLst>
                              <p:par>
                                <p:cTn id="81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3500"/>
                            </p:stCondLst>
                            <p:childTnLst>
                              <p:par>
                                <p:cTn id="82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4000"/>
                            </p:stCondLst>
                            <p:childTnLst>
                              <p:par>
                                <p:cTn id="83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реднее знач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числовая характеристика множества чисел или функций; — некоторое число, заключённое между наименьшим и наибольшим из их значений. 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ru.wikipedia.org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wiki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Средне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е значение или арифметическое среднее наиболее широко используется в статистике. Это одно значение может использоваться для представления некоторого набора данных. В этом случае среднее значение можно назвать "центром тяжести" этого набора. Среднее значение вычисляется следующим образом: складываются все значения выборки и результат делится на общее число значений. Например, сумма набора значений.    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www.cyberguru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programming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pascal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/turbopascal-encyclopaedia2-page5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е значение — числовая характеристика множества чисел или числовых функций; — некоторое число, заключенное между наименьшим и наибольшим из их значений; а также множественно-значная характеристика совокупности множеств или сет-функций; — некоторое множество, содержащее пересечение и содержащееся в объединении этих множе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3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4"/>
              </a:rPr>
              <a:t>www.wikiznanie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5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6"/>
              </a:rPr>
              <a:t>ru-wz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7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8"/>
              </a:rPr>
              <a:t>index.php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9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0"/>
              </a:rPr>
              <a:t>Среднее_знач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1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2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3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4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5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>
            <a:hlinkClick r:id="rId26"/>
          </p:cNvPr>
          <p:cNvPicPr/>
          <p:nvPr/>
        </p:nvPicPr>
        <p:blipFill>
          <a:blip r:embed="rId27"/>
          <a:stretch/>
        </p:blipFill>
        <p:spPr>
          <a:xfrm rot="358200">
            <a:off x="7308720" y="98100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500"/>
                            </p:stCondLst>
                            <p:childTnLst>
                              <p:par>
                                <p:cTn id="85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2000"/>
                            </p:stCondLst>
                            <p:childTnLst>
                              <p:par>
                                <p:cTn id="85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2500"/>
                            </p:stCondLst>
                            <p:childTnLst>
                              <p:par>
                                <p:cTn id="86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3000"/>
                            </p:stCondLst>
                            <p:childTnLst>
                              <p:par>
                                <p:cTn id="86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3500"/>
                            </p:stCondLst>
                            <p:childTnLst>
                              <p:par>
                                <p:cTn id="8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50752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Среднее арифмет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Меди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М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Наибольшее и наименьшее значение. Раз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Диспер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Откло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Словарь.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Для тех, кто хочет знать боль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Статистика вокруг н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Исследование по 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Приглашаем вас к сотруднич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4360" y="6021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вершить   презент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2"/>
          <a:stretch/>
        </p:blipFill>
        <p:spPr>
          <a:xfrm rot="688800">
            <a:off x="3563640" y="1483920"/>
            <a:ext cx="571320" cy="61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500"/>
                            </p:stCondLst>
                            <p:childTnLst>
                              <p:par>
                                <p:cTn id="9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пер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 лат. dispersio — рассеяние), в математической статистике и теории вероятностей, наиболее употребительная мера рассеивания, т. е. отклонения от среднего. В статистическом понимании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среднее арифметическое из квадратов отклонений величин xi от их среднего арифмет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 rot="358200">
            <a:off x="7308720" y="98100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500"/>
                            </p:stCondLst>
                            <p:childTnLst>
                              <p:par>
                                <p:cTn id="89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2500"/>
                            </p:stCondLst>
                            <p:childTnLst>
                              <p:par>
                                <p:cTn id="90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3000"/>
                            </p:stCondLst>
                            <p:childTnLst>
                              <p:par>
                                <p:cTn id="91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56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(50-й процентиль, квантиль 0,5) — возможное значение признака, которое делит ранжированную совокупность (вариационный ряд выборки) на две равные части: 50 % «нижних» единиц ряда данных будут иметь значение признака не больше, чем медиана, а «верхние» 50 % — значения признака не меньше, чем медиана.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"/>
              </a:rPr>
              <a:t>ru.wikipedia.org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4"/>
              </a:rPr>
              <a:t>wiki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6"/>
              </a:rPr>
              <a:t>Медиана_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7"/>
              </a:rPr>
              <a:t>(статистика)_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 (термин был впервые введен Гальтоном, 1882) выборки - это значение, которое разбивает выборку на две равные части (при ранжировании). Половина наблюдений лежит ниже медианы, и половина наблюдений лежит выше медианы. Если число наблюдений в выборке нечетно, то медиана вычисляется как среднее двух средних знач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8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9"/>
              </a:rPr>
              <a:t>www.statsoft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0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1"/>
              </a:rPr>
              <a:t>home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2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3"/>
              </a:rPr>
              <a:t>portal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4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5"/>
              </a:rPr>
              <a:t>glossary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6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7"/>
              </a:rPr>
              <a:t>glossarytwo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8"/>
              </a:rPr>
              <a:t>/M%5CMedian.ht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 - в статистике - значение варьирующего признака, которое дел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яд распределения на две равные части по объему частот или частностей. Су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бсолютных величин линейных отклонений от медианы минималь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9"/>
              </a:rPr>
              <a:t>http://nirvana.tomsk.ru/dictionary?id=9&amp;word=%EC%E5%E4%E8%E0%ED%E0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 (от латинского mediana — средняя)  в геометрии, отрезок, соединяющий одну из вершин треугольника с серединой противоположной стороны. Три М. треугольника пересекаются в одной точке, которую иногда называют «центром тяжести» треугольника, так как именно в этой точке находится центр тяжести однородной треугольной пластинки (а также центр тяжести системы трёх равных масс, помещенных в вершинах треугольника). Точка пересечения М. делит каждую из них в отношении 2 : 1 (считая от вершины к основанию).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0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1"/>
              </a:rPr>
              <a:t>dic.academic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2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3"/>
              </a:rPr>
              <a:t>dic.nsf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4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5"/>
              </a:rPr>
              <a:t>bse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6"/>
              </a:rPr>
              <a:t>/166012/Меди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7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8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9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4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0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1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rId32"/>
          </p:cNvPr>
          <p:cNvPicPr/>
          <p:nvPr/>
        </p:nvPicPr>
        <p:blipFill>
          <a:blip r:embed="rId33"/>
          <a:stretch/>
        </p:blipFill>
        <p:spPr>
          <a:xfrm rot="358200">
            <a:off x="7308720" y="62064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500"/>
                            </p:stCondLst>
                            <p:childTnLst>
                              <p:par>
                                <p:cTn id="9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2500"/>
                            </p:stCondLst>
                            <p:childTnLst>
                              <p:par>
                                <p:cTn id="94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3000"/>
                            </p:stCondLst>
                            <p:childTnLst>
                              <p:par>
                                <p:cTn id="95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3500"/>
                            </p:stCondLst>
                            <p:childTnLst>
                              <p:par>
                                <p:cTn id="95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4000"/>
                            </p:stCondLst>
                            <p:childTnLst>
                              <p:par>
                                <p:cTn id="96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4500"/>
                            </p:stCondLst>
                            <p:childTnLst>
                              <p:par>
                                <p:cTn id="97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5500"/>
                            </p:stCondLst>
                            <p:childTnLst>
                              <p:par>
                                <p:cTn id="98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ИБОЛЬШЕЕ И НАИМЕНЬШЕЕ ЗНАЧЕН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УНКЦИИ - понятия математического анализа. Значение, принимаемое функцией в некоторой точке множества, на котором эта функция задана, называется наибольшим (наименьшим) на этом множестве, если ни в какой другой точке функция не имеет большего (меньшего) значения.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dic.academic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dic.nsf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enc3p/20757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большее и наименьшее значения функции, понятия математического анализа. Значение, принимаемое функцией в некоторой точке множества, на котором эта функция задана, называется наибольшим (наименьшим) на этом множестве, если ни в какой другой точке множества функция не имеет большего (меньшего) значения. Н. и н. з. ф. по сравнению с её значениями во всех достаточно близких точках называются экстремумами (соответственно максимумами и минимумами) функции. Н. и н. з. ф., заданной на отрезке, могут достигаться либо в точках, где производная равна нулю, либо в точках, где она не существует, либо на концах отрезка. Непрерывная функция, заданная на отрезке, обязательно достигает на нём наибольшего и наименьшего значений; если же непрерывную функцию рассматривать на интервале (т. е. отрезке с исключенными концами), то среди её значений на этом интервале может не оказаться наибольшего или наименьшего.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www.cultinfo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fulltext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/1/001/008/079/808.ht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2" action="ppaction://hlinksldjump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3" action="ppaction://hlinksldjump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4" action="ppaction://hlinksldjump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5                                                                             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5" action="ppaction://hlinksldjump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 rot="358200">
            <a:off x="7308720" y="98100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0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зюме к главе 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Показатели ВРС у здоровых людей. Оценка «здоровья здорового челове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главе суммируются собственные наблюдения и результаты ряда работ, которые позволяют следующим образом сформулировать основные параметры ВРС, характерные для здорового человека. В таблицах 5-2 - 5-4 приведены показатели математического анализа ВРС, полученные при обследовании практически здоровых лиц молодого возраста. Учитывая, что распределение показателей ВРС отличается от нормального, все данные представлены в виде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едиа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интерквантильног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азмах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Интерквантильный размах указывается в виде 25% и 75% перценти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neurosoft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rus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product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book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/hrv-2/chapter5.a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2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3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4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443640" y="981000"/>
            <a:ext cx="64944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0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енетика повед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behavioralgeneti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егодняшний день мы можем определить наследуемость как отношение генетической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дисперс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 общей, или фенотипической, дисперсии: h2 = VG/V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sexualdysfunction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148.html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43640" y="981000"/>
            <a:ext cx="64944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0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ализ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клон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ибы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анализе валовой прибыли изучаются причины, вызывающие ее изменение, соответствующие факторы отражаются в отчете и позволяют принять корректирующие м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чины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клон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ибы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я в цене продажи и в затратах на единицу продук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я в объеме продаж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я в ассортименте продаж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нные для согласования фактических операций с бюджетными значениями получаются на основе анализа изменений между фактическими и бюджетными операциями за текущий год, между фактическими операциями предыдущего года и соответствующими операциями текущего года. Могут рассматриваться изменения в валовой прибыли всей компании или выбранной продуктовой ли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iteam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publications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finances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/section_11/article_3389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443640" y="981000"/>
            <a:ext cx="64944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0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редня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 регионам РФ аномал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реднегодов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мпературы воздух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тклонение от средней темпера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зового пери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рная кривая показывает 11-летн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ользящее средн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казан линейный тренд темпера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climate.mecom.ru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bulletins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2002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4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2"/>
          <a:stretch/>
        </p:blipFill>
        <p:spPr>
          <a:xfrm>
            <a:off x="4500720" y="1413000"/>
            <a:ext cx="4555800" cy="4824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85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012000" y="620640"/>
            <a:ext cx="64908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0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572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асчет средней заработной платы работников предприятия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Фонд оплаты труда составляет 40000 единиц, работников всего 100, следовательно, средняя заработная плата составляет 40000/100 = 400 единиц. Однако эта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редняя арифметическая величи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явно не соответствует интуитивному представлению о "средней зарплате". Из 100 работников лишь 5 имеют заработную плату, ее превышающую, а зарплата остальных 95 существенно меньше средней арифметической. Причина очевидна - заработная плата одного человека - генерального директора - превышает заработную плату 95 работников -  низкоквалифицированных и высококвалифицированных рабочих, инженеров и служащ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данных табл.1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медиа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- среднее арифметическое 50-го и 51-го работника, если их заработные платы расположены в порядке неубывания. Сначала идут зарплаты 40 низкоквалифицированных рабочих, а затем - с 41-го до 70-го работника - заработные платы высококвалифицированных рабочих. Следовательно, медиана попадает именно  на них и равна 200. У 50-ти работников заработная плата не превосходит 200, и у 50-ти - не менее 200, поэтому медиана показывает "центр", около которого группируется основная масса исследуемых велич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ще одна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редняя величина - мо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наиболее часто встречающееся значение. В рассматриваемом случае это заработная плата низкоквалифицируемых рабочих, т.е. 100. Таким образом, для описания зарплаты имеем три средние величины - моду (100 единиц), медиану (200 единиц) и среднее арифметическое (400 единиц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наблюдающихся в реальной жизни распределений доходов и заработной платы справедлива та же закономерность: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мода меньше медианы, а медиана меньше среднего арифметического.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0" y="1981080"/>
          <a:ext cx="4392720" cy="3132360"/>
        </p:xfrm>
        <a:graphic>
          <a:graphicData uri="http://schemas.openxmlformats.org/drawingml/2006/table">
            <a:tbl>
              <a:tblPr/>
              <a:tblGrid>
                <a:gridCol w="431640"/>
                <a:gridCol w="1224000"/>
                <a:gridCol w="936720"/>
                <a:gridCol w="863640"/>
                <a:gridCol w="936720"/>
              </a:tblGrid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работник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работни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аботная плат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ммарные доходы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оквалифицированные рабочи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оквалифицированные рабочи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женеры и служащи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неджеры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неральный директ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Владелец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его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4643280" y="6165720"/>
            <a:ext cx="4392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1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4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5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43640" y="981000"/>
            <a:ext cx="64944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0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глашаем к сотрудни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елаем успехов и удач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боту выполня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ебедев Александр Станиславович 7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варж Галина Юрьевна 7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асточкина Ольга Геннадьевна – учитель матема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 rot="21462600">
            <a:off x="0" y="2133360"/>
            <a:ext cx="3132000" cy="2293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059280" y="2060640"/>
            <a:ext cx="3097080" cy="2322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 rot="183000">
            <a:off x="6086160" y="2133360"/>
            <a:ext cx="2916360" cy="2309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9640" y="630864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3851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матическое иссле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820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Наша цель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крыть особенности статистических характеристик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Изучить и обобщить собранный материал по тем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Создать творческую разработку в виде реферата, медиапродукта и приложений к н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Научиться решать и составлять задачи по статисти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Выявить удивительно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Гипотеза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Если начать  исследование с рассмотрения  основных положений описательной статистики с разных точек зрения, то отыщутся различные объяснения и ключи понимания её значим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Объект исследования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писательная статис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редмет исследова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реднее арифметическое, медиана, размах и  мода, наибольшее и наименьшее значения, отклонения и дисперс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еднее арифметическое</a:t>
            </a:r>
            <a:r>
              <a:rPr b="0" lang="en-US" sz="4400" spc="-1" strike="noStrike">
                <a:solidFill>
                  <a:srgbClr val="000000"/>
                </a:solidFill>
                <a:latin typeface="Webdings"/>
                <a:ea typeface="Webdings"/>
              </a:rPr>
              <a:t>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пределение.  Средним арифметическим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скольких чисел называется число, равное отношению суммы этих чисел к их количе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ругими словами, среднее арифметическое - это дробь, в числителе которой стоит сумма чисел, а в знаменателе - их колич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вычислениям средних значений прибегают во многих задач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ния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пример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8000" y="170028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7640" y="765000"/>
            <a:ext cx="4969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Начала»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276280"/>
            <a:ext cx="801864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ты профессиональный статист, то чем бы тебе пришлось  занимать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ие бы ты решал статистические задачи и ка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ой области знаний человечества они принадлежа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ль данных характеристик в описательной статист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???? 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назад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92360" y="836280"/>
            <a:ext cx="662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 выдвигаем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6000" y="1980720"/>
            <a:ext cx="757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 нужно понимать под терминами «статистика», «числовой   ряд», «среднее арифметическое», «медиана», «размах» и «мода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Зачем нужны эти статистические характеристи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Можно ли их сравнивать? Чем объясняются отлич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Какая из характеристик наиболее полно отражает явлени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Какие задачи можно реш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оиски подхода к решению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Как выяснить, существуют ли различные способы и методы реш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Какой области научных знаний принадлежат  задачи описательной статистик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назад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ни -  задач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 серии «Школьная статистика»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87280" y="1773000"/>
            <a:ext cx="7345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ставьте упорядоченный набор чисел, вычислите среднее арифметическое,  медиану,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1" action="ppaction://hlinksldjump"/>
              </a:rPr>
              <a:t>размах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и моду, если учащиеся считают, что в учебе предпрофильная подготовка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могает значительно-3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могла, но не значительно-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актически не помогла-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08720" y="3573360"/>
            <a:ext cx="914400" cy="107964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27640" y="4797360"/>
            <a:ext cx="792000" cy="432000"/>
          </a:xfrm>
          <a:prstGeom prst="can">
            <a:avLst>
              <a:gd name="adj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2781360"/>
            <a:ext cx="720720" cy="865080"/>
          </a:xfrm>
          <a:prstGeom prst="can">
            <a:avLst>
              <a:gd name="adj" fmla="val 1651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3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860360" y="4869000"/>
            <a:ext cx="35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назад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208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ни -  задачи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 сер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«Школьная статистика»</a:t>
            </a:r>
            <a:br>
              <a:rPr sz="3200"/>
            </a:b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школе открыты классы по некоторым образовательным направлениям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Составьте упорядоченный набор чисел, вычислите среднее арифметическое,  медиану, размах и м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547640" y="2870280"/>
          <a:ext cx="590400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870280"/>
                    <a:ext cx="590400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1042920" y="5064120"/>
            <a:ext cx="756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Замечание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Данные для нахождения статистических характеристик могут быть оформлены в виде диаграмм, а могут -  в виде табл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назад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244080"/>
            <a:ext cx="844704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циологический монитор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50560" y="1197000"/>
            <a:ext cx="403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Исследования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ISA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ние выделить главную мысль те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ние находить заданную информацию в те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нимание связности и последовательности событ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917960" y="1268280"/>
            <a:ext cx="3927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Школьные исслед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 сн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том же уров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32000" y="2924280"/>
            <a:ext cx="1656000" cy="57600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68360" y="1916280"/>
            <a:ext cx="1368720" cy="57600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32720" y="1916280"/>
            <a:ext cx="1511280" cy="57600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43640" y="3933720"/>
            <a:ext cx="2232000" cy="64764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35280" y="3716280"/>
            <a:ext cx="1152720" cy="57456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6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19640" y="2852640"/>
            <a:ext cx="1871640" cy="57492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4582080"/>
            <a:ext cx="70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Задача №1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ставьте два набора чисел. Вычислите отклонения от среднего и их квадра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назад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41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из техники чтения в 5-9 классах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последние 5 л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84360" y="2276640"/>
          <a:ext cx="8064360" cy="2329920"/>
        </p:xfrm>
        <a:graphic>
          <a:graphicData uri="http://schemas.openxmlformats.org/drawingml/2006/table">
            <a:tbl>
              <a:tblPr/>
              <a:tblGrid>
                <a:gridCol w="666720"/>
                <a:gridCol w="933480"/>
                <a:gridCol w="933480"/>
                <a:gridCol w="666720"/>
                <a:gridCol w="733320"/>
                <a:gridCol w="733320"/>
                <a:gridCol w="733320"/>
                <a:gridCol w="696960"/>
                <a:gridCol w="820800"/>
                <a:gridCol w="114624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ч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шиб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м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тан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ровн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ю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-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-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-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-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-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>
            <a:off x="476712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42920" y="4579560"/>
            <a:ext cx="68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дание №1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ставьте упорядоченные ряды. Найдите медиану, 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моду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дание №2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Вычислите наибольшее и наименьшее значения, отклонения. Вычислите дисперсию (это можно будет выполнить, если будете читать дальш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назад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5640" y="141228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рму вычитывают  около 62% процентов учащихся, выше нормы 16%, ниже нормы 21%. При скоростном чтении допускают ошибки примерно 37% учащихся.Мы заметили, что  техника чтения  в 6 и резко в ..7 классах падает и ниже нормы соответственно  на 24% и 40%, увеличивается процент читающих хуже до 31%  в 7 класс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опилку мет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оветы решающему статистическую задач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пользуй теоретические сведения и данны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бери путь, по которому может пойти решени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гда решил задачу , подумай над результа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дивление полученным результатом рождает мысль  и ведет к новым исследова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  решающему статистическую задач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порядочи числовой набор, т.е. запиши числа в порядке возрас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тобы найти медиану,  в числовом наборе нужно выбрать одно  число посередин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ибо  два  числа и найти их  полусу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 rot="864000">
            <a:off x="1763640" y="5157720"/>
            <a:ext cx="417600" cy="4334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назад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е смысложизненных ориентиров стат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 rot="21000000">
            <a:off x="865080" y="1909440"/>
            <a:ext cx="1677960" cy="1258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 rot="20955600">
            <a:off x="6516720" y="1773000"/>
            <a:ext cx="1655640" cy="1172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 rot="767400">
            <a:off x="6156000" y="3645000"/>
            <a:ext cx="1563480" cy="1173240"/>
          </a:xfrm>
          <a:prstGeom prst="rect">
            <a:avLst/>
          </a:prstGeom>
          <a:ln w="63360">
            <a:solidFill>
              <a:srgbClr val="99ccff"/>
            </a:solidFill>
            <a:miter/>
          </a:ln>
        </p:spPr>
      </p:pic>
      <p:sp>
        <p:nvSpPr>
          <p:cNvPr id="243" name=""/>
          <p:cNvSpPr/>
          <p:nvPr/>
        </p:nvSpPr>
        <p:spPr>
          <a:xfrm rot="20598600">
            <a:off x="1115640" y="3068280"/>
            <a:ext cx="1430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20598600">
            <a:off x="1185840" y="3570120"/>
            <a:ext cx="12970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16000" y="4869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16720" y="2924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867280" y="47973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64000" y="306864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3851280" y="1916280"/>
            <a:ext cx="1584360" cy="10299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971640" y="3645000"/>
            <a:ext cx="1727280" cy="12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 по теме «Среднее арифметическ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43588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Рассмотрим данные о производстве пшеницы в России в 1995-2001гг.(в миллионах тонн).Они приведены в таблице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Таблица 1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Производство пшеницы в России в 1995-2001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Как видно из таблицы 1,производство пшеницы в разные годы различается. Оно зависит от погодных условий, площади посева и других обстоятельств. Поэтому производство пшеницы за один год не даёт полного представления об уровне производства пшеницы в стране. Для этой цели лучше использовать среднее значение за ряд лет. По данным таблицы мы можем вычислить среднее производство пшеницы за 7 лет. Для этого надо сложить годовые сборы пшеницы и затем сумму разделить на число слагаемых. В данном случае получа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30,1+34,9+44,3+27,0+31,0+34,5+47,0)/7=35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лучаем, что среднее производство пшеницы в России за рассматриваемый период 1995-2001гг. составляло приблизительно 35,5 млн. тонн в год. Вычисленное нами значение называется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средним арифметически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ли просто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редн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 к тем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8360" y="2276640"/>
          <a:ext cx="7093080" cy="655560"/>
        </p:xfrm>
        <a:graphic>
          <a:graphicData uri="http://schemas.openxmlformats.org/drawingml/2006/table">
            <a:tbl>
              <a:tblPr/>
              <a:tblGrid>
                <a:gridCol w="1500480"/>
                <a:gridCol w="731520"/>
                <a:gridCol w="648000"/>
                <a:gridCol w="720720"/>
                <a:gridCol w="831600"/>
                <a:gridCol w="889200"/>
                <a:gridCol w="885600"/>
                <a:gridCol w="88596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457200"/>
            <a:ext cx="8642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е по теме «Среднее арифметическ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блица 6. Производство пшеницы в России в 1995-2001 гг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йдите по таблице среднее арифметическое производства пшен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м было производство пшеницы в 1996 г., в 2000 г.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падает ли производство пшеницы в среднем за 7 лет со значением в каком-нибудь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аком году производство пшеницы бы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Наибольшем                 б) Наименьшем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79280" y="2205000"/>
          <a:ext cx="8496360" cy="919080"/>
        </p:xfrm>
        <a:graphic>
          <a:graphicData uri="http://schemas.openxmlformats.org/drawingml/2006/table">
            <a:tbl>
              <a:tblPr/>
              <a:tblGrid>
                <a:gridCol w="2124000"/>
                <a:gridCol w="684360"/>
                <a:gridCol w="803160"/>
                <a:gridCol w="955800"/>
                <a:gridCol w="955440"/>
                <a:gridCol w="954360"/>
                <a:gridCol w="1063440"/>
                <a:gridCol w="95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, млн. тон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249000">
            <a:off x="6080040" y="4610160"/>
            <a:ext cx="935280" cy="7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ди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только среднее арифметическое показывает, где на числовой прям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олагаются числа какого-либо наб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ругим показателем являетс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число, которое разделяет набор чисел на две части, одинаковые по числен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ясним на примерах, как найти медианы разных наборов чис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чи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примеры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исследование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637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ы по теме «Медиа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362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 1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озьмём какой-нибудь набор различных чисел, например 1, 4, 7, 9, 11. Подберём число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так, чтобы в наборе оказалось поровну чисел, которые меньше и которые больше чем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 пробу возьмё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=5. Два числа в наборе меньше чем 5, но три числа больше чем 5. Значит, число 5 не год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еперь возьмё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=7. Меньше числа 7 два числа, больше числа 7 тоже два числа. Следовательно, число 7 делит этот набор  на две равные части. Число 7-медиана набора чисел 1, 4, 7, 9, 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этом примере набор состоял из 5 чисел, записанных в порядке возрастания. Медианой в этом случае оказывается число, стоящее в точности посереди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 2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Рассмотрим набор 1, 3, 6, 11. Числа тоже записаны по возрастанию, но их четыре, поэтому среди них нет числа, стоящего точно посередине. В таком случае нужно взять два числа, расположенных посередине, и вычислить их полу-сум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3+6):2=4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едианой этого набора считают число 4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 к тем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i="1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500"/>
                            </p:stCondLst>
                            <p:childTnLst>
                              <p:par>
                                <p:cTn id="3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500"/>
                            </p:stCondLst>
                            <p:childTnLst>
                              <p:par>
                                <p:cTn id="34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е по теме «Медиа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числите медиану чисе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1, 3, 5, 7, 9         б)1, 3, 5, 7,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)1, 3, 5, 9, 11        г)1, 3, 5, 7, 9, 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186000">
            <a:off x="5433840" y="3544920"/>
            <a:ext cx="1008360" cy="70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тересно, например, знать, какой расхож времени является типичным для выделенной группы учащихся, т.е. какое число встречается в ряду данных чаще все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трудно заметить, что таким числом является число 25. Говорят, что число 25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мо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рассматриваемог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я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ение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Модой ряда чисел называется число, которое встречается в данном ряду чаще друг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чи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примеры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исследовани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2637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500"/>
                            </p:stCondLst>
                            <p:childTnLst>
                              <p:par>
                                <p:cTn id="41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09:14:58Z</dcterms:created>
  <dc:creator>XP GAME 2008</dc:creator>
  <dc:description/>
  <dc:language>en-US</dc:language>
  <cp:lastModifiedBy>User</cp:lastModifiedBy>
  <dcterms:modified xsi:type="dcterms:W3CDTF">2009-03-02T08:57:02Z</dcterms:modified>
  <cp:revision>32</cp:revision>
  <dc:subject/>
  <dc:title>Название презентации</dc:title>
</cp:coreProperties>
</file>