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0700-B0DB-4EF8-8660-3D0F3C8B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7014-E949-4488-8C8E-E0B1FD1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37EC-8651-4D86-BD72-6A418889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71E7-9AAF-4F47-B71E-F94C84A5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BAB-60ED-4091-8745-C47F34A9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1B96-6B83-4B67-812E-96A76F6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FFD2-EA38-49B3-B5BE-1508F770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310F-0700-4EBE-AF11-31CDFF54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1F3A-6424-43D6-ABA5-1909089C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F025-F472-49FA-80CC-A3379B4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2B5D-8478-404C-83AC-CB0019B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AD38-16CF-4D39-84EC-465275D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63F4-057B-4835-9DC7-3BB027D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05A-DB60-41CD-B139-21C78E0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09C-4C69-4257-B5F5-8DD4A58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785-91B6-4015-8A51-20189BAE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7202-E8BB-46EA-A8E1-418BF6CB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910D-EFF5-4AA6-A1CA-FAD459D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69DB-9D44-4F31-9E63-8C16EA0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A777-849E-433F-BB0F-5DFC31A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7D6E-815A-4913-B436-25FF5D9E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14F5-A6D5-47C9-9BFF-18EB193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7A3B-2ED2-423F-8506-2E063B9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B1F2-2B5A-4C39-8D94-BBA936C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DF3-A6A2-4689-86FF-ABA9B093C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AF37-B3C2-4415-87BB-F8E1351F4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http://oberon.seversk.ru/images/stories/ppr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oberon.seversk.ru/images/stories/ppr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64/79600.htm" TargetMode="Externa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hyperlink" Target="http://klopp.ru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7;&#1076;&#1085;&#1077;&#1077;" TargetMode="External"/><Relationship Id="rId2" Type="http://schemas.openxmlformats.org/officeDocument/2006/relationships/hyperlink" Target="http://ru.wikipedia.org/wiki/&#1057;&#1088;&#1077;&#1076;&#1085;&#1077;&#1077;" TargetMode="External"/><Relationship Id="rId3" Type="http://schemas.openxmlformats.org/officeDocument/2006/relationships/hyperlink" Target="http://ru.wikipedia.org/wiki/&#1057;&#1088;&#1077;&#1076;&#1085;&#1077;&#1077;" TargetMode="External"/><Relationship Id="rId4" Type="http://schemas.openxmlformats.org/officeDocument/2006/relationships/hyperlink" Target="http://ru.wikipedia.org/wiki/&#1057;&#1088;&#1077;&#1076;&#1085;&#1077;&#1077;" TargetMode="External"/><Relationship Id="rId5" Type="http://schemas.openxmlformats.org/officeDocument/2006/relationships/hyperlink" Target="http://ru.wikipedia.org/wiki/&#1057;&#1088;&#1077;&#1076;&#1085;&#1077;&#1077;" TargetMode="External"/><Relationship Id="rId6" Type="http://schemas.openxmlformats.org/officeDocument/2006/relationships/hyperlink" Target="http://www.cyberguru.ru/programming/pascal/turbopascal-encyclopaedia2-page5.html" TargetMode="External"/><Relationship Id="rId7" Type="http://schemas.openxmlformats.org/officeDocument/2006/relationships/hyperlink" Target="http://www.cyberguru.ru/programming/pascal/turbopascal-encyclopaedia2-page5.html" TargetMode="External"/><Relationship Id="rId8" Type="http://schemas.openxmlformats.org/officeDocument/2006/relationships/hyperlink" Target="http://www.cyberguru.ru/programming/pascal/turbopascal-encyclopaedia2-page5.html" TargetMode="External"/><Relationship Id="rId9" Type="http://schemas.openxmlformats.org/officeDocument/2006/relationships/hyperlink" Target="http://www.cyberguru.ru/programming/pascal/turbopascal-encyclopaedia2-page5.html" TargetMode="External"/><Relationship Id="rId10" Type="http://schemas.openxmlformats.org/officeDocument/2006/relationships/hyperlink" Target="http://www.cyberguru.ru/programming/pascal/turbopascal-encyclopaedia2-page5.html" TargetMode="External"/><Relationship Id="rId11" Type="http://schemas.openxmlformats.org/officeDocument/2006/relationships/hyperlink" Target="http://www.cyberguru.ru/programming/pascal/turbopascal-encyclopaedia2-page5.html" TargetMode="External"/><Relationship Id="rId12" Type="http://schemas.openxmlformats.org/officeDocument/2006/relationships/hyperlink" Target="http://www.cyberguru.ru/programming/pascal/turbopascal-encyclopaedia2-page5.html" TargetMode="External"/><Relationship Id="rId13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4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5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6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7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8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9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0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.xml"/><Relationship Id="rId26" Type="http://schemas.openxmlformats.org/officeDocument/2006/relationships/hyperlink" Target="http://klopp.ru/" TargetMode="External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2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3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4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5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6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7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8" Type="http://schemas.openxmlformats.org/officeDocument/2006/relationships/hyperlink" Target="http://www.statsoft.ru/home/portal/glossary/glossarytwo/M%5CMedian.htm" TargetMode="External"/><Relationship Id="rId9" Type="http://schemas.openxmlformats.org/officeDocument/2006/relationships/hyperlink" Target="http://www.statsoft.ru/home/portal/glossary/glossarytwo/M%5CMedian.htm" TargetMode="External"/><Relationship Id="rId10" Type="http://schemas.openxmlformats.org/officeDocument/2006/relationships/hyperlink" Target="http://www.statsoft.ru/home/portal/glossary/glossarytwo/M%5CMedian.htm" TargetMode="External"/><Relationship Id="rId11" Type="http://schemas.openxmlformats.org/officeDocument/2006/relationships/hyperlink" Target="http://www.statsoft.ru/home/portal/glossary/glossarytwo/M%5CMedian.htm" TargetMode="External"/><Relationship Id="rId12" Type="http://schemas.openxmlformats.org/officeDocument/2006/relationships/hyperlink" Target="http://www.statsoft.ru/home/portal/glossary/glossarytwo/M%5CMedian.htm" TargetMode="External"/><Relationship Id="rId13" Type="http://schemas.openxmlformats.org/officeDocument/2006/relationships/hyperlink" Target="http://www.statsoft.ru/home/portal/glossary/glossarytwo/M%5CMedian.htm" TargetMode="External"/><Relationship Id="rId14" Type="http://schemas.openxmlformats.org/officeDocument/2006/relationships/hyperlink" Target="http://www.statsoft.ru/home/portal/glossary/glossarytwo/M%5CMedian.htm" TargetMode="External"/><Relationship Id="rId15" Type="http://schemas.openxmlformats.org/officeDocument/2006/relationships/hyperlink" Target="http://www.statsoft.ru/home/portal/glossary/glossarytwo/M%5CMedian.htm" TargetMode="External"/><Relationship Id="rId16" Type="http://schemas.openxmlformats.org/officeDocument/2006/relationships/hyperlink" Target="http://www.statsoft.ru/home/portal/glossary/glossarytwo/M%5CMedian.htm" TargetMode="External"/><Relationship Id="rId17" Type="http://schemas.openxmlformats.org/officeDocument/2006/relationships/hyperlink" Target="http://www.statsoft.ru/home/portal/glossary/glossarytwo/M%5CMedian.htm" TargetMode="External"/><Relationship Id="rId18" Type="http://schemas.openxmlformats.org/officeDocument/2006/relationships/hyperlink" Target="http://www.statsoft.ru/home/portal/glossary/glossarytwo/M%5CMedian.htm" TargetMode="External"/><Relationship Id="rId19" Type="http://schemas.openxmlformats.org/officeDocument/2006/relationships/hyperlink" Target="http://nirvana.tomsk.ru/dictionary?id=9&amp;word=%EC%E5%E4%E8%E0%ED%E0/" TargetMode="External"/><Relationship Id="rId20" Type="http://schemas.openxmlformats.org/officeDocument/2006/relationships/hyperlink" Target="http://dic.academic.ru/dic.nsf/bse/166012/&#1052;&#1077;&#1076;&#1080;&#1072;&#1085;&#1072;" TargetMode="External"/><Relationship Id="rId21" Type="http://schemas.openxmlformats.org/officeDocument/2006/relationships/hyperlink" Target="http://dic.academic.ru/dic.nsf/bse/166012/&#1052;&#1077;&#1076;&#1080;&#1072;&#1085;&#1072;" TargetMode="External"/><Relationship Id="rId22" Type="http://schemas.openxmlformats.org/officeDocument/2006/relationships/hyperlink" Target="http://dic.academic.ru/dic.nsf/bse/166012/&#1052;&#1077;&#1076;&#1080;&#1072;&#1085;&#1072;" TargetMode="External"/><Relationship Id="rId23" Type="http://schemas.openxmlformats.org/officeDocument/2006/relationships/hyperlink" Target="http://dic.academic.ru/dic.nsf/bse/166012/&#1052;&#1077;&#1076;&#1080;&#1072;&#1085;&#1072;" TargetMode="External"/><Relationship Id="rId24" Type="http://schemas.openxmlformats.org/officeDocument/2006/relationships/hyperlink" Target="http://dic.academic.ru/dic.nsf/bse/166012/&#1052;&#1077;&#1076;&#1080;&#1072;&#1085;&#1072;" TargetMode="External"/><Relationship Id="rId25" Type="http://schemas.openxmlformats.org/officeDocument/2006/relationships/hyperlink" Target="http://dic.academic.ru/dic.nsf/bse/166012/&#1052;&#1077;&#1076;&#1080;&#1072;&#1085;&#1072;" TargetMode="External"/><Relationship Id="rId26" Type="http://schemas.openxmlformats.org/officeDocument/2006/relationships/hyperlink" Target="http://dic.academic.ru/dic.nsf/bse/166012/&#1052;&#1077;&#1076;&#1080;&#1072;&#1085;&#1072;" TargetMode="External"/><Relationship Id="rId27" Type="http://schemas.openxmlformats.org/officeDocument/2006/relationships/slide" Target="slide18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2.xml"/><Relationship Id="rId31" Type="http://schemas.openxmlformats.org/officeDocument/2006/relationships/slide" Target="slide2.xml"/><Relationship Id="rId32" Type="http://schemas.openxmlformats.org/officeDocument/2006/relationships/hyperlink" Target="http://klopp.ru/" TargetMode="External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207574" TargetMode="External"/><Relationship Id="rId2" Type="http://schemas.openxmlformats.org/officeDocument/2006/relationships/hyperlink" Target="http://dic.academic.ru/dic.nsf/enc3p/207574" TargetMode="External"/><Relationship Id="rId3" Type="http://schemas.openxmlformats.org/officeDocument/2006/relationships/hyperlink" Target="http://dic.academic.ru/dic.nsf/enc3p/207574" TargetMode="External"/><Relationship Id="rId4" Type="http://schemas.openxmlformats.org/officeDocument/2006/relationships/hyperlink" Target="http://dic.academic.ru/dic.nsf/enc3p/207574" TargetMode="External"/><Relationship Id="rId5" Type="http://schemas.openxmlformats.org/officeDocument/2006/relationships/hyperlink" Target="http://dic.academic.ru/dic.nsf/enc3p/207574" TargetMode="External"/><Relationship Id="rId6" Type="http://schemas.openxmlformats.org/officeDocument/2006/relationships/hyperlink" Target="http://www.cultinfo.ru/fulltext/1/001/008/079/808.htm" TargetMode="External"/><Relationship Id="rId7" Type="http://schemas.openxmlformats.org/officeDocument/2006/relationships/hyperlink" Target="http://www.cultinfo.ru/fulltext/1/001/008/079/808.htm" TargetMode="External"/><Relationship Id="rId8" Type="http://schemas.openxmlformats.org/officeDocument/2006/relationships/hyperlink" Target="http://www.cultinfo.ru/fulltext/1/001/008/079/808.htm" TargetMode="External"/><Relationship Id="rId9" Type="http://schemas.openxmlformats.org/officeDocument/2006/relationships/hyperlink" Target="http://www.cultinfo.ru/fulltext/1/001/008/079/808.htm" TargetMode="External"/><Relationship Id="rId10" Type="http://schemas.openxmlformats.org/officeDocument/2006/relationships/hyperlink" Target="http://www.cultinfo.ru/fulltext/1/001/008/079/808.htm" TargetMode="Externa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.xml"/><Relationship Id="rId16" Type="http://schemas.openxmlformats.org/officeDocument/2006/relationships/hyperlink" Target="http://klopp.ru/" TargetMode="Externa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urosoft.ru/rus/product/book/hrv-2/chapter5.aspx" TargetMode="External"/><Relationship Id="rId2" Type="http://schemas.openxmlformats.org/officeDocument/2006/relationships/hyperlink" Target="http://www.neurosoft.ru/rus/product/book/hrv-2/chapter5.aspx" TargetMode="External"/><Relationship Id="rId3" Type="http://schemas.openxmlformats.org/officeDocument/2006/relationships/hyperlink" Target="http://www.neurosoft.ru/rus/product/book/hrv-2/chapter5.aspx" TargetMode="External"/><Relationship Id="rId4" Type="http://schemas.openxmlformats.org/officeDocument/2006/relationships/hyperlink" Target="http://www.neurosoft.ru/rus/product/book/hrv-2/chapter5.aspx" TargetMode="External"/><Relationship Id="rId5" Type="http://schemas.openxmlformats.org/officeDocument/2006/relationships/hyperlink" Target="http://www.neurosoft.ru/rus/product/book/hrv-2/chapter5.aspx" TargetMode="External"/><Relationship Id="rId6" Type="http://schemas.openxmlformats.org/officeDocument/2006/relationships/hyperlink" Target="http://www.neurosoft.ru/rus/product/book/hrv-2/chapter5.aspx" TargetMode="External"/><Relationship Id="rId7" Type="http://schemas.openxmlformats.org/officeDocument/2006/relationships/hyperlink" Target="http://www.neurosoft.ru/rus/product/book/hrv-2/chapter5.aspx" TargetMode="External"/><Relationship Id="rId8" Type="http://schemas.openxmlformats.org/officeDocument/2006/relationships/hyperlink" Target="http://www.neurosoft.ru/rus/product/book/hrv-2/chapter5.aspx" TargetMode="External"/><Relationship Id="rId9" Type="http://schemas.openxmlformats.org/officeDocument/2006/relationships/hyperlink" Target="http://www.neurosoft.ru/rus/product/book/hrv-2/chapter5.aspx" TargetMode="Externa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.xml"/><Relationship Id="rId15" Type="http://schemas.openxmlformats.org/officeDocument/2006/relationships/hyperlink" Target="http://klopp.ru/" TargetMode="Externa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xualdysfunction.ru/148.html" TargetMode="External"/><Relationship Id="rId2" Type="http://schemas.openxmlformats.org/officeDocument/2006/relationships/hyperlink" Target="http://www.sexualdysfunction.ru/148.html" TargetMode="External"/><Relationship Id="rId3" Type="http://schemas.openxmlformats.org/officeDocument/2006/relationships/hyperlink" Target="http://www.sexualdysfunction.ru/148.html" TargetMode="External"/><Relationship Id="rId4" Type="http://schemas.openxmlformats.org/officeDocument/2006/relationships/hyperlink" Target="http://www.sexualdysfunction.ru/148.html" TargetMode="External"/><Relationship Id="rId5" Type="http://schemas.openxmlformats.org/officeDocument/2006/relationships/slide" Target="slide23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hyperlink" Target="http://klopp.ru/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eam.ru/publications/finances/section_11/article_3389/" TargetMode="External"/><Relationship Id="rId2" Type="http://schemas.openxmlformats.org/officeDocument/2006/relationships/hyperlink" Target="http://www.iteam.ru/publications/finances/section_11/article_3389/" TargetMode="External"/><Relationship Id="rId3" Type="http://schemas.openxmlformats.org/officeDocument/2006/relationships/hyperlink" Target="http://www.iteam.ru/publications/finances/section_11/article_3389/" TargetMode="External"/><Relationship Id="rId4" Type="http://schemas.openxmlformats.org/officeDocument/2006/relationships/hyperlink" Target="http://www.iteam.ru/publications/finances/section_11/article_3389/" TargetMode="External"/><Relationship Id="rId5" Type="http://schemas.openxmlformats.org/officeDocument/2006/relationships/hyperlink" Target="http://www.iteam.ru/publications/finances/section_11/article_3389/" TargetMode="External"/><Relationship Id="rId6" Type="http://schemas.openxmlformats.org/officeDocument/2006/relationships/hyperlink" Target="http://www.iteam.ru/publications/finances/section_11/article_3389/" TargetMode="External"/><Relationship Id="rId7" Type="http://schemas.openxmlformats.org/officeDocument/2006/relationships/hyperlink" Target="http://www.iteam.ru/publications/finances/section_11/article_3389/" TargetMode="Externa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.xml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imate.mecom.ru/bulletins/2002/index.html" TargetMode="External"/><Relationship Id="rId2" Type="http://schemas.openxmlformats.org/officeDocument/2006/relationships/hyperlink" Target="http://climate.mecom.ru/bulletins/2002/index.html" TargetMode="External"/><Relationship Id="rId3" Type="http://schemas.openxmlformats.org/officeDocument/2006/relationships/hyperlink" Target="http://climate.mecom.ru/bulletins/2002/index.html" TargetMode="External"/><Relationship Id="rId4" Type="http://schemas.openxmlformats.org/officeDocument/2006/relationships/hyperlink" Target="http://climate.mecom.ru/bulletins/2002/index.html" TargetMode="External"/><Relationship Id="rId5" Type="http://schemas.openxmlformats.org/officeDocument/2006/relationships/hyperlink" Target="http://climate.mecom.ru/bulletins/2002/index.html" TargetMode="External"/><Relationship Id="rId6" Type="http://schemas.openxmlformats.org/officeDocument/2006/relationships/hyperlink" Target="http://climate.mecom.ru/bulletins/2002/index.html" TargetMode="Externa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.xml"/><Relationship Id="rId12" Type="http://schemas.openxmlformats.org/officeDocument/2006/relationships/image" Target="../media/image7.png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3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2.xml"/><Relationship Id="rId5" Type="http://schemas.openxmlformats.org/officeDocument/2006/relationships/hyperlink" Target="http://oberon.seversk.ru/images/stories/ppr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тистические характеристики на уроке алге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та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чисел может иметь более одной моды, а может не иметь моды совсем. Например, 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, 46, 50, 52, 47, 52, 49, 45, 43, 53, 53, 47, 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моды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это числа 47 и 52, так как каждое из них встречается в ряду по три раза, а остальные числа  — менее трех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, 68, 66, 70, 67, 62, 71, 74, 63, 73,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ы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моду ряд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1, 32, 11, 75, 96, 13, 55        б)35, 41, 35, 67, 14,  7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0, 31, 54, 95, 11                     г)12, 35, 5, 7, 9, 12, 6, 35, 234,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е.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гда интересны не только средние значение или медиана, но и другие величины, связанные с наборами различны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большие и наименьшие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о интересуют нас в самых разны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мы хотим узнать кто победил в прыжках в длину в соревнованиях класса, то выберем того, кто прыгнул дальше всех, т.е. выберем наибольший результат. В соревнованиях по бегу победителем считается тот, кто пробежал быстрее всех, т.е. показал наименьше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зность между наибольшим и наименьшим числом называется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бор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ы узнали, что размах показывает, насколько велико рассеивание значений в числовом набор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исследование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8936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Раз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наибольшее и наименьшее значение и размах данного набор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12, 7, 25, 3, 19, 15         б) 17, 19, 5, 41, 47, 13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57600">
            <a:off x="6659640" y="3499920"/>
            <a:ext cx="107928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ое свойство откло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мма отклонений чисел от среднего арифметического этих чисел равна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имера возьмем набор 1, 6, 7, 9,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м среднее арифметическое: (1+6+7+9+12) : 5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ем отклонение каждого числа от сред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7=-6    6-7=-1   7-7=0   9-7=2   12-7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ся новый набор, который состоит из откло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число меньше среднего, то его отклонение отрицательно, если число больше среднего, то его отклонение полож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е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73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судить о разбросе, принято складывать не сами отклонения, а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вадраты отклонений неотрицательны, поэтому сумма квадратов отклонений зависит только от абсолютных величин отклонений, а не от их зна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больше отклонения чисел от среднего арифметического, тем больше будет сумма квадратов откло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мера разброса чисел не зависела от их количества в наборе, в качестве такой меры берут среднее арифметическое квадратов отклонений. Эту величину называют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е арифметическое квадратов отклонений от среднего значения называется в статисти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бора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я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наборов. Дисперсия, какого набора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7 и 1, 2, 3;       б)2, 3, 4, 7 и 1, 5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этих наборов. Сравните дисперс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4 и 6, 7, 8;     б) 3, 5, 7, 9 и 12, 14, 16, 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03800">
            <a:off x="6948360" y="4149360"/>
            <a:ext cx="107964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жем на простом примере, как дисперсия характеризует разброс наблюдений. Возьмём два набора чисел 1, 2, 3 и 0, 2, 4. Среднее арифметическое значение обоих наборов равно 2. Для обоих наборов вычислим отклонения и квадраты отклонений, и все данные занесём в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в первом наборе расположены более кучно – ближе  друг к  другу и к своему среднему значению,- чем числа во втором наборе. Поэтому дисперсия первого набора получилась меньше, чем втор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8000" y="2924280"/>
          <a:ext cx="6120000" cy="1641240"/>
        </p:xfrm>
        <a:graphic>
          <a:graphicData uri="http://schemas.openxmlformats.org/drawingml/2006/table">
            <a:tbl>
              <a:tblPr/>
              <a:tblGrid>
                <a:gridCol w="863640"/>
                <a:gridCol w="1177920"/>
                <a:gridCol w="1020960"/>
                <a:gridCol w="896760"/>
                <a:gridCol w="1143000"/>
                <a:gridCol w="1017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зность между наибольшим и наименьшим значениями результатов наблюдений. Пусть X1, ..., Xn — взаимно независимые случайные величины с функцией распределения F (x)и плотностью вероятности f (x). В этом случае размах Wn определяется как разность между наибольшим и наименьшим значениями среди X1, ..., Xn; размах Wn представляет собой случайную величину, которой соответствует функция распред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w³ 0; если w &lt; 0, то P {W £ w}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тематической статистике Р., надлежащим образом нормированный, применяется как оценка неизвестного квадратичного отклонения. Например, если Xk имеют нормальное распределение с параметрами (а, s), то при n =5 и 10, соответственно, величины 0,4299W5 и 0,3249W10 будут несмещенными оценками s. Такие оценки часто используют при статистическом контроле качества, поскольку определение Р. нескольких результатов измерений не требует сложных вычис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. : Хальд А. , Математическая статистика с техническими приложениями, пер. с англ., М., 1956.(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slovari.yandex.ru/dict/bse/article/00064/79600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числовая характеристика множества чисел или функций; — некоторое число, заключённое между наименьшим и наибольшим из их значений.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Сред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или арифметическое среднее наиболее широко используется в статистике. Это одно значение может использоваться для представления некоторого набора данных. В этом случае среднее значение можно назвать "центром тяжести" этого набора. Среднее значение вычисляется следующим образом: складываются все значения выборки и результат делится на общее число значений. Например, сумма набора значений.   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yberguru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programmin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pasc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/turbopascal-encyclopaedia2-page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— числовая характеристика множества чисел или числовых функций; — некоторое число, заключенное между наименьшим и наибольшим из их значений; а также множественно-значная характеристика совокупности множеств или сет-функций; — некоторое множество, содержащее пересечение и содержащееся в объединении этих множ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.wikiznanie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ru-wz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index.ph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Среднее_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Наибольшее и наименьшее значение. Раз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От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Словарь.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Для тех, кто хочет знать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татистика вокруг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Исследование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Приглашаем вас к сотрудни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ть  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 rot="688800">
            <a:off x="3563640" y="1483920"/>
            <a:ext cx="5713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dispersio — рассеяние), в математической статистике и теории вероятностей, наиболее употребительная мера рассеивания, т. е. отклонения от среднего. В статистическом понимании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реднее арифметическое из квадратов отклонений величин xi от их среднего ариф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50-й процентиль, квантиль 0,5) — возможное значение признака, которое делит ранжированную совокупность (вариационный ряд выборки) на две равные части: 50 % «нижних» единиц ряда данных будут иметь значение признака не больше, чем медиана, а «верхние» 50 % — значения признака не меньше, чем медиана.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6"/>
              </a:rPr>
              <a:t>Медиана_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7"/>
              </a:rPr>
              <a:t>(статистика)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термин был впервые введен Гальтоном, 1882) выборки - это значение, которое разбивает выборку на две равные части (при ранжировании). Половина наблюдений лежит ниже медианы, и половина наблюдений лежит выше медианы. Если число наблюдений в выборке нечетно, то медиана вычисляется как среднее двух средних знач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8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9"/>
              </a:rPr>
              <a:t>www.stat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1"/>
              </a:rPr>
              <a:t>hom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3"/>
              </a:rPr>
              <a:t>port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5"/>
              </a:rPr>
              <a:t>glossa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7"/>
              </a:rPr>
              <a:t>glossarytwo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8"/>
              </a:rPr>
              <a:t>/M%5CMedian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- в статистике - значение варьирующего признака, которое де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распределения на две равные части по объему частот или частностей. Су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бсолютных величин линейных отклонений от медианы минима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9"/>
              </a:rPr>
              <a:t>http://nirvana.tomsk.ru/dictionary?id=9&amp;word=%EC%E5%E4%E8%E0%ED%E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от латинского mediana — средняя)  в геометрии, отрезок, соединяющий одну из вершин треугольника с серединой противоположной стороны. Три М. треугольника пересекаются в одной точке, которую иногда называют «центром тяжести» треугольника, так как именно в этой точке находится центр тяжести однородной треугольной пластинки (а также центр тяжести системы трёх равных масс, помещенных в вершинах треугольника). Точка пересечения М. делит каждую из них в отношении 2 : 1 (считая от вершины к основанию)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1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3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5"/>
              </a:rPr>
              <a:t>bs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6"/>
              </a:rPr>
              <a:t>/166012/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 rot="358200">
            <a:off x="7308720" y="62064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-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функция не имеет большего (меньшего) значения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enc3p/20757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и,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множества функция не имеет большего (меньшего) значения. Н. и н. з. ф. по сравнению с её значениями во всех достаточно близких точках называются экстремумами (соответственно максимумами и минимумами) функции. Н. и н. з. ф., заданной на отрезке, могут достигаться либо в точках, где производная равна нулю, либо в точках, где она не существует, либо на концах отрезка. Непрерывная функция, заданная на отрезке, обязательно достигает на нём наибольшего и наименьшего значений; если же непрерывную функцию рассматривать на интервале (т. е. отрезке с исключенными концами), то среди её значений на этом интервале может не оказаться наибольшего или наименьшего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ultinfo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fulltex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1/001/008/079/808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                                                           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юме к глав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ели ВРС у здоровых людей. Оценка «здоровья здорового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ве суммируются собственные наблюдения и результаты ряда работ, которые позволяют следующим образом сформулировать основные параметры ВРС, характерные для здорового человека. В таблицах 5-2 - 5-4 приведены показатели математического анализа ВРС, полученные при обследовании практически здоровых лиц молодого возраста. Учитывая, что распределение показателей ВРС отличается от нормального, все данные представлены в вид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ди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интеркванти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терквантильный размах указывается в виде 25% и 75% перцент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neuro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duc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boo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hrv-2/chapter5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тика по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behavioralge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 мы можем определить наследуемость как отношение генетическ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пер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общей, или фенотипической, дисперсии: h2 = VG/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exualdysfunction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148.html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нализе валовой прибыли изучаются причины, вызывающие ее изменение, соответствующие факторы отражаются в отчете и позволяют принять корректирующ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цене продажи и в затратах на единицу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объеме прода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ассортименте прода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для согласования фактических операций с бюджетными значениями получаются на основе анализа изменений между фактическими и бюджетными операциями за текущий год, между фактическими операциями предыдущего года и соответствующими операциями текущего года. Могут рассматриваться изменения в валовой прибыли всей компании или выбранной продуктов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iteam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ublication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inance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section_11/article_338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регионам РФ анома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годов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клонение от средней темп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рная кривая показывает 11-лет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зящее сред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н линейный тренд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limate.mecom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ulletin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2002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4555800" cy="482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2000" y="62064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 средней заработной платы работников предприятия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д оплаты труда составляет 40000 единиц, работников всего 100, следовательно, средняя заработная плата составляет 40000/100 = 400 единиц. Однако эт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арифметическая велич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но не соответствует интуитивному представлению о "средней зарплате". Из 100 работников лишь 5 имеют заработную плату, ее превышающую, а зарплата остальных 95 существенно меньше средней арифметической. Причина очевидна - заработная плата одного человека - генерального директора - превышает заработную плату 95 работников -  низкоквалифицированных и высококвалифицированных рабочих, инженеров и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ых табл.1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ди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среднее арифметическое 50-го и 51-го работника, если их заработные платы расположены в порядке неубывания. Сначала идут зарплаты 40 низкоквалифицированных рабочих, а затем - с 41-го до 70-го работника - заработные платы высококвалифицированных рабочих. Следовательно, медиана попадает именно  на них и равна 200. У 50-ти работников заработная плата не превосходит 200, и у 50-ти - не менее 200, поэтому медиана показывает "центр", около которого группируется основная масса исследуемых велич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одн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величина - м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иболее часто встречающееся значение. В рассматриваемом случае это заработная плата низкоквалифицируемых рабочих, т.е. 100. Таким образом, для описания зарплаты имеем три средние величины - моду (100 единиц), медиану (200 единиц) и среднее арифметическое (400 единиц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ающихся в реальной жизни распределений доходов и заработной платы справедлива та же закономерность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да меньше медианы, а медиана меньше среднего арифметического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981080"/>
          <a:ext cx="4392720" cy="313236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936720"/>
                <a:gridCol w="863640"/>
                <a:gridCol w="9367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работн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рные доход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женеры и служащ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ладелец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43280" y="6165720"/>
            <a:ext cx="439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5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лашаем к сотруд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аем успехов и уда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бедев Александр Станиславович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рж Галина Юрьевна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асточкина Ольга Геннадьевна –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21462600">
            <a:off x="0" y="213336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183000">
            <a:off x="6086160" y="2133360"/>
            <a:ext cx="2916360" cy="23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ша ц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крыть особенности статистических характеристик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Изучить и обобщить собранный материал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Создать творческую разработку в виде реферата, медиапродукта и приложений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Научиться решать и составлять задачи по стати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ыявить удиви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начать  исследование с рассмотрения  основных положений описательной статистики с разных точек зрения, то отыщутся различные объяснения и ключи понимания её знач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тельная 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ее арифметическое, медиана, размах и  мода, наибольшее и наименьшее значения, отклонения и диспе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4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ределение.  Средним арифметическим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кольких чисел называется число, равное отношению суммы этих чисел к их кол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и словами, среднее арифметическое - это дробь, в числителе которой стоит сумма чисел, а в знаменателе - их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ычислениям средних значений прибегают во многих задач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170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49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чала»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0186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ы профессиональный статист, то чем бы тебе пришлось  заним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бы ты решал статистические задачи и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области знаний человечества они принадлежа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ь данных характеристик в описательной статис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?? 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ыдвигаем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ужно понимать под терминами «статистика», «числовой   ряд», «среднее арифметическое», «медиана», «размах» и «мод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чем нужны эти статистические характерис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ожно ли их сравнивать? Чем объясняются отлич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ая из характеристик наиболее полно отражает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ие задачи можно реш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иски подхода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 выяснить, существуют ли различные способы и методы реш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акой области научных знаний принадлежат  задачи описательной статисти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ерии «Школьная статистика»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7280" y="177300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ьте упорядоченный набор чисел, вычислите среднее арифметическое,  медиану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разм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моду, если учащиеся считают, что в учебе предпрофильная подготовк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ает значительно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ла, но не значительно-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ктически не помогла-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73360"/>
            <a:ext cx="914400" cy="1079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97360"/>
            <a:ext cx="792000" cy="432000"/>
          </a:xfrm>
          <a:prstGeom prst="can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720720" cy="865080"/>
          </a:xfrm>
          <a:prstGeom prst="can">
            <a:avLst>
              <a:gd name="adj" fmla="val 165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60360" y="48690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се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Школьная статистика»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коле открыты классы по некоторым образовательным направлениям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авьте упорядоченный набор чисел, вычислите среднее арифметическое,  медиану, размах и м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47640" y="2870280"/>
          <a:ext cx="590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70280"/>
                    <a:ext cx="590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42920" y="506412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меча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е для нахождения статистических характеристик могут быть оформлены в виде диаграмм, а могут -  в виде 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ологический 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197000"/>
            <a:ext cx="403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Исследования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ISA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выделить главную мысль 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находить заданную информацию в т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связности и последовательности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Школьн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м же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2924280"/>
            <a:ext cx="165600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136872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1916280"/>
            <a:ext cx="151128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3933720"/>
            <a:ext cx="2232000" cy="647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716280"/>
            <a:ext cx="1152720" cy="57456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852640"/>
            <a:ext cx="1871640" cy="57492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5820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 №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ьте два набора чисел. Вычислите отклонения от среднего и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хники чтения в 5-9 класса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следние 5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276640"/>
          <a:ext cx="8064360" cy="2329920"/>
        </p:xfrm>
        <a:graphic>
          <a:graphicData uri="http://schemas.openxmlformats.org/drawingml/2006/table">
            <a:tbl>
              <a:tblPr/>
              <a:tblGrid>
                <a:gridCol w="666720"/>
                <a:gridCol w="933480"/>
                <a:gridCol w="933480"/>
                <a:gridCol w="666720"/>
                <a:gridCol w="733320"/>
                <a:gridCol w="733320"/>
                <a:gridCol w="733320"/>
                <a:gridCol w="696960"/>
                <a:gridCol w="820800"/>
                <a:gridCol w="1146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767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4579560"/>
            <a:ext cx="68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ьте упорядоченные ряды. Найдите медиану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од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Вычислите наибольшее и наименьшее значения, отклонения. Вычислите дисперсию (это можно будет выполнить, если будете читать дальш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412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рму вычитывают  около 62% процентов учащихся, выше нормы 16%, ниже нормы 21%. При скоростном чтении допускают ошибки примерно 37% учащихся.Мы заметили, что  техника чтения  в 6 и резко в ..7 классах падает и ниже нормы соответственно  на 24% и 40%, увеличивается процент читающих хуже до 31%  в 7 клас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пилку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веты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еоретические сведения и д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ери путь, по которому может пойти 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решил задачу , подумай над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ивление полученным результатом рождает мысль  и ведет к новым исслед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орядочи числовой набор, т.е. запиши числа в порядке возра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найти медиану,  в числовом наборе нужно выбрать одно  число посеред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ва  числа и найти их  полу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864000">
            <a:off x="1763640" y="515772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 смысложизненных ориентиров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1000000">
            <a:off x="865080" y="190944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955600">
            <a:off x="6516720" y="1773000"/>
            <a:ext cx="1655640" cy="1172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767400">
            <a:off x="6156000" y="3645000"/>
            <a:ext cx="1563480" cy="1173240"/>
          </a:xfrm>
          <a:prstGeom prst="rect">
            <a:avLst/>
          </a:prstGeom>
          <a:ln w="63360">
            <a:solidFill>
              <a:srgbClr val="99ccff"/>
            </a:solidFill>
            <a:miter/>
          </a:ln>
        </p:spPr>
      </p:pic>
      <p:sp>
        <p:nvSpPr>
          <p:cNvPr id="243" name=""/>
          <p:cNvSpPr/>
          <p:nvPr/>
        </p:nvSpPr>
        <p:spPr>
          <a:xfrm rot="20598600">
            <a:off x="1115640" y="3068280"/>
            <a:ext cx="143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598600">
            <a:off x="1185840" y="3570120"/>
            <a:ext cx="1297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486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2924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479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306864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584360" cy="102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1727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ассмотрим данные о производстве пшеницы в России в 1995-2001гг.(в миллионах тонн).Они приведены в таблиц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изводство пшеницы в России в 1995-2001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к видно из таблицы 1,производство пшеницы в разные годы различается. Оно зависит от погодных условий, площади посева и других обстоятельств. Поэтому производство пшеницы за один год не даёт полного представления об уровне производства пшеницы в стране. Для этой цели лучше использовать среднее значение за ряд лет. По данным таблицы мы можем вычислить среднее производство пшеницы за 7 лет. Для этого надо сложить годовые сборы пшеницы и затем сумму разделить на число слагаемых. В данном случае получ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0,1+34,9+44,3+27,0+31,0+34,5+47,0)/7=3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м, что среднее производство пшеницы в России за рассматриваемый период 1995-2001гг. составляло приблизительно 35,5 млн. тонн в год. Вычисленное нами значение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средним арифметическ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ли прост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ед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76640"/>
          <a:ext cx="7093080" cy="655560"/>
        </p:xfrm>
        <a:graphic>
          <a:graphicData uri="http://schemas.openxmlformats.org/drawingml/2006/table">
            <a:tbl>
              <a:tblPr/>
              <a:tblGrid>
                <a:gridCol w="1500480"/>
                <a:gridCol w="731520"/>
                <a:gridCol w="648000"/>
                <a:gridCol w="720720"/>
                <a:gridCol w="831600"/>
                <a:gridCol w="889200"/>
                <a:gridCol w="885600"/>
                <a:gridCol w="885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6. Производство пшеницы в России в 1995-2001 г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ите по таблице среднее арифметическое производства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было производство пшеницы в 1996 г., в 2000 г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падает ли производство пшеницы в среднем за 7 лет со значением в каком-нибудь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ом году производство пшеницы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ибольшем                 б) Наименьшем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2205000"/>
          <a:ext cx="8496360" cy="919080"/>
        </p:xfrm>
        <a:graphic>
          <a:graphicData uri="http://schemas.openxmlformats.org/drawingml/2006/table">
            <a:tbl>
              <a:tblPr/>
              <a:tblGrid>
                <a:gridCol w="2124000"/>
                <a:gridCol w="684360"/>
                <a:gridCol w="803160"/>
                <a:gridCol w="955800"/>
                <a:gridCol w="955440"/>
                <a:gridCol w="954360"/>
                <a:gridCol w="1063440"/>
                <a:gridCol w="95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, млн.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49000">
            <a:off x="6080040" y="4610160"/>
            <a:ext cx="935280" cy="7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ько среднее арифметическое показывает, где на числов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ются числа какого-либо наб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м показателем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исло, которое разделяет набор чисел на две части, одинаковые по чис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сним на примерах, как найти медианы разных наборов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ьмём какой-нибудь набор различных чисел, например 1, 4, 7, 9, 11. Подберём числ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ак, чтобы в наборе оказалось поровну чисел, которые меньше и которые больше чем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пробу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5. Два числа в наборе меньше чем 5, но три числа больше чем 5. Значит, число 5 не г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ерь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7. Меньше числа 7 два числа, больше числа 7 тоже два числа. Следовательно, число 7 делит этот набор  на две равные части. Число 7-медиана набора чисел 1, 4, 7, 9,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этом примере набор состоял из 5 чисел, записанных в порядке возрастания. Медианой в этом случае оказывается число, стоящее в точности посере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Рассмотрим набор 1, 3, 6, 11. Числа тоже записаны по возрастанию, но их четыре, поэтому среди них нет числа, стоящего точно посередине. В таком случае нужно взять два числа, расположенных посередине, и вычислить их полу-су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+6):2=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дианой этого набора считают число 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 медиану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, 3, 5, 7, 9         б)1, 3, 5, 7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, 3, 5, 9, 11        г)1, 3, 5, 7, 9,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о, например, знать, какой расхож времени является типичным для выделенной группы учащихся, т.е. какое число встречается в ряду данных чаще вс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трудно заметить, что таким числом является число 25. Говорят, что число 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сматриваемо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дой ряда чисел называется число, которое встречается в данном ряду чащ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исследовани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9:14:58Z</dcterms:created>
  <dc:creator>XP GAME 2008</dc:creator>
  <dc:description/>
  <dc:language>en-US</dc:language>
  <cp:lastModifiedBy>User</cp:lastModifiedBy>
  <dcterms:modified xsi:type="dcterms:W3CDTF">2009-03-02T08:57:02Z</dcterms:modified>
  <cp:revision>32</cp:revision>
  <dc:subject/>
  <dc:title>Название презентации</dc:title>
</cp:coreProperties>
</file>