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C56-7C4F-4485-AFE8-4D411468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0EE-4C94-4D50-B58B-0DC4007A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1C1-C1DE-4B51-9B58-DD525A8E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DF7-E7D5-4FF1-9A20-9240FF7C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5B0-D7C9-4E7B-B83F-D9D31A38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223-9CC5-4FBE-99D8-C12859EF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37D5-04BB-4B27-AF7E-4097BDE1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198-1958-4803-923B-129A1FE0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237-300F-466C-AA9E-5A104B0E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7CC-C22F-404A-88F5-F1A7941A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F0D-E012-48F7-97F3-B788C7C4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1E9-B91A-4AE7-8BF1-03D35094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7736-6763-4220-AFAF-13FB0C9D8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611280" y="549360"/>
            <a:ext cx="828180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 октябр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 урока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р звезд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звезди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 1 (на отметку «3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Что такое звез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ая звезда самая близкая к Зем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 различаются звезды по цвету и яр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Что такое созвезд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 2. (на отметку «4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лните схему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з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значают эти циф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8, 15 000 00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6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3. (на отметку «5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товить рассказ о звездах и созвезд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H="1">
            <a:off x="1042920" y="3213000"/>
            <a:ext cx="237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4211640" y="33289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4716360" y="3213000"/>
            <a:ext cx="2664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. 34-35 прочитат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ть практическую работу стр 3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49200" y="42192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8:35:56Z</dcterms:created>
  <dc:creator>XTreme</dc:creator>
  <dc:description/>
  <dc:language>en-US</dc:language>
  <cp:lastModifiedBy>Авхадиева</cp:lastModifiedBy>
  <dcterms:modified xsi:type="dcterms:W3CDTF">2012-10-13T06:16:44Z</dcterms:modified>
  <cp:revision>27</cp:revision>
  <dc:subject/>
  <dc:title>Слайд 1</dc:title>
</cp:coreProperties>
</file>