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66B8-9130-43E7-871C-8E058D6F3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A366-5305-4AC1-9ABC-BD6F596E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3CB1-E00A-4D87-998E-9D7FE6551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1F88-365A-41B9-8127-038688876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821A-6647-4347-9C1A-9B8628AF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38A1-FBF6-4384-9463-48EEF722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C77B-F8D0-4234-8072-058593EA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B606-3D95-4B2C-B381-FA30EC12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A870-3692-4BFE-810A-15BE4A5B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095A-6CEA-44B8-B374-A663B1D1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598E-C8B6-46BE-A491-6939D5C7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B0ED-712D-4C48-B8EE-D5466F77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FF9A-E89C-482C-89C1-C7B74AABE3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611280" y="549360"/>
            <a:ext cx="8281800" cy="49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2 октября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а урока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ир звезд.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звездия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ь  1 (на отметку «3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Что такое звез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Какая звезда самая близкая к Земл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Как различаются звезды по цвету и ярко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Что такое созвезд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ь  2. (на отметку «4»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олните схему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ез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означают эти цифр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8, 15 000 00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6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ь 3. (на отметку «5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готовить рассказ о звездах и созвезд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4"/>
          <p:cNvSpPr/>
          <p:nvPr/>
        </p:nvSpPr>
        <p:spPr>
          <a:xfrm flipH="1">
            <a:off x="1042920" y="3213000"/>
            <a:ext cx="237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4"/>
          <p:cNvSpPr/>
          <p:nvPr/>
        </p:nvSpPr>
        <p:spPr>
          <a:xfrm>
            <a:off x="4211640" y="33289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>
            <a:off x="4716360" y="3213000"/>
            <a:ext cx="2664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. 34-35 прочитать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полнить практическую работу стр 38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349200" y="42192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08:35:56Z</dcterms:created>
  <dc:creator>XTreme</dc:creator>
  <dc:description/>
  <dc:language>en-US</dc:language>
  <cp:lastModifiedBy>Авхадиева</cp:lastModifiedBy>
  <dcterms:modified xsi:type="dcterms:W3CDTF">2012-10-13T06:16:44Z</dcterms:modified>
  <cp:revision>27</cp:revision>
  <dc:subject/>
  <dc:title>Слайд 1</dc:title>
</cp:coreProperties>
</file>