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788D3-80C7-4D16-A231-4D29A9D11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1DA9E-EE03-467B-92C1-DA5C234E3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62849-1891-4508-9AD2-1C396B8D8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525E6-75AB-4CA5-B0FC-AC92C5870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67A2F-95AA-4672-9D0A-A2676E791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A2968-C5FA-4BCE-8EA5-E4B1186E0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EF30B-2237-461E-B464-36C998A9C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3DBF2-79F7-4F7F-865C-36DC372B9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BF005-507B-4593-A81C-81CA0AC98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25D3C-EC13-43AB-A359-B238D321D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0B5E4-B973-4D02-B820-AA434F40D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B763B-8C76-4B7B-9174-DF4B565CF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957BF-F5B2-414B-8B52-47D502B93ED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WordArt 5"/>
          <p:cNvSpPr txBox="1"/>
          <p:nvPr/>
        </p:nvSpPr>
        <p:spPr>
          <a:xfrm>
            <a:off x="611280" y="549360"/>
            <a:ext cx="8281800" cy="496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12 октября.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Тема урока: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Мир звезд. 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озвездия.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0" y="26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асть  1 (на отметку «3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Что такое звезды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Какая звезда самая близкая к Земл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Как различаются звезды по цвету и яркост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Что такое созвезди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асть  2. (на отметку «4»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полните схему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вез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то означают эти цифры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88, 15 000 000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600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асть 3. (на отметку «5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готовить рассказ о звездах и созвездия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4"/>
          <p:cNvSpPr/>
          <p:nvPr/>
        </p:nvSpPr>
        <p:spPr>
          <a:xfrm flipH="1">
            <a:off x="1042920" y="3213000"/>
            <a:ext cx="23767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4"/>
          <p:cNvSpPr/>
          <p:nvPr/>
        </p:nvSpPr>
        <p:spPr>
          <a:xfrm>
            <a:off x="4211640" y="3328920"/>
            <a:ext cx="0" cy="39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4"/>
          <p:cNvSpPr/>
          <p:nvPr/>
        </p:nvSpPr>
        <p:spPr>
          <a:xfrm>
            <a:off x="4716360" y="3213000"/>
            <a:ext cx="266400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омашнее задание</a:t>
            </a: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тр. 34-35 прочитать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ыполнить практическую работу стр 38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0"/>
          <p:cNvSpPr/>
          <p:nvPr/>
        </p:nvSpPr>
        <p:spPr>
          <a:xfrm>
            <a:off x="349200" y="421920"/>
            <a:ext cx="18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1T08:35:56Z</dcterms:created>
  <dc:creator>XTreme</dc:creator>
  <dc:description/>
  <dc:language>en-US</dc:language>
  <cp:lastModifiedBy>Авхадиева</cp:lastModifiedBy>
  <dcterms:modified xsi:type="dcterms:W3CDTF">2012-10-13T06:16:44Z</dcterms:modified>
  <cp:revision>27</cp:revision>
  <dc:subject/>
  <dc:title>Слайд 1</dc:title>
</cp:coreProperties>
</file>