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E71B-F9C4-4B6B-8DAA-D9FE2C350E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A804-F4FD-490F-B8FA-0961BC258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2D5-6F71-47FA-BC6B-79BD8C72E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1994-3C09-475E-9DAE-D232E90DD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355E-9F74-4A0F-90C8-5115ACFE9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72A9-0A7D-4E06-8903-1B69D5804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665B-2EF5-465B-B930-D9D9FC59E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E258-AD70-47E2-8872-AC8BDB324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2CA0-71F9-4B27-B412-BE6482034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2AA-498E-4C2C-9897-47FDAEFD0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B314-3EF7-41B6-9E76-5C4C5C2A2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8AF8-62C9-481B-B52D-F3BC32266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E1A7-F4CC-40E7-A276-2BFED2E9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A361-6CDF-49E2-9C4C-B62D401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DA272-F9FD-416E-9406-A92F885F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2262-4251-4B83-8BAA-42A831E7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E1B4-7D8F-4AAE-BCB8-2D41DB64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228F-2A95-47CC-B3B6-D3132636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4511-EFA5-4FC9-ABC4-611630F2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8136-E98C-486A-85E0-4449B0FA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D5C4-AB2D-4953-A327-B1268F3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0CA3-1A9E-4130-8321-26B3A5B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B9EE-C291-4A3D-9FD2-25115359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CF54-986B-4E2B-BA4F-FFB25EFE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13B1-6072-41F4-BE48-66B93021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F110-3A4E-4FDC-B471-271C788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050F-765B-4D79-897C-6CAECF0A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6CBC-098F-41E1-A6E9-A71D82A7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4E6F-B993-47DD-A23A-16AF327B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7188-9915-462F-9088-1C649DEE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6D23-DDE6-49C7-B443-A934A244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2611-C2B8-4740-A6B2-39486223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65E4-D5B9-42E3-9F89-8E04323C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74FF-CBDE-4858-B298-0ECE5EA6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EFA4-C17C-45E3-9EAA-A441B4D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8F32-C241-4973-AFC8-7E4CB43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362E-0597-489B-A3BB-722B393B3D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BDD1-3AE0-41E8-B792-8178DC89B3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1640" y="182880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шиностроительное черчение. 9 класс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чения и разрезы. Виды и обозначение сеч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63440" y="1928880"/>
            <a:ext cx="83473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для практическ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321"/>
          <p:cNvPicPr/>
          <p:nvPr/>
        </p:nvPicPr>
        <p:blipFill>
          <a:blip r:embed="rId1"/>
          <a:stretch/>
        </p:blipFill>
        <p:spPr>
          <a:xfrm rot="21445200">
            <a:off x="4363920" y="1773360"/>
            <a:ext cx="4780080" cy="475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23"/>
          <p:cNvPicPr/>
          <p:nvPr/>
        </p:nvPicPr>
        <p:blipFill>
          <a:blip r:embed="rId2"/>
          <a:stretch/>
        </p:blipFill>
        <p:spPr>
          <a:xfrm>
            <a:off x="179280" y="1557360"/>
            <a:ext cx="3988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хнологические особенности в машиностроительных дета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"/>
          <p:cNvPicPr/>
          <p:nvPr/>
        </p:nvPicPr>
        <p:blipFill>
          <a:blip r:embed="rId1"/>
          <a:stretch/>
        </p:blipFill>
        <p:spPr>
          <a:xfrm>
            <a:off x="539640" y="220500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"/>
          <p:cNvPicPr/>
          <p:nvPr/>
        </p:nvPicPr>
        <p:blipFill>
          <a:blip r:embed="rId2"/>
          <a:stretch/>
        </p:blipFill>
        <p:spPr>
          <a:xfrm>
            <a:off x="4067280" y="2133720"/>
            <a:ext cx="1447560" cy="1923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6732720" y="2276640"/>
            <a:ext cx="1866600" cy="161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5"/>
          <p:cNvPicPr/>
          <p:nvPr/>
        </p:nvPicPr>
        <p:blipFill>
          <a:blip r:embed="rId4"/>
          <a:stretch/>
        </p:blipFill>
        <p:spPr>
          <a:xfrm>
            <a:off x="539640" y="458136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7"/>
          <p:cNvPicPr/>
          <p:nvPr/>
        </p:nvPicPr>
        <p:blipFill>
          <a:blip r:embed="rId5"/>
          <a:stretch/>
        </p:blipFill>
        <p:spPr>
          <a:xfrm>
            <a:off x="3348000" y="4581360"/>
            <a:ext cx="1943280" cy="17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9"/>
          <p:cNvPicPr/>
          <p:nvPr/>
        </p:nvPicPr>
        <p:blipFill>
          <a:blip r:embed="rId6"/>
          <a:stretch/>
        </p:blipFill>
        <p:spPr>
          <a:xfrm>
            <a:off x="6084720" y="4797360"/>
            <a:ext cx="1933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33333333333333333333333.JPG"/>
          <p:cNvPicPr/>
          <p:nvPr/>
        </p:nvPicPr>
        <p:blipFill>
          <a:blip r:embed="rId3"/>
          <a:stretch/>
        </p:blipFill>
        <p:spPr>
          <a:xfrm rot="120000">
            <a:off x="90000" y="845640"/>
            <a:ext cx="88916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олучения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812000" y="4221000"/>
            <a:ext cx="1076400" cy="125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56220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50828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28861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                    Налож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4788000" y="2205000"/>
            <a:ext cx="36716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3422160" y="407664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ры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"/>
          <p:cNvPicPr/>
          <p:nvPr/>
        </p:nvPicPr>
        <p:blipFill>
          <a:blip r:embed="rId3"/>
          <a:stretch/>
        </p:blipFill>
        <p:spPr>
          <a:xfrm>
            <a:off x="1979640" y="4797360"/>
            <a:ext cx="4680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нес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выполненная на свободном поле чер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оженная на продолжении следа секуще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3"/>
          <p:cNvPicPr/>
          <p:nvPr/>
        </p:nvPicPr>
        <p:blipFill>
          <a:blip r:embed="rId1"/>
          <a:stretch/>
        </p:blipFill>
        <p:spPr>
          <a:xfrm>
            <a:off x="755640" y="4149720"/>
            <a:ext cx="303840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"/>
          <p:cNvPicPr/>
          <p:nvPr/>
        </p:nvPicPr>
        <p:blipFill>
          <a:blip r:embed="rId2"/>
          <a:stretch/>
        </p:blipFill>
        <p:spPr>
          <a:xfrm>
            <a:off x="5003640" y="4076640"/>
            <a:ext cx="23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ж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агается непосредственно на виде (изображение фигуры сечения как бы накладывается на в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сечение: толщина обводки фигуры сечения – сплошная основ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иховка под углом 45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ное сечение:толщина обводки – сплошная тон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56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8:11:52Z</dcterms:created>
  <dc:creator>Гость</dc:creator>
  <dc:description/>
  <dc:language>en-US</dc:language>
  <cp:lastModifiedBy>Йа</cp:lastModifiedBy>
  <dcterms:modified xsi:type="dcterms:W3CDTF">2011-09-14T23:45:20Z</dcterms:modified>
  <cp:revision>7</cp:revision>
  <dc:subject/>
  <dc:title>Машиностроительное черчение</dc:title>
</cp:coreProperties>
</file>