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9.png" ContentType="image/png"/>
  <Override PartName="/ppt/media/image3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12DCC-6AB2-469A-A552-8409AD5F509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28942-D934-46B7-8F8C-2344C924F8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B382C-93C8-47FD-A1D8-90D94748AB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0D17C-03A7-44C2-86D5-CE1A40321A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8814F-2E6E-4387-BAC8-A35296D5E7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2DC4A-CAEB-4336-8C93-55888EE7B6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07A6A-696F-4AE8-9A9B-DC9B1FA504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C1410-2E53-4AFA-B223-8B14DA5B6B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55620-6D04-421A-AC19-A5FF25FEC9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1659D-E6AA-4F90-A7E6-FA96CF1D2B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54364-6E47-4ED8-8D4D-B478A83917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76291-5292-416B-92BD-992CE31AC9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13C4B-CEA8-4B59-9611-B2D4EB532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126EF-2E2C-4FBF-B77D-525DFA993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05711-0159-4B03-BE1F-6E7A45D33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D45FE-90F2-417E-B276-FA481BE63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F8C02-B39E-49C0-B709-C2D6AC6FD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829E4-5F27-4829-AE4A-9F8029639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47408-9669-432E-B432-5B244F844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F074A-C6F3-4DE2-A1F0-29E29D59E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26073-24C2-43EE-A374-9769C7B61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12D6A-B94B-4358-8A9D-F4ABD6CAE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F4090-7899-4F48-88DA-ACEED1BF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D9B4B-CD94-42E8-9309-305235E2B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21B44-5969-4DE5-A489-7F8D2581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0BFEF-D500-4DB4-AE66-F3C17420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683B1-3D78-44D4-A61B-E1C056EC7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FAB0A-3BF4-436C-89EB-E650A5983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77224-FB77-4801-A438-C7D5F7B77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0873A-A942-4FEF-88AF-5AC53F2CC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02E08-E193-48D0-BB76-F83599214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29989-0187-4E9F-807B-CA0A1F746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3C7FC-5ABB-402C-AA68-F4218369C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E5B97-5386-4EC5-8E06-01B6378E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24B5D-3D10-41BE-B869-15364632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D4239-F3F0-470B-85E5-5A910C39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1E467-2952-44A8-8F76-BF1A1427713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113B3-89D5-4185-82F4-EF6B0A796B0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71640" y="1828800"/>
            <a:ext cx="622008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Машиностроительное черчение. 9 класс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Сечения и разрезы. Виды и обозначение сечений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я для закреп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163440" y="1928880"/>
            <a:ext cx="8347320" cy="38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ния для практической работы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0" descr="321"/>
          <p:cNvPicPr/>
          <p:nvPr/>
        </p:nvPicPr>
        <p:blipFill>
          <a:blip r:embed="rId1"/>
          <a:stretch/>
        </p:blipFill>
        <p:spPr>
          <a:xfrm rot="21445200">
            <a:off x="4363920" y="1773360"/>
            <a:ext cx="4780080" cy="4751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123"/>
          <p:cNvPicPr/>
          <p:nvPr/>
        </p:nvPicPr>
        <p:blipFill>
          <a:blip r:embed="rId2"/>
          <a:stretch/>
        </p:blipFill>
        <p:spPr>
          <a:xfrm>
            <a:off x="179280" y="1557360"/>
            <a:ext cx="398808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хнологические особенности в машиностроительных деталя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1"/>
          <p:cNvPicPr/>
          <p:nvPr/>
        </p:nvPicPr>
        <p:blipFill>
          <a:blip r:embed="rId1"/>
          <a:stretch/>
        </p:blipFill>
        <p:spPr>
          <a:xfrm>
            <a:off x="539640" y="2205000"/>
            <a:ext cx="2409840" cy="1619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2"/>
          <p:cNvPicPr/>
          <p:nvPr/>
        </p:nvPicPr>
        <p:blipFill>
          <a:blip r:embed="rId2"/>
          <a:stretch/>
        </p:blipFill>
        <p:spPr>
          <a:xfrm>
            <a:off x="4067280" y="2133720"/>
            <a:ext cx="1447560" cy="19238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3"/>
          <p:cNvPicPr/>
          <p:nvPr/>
        </p:nvPicPr>
        <p:blipFill>
          <a:blip r:embed="rId3"/>
          <a:stretch/>
        </p:blipFill>
        <p:spPr>
          <a:xfrm>
            <a:off x="6732720" y="2276640"/>
            <a:ext cx="1866600" cy="1618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5"/>
          <p:cNvPicPr/>
          <p:nvPr/>
        </p:nvPicPr>
        <p:blipFill>
          <a:blip r:embed="rId4"/>
          <a:stretch/>
        </p:blipFill>
        <p:spPr>
          <a:xfrm>
            <a:off x="539640" y="4581360"/>
            <a:ext cx="1714680" cy="1762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7"/>
          <p:cNvPicPr/>
          <p:nvPr/>
        </p:nvPicPr>
        <p:blipFill>
          <a:blip r:embed="rId5"/>
          <a:stretch/>
        </p:blipFill>
        <p:spPr>
          <a:xfrm>
            <a:off x="3348000" y="4581360"/>
            <a:ext cx="1943280" cy="1762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9"/>
          <p:cNvPicPr/>
          <p:nvPr/>
        </p:nvPicPr>
        <p:blipFill>
          <a:blip r:embed="rId6"/>
          <a:stretch/>
        </p:blipFill>
        <p:spPr>
          <a:xfrm>
            <a:off x="6084720" y="4797360"/>
            <a:ext cx="193392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1980720"/>
            <a:ext cx="4038480" cy="38862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648320" y="1980720"/>
            <a:ext cx="4038480" cy="388620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4" descr="33333333333333333333333.JPG"/>
          <p:cNvPicPr/>
          <p:nvPr/>
        </p:nvPicPr>
        <p:blipFill>
          <a:blip r:embed="rId3"/>
          <a:stretch/>
        </p:blipFill>
        <p:spPr>
          <a:xfrm rot="120000">
            <a:off x="90000" y="845640"/>
            <a:ext cx="8891640" cy="49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особ получения сеч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7812000" y="4221000"/>
            <a:ext cx="1076400" cy="1257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2"/>
          <a:stretch/>
        </p:blipFill>
        <p:spPr>
          <a:xfrm>
            <a:off x="5435640" y="1557360"/>
            <a:ext cx="3562200" cy="2552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3"/>
          <a:stretch/>
        </p:blipFill>
        <p:spPr>
          <a:xfrm>
            <a:off x="611280" y="1484280"/>
            <a:ext cx="4508280" cy="4095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"/>
          <p:cNvPicPr/>
          <p:nvPr/>
        </p:nvPicPr>
        <p:blipFill>
          <a:blip r:embed="rId4"/>
          <a:stretch/>
        </p:blipFill>
        <p:spPr>
          <a:xfrm>
            <a:off x="4859280" y="4292640"/>
            <a:ext cx="2886120" cy="16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ды сеч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несенное                     Наложе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Безымянный"/>
          <p:cNvPicPr/>
          <p:nvPr/>
        </p:nvPicPr>
        <p:blipFill>
          <a:blip r:embed="rId1"/>
          <a:stretch/>
        </p:blipFill>
        <p:spPr>
          <a:xfrm>
            <a:off x="179280" y="2205000"/>
            <a:ext cx="4392720" cy="15955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1"/>
          <p:cNvPicPr/>
          <p:nvPr/>
        </p:nvPicPr>
        <p:blipFill>
          <a:blip r:embed="rId2"/>
          <a:stretch/>
        </p:blipFill>
        <p:spPr>
          <a:xfrm>
            <a:off x="4788000" y="2205000"/>
            <a:ext cx="3671640" cy="2232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6"/>
          <p:cNvSpPr/>
          <p:nvPr/>
        </p:nvSpPr>
        <p:spPr>
          <a:xfrm>
            <a:off x="3422160" y="4076640"/>
            <a:ext cx="19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разры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2"/>
          <p:cNvPicPr/>
          <p:nvPr/>
        </p:nvPicPr>
        <p:blipFill>
          <a:blip r:embed="rId3"/>
          <a:stretch/>
        </p:blipFill>
        <p:spPr>
          <a:xfrm>
            <a:off x="1979640" y="4797360"/>
            <a:ext cx="468000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3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несенное се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гура сечения,выполненная на свободном поле чертеж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гура сечения,расположенная на продолжении следа секущей плоск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3"/>
          <p:cNvPicPr/>
          <p:nvPr/>
        </p:nvPicPr>
        <p:blipFill>
          <a:blip r:embed="rId1"/>
          <a:stretch/>
        </p:blipFill>
        <p:spPr>
          <a:xfrm>
            <a:off x="755640" y="4149720"/>
            <a:ext cx="3038400" cy="2114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4"/>
          <p:cNvPicPr/>
          <p:nvPr/>
        </p:nvPicPr>
        <p:blipFill>
          <a:blip r:embed="rId2"/>
          <a:stretch/>
        </p:blipFill>
        <p:spPr>
          <a:xfrm>
            <a:off x="5003640" y="4076640"/>
            <a:ext cx="237672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ложенное се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гура сечения,располагается непосредственно на виде (изображение фигуры сечения как бы накладывается на вид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означение сеч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несенное сечение: толщина обводки фигуры сечения – сплошная основна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омкнутая линия со стрелками направления взгляд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триховка под углом 45*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ложенное сечение:толщина обводки – сплошная тонка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омкнутая линия со стрелками направления взгля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я для закреп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"/>
          <p:cNvPicPr/>
          <p:nvPr/>
        </p:nvPicPr>
        <p:blipFill>
          <a:blip r:embed="rId1"/>
          <a:stretch/>
        </p:blipFill>
        <p:spPr>
          <a:xfrm>
            <a:off x="1979640" y="1773360"/>
            <a:ext cx="5256360" cy="36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08:11:52Z</dcterms:created>
  <dc:creator>Гость</dc:creator>
  <dc:description/>
  <dc:language>en-US</dc:language>
  <cp:lastModifiedBy>Йа</cp:lastModifiedBy>
  <dcterms:modified xsi:type="dcterms:W3CDTF">2011-09-14T23:45:20Z</dcterms:modified>
  <cp:revision>7</cp:revision>
  <dc:subject/>
  <dc:title>Машиностроительное черчение</dc:title>
</cp:coreProperties>
</file>