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819C-D2EF-4F72-B447-E77C5CF6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90CD-5E10-405E-BA5D-0A0980BC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9AD4-DF0F-4160-AF52-148C60F2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AC84-B455-4E7B-9609-9FEB103B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724B-1472-403E-B4FC-9E22C8D8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8811-7143-4F76-8B54-359DD327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EC59-599E-4F43-A848-B0BCB57C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1326-D156-436E-BDF4-6FD9C434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7615-C57A-46D4-A74B-BE8691C3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4ED4-B624-449C-A6CC-F55F49EB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71F8-FC53-45C7-9796-533B5895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53C4-1DF0-4B19-943B-6CECE92B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2A9B-0CBE-4A3E-B9C5-6BD6ECA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92D1-ADA4-4A81-B2B4-29246AEA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CC1A-06FC-43C0-AFE1-366BAFB1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B32E-D094-4633-82E5-A91587D9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B009-1A58-494D-9209-BF039B95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B510-070E-4719-B591-EE54A815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01B8-75F4-43EE-8023-F14CCF91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39CA-EEC4-49B3-A3FE-A24127AE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F36C-5258-4070-896F-12D55B35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A0FA-B95A-4A88-980E-DF218FD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BA93-F747-4D72-B0AC-AF3F7E2C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FC51-77EE-4ABC-B062-5C759F28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DE68-BCEF-49A5-B7EB-3C91B9D869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ACF2-3ADC-4607-B7E2-862388D4D1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pomo.com/ruskolan/images/evg-04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324000" y="141300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Методы изучения генетики человека: близнецовый метод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26920" y="404640"/>
            <a:ext cx="770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924360" y="623736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219640" y="3284640"/>
            <a:ext cx="36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1169651752_together02"/>
          <p:cNvPicPr/>
          <p:nvPr/>
        </p:nvPicPr>
        <p:blipFill>
          <a:blip r:embed="rId1"/>
          <a:stretch/>
        </p:blipFill>
        <p:spPr>
          <a:xfrm>
            <a:off x="250920" y="393372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1168632688_baby09"/>
          <p:cNvPicPr/>
          <p:nvPr/>
        </p:nvPicPr>
        <p:blipFill>
          <a:blip r:embed="rId2"/>
          <a:stretch/>
        </p:blipFill>
        <p:spPr>
          <a:xfrm>
            <a:off x="2928960" y="450072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169578881_130306elgortsm"/>
          <p:cNvPicPr/>
          <p:nvPr/>
        </p:nvPicPr>
        <p:blipFill>
          <a:blip r:embed="rId3"/>
          <a:stretch/>
        </p:blipFill>
        <p:spPr>
          <a:xfrm>
            <a:off x="5429160" y="3929040"/>
            <a:ext cx="1785960" cy="244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сходства (конкордантность) по ряду заболеваний у близнецов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773360"/>
          <a:ext cx="8280360" cy="3816360"/>
        </p:xfrm>
        <a:graphic>
          <a:graphicData uri="http://schemas.openxmlformats.org/drawingml/2006/table">
            <a:tbl>
              <a:tblPr/>
              <a:tblGrid>
                <a:gridCol w="3189240"/>
                <a:gridCol w="1562040"/>
                <a:gridCol w="1663920"/>
                <a:gridCol w="1865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, контролируемые большим числом генов и зависящие от негенетических фак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(вероятность) появления сходств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тупность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98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ормула Хольц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79280" y="975600"/>
            <a:ext cx="89647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оэффицент наследственности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Б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однояйцевые близнецы (конкордантность ОБ)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двуяйцевые близнецы (конкордантность ДБ)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1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полностью определяется наследственным компоненто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0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влиянием сред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близкий к 0,5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примерно одинаковым влиянием наследственности и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массе тела составляет 80%, а дизиготных – 30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80%  - 30%) / (100% - 30%)= 0,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71, то в формировании признака большую роль играет геноти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росту составляет 65%, а дизиготных – 34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65%  - 34%) / (100% - 34%)= 0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20, то в формировании признака большую роль играет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учить сущность и значение одного из основных методов антропогенетики: близнецового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учиться решать задачи с использованием формулы Хольцингера  (для тех, кто обучается на повышенном уров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269444741_hku"/>
          <p:cNvPicPr/>
          <p:nvPr/>
        </p:nvPicPr>
        <p:blipFill>
          <a:blip r:embed="rId1"/>
          <a:stretch/>
        </p:blipFill>
        <p:spPr>
          <a:xfrm>
            <a:off x="5364000" y="4221000"/>
            <a:ext cx="3600720" cy="24735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для обсуждения 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определение биологическим понятиям: близнецы, дизиготные и монозиготные близнецы, сиамские близнецы, конкордантность, дискордан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чем заключается близнецовый метод исследования генетики человека? Кто впервые применил этот метод для изучения генетики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во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ового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учения гене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article-1288391-0A2164C3000005DC-372_634x372_popup"/>
          <p:cNvPicPr/>
          <p:nvPr/>
        </p:nvPicPr>
        <p:blipFill>
          <a:blip r:embed="rId1"/>
          <a:stretch/>
        </p:blipFill>
        <p:spPr>
          <a:xfrm>
            <a:off x="4286160" y="3786120"/>
            <a:ext cx="4465800" cy="2824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нят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42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ы – одновременно родившиеся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иготные близнецы – развиваются из 2-х разных 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зиготные близнецы - развиваются из 1 яйце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амские близнецы – сросшиеся близне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ордантность – наличие признака у обоих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рдантность – наличие признака и одного из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192032266_kopie_e4"/>
          <p:cNvPicPr/>
          <p:nvPr/>
        </p:nvPicPr>
        <p:blipFill>
          <a:blip r:embed="rId1"/>
          <a:stretch/>
        </p:blipFill>
        <p:spPr>
          <a:xfrm>
            <a:off x="7510320" y="4981680"/>
            <a:ext cx="1633680" cy="187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6siam"/>
          <p:cNvPicPr/>
          <p:nvPr/>
        </p:nvPicPr>
        <p:blipFill>
          <a:blip r:embed="rId2"/>
          <a:stretch/>
        </p:blipFill>
        <p:spPr>
          <a:xfrm>
            <a:off x="5715000" y="5000760"/>
            <a:ext cx="1666800" cy="185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225294365"/>
          <p:cNvPicPr/>
          <p:nvPr/>
        </p:nvPicPr>
        <p:blipFill>
          <a:blip r:embed="rId3"/>
          <a:stretch/>
        </p:blipFill>
        <p:spPr>
          <a:xfrm>
            <a:off x="4071960" y="5070600"/>
            <a:ext cx="1428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1257159055_1"/>
          <p:cNvPicPr/>
          <p:nvPr/>
        </p:nvPicPr>
        <p:blipFill>
          <a:blip r:embed="rId1"/>
          <a:stretch/>
        </p:blipFill>
        <p:spPr>
          <a:xfrm>
            <a:off x="250920" y="1176480"/>
            <a:ext cx="4321080" cy="4051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324000" y="5589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нозиготные близнецы (одно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79_3"/>
          <p:cNvPicPr/>
          <p:nvPr/>
        </p:nvPicPr>
        <p:blipFill>
          <a:blip r:embed="rId2"/>
          <a:stretch/>
        </p:blipFill>
        <p:spPr>
          <a:xfrm>
            <a:off x="507672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79_3"/>
          <p:cNvPicPr/>
          <p:nvPr/>
        </p:nvPicPr>
        <p:blipFill>
          <a:blip r:embed="rId3"/>
          <a:stretch/>
        </p:blipFill>
        <p:spPr>
          <a:xfrm>
            <a:off x="4886280" y="1714680"/>
            <a:ext cx="399276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1242648442_2-twins"/>
          <p:cNvPicPr/>
          <p:nvPr/>
        </p:nvPicPr>
        <p:blipFill>
          <a:blip r:embed="rId1"/>
          <a:stretch/>
        </p:blipFill>
        <p:spPr>
          <a:xfrm>
            <a:off x="428760" y="1143000"/>
            <a:ext cx="3998880" cy="46101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1" name="Rectangle 8"/>
          <p:cNvSpPr/>
          <p:nvPr/>
        </p:nvSpPr>
        <p:spPr>
          <a:xfrm>
            <a:off x="357120" y="5857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изиготные близнецы (дву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8" descr="79_4"/>
          <p:cNvPicPr/>
          <p:nvPr/>
        </p:nvPicPr>
        <p:blipFill>
          <a:blip r:embed="rId2"/>
          <a:stretch/>
        </p:blipFill>
        <p:spPr>
          <a:xfrm>
            <a:off x="4643280" y="1928880"/>
            <a:ext cx="423864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3680" y="999720"/>
            <a:ext cx="3543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Гальтон – основатель близнецового метод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www.xpomo.com/ruskolan/images/evg-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785880"/>
            <a:ext cx="436536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 позволяет устан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лияние среды на реализацию гено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клад среды и генотипа в развитие данного при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328a501ea5343129228471263961538"/>
          <p:cNvPicPr/>
          <p:nvPr/>
        </p:nvPicPr>
        <p:blipFill>
          <a:blip r:embed="rId2"/>
          <a:stretch/>
        </p:blipFill>
        <p:spPr>
          <a:xfrm>
            <a:off x="1476360" y="2492280"/>
            <a:ext cx="5432400" cy="407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различия (дискордантность) по ряду нейтральных признаков у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341360"/>
          <a:ext cx="8642160" cy="5303880"/>
        </p:xfrm>
        <a:graphic>
          <a:graphicData uri="http://schemas.openxmlformats.org/drawingml/2006/table">
            <a:tbl>
              <a:tblPr/>
              <a:tblGrid>
                <a:gridCol w="3517920"/>
                <a:gridCol w="1571400"/>
                <a:gridCol w="1676520"/>
                <a:gridCol w="18763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ки, контролируемые небольшим числом ге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та (вероятность) появления различ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у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пиллярные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химически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0 до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бров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г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7:50Z</dcterms:created>
  <dc:creator>Дороненкова Н.Ю.</dc:creator>
  <dc:description/>
  <dc:language>en-US</dc:language>
  <cp:lastModifiedBy>Admin</cp:lastModifiedBy>
  <dcterms:modified xsi:type="dcterms:W3CDTF">2012-10-23T18:46:44Z</dcterms:modified>
  <cp:revision>38</cp:revision>
  <dc:subject/>
  <dc:title>Урок Методы генетики человека:</dc:title>
</cp:coreProperties>
</file>