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6ED8F-A7B8-4538-9B66-955A5340E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60A32-1B89-4D60-838A-19912D17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F5FF-D655-411B-B7F8-B31664B6F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0C1AD-898B-429C-91E4-393AE159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BCE7-A54B-4197-B155-B9C8121F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1268-AE3C-4834-A9C8-9AE7E3BD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CD768-976A-4F82-AC5C-2E629590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25F1-7847-4ECE-AA10-ED0CC74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DAB55-F9BD-4358-A26B-545328B3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0EB1E-1E27-4AC5-8D42-AA91E8CC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3D04-8DA9-4E63-B6E5-F17B8D8D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FB5F6-2C82-4BBF-AC30-6A74968B7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2123-FFDE-4617-B3F1-9199866A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AE27-B5F7-4D4C-A015-E1CD22A5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28C5-E7B7-4025-B3E2-B4EBECC1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E449-AE85-4919-9002-79C5E1D2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BD50-BF84-41AD-9A1C-6E1B73FE1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78879-5BBB-467F-B547-B977719A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54C7E-82F0-4088-A238-BB636183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55A7A-8C51-41D4-8918-7879FB56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1A9C-B5AE-445E-8766-1683BFAE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9D60-5D3A-4A61-9427-F6E6FFA1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EBFC-C4A5-4BA3-AE84-6C385BBE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27139-6760-4E81-8807-326AE495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E4FC-9F00-430C-9533-AA23D642BF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a1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46D83-A725-40A7-8C5B-29DDB497DB3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xpomo.com/ruskolan/images/evg-04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8"/>
          <p:cNvSpPr/>
          <p:nvPr/>
        </p:nvSpPr>
        <p:spPr>
          <a:xfrm>
            <a:off x="324000" y="141300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Times New Roman"/>
              </a:rPr>
              <a:t>Методы изучения генетики человека: близнецовый метод исслед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826920" y="404640"/>
            <a:ext cx="7705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5"/>
          <p:cNvSpPr/>
          <p:nvPr/>
        </p:nvSpPr>
        <p:spPr>
          <a:xfrm>
            <a:off x="3924360" y="6237360"/>
            <a:ext cx="1511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5219640" y="3284640"/>
            <a:ext cx="3673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1169651752_together02"/>
          <p:cNvPicPr/>
          <p:nvPr/>
        </p:nvPicPr>
        <p:blipFill>
          <a:blip r:embed="rId1"/>
          <a:stretch/>
        </p:blipFill>
        <p:spPr>
          <a:xfrm>
            <a:off x="250920" y="393372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4" descr="1168632688_baby09"/>
          <p:cNvPicPr/>
          <p:nvPr/>
        </p:nvPicPr>
        <p:blipFill>
          <a:blip r:embed="rId2"/>
          <a:stretch/>
        </p:blipFill>
        <p:spPr>
          <a:xfrm>
            <a:off x="2928960" y="4500720"/>
            <a:ext cx="2639880" cy="198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" descr="1169578881_130306elgortsm"/>
          <p:cNvPicPr/>
          <p:nvPr/>
        </p:nvPicPr>
        <p:blipFill>
          <a:blip r:embed="rId3"/>
          <a:stretch/>
        </p:blipFill>
        <p:spPr>
          <a:xfrm>
            <a:off x="5429160" y="3929040"/>
            <a:ext cx="1785960" cy="24462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сходства (конкордантность) по ряду заболеваний у близнецов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68360" y="1773360"/>
          <a:ext cx="8280360" cy="3816360"/>
        </p:xfrm>
        <a:graphic>
          <a:graphicData uri="http://schemas.openxmlformats.org/drawingml/2006/table">
            <a:tbl>
              <a:tblPr/>
              <a:tblGrid>
                <a:gridCol w="3189240"/>
                <a:gridCol w="1562040"/>
                <a:gridCol w="1663920"/>
                <a:gridCol w="186516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, контролируемые большим числом генов и зависящие от негенетических факт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ота (вероятность) появления сходства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ственная отстал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зоф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харный диаб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пилеп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ступность (?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Rectangle 198"/>
          <p:cNvSpPr/>
          <p:nvPr/>
        </p:nvSpPr>
        <p:spPr>
          <a:xfrm>
            <a:off x="0" y="506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Формула Хольцинг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79280" y="975600"/>
            <a:ext cx="896472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br>
              <a:rPr sz="24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де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 коэффицент наследственности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– однояйцевые близнецы (конкордантность ОБ)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Б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двуяйцевые близнецы (конкордантность ДБ)</a:t>
            </a:r>
            <a:br>
              <a:rPr sz="2000"/>
            </a:br>
            <a:br>
              <a:rPr sz="2000"/>
            </a:b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1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полностью определяется наследственным компоненто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0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влиянием среды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24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•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При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Н = близкий к 0,5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 признак определяется примерно одинаковым влиянием наследственности и сред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массе тела составляет 80%, а дизиготных – 30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80%  - 30%) / (100% - 30%)= 0,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71, то в формировании признака большую роль играет геноти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539640" y="8366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онкордантность монозиготных близнецов по росту составляет 65%, а дизиготных – 34%. Каково соотношение наследственных и средовых факторов в формировании призна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324000" y="2852640"/>
            <a:ext cx="856908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 формуле Хольцингера рассчитаем коэффициент наследуем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% сходства ОБ - % сходства ДБ) / (100 - % сходства ДБ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Н = (65%  - 34%) / (100% - 34%)= 0,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</a:rPr>
              <a:t>Так как коэффициент наследуемости равен 0,20, то в формировании признака большую роль играет сре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изучить сущность и значение одного из основных методов антропогенетики: близнецового мет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научиться решать задачи с использованием формулы Хольцингера  (для тех, кто обучается на повышенном уровн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2268360" y="47628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Цели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1269444741_hku"/>
          <p:cNvPicPr/>
          <p:nvPr/>
        </p:nvPicPr>
        <p:blipFill>
          <a:blip r:embed="rId1"/>
          <a:stretch/>
        </p:blipFill>
        <p:spPr>
          <a:xfrm>
            <a:off x="5364000" y="4221000"/>
            <a:ext cx="3600720" cy="24735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</p:spTree>
  </p:cSld>
  <p:transition spd="med">
    <p:diamond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опросы для обсуждения на «3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229600" cy="55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йте определение биологическим понятиям: близнецы, дизиготные и монозиготные близнецы, сиамские близнецы, конкордантность, дискордан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 чем заключается близнецовый метод исследования генетики человека? Кто впервые применил этот метод для изучения генетики 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во знач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ового мето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изучения гене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article-1288391-0A2164C3000005DC-372_634x372_popup"/>
          <p:cNvPicPr/>
          <p:nvPr/>
        </p:nvPicPr>
        <p:blipFill>
          <a:blip r:embed="rId1"/>
          <a:stretch/>
        </p:blipFill>
        <p:spPr>
          <a:xfrm>
            <a:off x="4286160" y="3786120"/>
            <a:ext cx="4465800" cy="2824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новные понятия уро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4264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лизнецы – одновременно родившиеся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зиготные близнецы – развиваются из 2-х разных яйцекл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зиготные близнецы - развиваются из 1 яйцекл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амские близнецы – сросшиеся близне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кордантность – наличие признака у обоих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кордантность – наличие признака и одного из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1192032266_kopie_e4"/>
          <p:cNvPicPr/>
          <p:nvPr/>
        </p:nvPicPr>
        <p:blipFill>
          <a:blip r:embed="rId1"/>
          <a:stretch/>
        </p:blipFill>
        <p:spPr>
          <a:xfrm>
            <a:off x="7510320" y="4981680"/>
            <a:ext cx="1633680" cy="1876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6siam"/>
          <p:cNvPicPr/>
          <p:nvPr/>
        </p:nvPicPr>
        <p:blipFill>
          <a:blip r:embed="rId2"/>
          <a:stretch/>
        </p:blipFill>
        <p:spPr>
          <a:xfrm>
            <a:off x="5715000" y="5000760"/>
            <a:ext cx="1666800" cy="18572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225294365"/>
          <p:cNvPicPr/>
          <p:nvPr/>
        </p:nvPicPr>
        <p:blipFill>
          <a:blip r:embed="rId3"/>
          <a:stretch/>
        </p:blipFill>
        <p:spPr>
          <a:xfrm>
            <a:off x="4071960" y="5070600"/>
            <a:ext cx="1428840" cy="178740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1257159055_1"/>
          <p:cNvPicPr/>
          <p:nvPr/>
        </p:nvPicPr>
        <p:blipFill>
          <a:blip r:embed="rId1"/>
          <a:stretch/>
        </p:blipFill>
        <p:spPr>
          <a:xfrm>
            <a:off x="250920" y="1176480"/>
            <a:ext cx="4321080" cy="40510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6" name="Text Box 7"/>
          <p:cNvSpPr/>
          <p:nvPr/>
        </p:nvSpPr>
        <p:spPr>
          <a:xfrm>
            <a:off x="324000" y="558972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Монозиготные близнецы (одно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7" descr="79_3"/>
          <p:cNvPicPr/>
          <p:nvPr/>
        </p:nvPicPr>
        <p:blipFill>
          <a:blip r:embed="rId2"/>
          <a:stretch/>
        </p:blipFill>
        <p:spPr>
          <a:xfrm>
            <a:off x="5076720" y="1700280"/>
            <a:ext cx="2808360" cy="21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7" descr="79_3"/>
          <p:cNvPicPr/>
          <p:nvPr/>
        </p:nvPicPr>
        <p:blipFill>
          <a:blip r:embed="rId3"/>
          <a:stretch/>
        </p:blipFill>
        <p:spPr>
          <a:xfrm>
            <a:off x="4886280" y="1714680"/>
            <a:ext cx="3992760" cy="30715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6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1242648442_2-twins"/>
          <p:cNvPicPr/>
          <p:nvPr/>
        </p:nvPicPr>
        <p:blipFill>
          <a:blip r:embed="rId1"/>
          <a:stretch/>
        </p:blipFill>
        <p:spPr>
          <a:xfrm>
            <a:off x="428760" y="1143000"/>
            <a:ext cx="3998880" cy="46101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1" name="Rectangle 8"/>
          <p:cNvSpPr/>
          <p:nvPr/>
        </p:nvSpPr>
        <p:spPr>
          <a:xfrm>
            <a:off x="357120" y="5857920"/>
            <a:ext cx="40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</a:rPr>
              <a:t>Дизиготные близнецы (двуяйцев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8" descr="79_4"/>
          <p:cNvPicPr/>
          <p:nvPr/>
        </p:nvPicPr>
        <p:blipFill>
          <a:blip r:embed="rId2"/>
          <a:stretch/>
        </p:blipFill>
        <p:spPr>
          <a:xfrm>
            <a:off x="4643280" y="1928880"/>
            <a:ext cx="4238640" cy="30002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143680" y="999720"/>
            <a:ext cx="3543120" cy="43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.Гальтон – основатель близнецового метод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http://www.xpomo.com/ruskolan/images/evg-0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680" y="785880"/>
            <a:ext cx="4365360" cy="530712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Близнецовый метод позволяет установ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85920"/>
            <a:ext cx="822960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лияние среды на реализацию гено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вклад среды и генотипа в развитие данного приз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MCj02990210000[1]"/>
          <p:cNvPicPr/>
          <p:nvPr/>
        </p:nvPicPr>
        <p:blipFill>
          <a:blip r:embed="rId1"/>
          <a:stretch/>
        </p:blipFill>
        <p:spPr>
          <a:xfrm>
            <a:off x="7236000" y="5734080"/>
            <a:ext cx="1809720" cy="966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328a501ea5343129228471263961538"/>
          <p:cNvPicPr/>
          <p:nvPr/>
        </p:nvPicPr>
        <p:blipFill>
          <a:blip r:embed="rId2"/>
          <a:stretch/>
        </p:blipFill>
        <p:spPr>
          <a:xfrm>
            <a:off x="1476360" y="2492280"/>
            <a:ext cx="5432400" cy="4075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p:transition spd="med">
    <p:diamond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тепень различия (дискордантность) по ряду нейтральных признаков у близне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341360"/>
          <a:ext cx="8642160" cy="5303880"/>
        </p:xfrm>
        <a:graphic>
          <a:graphicData uri="http://schemas.openxmlformats.org/drawingml/2006/table">
            <a:tbl>
              <a:tblPr/>
              <a:tblGrid>
                <a:gridCol w="3517920"/>
                <a:gridCol w="1571400"/>
                <a:gridCol w="1676520"/>
                <a:gridCol w="1876320"/>
              </a:tblGrid>
              <a:tr h="642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знаки, контролируемые небольшим числом ген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астота (вероятность) появления различий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следуемость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д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нояйцев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гл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уш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пиллярные лин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н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1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≈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иохимические призна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 0 до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вет кож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воло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бров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но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орма г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med">
    <p:diamond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09:57:50Z</dcterms:created>
  <dc:creator>Дороненкова Н.Ю.</dc:creator>
  <dc:description/>
  <dc:language>en-US</dc:language>
  <cp:lastModifiedBy>Admin</cp:lastModifiedBy>
  <dcterms:modified xsi:type="dcterms:W3CDTF">2012-10-23T18:46:44Z</dcterms:modified>
  <cp:revision>38</cp:revision>
  <dc:subject/>
  <dc:title>Урок Методы генетики человека:</dc:title>
</cp:coreProperties>
</file>