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wmf" ContentType="image/x-wmf"/>
  <Override PartName="/ppt/media/image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A40B4-F995-4870-8573-24584A9C7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F6732-7C2B-4890-8913-5E1E668D5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6F6F8-B26A-4B56-A1CD-4532DD3F9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99817-B5A6-4FDE-9371-AC055D4F3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A9EA5-3F2A-4C60-8099-71C2BB2D6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52E58-50C2-47D1-B7DA-886115C24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D8445-50F8-4B12-A97C-9360A0CF9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3AF6B-A8ED-46EF-80D6-1A2600565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A2785-F355-47AE-BAC9-BC4B74339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B8ADB-9F09-4F75-95EC-179E0C5FB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29D4F-BED9-453D-80DC-CD74C864A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5B808-6581-4463-B929-53B2E2BAA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F28A2-EAE2-4314-A910-60AEFCE6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8A6AD-48AC-4414-8DC5-01DB1D65F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438C7-7B98-4104-AE07-40B1A0944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48233-3257-448A-A9F1-C1B0BE28A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8BC4F-1C3D-4CAA-B5CC-EC088C7ED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58754-1825-4134-BFAF-6162B7EA7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5121E-B135-452A-BF74-086B61F44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1F085-3B61-40F3-A352-8BF027F5C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60111-C6BC-4D6D-9F14-B527C7C7A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2E237-CE5E-4BAB-9168-A2EE7458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58859-A7FD-457B-A98C-34F94950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56B3A-0CF7-4CA5-ADED-8902C387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a1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27CFB-C5C2-4477-9C0E-0E0E3DB5B57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a1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773FB-E824-4F8B-8F45-FA86B95EC5C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xpomo.com/ruskolan/images/evg-04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8"/>
          <p:cNvSpPr/>
          <p:nvPr/>
        </p:nvSpPr>
        <p:spPr>
          <a:xfrm>
            <a:off x="324000" y="1413000"/>
            <a:ext cx="8642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imes New Roman"/>
              </a:rPr>
              <a:t>Методы изучения генетики человека: близнецовый метод исслед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4"/>
          <p:cNvSpPr/>
          <p:nvPr/>
        </p:nvSpPr>
        <p:spPr>
          <a:xfrm>
            <a:off x="826920" y="404640"/>
            <a:ext cx="7705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5"/>
          <p:cNvSpPr/>
          <p:nvPr/>
        </p:nvSpPr>
        <p:spPr>
          <a:xfrm>
            <a:off x="3924360" y="6237360"/>
            <a:ext cx="151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6"/>
          <p:cNvSpPr/>
          <p:nvPr/>
        </p:nvSpPr>
        <p:spPr>
          <a:xfrm>
            <a:off x="5219640" y="3284640"/>
            <a:ext cx="36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6" descr="1169651752_together02"/>
          <p:cNvPicPr/>
          <p:nvPr/>
        </p:nvPicPr>
        <p:blipFill>
          <a:blip r:embed="rId1"/>
          <a:stretch/>
        </p:blipFill>
        <p:spPr>
          <a:xfrm>
            <a:off x="250920" y="3933720"/>
            <a:ext cx="2857320" cy="1905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4" descr="1168632688_baby09"/>
          <p:cNvPicPr/>
          <p:nvPr/>
        </p:nvPicPr>
        <p:blipFill>
          <a:blip r:embed="rId2"/>
          <a:stretch/>
        </p:blipFill>
        <p:spPr>
          <a:xfrm>
            <a:off x="2928960" y="4500720"/>
            <a:ext cx="2639880" cy="1981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" descr="1169578881_130306elgortsm"/>
          <p:cNvPicPr/>
          <p:nvPr/>
        </p:nvPicPr>
        <p:blipFill>
          <a:blip r:embed="rId3"/>
          <a:stretch/>
        </p:blipFill>
        <p:spPr>
          <a:xfrm>
            <a:off x="5429160" y="3929040"/>
            <a:ext cx="1785960" cy="24462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95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тепень сходства (конкордантность) по ряду заболеваний у близнецов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68360" y="1773360"/>
          <a:ext cx="8280360" cy="3816360"/>
        </p:xfrm>
        <a:graphic>
          <a:graphicData uri="http://schemas.openxmlformats.org/drawingml/2006/table">
            <a:tbl>
              <a:tblPr/>
              <a:tblGrid>
                <a:gridCol w="3189240"/>
                <a:gridCol w="1562040"/>
                <a:gridCol w="1663920"/>
                <a:gridCol w="1865160"/>
              </a:tblGrid>
              <a:tr h="6426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знаки, контролируемые большим числом генов и зависящие от негенетических фактор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ота (вероятность) появления сходства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следуемость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нояйцев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нояйцев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ственная отстал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изофр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харный диаб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пилепс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≈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≈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≈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ступность (?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Rectangle 198"/>
          <p:cNvSpPr/>
          <p:nvPr/>
        </p:nvSpPr>
        <p:spPr>
          <a:xfrm>
            <a:off x="0" y="506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Формула Хольцинг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179280" y="975600"/>
            <a:ext cx="8964720" cy="43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24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Н = (% сходства ОБ - % сходства ДБ) / (100 - % сходства ДБ),</a:t>
            </a:r>
            <a:br>
              <a:rPr sz="24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де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24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Н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коэффицент наследственности</a:t>
            </a:r>
            <a:br>
              <a:rPr sz="2000"/>
            </a:b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ОБ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– однояйцевые близнецы (конкордантность ОБ)</a:t>
            </a:r>
            <a:br>
              <a:rPr sz="2000"/>
            </a:b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ДБ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– двуяйцевые близнецы (конкордантность ДБ)</a:t>
            </a:r>
            <a:br>
              <a:rPr sz="2000"/>
            </a:br>
            <a:br>
              <a:rPr sz="2000"/>
            </a:b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• 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При 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Н = 1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 признак полностью определяется наследственным компоненто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24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• 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При 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Н = 0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 признак определяется влиянием среды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24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• 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При 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Н = близкий к 0,5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 признак определяется примерно одинаковым влиянием наследственности и сред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8" descr="MCj02990210000[1]"/>
          <p:cNvPicPr/>
          <p:nvPr/>
        </p:nvPicPr>
        <p:blipFill>
          <a:blip r:embed="rId1"/>
          <a:stretch/>
        </p:blipFill>
        <p:spPr>
          <a:xfrm>
            <a:off x="7236000" y="5734080"/>
            <a:ext cx="1809720" cy="9666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5"/>
          <p:cNvSpPr/>
          <p:nvPr/>
        </p:nvSpPr>
        <p:spPr>
          <a:xfrm>
            <a:off x="539640" y="836640"/>
            <a:ext cx="82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нкордантность монозиготных близнецов по массе тела составляет 80%, а дизиготных – 30%. Каково соотношение наследственных и средовых факторов в формировании призна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324000" y="2852640"/>
            <a:ext cx="856908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еш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 формуле Хольцингера рассчитаем коэффициент наследуем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Н = (% сходства ОБ - % сходства ДБ) / (100 - % сходства ДБ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Н = (80%  - 30%) / (100% - 30%)= 0,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Так как коэффициент наследуемости равен 0,71, то в формировании признака большую роль играет геноти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5"/>
          <p:cNvSpPr/>
          <p:nvPr/>
        </p:nvSpPr>
        <p:spPr>
          <a:xfrm>
            <a:off x="539640" y="836640"/>
            <a:ext cx="82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нкордантность монозиготных близнецов по росту составляет 65%, а дизиготных – 34%. Каково соотношение наследственных и средовых факторов в формировании призна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324000" y="2852640"/>
            <a:ext cx="856908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еш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 формуле Хольцингера рассчитаем коэффициент наследуем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Н = (% сходства ОБ - % сходства ДБ) / (100 - % сходства ДБ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Н = (65%  - 34%) / (100% - 34%)= 0,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Так как коэффициент наследуемости равен 0,20, то в формировании признака большую роль играет сре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50920" y="1267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изучить сущность и значение одного из основных методов антропогенетики: близнецового мет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научиться решать задачи с использованием формулы Хольцингера  (для тех, кто обучается на повышенном уровн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2268360" y="47628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Цели у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1269444741_hku"/>
          <p:cNvPicPr/>
          <p:nvPr/>
        </p:nvPicPr>
        <p:blipFill>
          <a:blip r:embed="rId1"/>
          <a:stretch/>
        </p:blipFill>
        <p:spPr>
          <a:xfrm>
            <a:off x="5364000" y="4221000"/>
            <a:ext cx="3600720" cy="247356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</p:spTree>
  </p:cSld>
  <p:transition spd="med">
    <p:diamond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опросы для обсуждения на «3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229600" cy="55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йте определение биологическим понятиям: близнецы, дизиготные и монозиготные близнецы, сиамские близнецы, конкордантность, дискордант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В чем заключается близнецовый метод исследования генетики человека? Кто впервые применил этот метод для изучения генетики челове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Каково знач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лизнецового мето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изучения генет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лове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article-1288391-0A2164C3000005DC-372_634x372_popup"/>
          <p:cNvPicPr/>
          <p:nvPr/>
        </p:nvPicPr>
        <p:blipFill>
          <a:blip r:embed="rId1"/>
          <a:stretch/>
        </p:blipFill>
        <p:spPr>
          <a:xfrm>
            <a:off x="4286160" y="3786120"/>
            <a:ext cx="4465800" cy="28242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p:transition spd="med">
    <p:diamond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ые понятия у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142640"/>
            <a:ext cx="822960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лизнецы – одновременно родившиеся де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зиготные близнецы – развиваются из 2-х разных яйцекле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нозиготные близнецы - развиваются из 1 яйцекле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амские близнецы – сросшиеся близне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кордантность – наличие признака у обоих близнец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кордантность – наличие признака и одного из близнец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8" descr="1192032266_kopie_e4"/>
          <p:cNvPicPr/>
          <p:nvPr/>
        </p:nvPicPr>
        <p:blipFill>
          <a:blip r:embed="rId1"/>
          <a:stretch/>
        </p:blipFill>
        <p:spPr>
          <a:xfrm>
            <a:off x="7510320" y="4981680"/>
            <a:ext cx="1633680" cy="1876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6siam"/>
          <p:cNvPicPr/>
          <p:nvPr/>
        </p:nvPicPr>
        <p:blipFill>
          <a:blip r:embed="rId2"/>
          <a:stretch/>
        </p:blipFill>
        <p:spPr>
          <a:xfrm>
            <a:off x="5715000" y="5000760"/>
            <a:ext cx="1666800" cy="18572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225294365"/>
          <p:cNvPicPr/>
          <p:nvPr/>
        </p:nvPicPr>
        <p:blipFill>
          <a:blip r:embed="rId3"/>
          <a:stretch/>
        </p:blipFill>
        <p:spPr>
          <a:xfrm>
            <a:off x="4071960" y="5070600"/>
            <a:ext cx="1428840" cy="17874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Близнецовый мет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1257159055_1"/>
          <p:cNvPicPr/>
          <p:nvPr/>
        </p:nvPicPr>
        <p:blipFill>
          <a:blip r:embed="rId1"/>
          <a:stretch/>
        </p:blipFill>
        <p:spPr>
          <a:xfrm>
            <a:off x="250920" y="1176480"/>
            <a:ext cx="4321080" cy="40510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126" name="Text Box 7"/>
          <p:cNvSpPr/>
          <p:nvPr/>
        </p:nvSpPr>
        <p:spPr>
          <a:xfrm>
            <a:off x="324000" y="5589720"/>
            <a:ext cx="40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Монозиготные близнецы (однояйцевы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7" descr="79_3"/>
          <p:cNvPicPr/>
          <p:nvPr/>
        </p:nvPicPr>
        <p:blipFill>
          <a:blip r:embed="rId2"/>
          <a:stretch/>
        </p:blipFill>
        <p:spPr>
          <a:xfrm>
            <a:off x="5076720" y="1700280"/>
            <a:ext cx="2808360" cy="2160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7" descr="79_3"/>
          <p:cNvPicPr/>
          <p:nvPr/>
        </p:nvPicPr>
        <p:blipFill>
          <a:blip r:embed="rId3"/>
          <a:stretch/>
        </p:blipFill>
        <p:spPr>
          <a:xfrm>
            <a:off x="4886280" y="1714680"/>
            <a:ext cx="3992760" cy="30715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6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6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6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6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Близнецовый мет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1242648442_2-twins"/>
          <p:cNvPicPr/>
          <p:nvPr/>
        </p:nvPicPr>
        <p:blipFill>
          <a:blip r:embed="rId1"/>
          <a:stretch/>
        </p:blipFill>
        <p:spPr>
          <a:xfrm>
            <a:off x="428760" y="1143000"/>
            <a:ext cx="3998880" cy="461016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131" name="Rectangle 8"/>
          <p:cNvSpPr/>
          <p:nvPr/>
        </p:nvSpPr>
        <p:spPr>
          <a:xfrm>
            <a:off x="357120" y="5857920"/>
            <a:ext cx="40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Дизиготные близнецы (двуяйцевы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8" descr="79_4"/>
          <p:cNvPicPr/>
          <p:nvPr/>
        </p:nvPicPr>
        <p:blipFill>
          <a:blip r:embed="rId2"/>
          <a:stretch/>
        </p:blipFill>
        <p:spPr>
          <a:xfrm>
            <a:off x="4643280" y="1928880"/>
            <a:ext cx="4238640" cy="30002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6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6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6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6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143680" y="999720"/>
            <a:ext cx="3543120" cy="43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.Гальтон – основатель близнецового метода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http://www.xpomo.com/ruskolan/images/evg-04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680" y="785880"/>
            <a:ext cx="4365360" cy="53071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Близнецовый метод позволяет устано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822960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влияние среды на реализацию геноти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вклад среды и генотипа в развитие данного призна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MCj02990210000[1]"/>
          <p:cNvPicPr/>
          <p:nvPr/>
        </p:nvPicPr>
        <p:blipFill>
          <a:blip r:embed="rId1"/>
          <a:stretch/>
        </p:blipFill>
        <p:spPr>
          <a:xfrm>
            <a:off x="7236000" y="5734080"/>
            <a:ext cx="1809720" cy="966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6328a501ea5343129228471263961538"/>
          <p:cNvPicPr/>
          <p:nvPr/>
        </p:nvPicPr>
        <p:blipFill>
          <a:blip r:embed="rId2"/>
          <a:stretch/>
        </p:blipFill>
        <p:spPr>
          <a:xfrm>
            <a:off x="1476360" y="2492280"/>
            <a:ext cx="5432400" cy="40752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p:transition spd="med">
    <p:diamond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000"/>
                            </p:stCondLst>
                            <p:childTnLst>
                              <p:par>
                                <p:cTn id="17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5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тепень различия (дискордантность) по ряду нейтральных признаков у близнец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50920" y="1341360"/>
          <a:ext cx="8642160" cy="5303880"/>
        </p:xfrm>
        <a:graphic>
          <a:graphicData uri="http://schemas.openxmlformats.org/drawingml/2006/table">
            <a:tbl>
              <a:tblPr/>
              <a:tblGrid>
                <a:gridCol w="3517920"/>
                <a:gridCol w="1571400"/>
                <a:gridCol w="1676520"/>
                <a:gridCol w="1876320"/>
              </a:tblGrid>
              <a:tr h="6426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знаки, контролируемые небольшим числом гено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астота (вероятность) появления различий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следуемость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днояйцев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знояйцев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Цвет гла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орма уш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Цвет воло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апиллярные лин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не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1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≈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иохимические призна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т 0 до 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Цвет кож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орма воло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орма бров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орма но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орма г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med">
    <p:diamond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09:57:50Z</dcterms:created>
  <dc:creator>Дороненкова Н.Ю.</dc:creator>
  <dc:description/>
  <dc:language>en-US</dc:language>
  <cp:lastModifiedBy>Admin</cp:lastModifiedBy>
  <dcterms:modified xsi:type="dcterms:W3CDTF">2012-10-23T18:46:44Z</dcterms:modified>
  <cp:revision>38</cp:revision>
  <dc:subject/>
  <dc:title>Урок Методы генетики человека:</dc:title>
</cp:coreProperties>
</file>