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26.wmf" ContentType="image/x-wmf"/>
  <Override PartName="/ppt/media/image4.png" ContentType="image/png"/>
  <Override PartName="/ppt/media/image27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B75-E90D-48D4-85AE-54B6C22C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8D2-341E-476E-92E6-6288B864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3A5-F2CB-426F-8921-6A73C79E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BD7-6D65-47C5-AED3-E9F26B49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D4D1-6F56-48B8-8AE4-30251C1E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D328-961D-499D-8078-3D2D348C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F247-E7AB-4791-8668-786EC7C2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227C-D076-4332-8268-8BADD640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2747-AD43-4FAD-84FF-A2D735F3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F7B9-1CD4-4A7A-A348-E75A9933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EFF7-A7F1-41E7-A7B0-FACE4D37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43BD-06CF-4A86-9300-D1D77326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CC2F-C80A-401F-BAC3-1F432896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0EAF-9AE8-4152-9499-EB2B8494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1491-112D-42C4-98E2-DF71469A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BDBA-CDCD-46EB-96A1-3E330237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CE3C-D934-4013-B8B0-439E7E71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0751-E6FC-4FA1-B7EE-BFBC803C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040C1-A60B-428A-B33D-F1933D87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D1633-5BDC-4CD1-BCEE-3FAAEF5E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84FBB-888D-44C6-8DA8-D0FE01E2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73A79-3891-4105-925D-B390547E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487-754F-4392-A965-62D3181C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D7049-34DE-4588-8ED4-DCD36102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8F14-AF34-46DD-8C3C-76AFF30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11CC1-6AC9-4021-811E-686B0A63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A8E5E-029E-435A-840A-5E42CAD3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FAA6D-32B6-4669-AAC9-7C6B82BD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DC501-F9AF-4A8D-9E06-1D728C5D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ECE6-5A6C-4861-9730-1E606D49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74051-F4F3-410F-8388-463D0160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DFB3F-72AE-470E-B50A-F8B6E96B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CDA16-B988-4FCF-AB24-098CE5D4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407-3661-45C8-B918-28AEFBA9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0A5B1-F292-46F5-94C2-399188EB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FF3C9-828F-452F-82AB-C2C6D2EA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6506D-A62D-4300-9B5C-05AF3B21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8B3DE-4A94-452F-97A1-E66964C1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DAF4-8A3D-4405-A3C2-4C36111C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8AB9D-6063-47E8-9C22-7E9FCAF2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0E350-4173-494D-A167-EA3BA3E0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2A533-AF0F-413D-B573-2F37D7BA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A58D9-340E-4252-977F-0A3FE650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AC8EC-1B07-42EE-8DEC-F537AC88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DDA-F227-4E4B-8E75-70639CD8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419D1-2DDD-4FFB-88B6-8B6D7DD9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27AD7-038E-4750-B73B-BBB42EC5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45917-118F-44F2-83BC-4EAB26D7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4EB11-1ADE-4ED1-B8F2-5F05D7D2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FA0B2-404D-4B1C-A75C-65B54BAA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451FC-EA7F-41E9-86CC-476B23FB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57F23-AD84-4DDE-9185-6535FC26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A224A-36C4-4643-BC0E-D7DF646B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F2232-CDEC-4BB6-8BAD-E6E3EAC6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57527-AC3F-49BE-BCD5-C251642A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CD2-CBF9-4322-941A-0B7D7504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B99A4-2DDF-4A10-A3C4-ED6BF28E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07123-B807-4299-ACC2-6014A188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B2647-9A3D-4C8F-AD4D-DE6AA2F7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B1079-753F-4455-BAA5-1A998E19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C11CB-F5C7-4BEA-AF23-5BB048FC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12833-F694-412B-91DE-8B8F9B38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C65B8-063B-4D29-80CB-EA3A6889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3C5A2-CE6A-4C5F-A1BD-9AD7129A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959B9-84D9-4CCD-AE68-9F27B1FC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11F64-C452-4B4E-8F45-A4173961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EC6-91D0-4D69-BA61-E8971C71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E9A80-11B0-4403-9611-875617B3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77B0D-59CE-452F-B503-EBD6C00C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7FB57-69A1-412A-B99E-AFF2075F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B30B4-7871-40AC-97C0-B10DB8C5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E25F5-21A5-4AED-BCDF-E08E5776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3F3B9-0206-4D14-B8BC-A45E9181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070F9-0EDB-49C1-9A7C-3F946B35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BF0F5-F265-4BB4-9549-3C80B3D0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68ACF-69B9-48E3-853D-331B8899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AA5B7-E475-43A1-8853-47D3B74E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702-8CF8-4419-ADE3-89C82FBA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F428C-B317-4D1E-8B1A-73F4C8A6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80ED1-7D93-422F-9D46-07047F93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62731-4D1F-4A50-B5BB-CB533888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013A6-0EEE-4759-BA3E-9414952D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600C1-C843-4F12-B2F7-F811F13F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9AC2C-92B7-4B59-A61B-A50F7E68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4972A-7970-4ECE-9703-2376C5F5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44468-B231-4B7B-AFE1-5AAC1AE6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7E814-7D1C-421E-A7D3-29EFF0F3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452C3-B73C-4A98-9A22-359E1EF7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D8E-E2D0-426B-B1FC-63B46BF3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DCCC7-5AD1-48EF-9A26-30B28A0F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DFC70-4896-4B52-9921-7B44097F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C857E-6A37-4AD1-A739-A1373603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109B2-3C80-4F5A-A0B2-510D4B3F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95F10-55DA-4624-A8A8-EE66B4D1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558BB-9FB3-43F2-8A4D-EF80FA11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158C8-9B2D-494C-A040-14A7155B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05F4-1C82-45B8-BB52-FF7846486D7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9CAA-0F87-49B2-A76B-92DB454E6E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CE1E-4A04-43AC-8A6D-92426E593B80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FDE0-E937-42BF-84A4-B6D9C5690FB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CDFF-701E-4A9F-98EF-A26C42955DE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36A1-0528-4338-8AC8-C642820A1CE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71B4-D9FD-4448-9BCC-336F393636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6B4B-6FA2-4764-9810-9EA05F5FD505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895320"/>
            <a:ext cx="8321760" cy="257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a1"/>
          <p:cNvPicPr/>
          <p:nvPr/>
        </p:nvPicPr>
        <p:blipFill>
          <a:blip r:embed="rId2"/>
          <a:stretch/>
        </p:blipFill>
        <p:spPr>
          <a:xfrm>
            <a:off x="1063800" y="3500280"/>
            <a:ext cx="2936880" cy="301644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4"/>
          <p:cNvSpPr/>
          <p:nvPr/>
        </p:nvSpPr>
        <p:spPr>
          <a:xfrm>
            <a:off x="2286000" y="500040"/>
            <a:ext cx="327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eaee"/>
                </a:solidFill>
                <a:latin typeface="Times New Roman"/>
                <a:ea typeface="Times New Roman"/>
              </a:rPr>
              <a:t>24 октября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3929040" y="45720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Чердынская СОШ им. А. Спирина», учитель: Светлана Владимировна Бил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427040" y="2889360"/>
            <a:ext cx="792360" cy="792000"/>
            <a:chOff x="1427040" y="2889360"/>
            <a:chExt cx="792360" cy="79200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427040" y="288936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93720" y="3022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01342 C 0.09254 -0.10777 0.1658 -0.21299 0.26406 -0.22016 C 0.35799 -0.22918 0.44584 -0.14778 0.45174 -0.03006 C 0.4592 0.0784 0.39757 0.17993 0.30938 0.1871 C 0.229 0.19265 0.15261 0.12558 0.1467 0.02429 C 0.1408 -0.06799 0.19219 -0.15494 0.26684 -0.16211 C 0.33594 -0.16743 0.40052 -0.11124 0.40486 -0.02659 C 0.4092 0.0495 0.36823 0.1235 0.3066 0.12766 C 0.25087 0.13298 0.19809 0.08927 0.19358 0.02059 C 0.1908 -0.04093 0.22153 -0.1006 0.26997 -0.10407 C 0.3125 -0.10777 0.35504 -0.07516 0.35799 -0.02266 C 0.36077 0.02244 0.33889 0.06568 0.30347 0.06962 C 0.27431 0.07285 0.2434 0.0532 0.24184 0.01712 C 0.23906 -0.01202 0.25087 -0.04278 0.27275 -0.04625 C 0.29063 -0.04625 0.30816 -0.03908 0.31094 -0.01942 C 0.3125 -0.00647 0.30938 0.00602 0.3007 0.01134 C 0.29636 0.01342 0.2934 0.01342 0.28906 0.01134 E">
                                      <p:cBhvr>
                                        <p:cTn id="8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Овал 4"/>
          <p:cNvSpPr/>
          <p:nvPr/>
        </p:nvSpPr>
        <p:spPr>
          <a:xfrm>
            <a:off x="3581280" y="1828800"/>
            <a:ext cx="990720" cy="838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13321 C 0.1007 -0.13321 0.16667 -0.07332 0.16667 -0.00024 C 0.16667 0.08649 0.09375 0.11748 0.04966 0.13066 L -0.0085 0.14431 C -0.05208 0.15749 -0.125 0.19079 -0.125 0.28839 C -0.125 0.3506 -0.05955 0.42183 0.02084 0.42183 C 0.1007 0.42183 0.16667 0.3506 0.16667 0.28839 C 0.16667 0.19079 0.09375 0.15749 0.04966 0.14431 L -0.0085 0.13066 C -0.05208 0.11748 -0.125 0.08649 -0.125 -0.00024 C -0.125 -0.07332 -0.05955 -0.13321 0.02084 -0.13321 Z">
                                      <p:cBhvr>
                                        <p:cTn id="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3"/>
          <p:cNvSpPr/>
          <p:nvPr/>
        </p:nvSpPr>
        <p:spPr>
          <a:xfrm>
            <a:off x="3733920" y="2438280"/>
            <a:ext cx="685800" cy="685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25 -0.00555 L -0.26389 0.38298 L -0.2177 -0.00555 L -0.16857 0.38298 L -0.11961 -0.00555 L -0.07395 0.38298 L -0.02465 -0.00555 L 0.02153 0.38298 L 0.07084 -0.00555 L 0.11945 0.38298 L 0.16563 -0.00555 L 0.21476 0.38298 L 0.26042 -0.00555 L 0.30938 0.38298 L 0.35868 -0.00555 L 0.40486 0.38298 L 0.45417 -0.00555 E">
                                      <p:cBhvr>
                                        <p:cTn id="98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абота на компьютер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3" name="Picture 4" descr="C:\Documents and Settings\Пользователь\Рабочий стол\с1.jpg"/>
          <p:cNvPicPr/>
          <p:nvPr/>
        </p:nvPicPr>
        <p:blipFill>
          <a:blip r:embed="rId1"/>
          <a:stretch/>
        </p:blipFill>
        <p:spPr>
          <a:xfrm>
            <a:off x="1928880" y="228600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5628" t="5484" r="9664" b="41168"/>
          <a:stretch/>
        </p:blipFill>
        <p:spPr>
          <a:xfrm>
            <a:off x="1214280" y="857160"/>
            <a:ext cx="6864480" cy="5538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428920" y="5000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286160" y="5000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6215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 Ы Ш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 О С И Т Е Л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385776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 И С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585792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 З Б У К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j0397224"/>
          <p:cNvPicPr/>
          <p:nvPr/>
        </p:nvPicPr>
        <p:blipFill>
          <a:blip r:embed="rId1"/>
          <a:stretch/>
        </p:blipFill>
        <p:spPr>
          <a:xfrm>
            <a:off x="7286760" y="5214960"/>
            <a:ext cx="1611000" cy="1316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ое, что мы должны понять и запомни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дированное сообщение можно декодировать, если известно правило кодирования или имеется кодировочная табл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ю, которая содержится в закодированном сообщении, человек может получить, только декодировав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5" descr="j0397202"/>
          <p:cNvPicPr/>
          <p:nvPr/>
        </p:nvPicPr>
        <p:blipFill>
          <a:blip r:embed="rId2"/>
          <a:stretch/>
        </p:blipFill>
        <p:spPr>
          <a:xfrm rot="13644600">
            <a:off x="7907760" y="4469040"/>
            <a:ext cx="10825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4" descr="j0410909"/>
          <p:cNvPicPr/>
          <p:nvPr/>
        </p:nvPicPr>
        <p:blipFill>
          <a:blip r:embed="rId1"/>
          <a:stretch/>
        </p:blipFill>
        <p:spPr>
          <a:xfrm>
            <a:off x="3000240" y="278604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пробуйте дополнить пред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труд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еперь я могу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годня я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научился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меня получилось 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еня удивил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07400" cy="1256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Пользователь\Рабочий стол\с2.jpg"/>
          <p:cNvPicPr/>
          <p:nvPr/>
        </p:nvPicPr>
        <p:blipFill>
          <a:blip r:embed="rId2"/>
          <a:stretch/>
        </p:blipFill>
        <p:spPr>
          <a:xfrm>
            <a:off x="3357720" y="3571920"/>
            <a:ext cx="2581200" cy="27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Вспомни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ем люди кодируют информа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способы кодирования ты знаеш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яется ли смысл сообщения при кодирован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ом виде информация запоминается в памяти компьютер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BD05012_"/>
          <p:cNvPicPr/>
          <p:nvPr/>
        </p:nvPicPr>
        <p:blipFill>
          <a:blip r:embed="rId1"/>
          <a:stretch/>
        </p:blipFill>
        <p:spPr>
          <a:xfrm>
            <a:off x="6715080" y="4572000"/>
            <a:ext cx="1779480" cy="155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Автогон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Picture 2" descr="C:\Documents and Settings\Пользователь\Рабочий стол\с3.jpg"/>
          <p:cNvPicPr/>
          <p:nvPr/>
        </p:nvPicPr>
        <p:blipFill>
          <a:blip r:embed="rId1"/>
          <a:stretch/>
        </p:blipFill>
        <p:spPr>
          <a:xfrm>
            <a:off x="428760" y="2000160"/>
            <a:ext cx="2643120" cy="216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Рабочий стол\с4.gif"/>
          <p:cNvPicPr/>
          <p:nvPr/>
        </p:nvPicPr>
        <p:blipFill>
          <a:blip r:embed="rId2"/>
          <a:stretch/>
        </p:blipFill>
        <p:spPr>
          <a:xfrm>
            <a:off x="2071800" y="3929040"/>
            <a:ext cx="6762600" cy="253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j0210200"/>
          <p:cNvPicPr/>
          <p:nvPr/>
        </p:nvPicPr>
        <p:blipFill>
          <a:blip r:embed="rId1"/>
          <a:stretch/>
        </p:blipFill>
        <p:spPr>
          <a:xfrm>
            <a:off x="920880" y="281160"/>
            <a:ext cx="7016760" cy="6216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071720" y="207180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, как и кодирование, изменение формы представления информации без изменения смыс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818040" cy="231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357200" y="3571920"/>
            <a:ext cx="6261120" cy="243828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8"/>
          <p:cNvCxnSpPr/>
          <p:nvPr/>
        </p:nvCxnSpPr>
        <p:spPr>
          <a:xfrm>
            <a:off x="4143240" y="4428720"/>
            <a:ext cx="15724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4143240" y="4857840"/>
            <a:ext cx="157248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143240" y="5214600"/>
            <a:ext cx="1572480" cy="429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 flipV="1">
            <a:off x="4143240" y="4785840"/>
            <a:ext cx="15724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Лента лицом вверх 4"/>
          <p:cNvSpPr/>
          <p:nvPr/>
        </p:nvSpPr>
        <p:spPr>
          <a:xfrm>
            <a:off x="500040" y="507204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нта лицом вверх 3"/>
          <p:cNvSpPr/>
          <p:nvPr/>
        </p:nvSpPr>
        <p:spPr>
          <a:xfrm>
            <a:off x="500040" y="92880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856880" y="928800"/>
            <a:ext cx="5286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01 19 20 07 20  20 18 01 03 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Ё Т   Т Р А В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4294" t="65475" r="7156" b="11390"/>
          <a:stretch/>
        </p:blipFill>
        <p:spPr>
          <a:xfrm>
            <a:off x="642960" y="1928880"/>
            <a:ext cx="803916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rcRect l="5204" t="5798" r="6053" b="63892"/>
          <a:stretch/>
        </p:blipFill>
        <p:spPr>
          <a:xfrm>
            <a:off x="2428920" y="714240"/>
            <a:ext cx="6286320" cy="2847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5194" t="65475" r="6810" b="11390"/>
          <a:stretch/>
        </p:blipFill>
        <p:spPr>
          <a:xfrm>
            <a:off x="785880" y="3429000"/>
            <a:ext cx="7929360" cy="276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j0404643"/>
          <p:cNvPicPr/>
          <p:nvPr/>
        </p:nvPicPr>
        <p:blipFill>
          <a:blip r:embed="rId3"/>
          <a:stretch/>
        </p:blipFill>
        <p:spPr>
          <a:xfrm>
            <a:off x="357120" y="1500120"/>
            <a:ext cx="1924200" cy="167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57192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42916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7286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И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3500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 Л Е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528624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929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dd9"/>
                </a:solidFill>
                <a:latin typeface="Constantia"/>
              </a:rPr>
              <a:t>Минутка отдых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Овал 1"/>
          <p:cNvGrpSpPr/>
          <p:nvPr/>
        </p:nvGrpSpPr>
        <p:grpSpPr>
          <a:xfrm>
            <a:off x="2852640" y="1749600"/>
            <a:ext cx="792360" cy="860400"/>
            <a:chOff x="2852640" y="1749600"/>
            <a:chExt cx="792360" cy="860400"/>
          </a:xfrm>
        </p:grpSpPr>
        <p:pic>
          <p:nvPicPr>
            <p:cNvPr id="393" name="Овал 1" descr=""/>
            <p:cNvPicPr/>
            <p:nvPr/>
          </p:nvPicPr>
          <p:blipFill>
            <a:blip r:embed="rId1"/>
            <a:stretch/>
          </p:blipFill>
          <p:spPr>
            <a:xfrm>
              <a:off x="2852640" y="1749600"/>
              <a:ext cx="792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22560" y="1890720"/>
              <a:ext cx="4557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21 0.16998 C 0.31129 0.02336 0.23629 -0.10384 0.13577 -0.11263 C 0.03959 -0.1235 -0.05017 -0.02474 -0.05625 0.11772 C -0.06371 0.24884 -0.000689999999999996 0.37188 0.08941 0.38067 C 0.1717 0.38714 0.24983 0.30527 0.25573 0.1834 C 0.26181 0.07169 0.2092 -0.03353 0.13281 -0.04278 C 0.06233 -0.04903 -0.00382 0.0192 -0.00833 0.12188 C -0.01267 0.21369 0.02917 0.30342 0.09219 0.30805 C 0.14931 0.31452 0.20313 0.26203 0.20781 0.17877 C 0.21077 0.1043 0.17917 0.03215 0.12969 0.02798 C 0.08629 0.02336 0.04271 0.06291 0.03959 0.1265 C 0.03681 0.18108 0.0592 0.23358 0.09531 0.23821 C 0.12535 0.24237 0.15677 0.21832 0.15834 0.17461 C 0.16129 0.13922 0.14931 0.10199 0.12691 0.09783 C 0.10868 0.09783 0.09063 0.10662 0.08785 0.13067 C 0.08629 0.14616 0.08941 0.16143 0.09827 0.1679 C 0.10261 0.16998 0.10573 0.16998 0.11025 0.1679 E">
                                      <p:cBhvr>
                                        <p:cTn id="8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35:54Z</dcterms:created>
  <dc:creator>1</dc:creator>
  <dc:description/>
  <dc:language>en-US</dc:language>
  <cp:lastModifiedBy>Пользователь</cp:lastModifiedBy>
  <dcterms:modified xsi:type="dcterms:W3CDTF">2012-10-24T04:41:13Z</dcterms:modified>
  <cp:revision>19</cp:revision>
  <dc:subject/>
  <dc:title>Декодирование информации</dc:title>
</cp:coreProperties>
</file>