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10.wmf" ContentType="image/x-wmf"/>
  <Override PartName="/ppt/media/image2.png" ContentType="image/png"/>
  <Override PartName="/ppt/media/image2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26.wmf" ContentType="image/x-wmf"/>
  <Override PartName="/ppt/media/image4.png" ContentType="image/png"/>
  <Override PartName="/ppt/media/image27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18A-9B01-49E9-AE93-A7B8F9F3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084-FEFC-4A98-9638-CE1AAE2F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9A2-6059-4D5C-8212-6D0D7EDB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196-BAE4-4CC6-96CE-C86147EA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E11E-2188-4D65-94B5-6CA9E321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964-D724-44C6-89AD-D9FD88D3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D0DB-5DE9-48AC-9C1D-9B87AB25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6EA0-D7AC-496F-B349-93A04354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DA49-C47B-4724-9218-ADEBC2A9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2C7B-CA2C-446A-99E0-C76F9B4B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0663-C6AC-4DD9-AA3E-A801140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BE4-ECED-4390-BD7C-CCD211A4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0C32-A36E-4820-9CC5-632F2D0C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5A80-9FB5-4073-B881-DE7BAED8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E3E5-2FB2-4319-8FDE-6DFCFC94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CE77-A9A1-43C9-A070-40DA8DB8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F02C-7D42-48F3-B959-E80B341D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81D9-4223-4E96-9882-F7D9E98D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7C15-F412-46D9-8C3C-866EC40D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763D-7751-4082-88CC-3292A77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8FAA-B179-49F6-BFC6-7F013E1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2CB9-B681-4BA9-9416-9B91D08B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FBF-6BE8-45D2-A1ED-260C44FF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7F00-D8E7-45CC-A963-1FCAA84B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0A4E-4552-47D0-9739-66AB636F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ACAD-A606-438B-8E4E-823DA7A2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D0C6-8B84-40D5-996E-5A88333B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4AFB-D974-4ACC-98D1-3BCC6FE8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9C27-1EF3-4392-815F-FE3558E0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4445-FB48-4753-A87D-B70FCA8E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BA09-AC75-4F81-93DF-0FF6E1E2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1B9E-F394-464E-B25D-EA079498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68324-8F33-4A0E-B1B5-FECEC22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20B-1AB8-42CB-BB53-C359A688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EFE92-0D35-4520-A5FE-40360EB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B3BBD-1A7B-4BE9-B056-C3431155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0831-4F30-4B7D-88B2-05DC6D36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01CA-21D7-44EA-970E-7DD3A21E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62DD-7D69-46A6-B6CB-E4B9236D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8F65-7588-47D0-BC6A-23D9E733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AEBF5-363F-4955-9500-E5481D00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743F-EC65-4615-B552-9997DC20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333F-F1FC-4117-97F8-482E471B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46F11-FF28-42BB-937F-62FF0260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B03-2975-4424-B6F3-65AEB544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3E8D9-48B2-49D7-B227-587AA6C4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36768-6CDC-4934-BB57-E5FAD096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8A23C-AD6F-441B-B4C2-AD559431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106D8-1223-4736-9066-EF49B4D6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ACAA5-AD0A-4EF7-93C4-197EF9E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4BA2E-A4CB-4512-B3F2-A808588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C7A07-D87C-4448-AB31-3AC56D86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182C6-3439-4A9A-9A3F-8CE2090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E265-12CE-41C9-9481-8ACA1747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8EEC6-7A12-4383-8BC1-A8F983CE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C3E-EBED-4F9F-9A4E-E51D875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8F1B9-5852-40A6-A883-DD4462F0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AAA96-F770-4BE5-BB30-57CB2015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C91D-0A07-4FEF-940E-3605DA29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39656-2F4E-4EED-B408-23B663F1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0FBB-97A9-4918-BD82-8D43E315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60425-B929-4756-BFBE-95F98F15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576DA-F35E-4F85-BB2A-4594437F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6A9A7-9F32-43E9-A522-E750D06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AB6E-2B86-4EE0-8A17-17531070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88348-BBFF-42AC-89CF-4A5A17E0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E24-F485-4797-A45C-507FECCB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88F5C-A7B3-476E-9219-678F2E0E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A1F4C-C80A-4A7D-ACEE-563AE463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38DF-0165-455E-89C3-97C988D1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BA923-18C4-4E73-869F-4D995351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043A0-D81E-4B90-9B6C-1FC5A2E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B9526-141B-4534-9B08-FFCE38F8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8F157-67A3-484C-BD1A-0946579C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6468D-B266-44DF-B710-66715387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8CE4-DB62-49F3-B909-25135B89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EF0F-2FB9-48CE-8EF3-D6BCD001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B3A-9DA7-4608-B0DA-10CCC755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0E9A7-437E-4D9F-BA09-495096E2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E2317-B8E2-4C5A-84CD-803E7D4A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C092-F8AC-4448-96A9-ACDA4E7A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17BC1-95FA-4DD5-B725-785DE136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60874-8982-4D4A-B772-8C17968A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AF47D-E262-4A10-BD17-4A3B50DF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E5D30-8F03-4D59-9CDD-CC815E37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D38A1-DB32-4F9B-B5CB-2A4CCA35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B6782-58E2-461C-90E4-C6F5B8C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E7547-7D61-4F5D-B627-BA9A162B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A65-C829-4B7B-ABFB-A805F60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7C2B-EF76-4414-96B2-8F3031C1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A1175-7661-46AE-9878-80168A42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02A09-2774-424C-BBD4-B4D76D1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09AF-460C-4FED-A393-AAE4910F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BD584-EAB5-4A04-9E8E-4D68C674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AEF0A-8342-4BA3-9F8A-BE18B0F8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3EEB7-DC59-4E5B-B0A2-D9164F6D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A120-C873-42B7-9725-7410F83363A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8BB4-603D-4C75-B408-6055A8FE55A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059C-4FC1-468D-AAA3-F50AB36A7E52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9386-BE2A-4818-B00F-34B59533E96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261D-703A-41BC-889D-002F9B5FA9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146E-78DA-4865-B9BB-703806838C1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850-DB0A-4FB1-B3DD-D681D6F8E9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7D47-6AE4-4A7B-A2CF-A1745BC52F62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633240" y="895320"/>
            <a:ext cx="8321760" cy="2579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a1"/>
          <p:cNvPicPr/>
          <p:nvPr/>
        </p:nvPicPr>
        <p:blipFill>
          <a:blip r:embed="rId2"/>
          <a:stretch/>
        </p:blipFill>
        <p:spPr>
          <a:xfrm>
            <a:off x="1063800" y="3500280"/>
            <a:ext cx="2936880" cy="3016440"/>
          </a:xfrm>
          <a:prstGeom prst="rect">
            <a:avLst/>
          </a:prstGeom>
          <a:ln w="0">
            <a:noFill/>
          </a:ln>
        </p:spPr>
      </p:pic>
      <p:sp>
        <p:nvSpPr>
          <p:cNvPr id="361" name="Дата 4"/>
          <p:cNvSpPr/>
          <p:nvPr/>
        </p:nvSpPr>
        <p:spPr>
          <a:xfrm>
            <a:off x="2286000" y="500040"/>
            <a:ext cx="3276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eaee"/>
                </a:solidFill>
                <a:latin typeface="Times New Roman"/>
                <a:ea typeface="Times New Roman"/>
              </a:rPr>
              <a:t>24 октября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3929040" y="457200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Чердынская СОШ им. А. Спирина», учитель: Светлана Владимировна Бил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Овал 1"/>
          <p:cNvGrpSpPr/>
          <p:nvPr/>
        </p:nvGrpSpPr>
        <p:grpSpPr>
          <a:xfrm>
            <a:off x="1427040" y="2889360"/>
            <a:ext cx="792360" cy="792000"/>
            <a:chOff x="1427040" y="2889360"/>
            <a:chExt cx="792360" cy="792000"/>
          </a:xfrm>
        </p:grpSpPr>
        <p:pic>
          <p:nvPicPr>
            <p:cNvPr id="396" name="Овал 1" descr=""/>
            <p:cNvPicPr/>
            <p:nvPr/>
          </p:nvPicPr>
          <p:blipFill>
            <a:blip r:embed="rId1"/>
            <a:stretch/>
          </p:blipFill>
          <p:spPr>
            <a:xfrm>
              <a:off x="1427040" y="2889360"/>
              <a:ext cx="7923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93720" y="3022560"/>
              <a:ext cx="45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01342 C 0.09254 -0.10777 0.1658 -0.21299 0.26406 -0.22016 C 0.35799 -0.22918 0.44584 -0.14778 0.45174 -0.03006 C 0.4592 0.0784 0.39757 0.17993 0.30938 0.1871 C 0.229 0.19265 0.15261 0.12558 0.1467 0.02429 C 0.1408 -0.06799 0.19219 -0.15494 0.26684 -0.16211 C 0.33594 -0.16743 0.40052 -0.11124 0.40486 -0.02659 C 0.4092 0.0495 0.36823 0.1235 0.3066 0.12766 C 0.25087 0.13298 0.19809 0.08927 0.19358 0.02059 C 0.1908 -0.04093 0.22153 -0.1006 0.26997 -0.10407 C 0.3125 -0.10777 0.35504 -0.07516 0.35799 -0.02266 C 0.36077 0.02244 0.33889 0.06568 0.30347 0.06962 C 0.27431 0.07285 0.2434 0.0532 0.24184 0.01712 C 0.23906 -0.01202 0.25087 -0.04278 0.27275 -0.04625 C 0.29063 -0.04625 0.30816 -0.03908 0.31094 -0.01942 C 0.3125 -0.00647 0.30938 0.00602 0.3007 0.01134 C 0.29636 0.01342 0.2934 0.01342 0.28906 0.01134 E">
                                      <p:cBhvr>
                                        <p:cTn id="8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Овал 4"/>
          <p:cNvSpPr/>
          <p:nvPr/>
        </p:nvSpPr>
        <p:spPr>
          <a:xfrm>
            <a:off x="3581280" y="1828800"/>
            <a:ext cx="990720" cy="838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13321 C 0.1007 -0.13321 0.16667 -0.07332 0.16667 -0.00024 C 0.16667 0.08649 0.09375 0.11748 0.04966 0.13066 L -0.0085 0.14431 C -0.05208 0.15749 -0.125 0.19079 -0.125 0.28839 C -0.125 0.3506 -0.05955 0.42183 0.02084 0.42183 C 0.1007 0.42183 0.16667 0.3506 0.16667 0.28839 C 0.16667 0.19079 0.09375 0.15749 0.04966 0.14431 L -0.0085 0.13066 C -0.05208 0.11748 -0.125 0.08649 -0.125 -0.00024 C -0.125 -0.07332 -0.05955 -0.13321 0.02084 -0.13321 Z">
                                      <p:cBhvr>
                                        <p:cTn id="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401" name="Овал 3"/>
          <p:cNvSpPr/>
          <p:nvPr/>
        </p:nvSpPr>
        <p:spPr>
          <a:xfrm>
            <a:off x="3733920" y="2438280"/>
            <a:ext cx="685800" cy="685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25 -0.00555 L -0.26389 0.38298 L -0.2177 -0.00555 L -0.16857 0.38298 L -0.11961 -0.00555 L -0.07395 0.38298 L -0.02465 -0.00555 L 0.02153 0.38298 L 0.07084 -0.00555 L 0.11945 0.38298 L 0.16563 -0.00555 L 0.21476 0.38298 L 0.26042 -0.00555 L 0.30938 0.38298 L 0.35868 -0.00555 L 0.40486 0.38298 L 0.45417 -0.00555 E">
                                      <p:cBhvr>
                                        <p:cTn id="98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Работа на компьютер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3" name="Picture 4" descr="C:\Documents and Settings\Пользователь\Рабочий стол\с1.jpg"/>
          <p:cNvPicPr/>
          <p:nvPr/>
        </p:nvPicPr>
        <p:blipFill>
          <a:blip r:embed="rId1"/>
          <a:stretch/>
        </p:blipFill>
        <p:spPr>
          <a:xfrm>
            <a:off x="1928880" y="228600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5628" t="5484" r="9664" b="41168"/>
          <a:stretch/>
        </p:blipFill>
        <p:spPr>
          <a:xfrm>
            <a:off x="1214280" y="857160"/>
            <a:ext cx="6864480" cy="5538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428920" y="5000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286160" y="50007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6215040" y="50007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М Ы Ш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 О С И Т Е Л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385776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 И С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585792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 З Б У К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j0397224"/>
          <p:cNvPicPr/>
          <p:nvPr/>
        </p:nvPicPr>
        <p:blipFill>
          <a:blip r:embed="rId1"/>
          <a:stretch/>
        </p:blipFill>
        <p:spPr>
          <a:xfrm>
            <a:off x="7286760" y="5214960"/>
            <a:ext cx="1611000" cy="1316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ое, что мы должны понять и запомни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дированное сообщение можно декодировать, если известно правило кодирования или имеется кодировочная таблиц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формацию, которая содержится в закодированном сообщении, человек может получить, только декодировав е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5" descr="j0397202"/>
          <p:cNvPicPr/>
          <p:nvPr/>
        </p:nvPicPr>
        <p:blipFill>
          <a:blip r:embed="rId2"/>
          <a:stretch/>
        </p:blipFill>
        <p:spPr>
          <a:xfrm rot="13644600">
            <a:off x="7907760" y="4469040"/>
            <a:ext cx="1082520" cy="89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10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4" descr="j0410909"/>
          <p:cNvPicPr/>
          <p:nvPr/>
        </p:nvPicPr>
        <p:blipFill>
          <a:blip r:embed="rId1"/>
          <a:stretch/>
        </p:blipFill>
        <p:spPr>
          <a:xfrm>
            <a:off x="3000240" y="278604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пробуйте дополнить пред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егодня на уроке я узнал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интерес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было трудн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Теперь я могу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егодня я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научился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меня получилось 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еня удивило…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225520"/>
            <a:ext cx="7907400" cy="1256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Пользователь\Рабочий стол\с2.jpg"/>
          <p:cNvPicPr/>
          <p:nvPr/>
        </p:nvPicPr>
        <p:blipFill>
          <a:blip r:embed="rId2"/>
          <a:stretch/>
        </p:blipFill>
        <p:spPr>
          <a:xfrm>
            <a:off x="3357720" y="3571920"/>
            <a:ext cx="2581200" cy="277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4617b"/>
                </a:solidFill>
                <a:latin typeface="Calibri"/>
              </a:rPr>
              <a:t>Вспомни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чем люди кодируют информаци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способы кодирования ты знаеш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яется ли смысл сообщения при кодировании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аком виде информация запоминается в памяти компьютер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BD05012_"/>
          <p:cNvPicPr/>
          <p:nvPr/>
        </p:nvPicPr>
        <p:blipFill>
          <a:blip r:embed="rId1"/>
          <a:stretch/>
        </p:blipFill>
        <p:spPr>
          <a:xfrm>
            <a:off x="6715080" y="4572000"/>
            <a:ext cx="1779480" cy="155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Автогон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Picture 2" descr="C:\Documents and Settings\Пользователь\Рабочий стол\с3.jpg"/>
          <p:cNvPicPr/>
          <p:nvPr/>
        </p:nvPicPr>
        <p:blipFill>
          <a:blip r:embed="rId1"/>
          <a:stretch/>
        </p:blipFill>
        <p:spPr>
          <a:xfrm>
            <a:off x="428760" y="2000160"/>
            <a:ext cx="2643120" cy="2167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Пользователь\Рабочий стол\с4.gif"/>
          <p:cNvPicPr/>
          <p:nvPr/>
        </p:nvPicPr>
        <p:blipFill>
          <a:blip r:embed="rId2"/>
          <a:stretch/>
        </p:blipFill>
        <p:spPr>
          <a:xfrm>
            <a:off x="2071800" y="3929040"/>
            <a:ext cx="6762600" cy="253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j0210200"/>
          <p:cNvPicPr/>
          <p:nvPr/>
        </p:nvPicPr>
        <p:blipFill>
          <a:blip r:embed="rId1"/>
          <a:stretch/>
        </p:blipFill>
        <p:spPr>
          <a:xfrm>
            <a:off x="920880" y="281160"/>
            <a:ext cx="7016760" cy="62164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071720" y="2071800"/>
            <a:ext cx="6929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 действие с информацией, обратное кодирова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екодирование – это, как и кодирование, изменение формы представления информации без изменения смысл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818040" cy="2316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1357200" y="3571920"/>
            <a:ext cx="6261120" cy="2438280"/>
          </a:xfrm>
          <a:prstGeom prst="rect">
            <a:avLst/>
          </a:prstGeom>
          <a:ln w="0">
            <a:noFill/>
          </a:ln>
        </p:spPr>
      </p:pic>
      <p:cxnSp>
        <p:nvCxnSpPr>
          <p:cNvPr id="373" name="Прямая со стрелкой 8"/>
          <p:cNvCxnSpPr/>
          <p:nvPr/>
        </p:nvCxnSpPr>
        <p:spPr>
          <a:xfrm>
            <a:off x="4143240" y="4428720"/>
            <a:ext cx="15724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>
            <a:off x="4143240" y="4857840"/>
            <a:ext cx="1572480" cy="357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143240" y="5214600"/>
            <a:ext cx="1572480" cy="4294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 flipV="1">
            <a:off x="4143240" y="4785840"/>
            <a:ext cx="1572480" cy="858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Лента лицом вверх 4"/>
          <p:cNvSpPr/>
          <p:nvPr/>
        </p:nvSpPr>
        <p:spPr>
          <a:xfrm>
            <a:off x="500040" y="507204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нта лицом вверх 3"/>
          <p:cNvSpPr/>
          <p:nvPr/>
        </p:nvSpPr>
        <p:spPr>
          <a:xfrm>
            <a:off x="500040" y="928800"/>
            <a:ext cx="8001000" cy="785880"/>
          </a:xfrm>
          <a:custGeom>
            <a:avLst/>
            <a:gdLst>
              <a:gd name="textAreaLeft" fmla="*/ 1320480 w 8001000"/>
              <a:gd name="textAreaRight" fmla="*/ 6680520 w 8001000"/>
              <a:gd name="textAreaTop" fmla="*/ 0 h 785880"/>
              <a:gd name="textAreaBottom" fmla="*/ 655200 h 785880"/>
            </a:gdLst>
            <a:ahLst/>
            <a:rect l="textAreaLeft" t="textAreaTop" r="textAreaRight" b="textAreaBottom"/>
            <a:pathLst>
              <a:path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1150"/>
                  <a:pt x="5845" y="21600"/>
                  <a:pt x="5425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565" y="3600"/>
                </a:lnTo>
                <a:lnTo>
                  <a:pt x="3565" y="900"/>
                </a:lnTo>
                <a:cubicBezTo>
                  <a:pt x="3565" y="450"/>
                  <a:pt x="3985" y="0"/>
                  <a:pt x="4405" y="0"/>
                </a:cubicBezTo>
                <a:lnTo>
                  <a:pt x="17195" y="0"/>
                </a:lnTo>
                <a:cubicBezTo>
                  <a:pt x="17615" y="0"/>
                  <a:pt x="18035" y="450"/>
                  <a:pt x="18035" y="900"/>
                </a:cubicBezTo>
                <a:lnTo>
                  <a:pt x="18035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6175" y="21600"/>
                </a:lnTo>
                <a:cubicBezTo>
                  <a:pt x="15755" y="21600"/>
                  <a:pt x="15335" y="21150"/>
                  <a:pt x="15335" y="20700"/>
                </a:cubicBezTo>
                <a:lnTo>
                  <a:pt x="15335" y="18000"/>
                </a:lnTo>
                <a:close/>
              </a:path>
              <a:path fill="darkenLess" w="21600" h="21600">
                <a:moveTo>
                  <a:pt x="6265" y="18000"/>
                </a:moveTo>
                <a:lnTo>
                  <a:pt x="6265" y="20700"/>
                </a:lnTo>
                <a:cubicBezTo>
                  <a:pt x="6265" y="20250"/>
                  <a:pt x="5845" y="19800"/>
                  <a:pt x="5425" y="19800"/>
                </a:cubicBezTo>
                <a:lnTo>
                  <a:pt x="4405" y="19800"/>
                </a:lnTo>
                <a:cubicBezTo>
                  <a:pt x="3985" y="19800"/>
                  <a:pt x="3565" y="19350"/>
                  <a:pt x="3565" y="18900"/>
                </a:cubicBezTo>
                <a:cubicBezTo>
                  <a:pt x="3565" y="18450"/>
                  <a:pt x="3985" y="18000"/>
                  <a:pt x="4405" y="18000"/>
                </a:cubicBezTo>
                <a:close/>
              </a:path>
              <a:path fill="darkenLess" w="21600" h="21600">
                <a:moveTo>
                  <a:pt x="15335" y="18000"/>
                </a:moveTo>
                <a:lnTo>
                  <a:pt x="15335" y="20700"/>
                </a:lnTo>
                <a:cubicBezTo>
                  <a:pt x="15335" y="20250"/>
                  <a:pt x="15755" y="19800"/>
                  <a:pt x="16175" y="19800"/>
                </a:cubicBezTo>
                <a:lnTo>
                  <a:pt x="17195" y="19800"/>
                </a:lnTo>
                <a:cubicBezTo>
                  <a:pt x="17615" y="19800"/>
                  <a:pt x="18035" y="19350"/>
                  <a:pt x="18035" y="18900"/>
                </a:cubicBezTo>
                <a:cubicBezTo>
                  <a:pt x="18035" y="18450"/>
                  <a:pt x="17615" y="18000"/>
                  <a:pt x="17195" y="18000"/>
                </a:cubicBezTo>
                <a:close/>
              </a:path>
              <a:path fill="darkenLess" w="21600" h="21600">
                <a:moveTo>
                  <a:pt x="3565" y="18900"/>
                </a:moveTo>
                <a:lnTo>
                  <a:pt x="3565" y="3600"/>
                </a:lnTo>
              </a:path>
              <a:path fill="darkenLess" w="21600" h="21600">
                <a:moveTo>
                  <a:pt x="18035" y="18900"/>
                </a:moveTo>
                <a:lnTo>
                  <a:pt x="18035" y="3600"/>
                </a:lnTo>
              </a:path>
            </a:pathLst>
          </a:cu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856880" y="928800"/>
            <a:ext cx="5286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01 19 20 07 20  20 18 01 03 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Ё Т   Т Р А В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rcRect l="4294" t="65475" r="7156" b="11390"/>
          <a:stretch/>
        </p:blipFill>
        <p:spPr>
          <a:xfrm>
            <a:off x="642960" y="1928880"/>
            <a:ext cx="8039160" cy="2786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rcRect l="5204" t="5798" r="6053" b="63892"/>
          <a:stretch/>
        </p:blipFill>
        <p:spPr>
          <a:xfrm>
            <a:off x="2428920" y="714240"/>
            <a:ext cx="6286320" cy="2847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rcRect l="5194" t="65475" r="6810" b="11390"/>
          <a:stretch/>
        </p:blipFill>
        <p:spPr>
          <a:xfrm>
            <a:off x="785880" y="3429000"/>
            <a:ext cx="7929360" cy="276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j0404643"/>
          <p:cNvPicPr/>
          <p:nvPr/>
        </p:nvPicPr>
        <p:blipFill>
          <a:blip r:embed="rId3"/>
          <a:stretch/>
        </p:blipFill>
        <p:spPr>
          <a:xfrm>
            <a:off x="357120" y="1500120"/>
            <a:ext cx="1924200" cy="167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357192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5429160" y="2000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7286760" y="19875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И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3500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 Л Е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528624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Н 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6929280" y="3000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 В У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dd9"/>
                </a:solidFill>
                <a:latin typeface="Constantia"/>
              </a:rPr>
              <a:t>Минутка отдых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Овал 1"/>
          <p:cNvGrpSpPr/>
          <p:nvPr/>
        </p:nvGrpSpPr>
        <p:grpSpPr>
          <a:xfrm>
            <a:off x="2852640" y="1749600"/>
            <a:ext cx="792360" cy="860400"/>
            <a:chOff x="2852640" y="1749600"/>
            <a:chExt cx="792360" cy="860400"/>
          </a:xfrm>
        </p:grpSpPr>
        <p:pic>
          <p:nvPicPr>
            <p:cNvPr id="393" name="Овал 1" descr=""/>
            <p:cNvPicPr/>
            <p:nvPr/>
          </p:nvPicPr>
          <p:blipFill>
            <a:blip r:embed="rId1"/>
            <a:stretch/>
          </p:blipFill>
          <p:spPr>
            <a:xfrm>
              <a:off x="2852640" y="1749600"/>
              <a:ext cx="7923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022560" y="1890720"/>
              <a:ext cx="4557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21 0.16998 C 0.31129 0.02336 0.23629 -0.10384 0.13577 -0.11263 C 0.03959 -0.1235 -0.05017 -0.02474 -0.05625 0.11772 C -0.06371 0.24884 -0.000689999999999996 0.37188 0.08941 0.38067 C 0.1717 0.38714 0.24983 0.30527 0.25573 0.1834 C 0.26181 0.07169 0.2092 -0.03353 0.13281 -0.04278 C 0.06233 -0.04903 -0.00382 0.0192 -0.00833 0.12188 C -0.01267 0.21369 0.02917 0.30342 0.09219 0.30805 C 0.14931 0.31452 0.20313 0.26203 0.20781 0.17877 C 0.21077 0.1043 0.17917 0.03215 0.12969 0.02798 C 0.08629 0.02336 0.04271 0.06291 0.03959 0.1265 C 0.03681 0.18108 0.0592 0.23358 0.09531 0.23821 C 0.12535 0.24237 0.15677 0.21832 0.15834 0.17461 C 0.16129 0.13922 0.14931 0.10199 0.12691 0.09783 C 0.10868 0.09783 0.09063 0.10662 0.08785 0.13067 C 0.08629 0.14616 0.08941 0.16143 0.09827 0.1679 C 0.10261 0.16998 0.10573 0.16998 0.11025 0.1679 E">
                                      <p:cBhvr>
                                        <p:cTn id="8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35:54Z</dcterms:created>
  <dc:creator>1</dc:creator>
  <dc:description/>
  <dc:language>en-US</dc:language>
  <cp:lastModifiedBy>Пользователь</cp:lastModifiedBy>
  <dcterms:modified xsi:type="dcterms:W3CDTF">2012-10-24T04:41:13Z</dcterms:modified>
  <cp:revision>19</cp:revision>
  <dc:subject/>
  <dc:title>Декодирование информации</dc:title>
</cp:coreProperties>
</file>