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10.wmf" ContentType="image/x-wmf"/>
  <Override PartName="/ppt/media/image2.png" ContentType="image/png"/>
  <Override PartName="/ppt/media/image22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26.wmf" ContentType="image/x-wmf"/>
  <Override PartName="/ppt/media/image4.png" ContentType="image/png"/>
  <Override PartName="/ppt/media/image27.png" ContentType="image/png"/>
  <Override PartName="/ppt/media/image25.wmf" ContentType="image/x-wmf"/>
  <Override PartName="/ppt/media/image24.wmf" ContentType="image/x-wmf"/>
  <Override PartName="/ppt/media/image23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909-2CF3-467A-8D4D-598D0DA0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10A-D794-41B8-AE75-464CB75D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0D0-09A9-4082-B46E-18C85241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CC27-295E-4D93-962F-D87579E6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19DB-0BD5-4FF9-8F3D-F3D7B47A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7142-0094-421E-B0D0-1C4A66FF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D1DC-CF2C-4E2F-B275-1DC30055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0A49-EA18-4FFB-AC6F-9B1B37E1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643F-4097-4FD4-B521-03F399DF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ACBB-62C4-4541-A883-6321D52A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0E2F-37D1-48B1-8819-FF45B131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93CC-0166-4D90-B7C5-DD627036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9CF3-F7E0-4201-99DC-5F58A46A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B93D-EC55-4E9C-8814-AC30F1B0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AE5F-B8E1-4C31-9FED-C815350A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554C-43E8-4AC3-9428-B78FE1AA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F44C-9E87-4D98-96BD-C9444500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549F3-0A4F-4253-A7AD-1F911DB3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48E91-477D-4986-8878-B168E582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9AA91-6CA8-4C17-B75E-93DE5351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E4CA5-7ECA-4B46-AB33-B90ADD48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E38E2-F428-43CD-AB69-E3762D3D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836-134E-4002-B2F1-FAEBC1E5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4DA45-6D90-45D7-99C7-5631CDCE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E05DE-3E0E-4CE5-8AA6-E7BB8465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CA0F5-07DB-42D7-B71A-A902AE03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78474-8494-48D2-88CC-357AFF95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C734D-44E0-4F12-96C9-D4C4989A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606DC-5B1A-4640-981A-DB795394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6C1A3-0041-4AA6-9FFD-42DEA253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8DD9A-9076-43B5-96F5-3F39C72A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678EA-79EA-4FDE-839F-ABAF21EF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3378A-3355-463F-8DCE-84B23723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4619-3086-4643-94BA-BC3EBEF1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16441-56BF-4FEF-8E54-2A384A18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23AAC-7787-4A20-AA4B-27CF1292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DC95B-9A5C-4DD3-8E43-9538B1A8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C7E9A-BD1B-4D3D-BC2F-93A640BF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3064D-08F8-4A94-B97A-F41D0591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5B0A8-FC79-4A12-B4F7-D6F4BDDE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C0E68-A20D-4C5C-992C-3AA59BC2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2992F-BC93-4A3A-8780-991B4DB7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63BE7-A5F3-4A3A-A3A4-CEECAD36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34B89-F34F-4314-BF90-C39C1669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D69-CBCF-4F26-BAB7-688FB19A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97E98-C134-4FD8-BEFE-4CBD09DE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9C121-845D-4722-B9E3-83C97954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08668-F742-43E7-9608-143BE44C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FC156-1BEA-4EB3-9A77-5CF91BF5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6D1F8-B731-4B18-B693-875CBBB9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F731D-66A9-4A39-BF8B-87A5C50F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BEB6F-45E3-4566-9C91-F1A1B660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6E7E6-3F5C-42E6-8C97-2C80A3BE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4D207-AA9E-4204-B48B-43460EF9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B3504-D004-47EC-91A1-AF10E60A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ED8-9088-4A82-A9D3-1FFC6D2D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2B0AD-6C30-47C8-B946-8D04340D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255CC-AFB3-42CE-9FF5-6D005AAD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03320-F599-4A2E-A5E2-10996194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5174E-E37E-4491-9076-AFB86727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F72E5-C0F6-410C-8E1E-218D86FF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1B788-24E1-47D0-B1AB-F7FD343B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05E65-8796-45A8-BC68-8E5536B6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6FFE0-CEB8-49A8-8102-6D925DD9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4F9E9-C9EC-4819-8662-8ACB1ADA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796DE-C004-43C6-B516-4289A1DE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B97-60E9-48E7-9F5E-C66C9468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3579C-0D89-4649-AABA-81117834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421DA-4D6D-40EB-AA83-AB750751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855F2-2165-4297-8FFF-2398DD73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F2336-0E8B-4603-B0A9-4C38404D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48092-D6E7-441A-9E02-571A01BE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D448A-55D2-4033-A6A3-02E11F9D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2E74B-C515-472D-854F-5418B9AC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BE837-0844-455F-9CCD-060002A8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6BA1F-C186-4C8B-AE8B-312EECE6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18F90-5DB5-43E4-9A50-7B86D5BF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447-9FBF-44C4-9772-3F967AF2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73110-66B5-45A6-98AE-C7FFC0BE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69672-0798-4539-BD56-C6EE493B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83C43-41CD-4EAF-8FB2-4A7EADF1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643C7-50E8-4C64-89D2-41189FA3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61CF9-B637-4528-875A-790797C4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BC15D-2C2E-48F5-A22E-EA0E1F9E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2EF47-D249-4422-9A3D-C1BAA58D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DD9F2-A77F-4F48-930D-14BDD851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592E2-9BCB-4A37-AE4C-9C0E1744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D9AC3-34D2-4BCC-AD23-3803DC7A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481-326B-4410-8341-8FA5A9CA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EF034-0144-43B9-ADB3-D8DC4A54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CD434-2C6C-4881-B2B0-DAC59755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3DE5F-FB2D-49D6-9F4A-05578490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4F9DC-2169-4C08-BB4F-27A76B15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85E55-4516-4391-BA97-37CDB928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8FF47-08E2-4BCA-939C-B4D25E9D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5B8FB-FA75-462E-BE40-5DD6B697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DCD5-1C1A-45F0-B64D-294220F8563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7158-11CB-4007-BD07-B950EEA7EBA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4C76-D550-4395-8532-F15232292049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B674-7C3E-4135-977C-05580A00656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7452-E9DC-43BF-B381-A0F1F6FEAE9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1375-1FF0-4125-A8EA-A04078A9EB0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B888-F7F3-4804-A287-0FEED7C2371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323C-8AD3-4BA0-B4A0-B97F444AEEA1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633240" y="895320"/>
            <a:ext cx="8321760" cy="2579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a1"/>
          <p:cNvPicPr/>
          <p:nvPr/>
        </p:nvPicPr>
        <p:blipFill>
          <a:blip r:embed="rId2"/>
          <a:stretch/>
        </p:blipFill>
        <p:spPr>
          <a:xfrm>
            <a:off x="1063800" y="3500280"/>
            <a:ext cx="2936880" cy="3016440"/>
          </a:xfrm>
          <a:prstGeom prst="rect">
            <a:avLst/>
          </a:prstGeom>
          <a:ln w="0">
            <a:noFill/>
          </a:ln>
        </p:spPr>
      </p:pic>
      <p:sp>
        <p:nvSpPr>
          <p:cNvPr id="361" name="Дата 4"/>
          <p:cNvSpPr/>
          <p:nvPr/>
        </p:nvSpPr>
        <p:spPr>
          <a:xfrm>
            <a:off x="2286000" y="500040"/>
            <a:ext cx="327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eaee"/>
                </a:solidFill>
                <a:latin typeface="Times New Roman"/>
                <a:ea typeface="Times New Roman"/>
              </a:rPr>
              <a:t>24 октября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3929040" y="45720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Чердынская СОШ им. А. Спирина», учитель: Светлана Владимировна Бил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Овал 1"/>
          <p:cNvGrpSpPr/>
          <p:nvPr/>
        </p:nvGrpSpPr>
        <p:grpSpPr>
          <a:xfrm>
            <a:off x="1427040" y="2889360"/>
            <a:ext cx="792360" cy="792000"/>
            <a:chOff x="1427040" y="2889360"/>
            <a:chExt cx="792360" cy="792000"/>
          </a:xfrm>
        </p:grpSpPr>
        <p:pic>
          <p:nvPicPr>
            <p:cNvPr id="396" name="Овал 1" descr=""/>
            <p:cNvPicPr/>
            <p:nvPr/>
          </p:nvPicPr>
          <p:blipFill>
            <a:blip r:embed="rId1"/>
            <a:stretch/>
          </p:blipFill>
          <p:spPr>
            <a:xfrm>
              <a:off x="1427040" y="288936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593720" y="302256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27 0.01342 C 0.09254 -0.10777 0.1658 -0.21299 0.26406 -0.22016 C 0.35799 -0.22918 0.44584 -0.14778 0.45174 -0.03006 C 0.4592 0.0784 0.39757 0.17993 0.30938 0.1871 C 0.229 0.19265 0.15261 0.12558 0.1467 0.02429 C 0.1408 -0.06799 0.19219 -0.15494 0.26684 -0.16211 C 0.33594 -0.16743 0.40052 -0.11124 0.40486 -0.02659 C 0.4092 0.0495 0.36823 0.1235 0.3066 0.12766 C 0.25087 0.13298 0.19809 0.08927 0.19358 0.02059 C 0.1908 -0.04093 0.22153 -0.1006 0.26997 -0.10407 C 0.3125 -0.10777 0.35504 -0.07516 0.35799 -0.02266 C 0.36077 0.02244 0.33889 0.06568 0.30347 0.06962 C 0.27431 0.07285 0.2434 0.0532 0.24184 0.01712 C 0.23906 -0.01202 0.25087 -0.04278 0.27275 -0.04625 C 0.29063 -0.04625 0.30816 -0.03908 0.31094 -0.01942 C 0.3125 -0.00647 0.30938 0.00602 0.3007 0.01134 C 0.29636 0.01342 0.2934 0.01342 0.28906 0.01134 E">
                                      <p:cBhvr>
                                        <p:cTn id="86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Овал 4"/>
          <p:cNvSpPr/>
          <p:nvPr/>
        </p:nvSpPr>
        <p:spPr>
          <a:xfrm>
            <a:off x="3581280" y="1828800"/>
            <a:ext cx="990720" cy="838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-0.13321 C 0.1007 -0.13321 0.16667 -0.07332 0.16667 -0.00024 C 0.16667 0.08649 0.09375 0.11748 0.04966 0.13066 L -0.0085 0.14431 C -0.05208 0.15749 -0.125 0.19079 -0.125 0.28839 C -0.125 0.3506 -0.05955 0.42183 0.02084 0.42183 C 0.1007 0.42183 0.16667 0.3506 0.16667 0.28839 C 0.16667 0.19079 0.09375 0.15749 0.04966 0.14431 L -0.0085 0.13066 C -0.05208 0.11748 -0.125 0.08649 -0.125 -0.00024 C -0.125 -0.07332 -0.05955 -0.13321 0.02084 -0.13321 Z">
                                      <p:cBhvr>
                                        <p:cTn id="9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401" name="Овал 3"/>
          <p:cNvSpPr/>
          <p:nvPr/>
        </p:nvSpPr>
        <p:spPr>
          <a:xfrm>
            <a:off x="3733920" y="2438280"/>
            <a:ext cx="685800" cy="685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25 -0.00555 L -0.26389 0.38298 L -0.2177 -0.00555 L -0.16857 0.38298 L -0.11961 -0.00555 L -0.07395 0.38298 L -0.02465 -0.00555 L 0.02153 0.38298 L 0.07084 -0.00555 L 0.11945 0.38298 L 0.16563 -0.00555 L 0.21476 0.38298 L 0.26042 -0.00555 L 0.30938 0.38298 L 0.35868 -0.00555 L 0.40486 0.38298 L 0.45417 -0.00555 E">
                                      <p:cBhvr>
                                        <p:cTn id="98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Работа на компьютер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3" name="Picture 4" descr="C:\Documents and Settings\Пользователь\Рабочий стол\с1.jpg"/>
          <p:cNvPicPr/>
          <p:nvPr/>
        </p:nvPicPr>
        <p:blipFill>
          <a:blip r:embed="rId1"/>
          <a:stretch/>
        </p:blipFill>
        <p:spPr>
          <a:xfrm>
            <a:off x="1928880" y="2286000"/>
            <a:ext cx="4429080" cy="44290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rcRect l="5628" t="5484" r="9664" b="41168"/>
          <a:stretch/>
        </p:blipFill>
        <p:spPr>
          <a:xfrm>
            <a:off x="1214280" y="857160"/>
            <a:ext cx="6864480" cy="553896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428920" y="5000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4286160" y="50007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6215040" y="5000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М Ы Ш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192888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 О С И Т Е Л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385776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 И С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585792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 З Б У К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j0397224"/>
          <p:cNvPicPr/>
          <p:nvPr/>
        </p:nvPicPr>
        <p:blipFill>
          <a:blip r:embed="rId1"/>
          <a:stretch/>
        </p:blipFill>
        <p:spPr>
          <a:xfrm>
            <a:off x="7286760" y="5214960"/>
            <a:ext cx="1611000" cy="1316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2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вное, что мы должны понять и запомни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дированное сообщение можно декодировать, если известно правило кодирования или имеется кодировочная таблиц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ацию, которая содержится в закодированном сообщении, человек может получить, только декодировав ег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5" descr="j0397202"/>
          <p:cNvPicPr/>
          <p:nvPr/>
        </p:nvPicPr>
        <p:blipFill>
          <a:blip r:embed="rId2"/>
          <a:stretch/>
        </p:blipFill>
        <p:spPr>
          <a:xfrm rot="13644600">
            <a:off x="7907760" y="4469040"/>
            <a:ext cx="1082520" cy="8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1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Picture 4" descr="j0410909"/>
          <p:cNvPicPr/>
          <p:nvPr/>
        </p:nvPicPr>
        <p:blipFill>
          <a:blip r:embed="rId1"/>
          <a:stretch/>
        </p:blipFill>
        <p:spPr>
          <a:xfrm>
            <a:off x="3000240" y="2786040"/>
            <a:ext cx="3600720" cy="290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Попробуйте дополнить предл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егодня на уроке я узнал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интерес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труд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Теперь я могу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егодня я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научился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меня получилось 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еня удивил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2225520"/>
            <a:ext cx="7907400" cy="1256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Documents and Settings\Пользователь\Рабочий стол\с2.jpg"/>
          <p:cNvPicPr/>
          <p:nvPr/>
        </p:nvPicPr>
        <p:blipFill>
          <a:blip r:embed="rId2"/>
          <a:stretch/>
        </p:blipFill>
        <p:spPr>
          <a:xfrm>
            <a:off x="3357720" y="3571920"/>
            <a:ext cx="2581200" cy="2774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4617b"/>
                </a:solidFill>
                <a:latin typeface="Calibri"/>
              </a:rPr>
              <a:t>Вспомни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чем люди кодируют информаци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е способы кодирования ты знаеш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яется ли смысл сообщения при кодирован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аком виде информация запоминается в памяти компьютер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5" descr="BD05012_"/>
          <p:cNvPicPr/>
          <p:nvPr/>
        </p:nvPicPr>
        <p:blipFill>
          <a:blip r:embed="rId1"/>
          <a:stretch/>
        </p:blipFill>
        <p:spPr>
          <a:xfrm>
            <a:off x="6715080" y="4572000"/>
            <a:ext cx="1779480" cy="155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Автогонк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7" name="Picture 2" descr="C:\Documents and Settings\Пользователь\Рабочий стол\с3.jpg"/>
          <p:cNvPicPr/>
          <p:nvPr/>
        </p:nvPicPr>
        <p:blipFill>
          <a:blip r:embed="rId1"/>
          <a:stretch/>
        </p:blipFill>
        <p:spPr>
          <a:xfrm>
            <a:off x="428760" y="2000160"/>
            <a:ext cx="2643120" cy="2167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Documents and Settings\Пользователь\Рабочий стол\с4.gif"/>
          <p:cNvPicPr/>
          <p:nvPr/>
        </p:nvPicPr>
        <p:blipFill>
          <a:blip r:embed="rId2"/>
          <a:stretch/>
        </p:blipFill>
        <p:spPr>
          <a:xfrm>
            <a:off x="2071800" y="3929040"/>
            <a:ext cx="6762600" cy="253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6" descr="j0210200"/>
          <p:cNvPicPr/>
          <p:nvPr/>
        </p:nvPicPr>
        <p:blipFill>
          <a:blip r:embed="rId1"/>
          <a:stretch/>
        </p:blipFill>
        <p:spPr>
          <a:xfrm>
            <a:off x="920880" y="281160"/>
            <a:ext cx="7016760" cy="62164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071720" y="2071800"/>
            <a:ext cx="6929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, как и кодирование, изменение формы представления информации без изменения смысл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818040" cy="2316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357200" y="3571920"/>
            <a:ext cx="6261120" cy="2438280"/>
          </a:xfrm>
          <a:prstGeom prst="rect">
            <a:avLst/>
          </a:prstGeom>
          <a:ln w="0">
            <a:noFill/>
          </a:ln>
        </p:spPr>
      </p:pic>
      <p:cxnSp>
        <p:nvCxnSpPr>
          <p:cNvPr id="373" name="Прямая со стрелкой 8"/>
          <p:cNvCxnSpPr/>
          <p:nvPr/>
        </p:nvCxnSpPr>
        <p:spPr>
          <a:xfrm>
            <a:off x="4143240" y="4428720"/>
            <a:ext cx="15724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>
            <a:off x="4143240" y="4857840"/>
            <a:ext cx="1572480" cy="357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143240" y="5214600"/>
            <a:ext cx="1572480" cy="4294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 flipV="1">
            <a:off x="4143240" y="4785840"/>
            <a:ext cx="1572480" cy="8582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Лента лицом вверх 4"/>
          <p:cNvSpPr/>
          <p:nvPr/>
        </p:nvSpPr>
        <p:spPr>
          <a:xfrm>
            <a:off x="500040" y="507204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Лента лицом вверх 3"/>
          <p:cNvSpPr/>
          <p:nvPr/>
        </p:nvSpPr>
        <p:spPr>
          <a:xfrm>
            <a:off x="500040" y="92880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856880" y="928800"/>
            <a:ext cx="5286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01 19 20 07 20  20 18 01 03 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А С Т Ё Т   Т Р А В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rcRect l="4294" t="65475" r="7156" b="11390"/>
          <a:stretch/>
        </p:blipFill>
        <p:spPr>
          <a:xfrm>
            <a:off x="642960" y="1928880"/>
            <a:ext cx="8039160" cy="2786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rcRect l="5204" t="5798" r="6053" b="63892"/>
          <a:stretch/>
        </p:blipFill>
        <p:spPr>
          <a:xfrm>
            <a:off x="2428920" y="714240"/>
            <a:ext cx="6286320" cy="2847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rcRect l="5194" t="65475" r="6810" b="11390"/>
          <a:stretch/>
        </p:blipFill>
        <p:spPr>
          <a:xfrm>
            <a:off x="785880" y="3429000"/>
            <a:ext cx="7929360" cy="276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j0404643"/>
          <p:cNvPicPr/>
          <p:nvPr/>
        </p:nvPicPr>
        <p:blipFill>
          <a:blip r:embed="rId3"/>
          <a:stretch/>
        </p:blipFill>
        <p:spPr>
          <a:xfrm>
            <a:off x="357120" y="1500120"/>
            <a:ext cx="1924200" cy="1677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357192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542916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7286760" y="19875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И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3500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Х Л Е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9"/>
          <p:cNvSpPr/>
          <p:nvPr/>
        </p:nvSpPr>
        <p:spPr>
          <a:xfrm>
            <a:off x="528624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0"/>
          <p:cNvSpPr/>
          <p:nvPr/>
        </p:nvSpPr>
        <p:spPr>
          <a:xfrm>
            <a:off x="6929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dd9"/>
                </a:solidFill>
                <a:latin typeface="Constantia"/>
              </a:rPr>
              <a:t>Минутка отдыха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Овал 1"/>
          <p:cNvGrpSpPr/>
          <p:nvPr/>
        </p:nvGrpSpPr>
        <p:grpSpPr>
          <a:xfrm>
            <a:off x="2852640" y="1749600"/>
            <a:ext cx="792360" cy="860400"/>
            <a:chOff x="2852640" y="1749600"/>
            <a:chExt cx="792360" cy="860400"/>
          </a:xfrm>
        </p:grpSpPr>
        <p:pic>
          <p:nvPicPr>
            <p:cNvPr id="393" name="Овал 1" descr=""/>
            <p:cNvPicPr/>
            <p:nvPr/>
          </p:nvPicPr>
          <p:blipFill>
            <a:blip r:embed="rId1"/>
            <a:stretch/>
          </p:blipFill>
          <p:spPr>
            <a:xfrm>
              <a:off x="2852640" y="1749600"/>
              <a:ext cx="7923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022560" y="1890720"/>
              <a:ext cx="4557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21 0.16998 C 0.31129 0.02336 0.23629 -0.10384 0.13577 -0.11263 C 0.03959 -0.1235 -0.05017 -0.02474 -0.05625 0.11772 C -0.06371 0.24884 -0.000689999999999996 0.37188 0.08941 0.38067 C 0.1717 0.38714 0.24983 0.30527 0.25573 0.1834 C 0.26181 0.07169 0.2092 -0.03353 0.13281 -0.04278 C 0.06233 -0.04903 -0.00382 0.0192 -0.00833 0.12188 C -0.01267 0.21369 0.02917 0.30342 0.09219 0.30805 C 0.14931 0.31452 0.20313 0.26203 0.20781 0.17877 C 0.21077 0.1043 0.17917 0.03215 0.12969 0.02798 C 0.08629 0.02336 0.04271 0.06291 0.03959 0.1265 C 0.03681 0.18108 0.0592 0.23358 0.09531 0.23821 C 0.12535 0.24237 0.15677 0.21832 0.15834 0.17461 C 0.16129 0.13922 0.14931 0.10199 0.12691 0.09783 C 0.10868 0.09783 0.09063 0.10662 0.08785 0.13067 C 0.08629 0.14616 0.08941 0.16143 0.09827 0.1679 C 0.10261 0.16998 0.10573 0.16998 0.11025 0.1679 E">
                                      <p:cBhvr>
                                        <p:cTn id="80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7:35:54Z</dcterms:created>
  <dc:creator>1</dc:creator>
  <dc:description/>
  <dc:language>en-US</dc:language>
  <cp:lastModifiedBy>Пользователь</cp:lastModifiedBy>
  <dcterms:modified xsi:type="dcterms:W3CDTF">2012-10-24T04:41:13Z</dcterms:modified>
  <cp:revision>19</cp:revision>
  <dc:subject/>
  <dc:title>Декодирование информации</dc:title>
</cp:coreProperties>
</file>