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10.wmf" ContentType="image/x-wmf"/>
  <Override PartName="/ppt/media/image2.png" ContentType="image/png"/>
  <Override PartName="/ppt/media/image22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26.wmf" ContentType="image/x-wmf"/>
  <Override PartName="/ppt/media/image4.png" ContentType="image/png"/>
  <Override PartName="/ppt/media/image27.png" ContentType="image/png"/>
  <Override PartName="/ppt/media/image25.wmf" ContentType="image/x-wmf"/>
  <Override PartName="/ppt/media/image24.wmf" ContentType="image/x-wmf"/>
  <Override PartName="/ppt/media/image23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1EB-3150-499A-8405-1A9AA252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609-665B-41CA-900E-71A081EF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0BC6-FBCD-4998-94E9-C5783B2E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4A0-7BFA-4848-9AE5-3DA16F0B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F48D-378C-4958-BAFD-06F017CF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011C-F6FA-44CC-B95B-06A821F7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6C58-FA01-4B32-9620-5D05081A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95AF-7E5D-4831-BA08-B7E7F6DB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D0AE-A47C-4131-B305-D1861365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6912-453B-4FC1-A30A-3BE7784A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EFE6-94FD-4FC3-B5C1-FBAFAC00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B89-5881-4200-9BF3-9C52D09B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917D-3ED0-4DDC-9B87-A2679C9B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C1E2-0E41-4147-99FE-1FF9F379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B454-061D-489D-AB15-CFE11BB0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61A9-9F48-449C-9719-93952B51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E1C6-664D-4C70-950F-046E8E9E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02F4B-7F9E-483C-972B-60EE3433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5C52A-E5DE-430D-A205-9E5D4A4E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D9C6D-9A98-4A23-BF31-0DF83FE8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7F0A0-EBB6-4F59-88F1-39D5D7BF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9AACA-AB8C-4C24-B289-D07FD66F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7F76-BD0E-4F50-88EE-21021098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BE9DA-0188-4A61-9A04-A3E733AD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D88D8-70BA-4572-898E-1332F761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8E9FB-7343-4C5E-97CA-BF4F5A1F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FD67A-EBCA-4891-A443-282C2C1C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F821B-F4E5-410D-9963-BC929F77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E2709-EAFC-46E7-8A41-0D430EE5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2B29B-327D-442F-9ACC-6D908A2D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18ED9-9885-42C8-93B4-3703DBAA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5AE78-EEB0-4B06-9EF0-DB8D5DE6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52DBB-8AD1-42FB-8210-BAC21C44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501-4597-48B3-B9B0-82547949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8648D-8F25-4592-8307-586829EE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257E1-BB0C-4EAB-979C-E49263BD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1890E-6E18-4E5E-A944-908256AE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941DB-2D7C-49A8-8104-993814A8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A212D-6D79-42BB-AD8F-8B721307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113D2-E18D-47C3-9065-22872736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55B06-62D7-4A90-829A-E3586978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63C3E-2F4C-4DF8-986D-5AEEB170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3DEBD-4A91-4C61-9617-BD5F4C87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1A4CF-7FB7-4914-A519-0D52861F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11B5-C8E9-4531-BC30-1E6626F4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11AB1-FA4A-4A1E-9EB6-C574E162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A7037-AB44-4E70-8E09-5CA44BED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2E276-5E94-4C48-9D1A-04EB74DC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654C1-E2AF-4644-9164-CAD41230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01697-8A90-4B56-8CD4-83575432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77B32-D05E-4475-B1F9-BEA3CDB1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C13C8-4D91-4163-BA2B-1C18A05C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49241-D2DB-4C06-AD8D-A94AA20E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1A15D-D0D3-453F-A26B-B74F8BCF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5714B-6032-453A-8028-66C242DE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8B7-6116-4BA9-A272-A07DDCF5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F5579-E71E-4CA7-A48C-158625C4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C775B-F674-4FD4-A400-1C203A10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87713-677F-44D0-B9CB-D1395C0B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9BA4B-A3E7-4280-972D-7CFD9065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EC19D-4011-4E49-B0ED-92CEB9C6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3A38E-C2FB-4A1A-ABB3-DBE9E218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5F87D-4C68-4645-AC47-A7FE01B2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E22C1-7D7C-404F-B91C-7ABCDE7B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06573-9212-4993-AF06-BEBA0575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5D118-8706-4E27-B311-62FD4D8F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4A9A-44D6-4784-8B1D-64AD0D9E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4D8E5-6427-4D20-BC78-3E7B4C46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4A93F-B7D2-4106-9B26-EFD91F7F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53478-3E1E-4158-842B-CC3C6BE9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585FD-F203-46BE-AC55-7D90BE66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855E9-874E-478B-9197-1C0449BF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F1BF3-D591-49DE-92BF-E76B2F07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69AFD-3578-48CE-939D-F76558D5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BC492-57AD-42A9-9377-06235A51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C5657-9534-4EF1-8023-637F0A43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963E9-6455-4137-9DBA-13CACD9E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698-3BBB-4944-A15D-07E3D086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8328D-9D03-4516-9B71-23CC3C57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9982E-2E5F-4DBC-8D27-D7A89E94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E7585-007D-46F2-9E4B-A9F74D41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3F7B7-973A-47AC-978B-59D2D60A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DEF37-2801-4BC9-8779-DA17EFE7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BF072-29E5-4E56-B9F7-E201C43F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CB238-F078-479C-B00C-A2472DBE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5938A-BEF7-43E9-9E02-4443B55E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D7A2B-2177-4BC3-BAF7-76AFD2DA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0DA30-2D3A-4BB2-9984-37232B1F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6790-28C5-48CF-835B-04DE17D4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264E1-7B4E-420E-912E-B083CA2C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6A786-7898-4B88-A345-260B5915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94F0D-F5FB-4D36-A827-09F64BCD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E0201-6245-47D6-8431-D6080F0F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CF7C6-4422-41AB-95AB-8126B004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F61DB-583E-47BD-8F1F-76E9B27B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A06F1-3624-40A9-ACDC-C87C6C24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3A2D-2C26-42FA-AE03-7AAA428BEEC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1CB4-9955-4163-AFF9-D3E9A25E925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08E4-1217-4AE9-A192-2791E2F8AED8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8A0F-90C9-4980-A830-01258E48DB7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6C4B-CC74-49D5-A6A1-D34BBD6D0C8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974F-F65A-4AC6-9E74-0AF4752EBD6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AE3A-EF9D-40AF-A229-ACD734C592B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35CB-64F2-42A7-A496-41E7A3DEC39F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633240" y="895320"/>
            <a:ext cx="8321760" cy="2579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a1"/>
          <p:cNvPicPr/>
          <p:nvPr/>
        </p:nvPicPr>
        <p:blipFill>
          <a:blip r:embed="rId2"/>
          <a:stretch/>
        </p:blipFill>
        <p:spPr>
          <a:xfrm>
            <a:off x="1063800" y="3500280"/>
            <a:ext cx="2936880" cy="3016440"/>
          </a:xfrm>
          <a:prstGeom prst="rect">
            <a:avLst/>
          </a:prstGeom>
          <a:ln w="0">
            <a:noFill/>
          </a:ln>
        </p:spPr>
      </p:pic>
      <p:sp>
        <p:nvSpPr>
          <p:cNvPr id="361" name="Дата 4"/>
          <p:cNvSpPr/>
          <p:nvPr/>
        </p:nvSpPr>
        <p:spPr>
          <a:xfrm>
            <a:off x="2286000" y="500040"/>
            <a:ext cx="327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eaee"/>
                </a:solidFill>
                <a:latin typeface="Times New Roman"/>
                <a:ea typeface="Times New Roman"/>
              </a:rPr>
              <a:t>24 октября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3929040" y="45720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Чердынская СОШ им. А. Спирина», учитель: Светлана Владимировна Бил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Овал 1"/>
          <p:cNvGrpSpPr/>
          <p:nvPr/>
        </p:nvGrpSpPr>
        <p:grpSpPr>
          <a:xfrm>
            <a:off x="1427040" y="2889360"/>
            <a:ext cx="792360" cy="792000"/>
            <a:chOff x="1427040" y="2889360"/>
            <a:chExt cx="792360" cy="792000"/>
          </a:xfrm>
        </p:grpSpPr>
        <p:pic>
          <p:nvPicPr>
            <p:cNvPr id="396" name="Овал 1" descr=""/>
            <p:cNvPicPr/>
            <p:nvPr/>
          </p:nvPicPr>
          <p:blipFill>
            <a:blip r:embed="rId1"/>
            <a:stretch/>
          </p:blipFill>
          <p:spPr>
            <a:xfrm>
              <a:off x="1427040" y="288936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593720" y="302256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27 0.01342 C 0.09254 -0.10777 0.1658 -0.21299 0.26406 -0.22016 C 0.35799 -0.22918 0.44584 -0.14778 0.45174 -0.03006 C 0.4592 0.0784 0.39757 0.17993 0.30938 0.1871 C 0.229 0.19265 0.15261 0.12558 0.1467 0.02429 C 0.1408 -0.06799 0.19219 -0.15494 0.26684 -0.16211 C 0.33594 -0.16743 0.40052 -0.11124 0.40486 -0.02659 C 0.4092 0.0495 0.36823 0.1235 0.3066 0.12766 C 0.25087 0.13298 0.19809 0.08927 0.19358 0.02059 C 0.1908 -0.04093 0.22153 -0.1006 0.26997 -0.10407 C 0.3125 -0.10777 0.35504 -0.07516 0.35799 -0.02266 C 0.36077 0.02244 0.33889 0.06568 0.30347 0.06962 C 0.27431 0.07285 0.2434 0.0532 0.24184 0.01712 C 0.23906 -0.01202 0.25087 -0.04278 0.27275 -0.04625 C 0.29063 -0.04625 0.30816 -0.03908 0.31094 -0.01942 C 0.3125 -0.00647 0.30938 0.00602 0.3007 0.01134 C 0.29636 0.01342 0.2934 0.01342 0.28906 0.01134 E">
                                      <p:cBhvr>
                                        <p:cTn id="86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Овал 4"/>
          <p:cNvSpPr/>
          <p:nvPr/>
        </p:nvSpPr>
        <p:spPr>
          <a:xfrm>
            <a:off x="3581280" y="1828800"/>
            <a:ext cx="990720" cy="838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-0.13321 C 0.1007 -0.13321 0.16667 -0.07332 0.16667 -0.00024 C 0.16667 0.08649 0.09375 0.11748 0.04966 0.13066 L -0.0085 0.14431 C -0.05208 0.15749 -0.125 0.19079 -0.125 0.28839 C -0.125 0.3506 -0.05955 0.42183 0.02084 0.42183 C 0.1007 0.42183 0.16667 0.3506 0.16667 0.28839 C 0.16667 0.19079 0.09375 0.15749 0.04966 0.14431 L -0.0085 0.13066 C -0.05208 0.11748 -0.125 0.08649 -0.125 -0.00024 C -0.125 -0.07332 -0.05955 -0.13321 0.02084 -0.13321 Z">
                                      <p:cBhvr>
                                        <p:cTn id="9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401" name="Овал 3"/>
          <p:cNvSpPr/>
          <p:nvPr/>
        </p:nvSpPr>
        <p:spPr>
          <a:xfrm>
            <a:off x="3733920" y="2438280"/>
            <a:ext cx="685800" cy="685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25 -0.00555 L -0.26389 0.38298 L -0.2177 -0.00555 L -0.16857 0.38298 L -0.11961 -0.00555 L -0.07395 0.38298 L -0.02465 -0.00555 L 0.02153 0.38298 L 0.07084 -0.00555 L 0.11945 0.38298 L 0.16563 -0.00555 L 0.21476 0.38298 L 0.26042 -0.00555 L 0.30938 0.38298 L 0.35868 -0.00555 L 0.40486 0.38298 L 0.45417 -0.00555 E">
                                      <p:cBhvr>
                                        <p:cTn id="98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Работа на компьютер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3" name="Picture 4" descr="C:\Documents and Settings\Пользователь\Рабочий стол\с1.jpg"/>
          <p:cNvPicPr/>
          <p:nvPr/>
        </p:nvPicPr>
        <p:blipFill>
          <a:blip r:embed="rId1"/>
          <a:stretch/>
        </p:blipFill>
        <p:spPr>
          <a:xfrm>
            <a:off x="1928880" y="2286000"/>
            <a:ext cx="4429080" cy="44290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rcRect l="5628" t="5484" r="9664" b="41168"/>
          <a:stretch/>
        </p:blipFill>
        <p:spPr>
          <a:xfrm>
            <a:off x="1214280" y="857160"/>
            <a:ext cx="6864480" cy="553896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428920" y="5000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4286160" y="50007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6215040" y="5000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М Ы Ш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192888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 О С И Т Е Л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385776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 И С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585792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 З Б У К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j0397224"/>
          <p:cNvPicPr/>
          <p:nvPr/>
        </p:nvPicPr>
        <p:blipFill>
          <a:blip r:embed="rId1"/>
          <a:stretch/>
        </p:blipFill>
        <p:spPr>
          <a:xfrm>
            <a:off x="7286760" y="5214960"/>
            <a:ext cx="1611000" cy="1316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2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вное, что мы должны понять и запомни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дированное сообщение можно декодировать, если известно правило кодирования или имеется кодировочная таблиц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ацию, которая содержится в закодированном сообщении, человек может получить, только декодировав ег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5" descr="j0397202"/>
          <p:cNvPicPr/>
          <p:nvPr/>
        </p:nvPicPr>
        <p:blipFill>
          <a:blip r:embed="rId2"/>
          <a:stretch/>
        </p:blipFill>
        <p:spPr>
          <a:xfrm rot="13644600">
            <a:off x="7907760" y="4469040"/>
            <a:ext cx="1082520" cy="8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1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Picture 4" descr="j0410909"/>
          <p:cNvPicPr/>
          <p:nvPr/>
        </p:nvPicPr>
        <p:blipFill>
          <a:blip r:embed="rId1"/>
          <a:stretch/>
        </p:blipFill>
        <p:spPr>
          <a:xfrm>
            <a:off x="3000240" y="2786040"/>
            <a:ext cx="3600720" cy="290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Попробуйте дополнить предл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егодня на уроке я узнал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интерес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труд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Теперь я могу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егодня я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научился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меня получилось 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еня удивил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2225520"/>
            <a:ext cx="7907400" cy="1256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Documents and Settings\Пользователь\Рабочий стол\с2.jpg"/>
          <p:cNvPicPr/>
          <p:nvPr/>
        </p:nvPicPr>
        <p:blipFill>
          <a:blip r:embed="rId2"/>
          <a:stretch/>
        </p:blipFill>
        <p:spPr>
          <a:xfrm>
            <a:off x="3357720" y="3571920"/>
            <a:ext cx="2581200" cy="2774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4617b"/>
                </a:solidFill>
                <a:latin typeface="Calibri"/>
              </a:rPr>
              <a:t>Вспомни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чем люди кодируют информаци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е способы кодирования ты знаеш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яется ли смысл сообщения при кодирован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аком виде информация запоминается в памяти компьютер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5" descr="BD05012_"/>
          <p:cNvPicPr/>
          <p:nvPr/>
        </p:nvPicPr>
        <p:blipFill>
          <a:blip r:embed="rId1"/>
          <a:stretch/>
        </p:blipFill>
        <p:spPr>
          <a:xfrm>
            <a:off x="6715080" y="4572000"/>
            <a:ext cx="1779480" cy="155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Автогонк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7" name="Picture 2" descr="C:\Documents and Settings\Пользователь\Рабочий стол\с3.jpg"/>
          <p:cNvPicPr/>
          <p:nvPr/>
        </p:nvPicPr>
        <p:blipFill>
          <a:blip r:embed="rId1"/>
          <a:stretch/>
        </p:blipFill>
        <p:spPr>
          <a:xfrm>
            <a:off x="428760" y="2000160"/>
            <a:ext cx="2643120" cy="2167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Documents and Settings\Пользователь\Рабочий стол\с4.gif"/>
          <p:cNvPicPr/>
          <p:nvPr/>
        </p:nvPicPr>
        <p:blipFill>
          <a:blip r:embed="rId2"/>
          <a:stretch/>
        </p:blipFill>
        <p:spPr>
          <a:xfrm>
            <a:off x="2071800" y="3929040"/>
            <a:ext cx="6762600" cy="253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6" descr="j0210200"/>
          <p:cNvPicPr/>
          <p:nvPr/>
        </p:nvPicPr>
        <p:blipFill>
          <a:blip r:embed="rId1"/>
          <a:stretch/>
        </p:blipFill>
        <p:spPr>
          <a:xfrm>
            <a:off x="920880" y="281160"/>
            <a:ext cx="7016760" cy="62164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071720" y="2071800"/>
            <a:ext cx="6929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, как и кодирование, изменение формы представления информации без изменения смысл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818040" cy="2316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357200" y="3571920"/>
            <a:ext cx="6261120" cy="2438280"/>
          </a:xfrm>
          <a:prstGeom prst="rect">
            <a:avLst/>
          </a:prstGeom>
          <a:ln w="0">
            <a:noFill/>
          </a:ln>
        </p:spPr>
      </p:pic>
      <p:cxnSp>
        <p:nvCxnSpPr>
          <p:cNvPr id="373" name="Прямая со стрелкой 8"/>
          <p:cNvCxnSpPr/>
          <p:nvPr/>
        </p:nvCxnSpPr>
        <p:spPr>
          <a:xfrm>
            <a:off x="4143240" y="4428720"/>
            <a:ext cx="15724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>
            <a:off x="4143240" y="4857840"/>
            <a:ext cx="1572480" cy="357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143240" y="5214600"/>
            <a:ext cx="1572480" cy="4294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 flipV="1">
            <a:off x="4143240" y="4785840"/>
            <a:ext cx="1572480" cy="8582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Лента лицом вверх 4"/>
          <p:cNvSpPr/>
          <p:nvPr/>
        </p:nvSpPr>
        <p:spPr>
          <a:xfrm>
            <a:off x="500040" y="507204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Лента лицом вверх 3"/>
          <p:cNvSpPr/>
          <p:nvPr/>
        </p:nvSpPr>
        <p:spPr>
          <a:xfrm>
            <a:off x="500040" y="92880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856880" y="928800"/>
            <a:ext cx="5286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01 19 20 07 20  20 18 01 03 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А С Т Ё Т   Т Р А В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rcRect l="4294" t="65475" r="7156" b="11390"/>
          <a:stretch/>
        </p:blipFill>
        <p:spPr>
          <a:xfrm>
            <a:off x="642960" y="1928880"/>
            <a:ext cx="8039160" cy="2786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rcRect l="5204" t="5798" r="6053" b="63892"/>
          <a:stretch/>
        </p:blipFill>
        <p:spPr>
          <a:xfrm>
            <a:off x="2428920" y="714240"/>
            <a:ext cx="6286320" cy="2847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rcRect l="5194" t="65475" r="6810" b="11390"/>
          <a:stretch/>
        </p:blipFill>
        <p:spPr>
          <a:xfrm>
            <a:off x="785880" y="3429000"/>
            <a:ext cx="7929360" cy="276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j0404643"/>
          <p:cNvPicPr/>
          <p:nvPr/>
        </p:nvPicPr>
        <p:blipFill>
          <a:blip r:embed="rId3"/>
          <a:stretch/>
        </p:blipFill>
        <p:spPr>
          <a:xfrm>
            <a:off x="357120" y="1500120"/>
            <a:ext cx="1924200" cy="1677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357192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542916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7286760" y="19875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И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3500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Х Л Е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9"/>
          <p:cNvSpPr/>
          <p:nvPr/>
        </p:nvSpPr>
        <p:spPr>
          <a:xfrm>
            <a:off x="528624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0"/>
          <p:cNvSpPr/>
          <p:nvPr/>
        </p:nvSpPr>
        <p:spPr>
          <a:xfrm>
            <a:off x="6929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dd9"/>
                </a:solidFill>
                <a:latin typeface="Constantia"/>
              </a:rPr>
              <a:t>Минутка отдыха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Овал 1"/>
          <p:cNvGrpSpPr/>
          <p:nvPr/>
        </p:nvGrpSpPr>
        <p:grpSpPr>
          <a:xfrm>
            <a:off x="2852640" y="1749600"/>
            <a:ext cx="792360" cy="860400"/>
            <a:chOff x="2852640" y="1749600"/>
            <a:chExt cx="792360" cy="860400"/>
          </a:xfrm>
        </p:grpSpPr>
        <p:pic>
          <p:nvPicPr>
            <p:cNvPr id="393" name="Овал 1" descr=""/>
            <p:cNvPicPr/>
            <p:nvPr/>
          </p:nvPicPr>
          <p:blipFill>
            <a:blip r:embed="rId1"/>
            <a:stretch/>
          </p:blipFill>
          <p:spPr>
            <a:xfrm>
              <a:off x="2852640" y="1749600"/>
              <a:ext cx="7923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022560" y="1890720"/>
              <a:ext cx="4557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21 0.16998 C 0.31129 0.02336 0.23629 -0.10384 0.13577 -0.11263 C 0.03959 -0.1235 -0.05017 -0.02474 -0.05625 0.11772 C -0.06371 0.24884 -0.000689999999999996 0.37188 0.08941 0.38067 C 0.1717 0.38714 0.24983 0.30527 0.25573 0.1834 C 0.26181 0.07169 0.2092 -0.03353 0.13281 -0.04278 C 0.06233 -0.04903 -0.00382 0.0192 -0.00833 0.12188 C -0.01267 0.21369 0.02917 0.30342 0.09219 0.30805 C 0.14931 0.31452 0.20313 0.26203 0.20781 0.17877 C 0.21077 0.1043 0.17917 0.03215 0.12969 0.02798 C 0.08629 0.02336 0.04271 0.06291 0.03959 0.1265 C 0.03681 0.18108 0.0592 0.23358 0.09531 0.23821 C 0.12535 0.24237 0.15677 0.21832 0.15834 0.17461 C 0.16129 0.13922 0.14931 0.10199 0.12691 0.09783 C 0.10868 0.09783 0.09063 0.10662 0.08785 0.13067 C 0.08629 0.14616 0.08941 0.16143 0.09827 0.1679 C 0.10261 0.16998 0.10573 0.16998 0.11025 0.1679 E">
                                      <p:cBhvr>
                                        <p:cTn id="80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7:35:54Z</dcterms:created>
  <dc:creator>1</dc:creator>
  <dc:description/>
  <dc:language>en-US</dc:language>
  <cp:lastModifiedBy>Пользователь</cp:lastModifiedBy>
  <dcterms:modified xsi:type="dcterms:W3CDTF">2012-10-24T04:41:13Z</dcterms:modified>
  <cp:revision>19</cp:revision>
  <dc:subject/>
  <dc:title>Декодирование информации</dc:title>
</cp:coreProperties>
</file>