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380-ACE5-4D3D-ADFB-6CC10C13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35F-1C9D-4410-9AE9-C3743E2D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BCA-633B-4D16-A6D5-ED9C6FA2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FBB-0FF2-4259-9C5A-58670897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7CE6-4CB8-4F91-B417-43FF83B2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3E40-047D-4B48-A35D-11B8661F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2C92-3CB1-4A7E-BFBD-9454860E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2040-7667-4B24-A05C-44EE619C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5438-4DBC-4C5F-94C0-4921993E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9231-7AFA-4778-9C64-D13822D0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CF73-1536-473A-AD89-3D3C1F8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C26-BA77-430B-82FC-7D7CA5B1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0689-3795-444C-AA27-17BBE64F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EE42-86AF-4C0C-A2AE-054B101E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BB3B-A0C6-4F40-9BF5-53C9D197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E8B4-6773-4F04-900B-64785848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07C6-FD0B-4261-914E-460125ED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34DA-F68C-448C-99A2-051792DB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CBEA7-71AD-45F5-8DDE-1BD05630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66143-7D8D-4F67-9409-4C201385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FF12-089F-4522-A283-77D910A3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0653-F02E-442C-95E7-00EFB614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2E8-059E-4461-8479-A494162A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6E294-B0E1-47DF-909A-1CA78084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7589B-FBED-423A-A43F-1CCCBEA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A1A59-EA50-4598-AA8A-46A4C0AD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48E4F-2715-4257-A999-2D149A9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B2E03-BD49-4393-BB2A-CDBC2E35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2CC5-ACE6-4E12-A7CA-DC3853BE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3D00-5E3E-495B-9520-83196D96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82F-D444-4CF9-8D05-7510AFDE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577-748A-4FC4-9FCC-858AB624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3FA-65D7-401C-97DD-10828924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2F6-C3BA-4A3C-A373-69FC44ED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47E-6228-4176-95D8-69EA8525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525-CE79-4D43-A578-39D0FB84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7544-4AE3-4E6A-8911-0BB65D5DF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950E-1241-4B49-A315-7E4F2D7E5B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FD7F-6F60-4404-915C-5642E10137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Девиз урока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нания по геометрии или умение пользоваться формулами необходимы почти каждому мастеру или рабочему»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.Н.Колмог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13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13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14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14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15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этот четырехуголь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)   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-2412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88800" y="285480"/>
            <a:ext cx="7854840" cy="62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ранной единице измерения площад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каждого многоугольника выраж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 чис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площад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буквой обознача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прямоугольник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квадрат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единицах измеря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1760" y="285480"/>
            <a:ext cx="68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66831"/>
                </a:solidFill>
                <a:latin typeface="Times New Roman"/>
              </a:rPr>
              <a:t>Площадь квадрат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357200" y="2286000"/>
            <a:ext cx="3962160" cy="3580920"/>
            <a:chOff x="1357200" y="2286000"/>
            <a:chExt cx="3962160" cy="3580920"/>
          </a:xfrm>
        </p:grpSpPr>
        <p:sp>
          <p:nvSpPr>
            <p:cNvPr id="165" name="AutoShape 4"/>
            <p:cNvSpPr/>
            <p:nvPr/>
          </p:nvSpPr>
          <p:spPr>
            <a:xfrm>
              <a:off x="1357200" y="2286000"/>
              <a:ext cx="3962160" cy="358092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" descr=""/>
            <p:cNvPicPr/>
            <p:nvPr/>
          </p:nvPicPr>
          <p:blipFill>
            <a:blip r:embed="rId1"/>
            <a:srcRect l="29005" t="36094" r="43979" b="41672"/>
            <a:stretch/>
          </p:blipFill>
          <p:spPr>
            <a:xfrm>
              <a:off x="1709280" y="2763360"/>
              <a:ext cx="3261240" cy="261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6"/>
          <p:cNvSpPr/>
          <p:nvPr/>
        </p:nvSpPr>
        <p:spPr>
          <a:xfrm>
            <a:off x="1785960" y="16430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квадрата со стороной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равн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i="1" lang="ru-RU" sz="2400" spc="-1" strike="noStrike" baseline="30000">
                <a:solidFill>
                  <a:srgbClr val="ff0066"/>
                </a:solidFill>
                <a:latin typeface="Constantia"/>
                <a:ea typeface="Arial"/>
              </a:rPr>
              <a:t>2</a:t>
            </a:r>
            <a:r>
              <a:rPr b="1" lang="ru-RU" sz="2400" spc="-1" strike="noStrike" baseline="30000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715000" y="2500200"/>
            <a:ext cx="2911320" cy="324684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80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P=4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фигуры"/>
          <p:cNvPicPr/>
          <p:nvPr/>
        </p:nvPicPr>
        <p:blipFill>
          <a:blip r:embed="rId2"/>
          <a:stretch/>
        </p:blipFill>
        <p:spPr>
          <a:xfrm>
            <a:off x="928800" y="928800"/>
            <a:ext cx="74268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305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6831"/>
                </a:solidFill>
                <a:latin typeface="Times New Roman"/>
              </a:rPr>
              <a:t>Площадь прямоугольни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928800" y="2357280"/>
            <a:ext cx="4500000" cy="4143240"/>
            <a:chOff x="928800" y="2357280"/>
            <a:chExt cx="4500000" cy="4143240"/>
          </a:xfrm>
        </p:grpSpPr>
        <p:sp>
          <p:nvSpPr>
            <p:cNvPr id="172" name="AutoShape 3"/>
            <p:cNvSpPr/>
            <p:nvPr/>
          </p:nvSpPr>
          <p:spPr>
            <a:xfrm>
              <a:off x="928800" y="2357280"/>
              <a:ext cx="4500000" cy="414324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"/>
            <p:cNvPicPr/>
            <p:nvPr/>
          </p:nvPicPr>
          <p:blipFill>
            <a:blip r:embed="rId1"/>
            <a:srcRect l="29000" t="34722" r="46001" b="40281"/>
            <a:stretch/>
          </p:blipFill>
          <p:spPr>
            <a:xfrm>
              <a:off x="1708200" y="3409920"/>
              <a:ext cx="2771640" cy="192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 Box 6"/>
          <p:cNvSpPr/>
          <p:nvPr/>
        </p:nvSpPr>
        <p:spPr>
          <a:xfrm>
            <a:off x="1000080" y="10717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прямоугольника равна произведению его смежных ст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786280" y="2857680"/>
            <a:ext cx="3000600" cy="268632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ahoma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P=2(a+b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фигуры"/>
          <p:cNvPicPr/>
          <p:nvPr/>
        </p:nvPicPr>
        <p:blipFill>
          <a:blip r:embed="rId2"/>
          <a:stretch/>
        </p:blipFill>
        <p:spPr>
          <a:xfrm>
            <a:off x="1071720" y="1000080"/>
            <a:ext cx="742680" cy="70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Единицы измерения площадей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42640" y="1571760"/>
            <a:ext cx="6883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дм² =1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0 д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 0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км² = 1 000 0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ощади полей измеряют в гектарах (га) или в арах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га = 10 000 м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=1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10-24T17:12:29Z</dcterms:modified>
  <cp:revision>77</cp:revision>
  <dc:subject/>
  <dc:title>Тест: по теме «Параллелограмм»</dc:title>
</cp:coreProperties>
</file>