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6D6-E5C8-4580-BD9C-AEC9ABCF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32E-8258-48A4-A4BC-F5E0D413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CA9-7A80-4029-A753-509B3E81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53A-58AD-4335-85D5-E75044E4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F6B0-F2DA-4762-9423-A969F9E9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AD78-D470-4067-9066-F54057F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FC4B-EC0A-4ADC-8DE0-96C0C925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AA40-8C67-4593-A8B5-BD275C86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9343-AAF8-4CA1-982F-7ED85F4A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E82B-90B8-4FCE-9015-6C7F0501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0C94-C435-41A2-97CE-84D4BA0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799-1F67-4011-BD76-A1384C6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B652-6271-45BB-805E-6243E33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92A8-9AF5-4F99-82BC-FC9BD9C2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1349-D288-4E4D-B678-FFDD5AD7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5288-775D-423C-9182-A2961604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EFDC-48A0-4829-BFC7-CEA06448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002E-D860-4A65-B656-37579203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32D05-69DA-4AFB-9946-69B9F5E4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F17D-4FD6-470F-B015-57BBF618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43D7-FFEE-41BD-897A-2738B407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529C-E536-4DAF-A1B3-F7F39B87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D3F-90DE-43B9-842C-CC68A7D7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F9AC-0102-405C-ACEE-7619DA8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7CC4-216C-44BD-89F0-52AE367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ADB5-8F6A-4E6B-B280-ADC21C9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9E00-2802-4E80-B954-7F571D22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2EB4-F714-46F0-BB20-31FB77A7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E2E7-C8D7-4971-9DD3-82DBC016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1439-92A1-49FC-8BFC-F7905A20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AD8-5B90-4EEA-9118-C86D83C2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3F1-EC32-41DA-AFCD-35B1C732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7D1-070D-48F8-9775-2ECD7202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067-5710-4450-BA31-705DD41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7C0-5384-4592-9728-C12DE31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7CF-967E-4F1C-9273-4F015C0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DB73-3FF6-4A2D-A731-98CE89151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9FB2-C269-4251-ADB4-8CE5DFE1A3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9A04-4745-414C-9E9A-A941487E8A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Девиз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нания по геометрии или умение пользоваться формулами необходимы почти каждому мастеру или рабочему»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Н.Колмог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13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13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14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14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15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этот четырехуголь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)   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-2412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88800" y="285480"/>
            <a:ext cx="7854840" cy="62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ранной единице измерения площа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каждого многоугольника выраж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 чис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лощад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буквой обознача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прямоугольник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квадрат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66831"/>
                </a:solidFill>
                <a:latin typeface="Times New Roman"/>
              </a:rPr>
              <a:t>Площадь квадра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357200" y="2286000"/>
            <a:ext cx="3962160" cy="3580920"/>
            <a:chOff x="1357200" y="2286000"/>
            <a:chExt cx="3962160" cy="3580920"/>
          </a:xfrm>
        </p:grpSpPr>
        <p:sp>
          <p:nvSpPr>
            <p:cNvPr id="165" name="AutoShape 4"/>
            <p:cNvSpPr/>
            <p:nvPr/>
          </p:nvSpPr>
          <p:spPr>
            <a:xfrm>
              <a:off x="1357200" y="2286000"/>
              <a:ext cx="3962160" cy="358092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" descr=""/>
            <p:cNvPicPr/>
            <p:nvPr/>
          </p:nvPicPr>
          <p:blipFill>
            <a:blip r:embed="rId1"/>
            <a:srcRect l="29005" t="36094" r="43979" b="41672"/>
            <a:stretch/>
          </p:blipFill>
          <p:spPr>
            <a:xfrm>
              <a:off x="1709280" y="2763360"/>
              <a:ext cx="3261240" cy="26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1785960" y="1643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квадрата со стороной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i="1" lang="ru-RU" sz="2400" spc="-1" strike="noStrike" baseline="30000">
                <a:solidFill>
                  <a:srgbClr val="ff0066"/>
                </a:solidFill>
                <a:latin typeface="Constantia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15000" y="2500200"/>
            <a:ext cx="2911320" cy="324684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80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P=4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фигуры"/>
          <p:cNvPicPr/>
          <p:nvPr/>
        </p:nvPicPr>
        <p:blipFill>
          <a:blip r:embed="rId2"/>
          <a:stretch/>
        </p:blipFill>
        <p:spPr>
          <a:xfrm>
            <a:off x="928800" y="928800"/>
            <a:ext cx="74268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305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6831"/>
                </a:solidFill>
                <a:latin typeface="Times New Roman"/>
              </a:rPr>
              <a:t>Площадь прямоуг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928800" y="2357280"/>
            <a:ext cx="4500000" cy="4143240"/>
            <a:chOff x="928800" y="2357280"/>
            <a:chExt cx="4500000" cy="4143240"/>
          </a:xfrm>
        </p:grpSpPr>
        <p:sp>
          <p:nvSpPr>
            <p:cNvPr id="172" name="AutoShape 3"/>
            <p:cNvSpPr/>
            <p:nvPr/>
          </p:nvSpPr>
          <p:spPr>
            <a:xfrm>
              <a:off x="928800" y="2357280"/>
              <a:ext cx="4500000" cy="414324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"/>
            <p:cNvPicPr/>
            <p:nvPr/>
          </p:nvPicPr>
          <p:blipFill>
            <a:blip r:embed="rId1"/>
            <a:srcRect l="29000" t="34722" r="46001" b="40281"/>
            <a:stretch/>
          </p:blipFill>
          <p:spPr>
            <a:xfrm>
              <a:off x="1708200" y="3409920"/>
              <a:ext cx="2771640" cy="192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6"/>
          <p:cNvSpPr/>
          <p:nvPr/>
        </p:nvSpPr>
        <p:spPr>
          <a:xfrm>
            <a:off x="1000080" y="10717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прямоугольника равна произведению его смежных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786280" y="2857680"/>
            <a:ext cx="3000600" cy="268632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ahoma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P=2(a+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фигуры"/>
          <p:cNvPicPr/>
          <p:nvPr/>
        </p:nvPicPr>
        <p:blipFill>
          <a:blip r:embed="rId2"/>
          <a:stretch/>
        </p:blipFill>
        <p:spPr>
          <a:xfrm>
            <a:off x="1071720" y="1000080"/>
            <a:ext cx="742680" cy="70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Единицы измерения площадей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42640" y="1571760"/>
            <a:ext cx="6883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дм² =1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0 д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 0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км² = 1 000 0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щади полей измеряют в гектарах (га) или в арах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га = 10 000 м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=1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10-24T17:12:29Z</dcterms:modified>
  <cp:revision>77</cp:revision>
  <dc:subject/>
  <dc:title>Тест: по теме «Параллелограмм»</dc:title>
</cp:coreProperties>
</file>