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48A1-F684-4252-8D05-4ED598C4C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6F34-D867-41BE-B543-D5D9A728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B71D-231B-47B0-8609-05F769EC8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6C52-436A-4F4B-8309-7B705ECA6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E1AA-8328-4DB4-8517-E972766D5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B76FA-E2EA-4B6A-9443-AB4ECBA6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6EDD3-AC21-4781-AB60-D944BED8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2E831-7E98-442C-82AA-F2035B9D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EBE4-E262-40A1-A780-9D1CFC8A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5E0D-FDEC-4CF9-ADC7-2125533A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9B716-00B8-4FF1-A902-1184C2F3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DC30-8AF0-4109-9016-04717455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379A-B0F3-472B-925D-0BC83445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6A1A-D672-46CB-91BB-75E02065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9BE6-E41A-450C-8E2A-A9783223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953A-3993-480D-A5F6-82A0A097C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7D94-D46A-4B33-9E3C-4488FB6E1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8CB4D-E1FE-4D99-B2EF-76507BE5F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00D2A-71E5-4A0E-80D2-2E6E4FF0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F577E-55EF-40F4-B23A-14DCC9A3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D2230-FAF9-42A1-B1FF-57EA1BDD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AB14E-DE1F-480F-BFD9-EDA1D806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C1E5-CCBD-46FE-80EF-CCB6CD1A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2E07C-E73E-41A7-A01D-AFDD7225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0809A-8682-45BE-9272-84E34210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9FDD5-D0BA-40DC-B670-CB2B3441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F6080-F140-4825-88AD-34D84C13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05C21-BC21-4119-8B1A-BD565E13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B8CDA-2F00-4A80-BF15-932D10224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2C7C5-2D72-41B8-B630-4A63588DC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C5F0-C118-4487-9665-C1916C3D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516E-4FE5-4EC3-B372-007670A9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9BB7-4928-48E6-BD03-423BF5D2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8AF0-26B0-416C-A498-8200B709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0374-0C47-4369-BD38-F0B44A87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5BA3-5A0D-4A95-B348-276A8DAE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AF08-13C6-416C-8D2D-839319398D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minispir"/>
          <p:cNvPicPr/>
          <p:nvPr/>
        </p:nvPicPr>
        <p:blipFill>
          <a:blip r:embed="rId3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minispir"/>
          <p:cNvPicPr/>
          <p:nvPr/>
        </p:nvPicPr>
        <p:blipFill>
          <a:blip r:embed="rId4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B307-4987-4BF1-BA13-6E99003AB86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minispir"/>
          <p:cNvPicPr/>
          <p:nvPr/>
        </p:nvPicPr>
        <p:blipFill>
          <a:blip r:embed="rId4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minispir"/>
          <p:cNvPicPr/>
          <p:nvPr/>
        </p:nvPicPr>
        <p:blipFill>
          <a:blip r:embed="rId6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5940-B5A6-4913-AF68-101A081DC4E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Arial"/>
              </a:rPr>
              <a:t>Девиз урока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Знания по геометрии или умение пользоваться формулами необходимы почти каждому мастеру или рабочему»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.Н.Колмого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32"/>
          <p:cNvGrpSpPr/>
          <p:nvPr/>
        </p:nvGrpSpPr>
        <p:grpSpPr>
          <a:xfrm>
            <a:off x="611280" y="4292640"/>
            <a:ext cx="3673440" cy="1584360"/>
            <a:chOff x="611280" y="4292640"/>
            <a:chExt cx="3673440" cy="1584360"/>
          </a:xfrm>
        </p:grpSpPr>
        <p:sp>
          <p:nvSpPr>
            <p:cNvPr id="133" name="Line 3"/>
            <p:cNvSpPr/>
            <p:nvPr/>
          </p:nvSpPr>
          <p:spPr>
            <a:xfrm>
              <a:off x="611280" y="4292640"/>
              <a:ext cx="0" cy="15843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4"/>
            <p:cNvSpPr/>
            <p:nvPr/>
          </p:nvSpPr>
          <p:spPr>
            <a:xfrm>
              <a:off x="611280" y="4292640"/>
              <a:ext cx="239544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5"/>
            <p:cNvSpPr/>
            <p:nvPr/>
          </p:nvSpPr>
          <p:spPr>
            <a:xfrm>
              <a:off x="611280" y="5877000"/>
              <a:ext cx="367344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6"/>
            <p:cNvSpPr/>
            <p:nvPr/>
          </p:nvSpPr>
          <p:spPr>
            <a:xfrm>
              <a:off x="3006720" y="4292640"/>
              <a:ext cx="1278000" cy="15843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7"/>
            <p:cNvSpPr/>
            <p:nvPr/>
          </p:nvSpPr>
          <p:spPr>
            <a:xfrm>
              <a:off x="1837800" y="46814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36"/>
          <p:cNvGrpSpPr/>
          <p:nvPr/>
        </p:nvGrpSpPr>
        <p:grpSpPr>
          <a:xfrm>
            <a:off x="32040" y="195120"/>
            <a:ext cx="3037320" cy="3515040"/>
            <a:chOff x="32040" y="195120"/>
            <a:chExt cx="3037320" cy="3515040"/>
          </a:xfrm>
        </p:grpSpPr>
        <p:sp>
          <p:nvSpPr>
            <p:cNvPr id="139" name="AutoShape 9"/>
            <p:cNvSpPr/>
            <p:nvPr/>
          </p:nvSpPr>
          <p:spPr>
            <a:xfrm rot="20158800">
              <a:off x="545760" y="475920"/>
              <a:ext cx="2009520" cy="2952720"/>
            </a:xfrm>
            <a:prstGeom prst="diamond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0"/>
            <p:cNvSpPr/>
            <p:nvPr/>
          </p:nvSpPr>
          <p:spPr>
            <a:xfrm>
              <a:off x="1302480" y="15094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35"/>
          <p:cNvGrpSpPr/>
          <p:nvPr/>
        </p:nvGrpSpPr>
        <p:grpSpPr>
          <a:xfrm>
            <a:off x="2916360" y="692280"/>
            <a:ext cx="2807640" cy="1871640"/>
            <a:chOff x="2916360" y="692280"/>
            <a:chExt cx="2807640" cy="1871640"/>
          </a:xfrm>
        </p:grpSpPr>
        <p:sp>
          <p:nvSpPr>
            <p:cNvPr id="142" name="Line 12"/>
            <p:cNvSpPr/>
            <p:nvPr/>
          </p:nvSpPr>
          <p:spPr>
            <a:xfrm>
              <a:off x="2916360" y="1381320"/>
              <a:ext cx="82080" cy="1182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3"/>
            <p:cNvSpPr/>
            <p:nvPr/>
          </p:nvSpPr>
          <p:spPr>
            <a:xfrm flipV="1">
              <a:off x="2916360" y="692280"/>
              <a:ext cx="907560" cy="6890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4"/>
            <p:cNvSpPr/>
            <p:nvPr/>
          </p:nvSpPr>
          <p:spPr>
            <a:xfrm>
              <a:off x="3823920" y="692280"/>
              <a:ext cx="1900080" cy="590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5"/>
            <p:cNvSpPr/>
            <p:nvPr/>
          </p:nvSpPr>
          <p:spPr>
            <a:xfrm flipV="1">
              <a:off x="2998440" y="1283040"/>
              <a:ext cx="2725560" cy="12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3696120" y="11923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34"/>
          <p:cNvGrpSpPr/>
          <p:nvPr/>
        </p:nvGrpSpPr>
        <p:grpSpPr>
          <a:xfrm>
            <a:off x="6588000" y="692280"/>
            <a:ext cx="1584360" cy="2232000"/>
            <a:chOff x="6588000" y="692280"/>
            <a:chExt cx="1584360" cy="2232000"/>
          </a:xfrm>
        </p:grpSpPr>
        <p:sp>
          <p:nvSpPr>
            <p:cNvPr id="148" name="Rectangle 18"/>
            <p:cNvSpPr/>
            <p:nvPr/>
          </p:nvSpPr>
          <p:spPr>
            <a:xfrm>
              <a:off x="6588000" y="692280"/>
              <a:ext cx="1584360" cy="223200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9"/>
            <p:cNvSpPr/>
            <p:nvPr/>
          </p:nvSpPr>
          <p:spPr>
            <a:xfrm>
              <a:off x="7176240" y="14288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33"/>
          <p:cNvGrpSpPr/>
          <p:nvPr/>
        </p:nvGrpSpPr>
        <p:grpSpPr>
          <a:xfrm>
            <a:off x="3708360" y="2565360"/>
            <a:ext cx="2295720" cy="2232000"/>
            <a:chOff x="3708360" y="2565360"/>
            <a:chExt cx="2295720" cy="2232000"/>
          </a:xfrm>
        </p:grpSpPr>
        <p:sp>
          <p:nvSpPr>
            <p:cNvPr id="151" name="AutoShape 21"/>
            <p:cNvSpPr/>
            <p:nvPr/>
          </p:nvSpPr>
          <p:spPr>
            <a:xfrm>
              <a:off x="3708360" y="2565360"/>
              <a:ext cx="2295720" cy="2232000"/>
            </a:xfrm>
            <a:prstGeom prst="diamond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22"/>
            <p:cNvSpPr/>
            <p:nvPr/>
          </p:nvSpPr>
          <p:spPr>
            <a:xfrm>
              <a:off x="4568040" y="32716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AutoShape 37"/>
          <p:cNvSpPr/>
          <p:nvPr/>
        </p:nvSpPr>
        <p:spPr>
          <a:xfrm>
            <a:off x="5508720" y="4653000"/>
            <a:ext cx="2950920" cy="1440000"/>
          </a:xfrm>
          <a:prstGeom prst="parallelogram">
            <a:avLst>
              <a:gd name="adj" fmla="val 51231"/>
            </a:avLst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0"/>
          <p:cNvSpPr/>
          <p:nvPr/>
        </p:nvSpPr>
        <p:spPr>
          <a:xfrm>
            <a:off x="6661080" y="5157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142920"/>
            <a:ext cx="76201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овторим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066320" y="1428840"/>
            <a:ext cx="7620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можно назвать одним словом данные фигуры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кажите произвольный четырехугольник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йдите среди четырехугольников параллелограм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йдите четырехугольник, у которого только две стороны параллель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зывается этот четырехугольник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зывается фигура 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зывается фигура №6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8)   Как называется фигура №4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142920"/>
            <a:ext cx="76201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роверим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66320" y="1428840"/>
            <a:ext cx="7620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тырехугольн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 или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пе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ямоугольн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вадра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раллелограм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142920"/>
            <a:ext cx="76201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Оценим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66320" y="2071800"/>
            <a:ext cx="762012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правильно – «5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шиб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«4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шибки – «3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стальных случаях – «2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-2412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288800" y="285480"/>
            <a:ext cx="7854840" cy="62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ыбранной единице измерения площад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каждого многоугольника выражаетс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 числ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йства площаде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е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буквой обозначается площадь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у равна площадь прямоугольника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у равна площадь квадрата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их единицах измеряется площадь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71760" y="285480"/>
            <a:ext cx="68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66831"/>
                </a:solidFill>
                <a:latin typeface="Times New Roman"/>
              </a:rPr>
              <a:t>Площадь квадрата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64" name="Group 5"/>
          <p:cNvGrpSpPr/>
          <p:nvPr/>
        </p:nvGrpSpPr>
        <p:grpSpPr>
          <a:xfrm>
            <a:off x="1357200" y="2286000"/>
            <a:ext cx="3962160" cy="3580920"/>
            <a:chOff x="1357200" y="2286000"/>
            <a:chExt cx="3962160" cy="3580920"/>
          </a:xfrm>
        </p:grpSpPr>
        <p:sp>
          <p:nvSpPr>
            <p:cNvPr id="165" name="AutoShape 4"/>
            <p:cNvSpPr/>
            <p:nvPr/>
          </p:nvSpPr>
          <p:spPr>
            <a:xfrm>
              <a:off x="1357200" y="2286000"/>
              <a:ext cx="3962160" cy="3580920"/>
            </a:xfrm>
            <a:prstGeom prst="foldedCorner">
              <a:avLst>
                <a:gd name="adj" fmla="val 12500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Picture 3" descr=""/>
            <p:cNvPicPr/>
            <p:nvPr/>
          </p:nvPicPr>
          <p:blipFill>
            <a:blip r:embed="rId1"/>
            <a:srcRect l="29005" t="36094" r="43979" b="41672"/>
            <a:stretch/>
          </p:blipFill>
          <p:spPr>
            <a:xfrm>
              <a:off x="1709280" y="2763360"/>
              <a:ext cx="3261240" cy="261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Text Box 6"/>
          <p:cNvSpPr/>
          <p:nvPr/>
        </p:nvSpPr>
        <p:spPr>
          <a:xfrm>
            <a:off x="1785960" y="164304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Площадь квадрата со стороной </a:t>
            </a:r>
            <a:r>
              <a:rPr b="1" i="1" lang="ru-RU" sz="2400" spc="-1" strike="noStrike">
                <a:solidFill>
                  <a:srgbClr val="ff0066"/>
                </a:solidFill>
                <a:latin typeface="Constantia"/>
                <a:ea typeface="Arial"/>
              </a:rPr>
              <a:t>а</a:t>
            </a:r>
            <a:r>
              <a:rPr b="1" lang="ru-RU" sz="2400" spc="-1" strike="noStrike">
                <a:solidFill>
                  <a:srgbClr val="0000cc"/>
                </a:solidFill>
                <a:latin typeface="Constanti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равна</a:t>
            </a:r>
            <a:r>
              <a:rPr b="1" lang="ru-RU" sz="2400" spc="-1" strike="noStrike">
                <a:solidFill>
                  <a:srgbClr val="0000cc"/>
                </a:solidFill>
                <a:latin typeface="Constantia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Constantia"/>
                <a:ea typeface="Arial"/>
              </a:rPr>
              <a:t>а</a:t>
            </a:r>
            <a:r>
              <a:rPr b="1" i="1" lang="ru-RU" sz="2400" spc="-1" strike="noStrike" baseline="30000">
                <a:solidFill>
                  <a:srgbClr val="ff0066"/>
                </a:solidFill>
                <a:latin typeface="Constantia"/>
                <a:ea typeface="Arial"/>
              </a:rPr>
              <a:t>2</a:t>
            </a:r>
            <a:r>
              <a:rPr b="1" lang="ru-RU" sz="2400" spc="-1" strike="noStrike" baseline="30000">
                <a:solidFill>
                  <a:srgbClr val="0000cc"/>
                </a:solidFill>
                <a:latin typeface="Constant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5715000" y="2500200"/>
            <a:ext cx="2911320" cy="3246840"/>
          </a:xfrm>
          <a:prstGeom prst="rect">
            <a:avLst/>
          </a:prstGeom>
          <a:noFill/>
          <a:ln w="28440">
            <a:solidFill>
              <a:srgbClr val="7668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Arial"/>
              </a:rPr>
              <a:t>S=a</a:t>
            </a:r>
            <a:r>
              <a:rPr b="0" lang="en-US" sz="8000" spc="-1" strike="noStrike" baseline="30000">
                <a:solidFill>
                  <a:srgbClr val="ff0000"/>
                </a:solidFill>
                <a:latin typeface="Times New Roman"/>
                <a:ea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baseline="30000">
                <a:solidFill>
                  <a:srgbClr val="ff0000"/>
                </a:solidFill>
                <a:latin typeface="Times New Roman"/>
                <a:ea typeface="Arial"/>
              </a:rPr>
              <a:t>   </a:t>
            </a:r>
            <a:r>
              <a:rPr b="0" lang="en-US" sz="9600" spc="-1" strike="noStrike" baseline="30000">
                <a:solidFill>
                  <a:srgbClr val="ff0000"/>
                </a:solidFill>
                <a:latin typeface="Times New Roman"/>
                <a:ea typeface="Arial"/>
              </a:rPr>
              <a:t>P=4a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1" descr="фигуры"/>
          <p:cNvPicPr/>
          <p:nvPr/>
        </p:nvPicPr>
        <p:blipFill>
          <a:blip r:embed="rId2"/>
          <a:stretch/>
        </p:blipFill>
        <p:spPr>
          <a:xfrm>
            <a:off x="928800" y="928800"/>
            <a:ext cx="742680" cy="70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500"/>
                            </p:stCondLst>
                            <p:childTnLst>
                              <p:par>
                                <p:cTn id="18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75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75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83059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66831"/>
                </a:solidFill>
                <a:latin typeface="Times New Roman"/>
              </a:rPr>
              <a:t>Площадь прямоугольник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71" name="Group 12"/>
          <p:cNvGrpSpPr/>
          <p:nvPr/>
        </p:nvGrpSpPr>
        <p:grpSpPr>
          <a:xfrm>
            <a:off x="928800" y="2357280"/>
            <a:ext cx="4500000" cy="4143240"/>
            <a:chOff x="928800" y="2357280"/>
            <a:chExt cx="4500000" cy="4143240"/>
          </a:xfrm>
        </p:grpSpPr>
        <p:sp>
          <p:nvSpPr>
            <p:cNvPr id="172" name="AutoShape 3"/>
            <p:cNvSpPr/>
            <p:nvPr/>
          </p:nvSpPr>
          <p:spPr>
            <a:xfrm>
              <a:off x="928800" y="2357280"/>
              <a:ext cx="4500000" cy="4143240"/>
            </a:xfrm>
            <a:prstGeom prst="foldedCorner">
              <a:avLst>
                <a:gd name="adj" fmla="val 12500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Picture 4" descr=""/>
            <p:cNvPicPr/>
            <p:nvPr/>
          </p:nvPicPr>
          <p:blipFill>
            <a:blip r:embed="rId1"/>
            <a:srcRect l="29000" t="34722" r="46001" b="40281"/>
            <a:stretch/>
          </p:blipFill>
          <p:spPr>
            <a:xfrm>
              <a:off x="1708200" y="3409920"/>
              <a:ext cx="2771640" cy="1929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Text Box 6"/>
          <p:cNvSpPr/>
          <p:nvPr/>
        </p:nvSpPr>
        <p:spPr>
          <a:xfrm>
            <a:off x="1000080" y="1071720"/>
            <a:ext cx="77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Arial"/>
              </a:rPr>
              <a:t>Площадь прямоугольника равна произведению его смежных стор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5786280" y="2857680"/>
            <a:ext cx="3000600" cy="2686320"/>
          </a:xfrm>
          <a:prstGeom prst="rect">
            <a:avLst/>
          </a:prstGeom>
          <a:noFill/>
          <a:ln w="28440">
            <a:solidFill>
              <a:srgbClr val="7668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0" lang="en-US" sz="7200" spc="-1" strike="noStrike">
                <a:solidFill>
                  <a:srgbClr val="ff0000"/>
                </a:solidFill>
                <a:latin typeface="Times New Roman"/>
                <a:ea typeface="Arial"/>
              </a:rPr>
              <a:t>S=a</a:t>
            </a:r>
            <a:r>
              <a:rPr b="0" lang="en-US" sz="7200" spc="-1" strike="noStrike">
                <a:solidFill>
                  <a:srgbClr val="ff0000"/>
                </a:solidFill>
                <a:latin typeface="Times New Roman"/>
                <a:ea typeface="Tahoma"/>
              </a:rPr>
              <a:t>•</a:t>
            </a:r>
            <a:r>
              <a:rPr b="0" lang="en-US" sz="7200" spc="-1" strike="noStrike">
                <a:solidFill>
                  <a:srgbClr val="ff0000"/>
                </a:solidFill>
                <a:latin typeface="Times New Roman"/>
                <a:ea typeface="Arial"/>
              </a:rPr>
              <a:t>b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Arial"/>
              </a:rPr>
              <a:t>P=2(a+b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1" descr="фигуры"/>
          <p:cNvPicPr/>
          <p:nvPr/>
        </p:nvPicPr>
        <p:blipFill>
          <a:blip r:embed="rId2"/>
          <a:stretch/>
        </p:blipFill>
        <p:spPr>
          <a:xfrm>
            <a:off x="1071720" y="1000080"/>
            <a:ext cx="742680" cy="708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75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00080" y="214200"/>
            <a:ext cx="81439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Единицы измерения площадей: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142640" y="1571760"/>
            <a:ext cx="688356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 дм² =100 см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м² =100 дм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м² =10 000 см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км² = 1 000 000 м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лощади полей измеряют в гектарах (га) или в арах (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 га = 10 000 м²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 а=100 м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11:30:41Z</dcterms:created>
  <dc:creator>user</dc:creator>
  <dc:description/>
  <dc:language>en-US</dc:language>
  <cp:lastModifiedBy>iLvit</cp:lastModifiedBy>
  <dcterms:modified xsi:type="dcterms:W3CDTF">2012-10-24T17:12:29Z</dcterms:modified>
  <cp:revision>77</cp:revision>
  <dc:subject/>
  <dc:title>Тест: по теме «Параллелограмм»</dc:title>
</cp:coreProperties>
</file>