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492-260C-4C1A-80AA-69745D48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576-DB82-4C0B-B29D-15475325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9FC-D613-4F72-B943-897D3317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32B-F26E-466E-A345-3ACC7BC1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CAEF-E076-414A-A458-41951205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11BB-4D8C-4606-9E63-6212643B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1448-E61B-4FB6-BFA1-19483146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B6FF-6136-4487-A504-899B31BF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32C7-12E8-47B7-8E67-CA1899B7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2F3-C114-4072-9C2B-10979071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06D4-9CD8-4118-BBD5-D81D735F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641-2CF0-4B66-9525-AD971FFE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679A-E079-4AE7-BE86-F85B754A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E9A7-2598-48E3-9164-61F9704A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761F-20E1-4460-B963-B817CC9A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F058-62E1-47E8-B5DE-D654CD8F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3657-1115-4777-8F48-E9632035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F5F0-B11A-4B35-BEA8-F3B687A3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8A52-9FDE-482B-9430-925460ED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2C0F-75B4-4773-90D1-1C20061C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4710-B62C-4FDE-A220-B28B5364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B716-D885-4418-87C6-32AF4924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FCA-A9E5-4987-A86C-A76D85C0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7A96-647D-4929-AEC6-3AF1306B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ABA1F-225E-4345-9894-A3D1498D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1BC8-1EAD-4949-B3DD-EAF454D3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069F-4DB6-41DF-BB4D-002265C8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D0ED-C6BF-4271-AA82-3B77E486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70B2-7C2D-4E63-B2D3-CF06D4DF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BAB6-6B8D-4D82-B4C8-395211BB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F55-1E8F-4E0D-B60B-92CB9C79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EE9-9302-4517-B61E-BBD48C20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B63-4C18-4DC6-A670-CF86F163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7C6-24EF-4799-A6F8-FA81333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ABC-62E5-4B82-A511-6464F52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C27-AD70-4A80-87A0-ED90B9E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82D-45DE-46C1-ACD2-E5BB80470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402F-32B9-418D-B323-B48B339E7F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2390-1CB0-4FE5-90EF-B6922A9D82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Девиз урок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нания по геометрии или умение пользоваться формулами необходимы почти каждому мастеру или рабочему»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.Н.Колмог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13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13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14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14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15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этот четырехуголь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)   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-2412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88800" y="285480"/>
            <a:ext cx="7854840" cy="62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ранной единице измерения площа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каждого многоугольника выраж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 чис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площад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буквой обознача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прямоугольник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квадрат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единицах измеря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66831"/>
                </a:solidFill>
                <a:latin typeface="Times New Roman"/>
              </a:rPr>
              <a:t>Площадь квадра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357200" y="2286000"/>
            <a:ext cx="3962160" cy="3580920"/>
            <a:chOff x="1357200" y="2286000"/>
            <a:chExt cx="3962160" cy="3580920"/>
          </a:xfrm>
        </p:grpSpPr>
        <p:sp>
          <p:nvSpPr>
            <p:cNvPr id="165" name="AutoShape 4"/>
            <p:cNvSpPr/>
            <p:nvPr/>
          </p:nvSpPr>
          <p:spPr>
            <a:xfrm>
              <a:off x="1357200" y="2286000"/>
              <a:ext cx="3962160" cy="358092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" descr=""/>
            <p:cNvPicPr/>
            <p:nvPr/>
          </p:nvPicPr>
          <p:blipFill>
            <a:blip r:embed="rId1"/>
            <a:srcRect l="29005" t="36094" r="43979" b="41672"/>
            <a:stretch/>
          </p:blipFill>
          <p:spPr>
            <a:xfrm>
              <a:off x="1709280" y="2763360"/>
              <a:ext cx="3261240" cy="26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6"/>
          <p:cNvSpPr/>
          <p:nvPr/>
        </p:nvSpPr>
        <p:spPr>
          <a:xfrm>
            <a:off x="1785960" y="16430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квадрата со стороной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вн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i="1" lang="ru-RU" sz="2400" spc="-1" strike="noStrike" baseline="30000">
                <a:solidFill>
                  <a:srgbClr val="ff0066"/>
                </a:solidFill>
                <a:latin typeface="Constantia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715000" y="2500200"/>
            <a:ext cx="2911320" cy="324684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80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P=4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фигуры"/>
          <p:cNvPicPr/>
          <p:nvPr/>
        </p:nvPicPr>
        <p:blipFill>
          <a:blip r:embed="rId2"/>
          <a:stretch/>
        </p:blipFill>
        <p:spPr>
          <a:xfrm>
            <a:off x="928800" y="928800"/>
            <a:ext cx="74268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305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6831"/>
                </a:solidFill>
                <a:latin typeface="Times New Roman"/>
              </a:rPr>
              <a:t>Площадь прямоугольни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928800" y="2357280"/>
            <a:ext cx="4500000" cy="4143240"/>
            <a:chOff x="928800" y="2357280"/>
            <a:chExt cx="4500000" cy="4143240"/>
          </a:xfrm>
        </p:grpSpPr>
        <p:sp>
          <p:nvSpPr>
            <p:cNvPr id="172" name="AutoShape 3"/>
            <p:cNvSpPr/>
            <p:nvPr/>
          </p:nvSpPr>
          <p:spPr>
            <a:xfrm>
              <a:off x="928800" y="2357280"/>
              <a:ext cx="4500000" cy="414324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"/>
            <p:cNvPicPr/>
            <p:nvPr/>
          </p:nvPicPr>
          <p:blipFill>
            <a:blip r:embed="rId1"/>
            <a:srcRect l="29000" t="34722" r="46001" b="40281"/>
            <a:stretch/>
          </p:blipFill>
          <p:spPr>
            <a:xfrm>
              <a:off x="1708200" y="3409920"/>
              <a:ext cx="2771640" cy="192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6"/>
          <p:cNvSpPr/>
          <p:nvPr/>
        </p:nvSpPr>
        <p:spPr>
          <a:xfrm>
            <a:off x="1000080" y="10717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прямоугольника равна произведению его смежных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786280" y="2857680"/>
            <a:ext cx="3000600" cy="268632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ahoma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P=2(a+b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фигуры"/>
          <p:cNvPicPr/>
          <p:nvPr/>
        </p:nvPicPr>
        <p:blipFill>
          <a:blip r:embed="rId2"/>
          <a:stretch/>
        </p:blipFill>
        <p:spPr>
          <a:xfrm>
            <a:off x="1071720" y="1000080"/>
            <a:ext cx="742680" cy="70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Единицы измерения площадей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42640" y="1571760"/>
            <a:ext cx="6883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дм² =1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0 д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 0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км² = 1 000 0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ощади полей измеряют в гектарах (га) или в арах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га = 10 000 м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=1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10-24T17:12:29Z</dcterms:modified>
  <cp:revision>77</cp:revision>
  <dc:subject/>
  <dc:title>Тест: по теме «Параллелограмм»</dc:title>
</cp:coreProperties>
</file>