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E1B-9851-4E8C-9625-1059E428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9C0-3203-46D4-9C3E-A38BF91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9C8-9CBC-4F85-AE89-7C6F91E9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2F4-C530-4A01-BBAD-2ADBF00B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18B-52D0-489F-8549-3402D64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F12-925A-43F1-B997-3ECFCA2F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87B1-86E3-4B92-A15B-9BC605AF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288-FB46-40E1-8405-68B30307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2457-1EAF-471D-B755-B4BB648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C39-53B8-4CC6-A5CC-8991E094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A639-C8DB-43BC-A4FE-2440773A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D98-D25B-420A-830B-64567D9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D7D0-9A94-4A63-86FC-7B1156A5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1A70-7F6E-42F8-890D-4B73277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ED6D-2871-44AD-8BB8-475B239F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ADD-9729-428C-ACF3-06DB5472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B30C-334D-4D9A-8172-EF08814A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9F28-3FC3-451C-8C80-9C5B3C39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4FCF-1121-4B95-972A-57141E9B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5C24-23A9-4A25-A9E4-16B60160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104F-5784-4C93-923C-93057A0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488C-14BF-4922-A92B-C8FF93AC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4FE-E5EC-4E0A-B393-D3A362A3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D396-C14E-465C-8C8A-C9F4AAFC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B8EA-FB8A-4DC8-A681-7A70C95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D164-A339-4D41-AE03-7D62C3B6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D8B8-5E3F-4BDD-9935-1B3B06B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AD9D-BDE3-4ADC-8712-60FDD04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2F3C-EF72-4FD6-A34A-4C14A57A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DF46-FDEB-4F63-939E-823E5A58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B47-C51D-4557-B5C0-D7A437A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C1F-4FF0-4293-ABD3-A83DB55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11D-799D-42D7-B3BF-2BC3566D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38-3FA2-49FA-80F3-423FA8E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46A-6BDD-4681-8F92-C26CF01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CCD-BEF0-4B5C-B71B-980DE09D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B70D-E9BF-40B0-B302-B8C7E6D69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5C1-1028-450C-935F-D92A77AC94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A4A0-18CA-4DA1-AA1C-5AF5DE582F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Девиз урока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нания по геометрии или умение пользоваться формулами необходимы почти каждому мастеру или рабочему»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Н.Колмог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32"/>
          <p:cNvGrpSpPr/>
          <p:nvPr/>
        </p:nvGrpSpPr>
        <p:grpSpPr>
          <a:xfrm>
            <a:off x="611280" y="4292640"/>
            <a:ext cx="3673440" cy="1584360"/>
            <a:chOff x="611280" y="4292640"/>
            <a:chExt cx="3673440" cy="1584360"/>
          </a:xfrm>
        </p:grpSpPr>
        <p:sp>
          <p:nvSpPr>
            <p:cNvPr id="133" name="Line 3"/>
            <p:cNvSpPr/>
            <p:nvPr/>
          </p:nvSpPr>
          <p:spPr>
            <a:xfrm>
              <a:off x="611280" y="4292640"/>
              <a:ext cx="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"/>
            <p:cNvSpPr/>
            <p:nvPr/>
          </p:nvSpPr>
          <p:spPr>
            <a:xfrm>
              <a:off x="611280" y="4292640"/>
              <a:ext cx="2395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"/>
            <p:cNvSpPr/>
            <p:nvPr/>
          </p:nvSpPr>
          <p:spPr>
            <a:xfrm>
              <a:off x="611280" y="5877000"/>
              <a:ext cx="36734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3006720" y="4292640"/>
              <a:ext cx="1278000" cy="15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7"/>
            <p:cNvSpPr/>
            <p:nvPr/>
          </p:nvSpPr>
          <p:spPr>
            <a:xfrm>
              <a:off x="1837800" y="4681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6"/>
          <p:cNvGrpSpPr/>
          <p:nvPr/>
        </p:nvGrpSpPr>
        <p:grpSpPr>
          <a:xfrm>
            <a:off x="32040" y="195120"/>
            <a:ext cx="3037320" cy="3515040"/>
            <a:chOff x="32040" y="195120"/>
            <a:chExt cx="3037320" cy="3515040"/>
          </a:xfrm>
        </p:grpSpPr>
        <p:sp>
          <p:nvSpPr>
            <p:cNvPr id="139" name="AutoShape 9"/>
            <p:cNvSpPr/>
            <p:nvPr/>
          </p:nvSpPr>
          <p:spPr>
            <a:xfrm rot="20158800">
              <a:off x="545760" y="475920"/>
              <a:ext cx="2009520" cy="295272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302480" y="1509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2916360" y="692280"/>
            <a:ext cx="2807640" cy="1871640"/>
            <a:chOff x="2916360" y="692280"/>
            <a:chExt cx="2807640" cy="1871640"/>
          </a:xfrm>
        </p:grpSpPr>
        <p:sp>
          <p:nvSpPr>
            <p:cNvPr id="142" name="Line 12"/>
            <p:cNvSpPr/>
            <p:nvPr/>
          </p:nvSpPr>
          <p:spPr>
            <a:xfrm>
              <a:off x="2916360" y="1381320"/>
              <a:ext cx="82080" cy="1182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 flipV="1">
              <a:off x="2916360" y="692280"/>
              <a:ext cx="907560" cy="689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3823920" y="692280"/>
              <a:ext cx="1900080" cy="590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 flipV="1">
              <a:off x="2998440" y="1283040"/>
              <a:ext cx="2725560" cy="12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3696120" y="1192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6588000" y="692280"/>
            <a:ext cx="1584360" cy="2232000"/>
            <a:chOff x="6588000" y="692280"/>
            <a:chExt cx="1584360" cy="2232000"/>
          </a:xfrm>
        </p:grpSpPr>
        <p:sp>
          <p:nvSpPr>
            <p:cNvPr id="148" name="Rectangle 18"/>
            <p:cNvSpPr/>
            <p:nvPr/>
          </p:nvSpPr>
          <p:spPr>
            <a:xfrm>
              <a:off x="6588000" y="692280"/>
              <a:ext cx="1584360" cy="22320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7176240" y="142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3"/>
          <p:cNvGrpSpPr/>
          <p:nvPr/>
        </p:nvGrpSpPr>
        <p:grpSpPr>
          <a:xfrm>
            <a:off x="3708360" y="2565360"/>
            <a:ext cx="2295720" cy="2232000"/>
            <a:chOff x="3708360" y="2565360"/>
            <a:chExt cx="2295720" cy="2232000"/>
          </a:xfrm>
        </p:grpSpPr>
        <p:sp>
          <p:nvSpPr>
            <p:cNvPr id="151" name="AutoShape 21"/>
            <p:cNvSpPr/>
            <p:nvPr/>
          </p:nvSpPr>
          <p:spPr>
            <a:xfrm>
              <a:off x="3708360" y="2565360"/>
              <a:ext cx="2295720" cy="2232000"/>
            </a:xfrm>
            <a:prstGeom prst="diamond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568040" y="3271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80"/>
                  </a:solidFill>
                  <a:latin typeface="Verdan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utoShape 37"/>
          <p:cNvSpPr/>
          <p:nvPr/>
        </p:nvSpPr>
        <p:spPr>
          <a:xfrm>
            <a:off x="5508720" y="4653000"/>
            <a:ext cx="2950920" cy="1440000"/>
          </a:xfrm>
          <a:prstGeom prst="parallelogram">
            <a:avLst>
              <a:gd name="adj" fmla="val 51231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6661080" y="5157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овто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ожно назвать одним словом данные фигур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произвольный четырехугольни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реди четырехугольников параллелограм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четырехугольник, у которого только две стороны параллель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этот четырехугольни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фигура №6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)   Как называется фигура №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428840"/>
            <a:ext cx="7620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тырехуголь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ли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7620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2071800"/>
            <a:ext cx="76201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авильно – «5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«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– «3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тальных случаях – «2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-2412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88800" y="285480"/>
            <a:ext cx="7854840" cy="62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бранной единице измерения площад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каждого многоугольника выраж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 чис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щаде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буквой обознача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прямоугольни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равна площадь квадрат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площад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1760" y="285480"/>
            <a:ext cx="68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66831"/>
                </a:solidFill>
                <a:latin typeface="Times New Roman"/>
              </a:rPr>
              <a:t>Площадь квадрата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357200" y="2286000"/>
            <a:ext cx="3962160" cy="3580920"/>
            <a:chOff x="1357200" y="2286000"/>
            <a:chExt cx="3962160" cy="3580920"/>
          </a:xfrm>
        </p:grpSpPr>
        <p:sp>
          <p:nvSpPr>
            <p:cNvPr id="165" name="AutoShape 4"/>
            <p:cNvSpPr/>
            <p:nvPr/>
          </p:nvSpPr>
          <p:spPr>
            <a:xfrm>
              <a:off x="1357200" y="2286000"/>
              <a:ext cx="3962160" cy="358092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" descr=""/>
            <p:cNvPicPr/>
            <p:nvPr/>
          </p:nvPicPr>
          <p:blipFill>
            <a:blip r:embed="rId1"/>
            <a:srcRect l="29005" t="36094" r="43979" b="41672"/>
            <a:stretch/>
          </p:blipFill>
          <p:spPr>
            <a:xfrm>
              <a:off x="1709280" y="2763360"/>
              <a:ext cx="3261240" cy="26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6"/>
          <p:cNvSpPr/>
          <p:nvPr/>
        </p:nvSpPr>
        <p:spPr>
          <a:xfrm>
            <a:off x="1785960" y="1643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квадрата со стороной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вна</a:t>
            </a:r>
            <a:r>
              <a:rPr b="1" lang="ru-RU" sz="2400" spc="-1" strike="noStrike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Constantia"/>
                <a:ea typeface="Arial"/>
              </a:rPr>
              <a:t>а</a:t>
            </a:r>
            <a:r>
              <a:rPr b="1" i="1" lang="ru-RU" sz="2400" spc="-1" strike="noStrike" baseline="30000">
                <a:solidFill>
                  <a:srgbClr val="ff0066"/>
                </a:solidFill>
                <a:latin typeface="Constantia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0000cc"/>
                </a:solidFill>
                <a:latin typeface="Constanti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715000" y="2500200"/>
            <a:ext cx="2911320" cy="324684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80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   </a:t>
            </a:r>
            <a:r>
              <a:rPr b="0" lang="en-US" sz="96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P=4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фигуры"/>
          <p:cNvPicPr/>
          <p:nvPr/>
        </p:nvPicPr>
        <p:blipFill>
          <a:blip r:embed="rId2"/>
          <a:stretch/>
        </p:blipFill>
        <p:spPr>
          <a:xfrm>
            <a:off x="928800" y="928800"/>
            <a:ext cx="742680" cy="70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305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6831"/>
                </a:solidFill>
                <a:latin typeface="Times New Roman"/>
              </a:rPr>
              <a:t>Площадь прямоуг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928800" y="2357280"/>
            <a:ext cx="4500000" cy="4143240"/>
            <a:chOff x="928800" y="2357280"/>
            <a:chExt cx="4500000" cy="4143240"/>
          </a:xfrm>
        </p:grpSpPr>
        <p:sp>
          <p:nvSpPr>
            <p:cNvPr id="172" name="AutoShape 3"/>
            <p:cNvSpPr/>
            <p:nvPr/>
          </p:nvSpPr>
          <p:spPr>
            <a:xfrm>
              <a:off x="928800" y="2357280"/>
              <a:ext cx="4500000" cy="4143240"/>
            </a:xfrm>
            <a:prstGeom prst="foldedCorner">
              <a:avLst>
                <a:gd name="adj" fmla="val 125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4" descr=""/>
            <p:cNvPicPr/>
            <p:nvPr/>
          </p:nvPicPr>
          <p:blipFill>
            <a:blip r:embed="rId1"/>
            <a:srcRect l="29000" t="34722" r="46001" b="40281"/>
            <a:stretch/>
          </p:blipFill>
          <p:spPr>
            <a:xfrm>
              <a:off x="1708200" y="3409920"/>
              <a:ext cx="2771640" cy="192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Text Box 6"/>
          <p:cNvSpPr/>
          <p:nvPr/>
        </p:nvSpPr>
        <p:spPr>
          <a:xfrm>
            <a:off x="1000080" y="10717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Площадь прямоугольника равна произведению его смежных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786280" y="2857680"/>
            <a:ext cx="3000600" cy="2686320"/>
          </a:xfrm>
          <a:prstGeom prst="rect">
            <a:avLst/>
          </a:prstGeom>
          <a:noFill/>
          <a:ln w="28440">
            <a:solidFill>
              <a:srgbClr val="7668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S=a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Tahoma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Arial"/>
              </a:rPr>
              <a:t>P=2(a+b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фигуры"/>
          <p:cNvPicPr/>
          <p:nvPr/>
        </p:nvPicPr>
        <p:blipFill>
          <a:blip r:embed="rId2"/>
          <a:stretch/>
        </p:blipFill>
        <p:spPr>
          <a:xfrm>
            <a:off x="1071720" y="1000080"/>
            <a:ext cx="742680" cy="70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81439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Единицы измерения площадей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42640" y="1571760"/>
            <a:ext cx="6883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дм² =1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0 д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м² =10 000 с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км² = 1 000 0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лощади полей измеряют в гектарах (га) или в арах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га = 10 000 м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а=100 м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30:41Z</dcterms:created>
  <dc:creator>user</dc:creator>
  <dc:description/>
  <dc:language>en-US</dc:language>
  <cp:lastModifiedBy>iLvit</cp:lastModifiedBy>
  <dcterms:modified xsi:type="dcterms:W3CDTF">2012-10-24T17:12:29Z</dcterms:modified>
  <cp:revision>77</cp:revision>
  <dc:subject/>
  <dc:title>Тест: по теме «Параллелограмм»</dc:title>
</cp:coreProperties>
</file>